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media/image2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465-94A2-4693-A7D6-E9028CE6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938-0B6C-468A-953A-6D85004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69BD-CB0F-4B96-99C8-703D0A098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844-6CDE-4D04-B8E6-FA1A9B6F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836-FB6D-4DD8-A799-EF8C390C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2AB-37CE-4CEE-B28D-9C413C8F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885-98A2-428C-93B1-0F574432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7E8-7110-460F-BA72-7C7BADC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C91-733C-4C10-977D-13737F63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95F-341D-4D87-921C-FE09924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6CD-B173-4F04-AD52-84DB70F6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668-CAEB-4397-B0ED-82D951ED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E18-6C53-4946-9B0F-0CBC527C91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path path="rect">
              <a:fillToRect l="100000" t="0" r="0" b="10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411280" y="2147760"/>
            <a:ext cx="60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Уроки рисования пастель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43" name="Picture 5" descr="header"/>
          <p:cNvPicPr/>
          <p:nvPr/>
        </p:nvPicPr>
        <p:blipFill>
          <a:blip r:embed="rId1"/>
          <a:stretch/>
        </p:blipFill>
        <p:spPr>
          <a:xfrm>
            <a:off x="0" y="0"/>
            <a:ext cx="744696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gallery_2_371_189"/>
          <p:cNvPicPr/>
          <p:nvPr/>
        </p:nvPicPr>
        <p:blipFill>
          <a:blip r:embed="rId2"/>
          <a:stretch/>
        </p:blipFill>
        <p:spPr>
          <a:xfrm>
            <a:off x="0" y="3203640"/>
            <a:ext cx="205272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87840" y="4836960"/>
            <a:ext cx="18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500720" y="431640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щева Татья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9">
            <a:hlinkClick r:id="rId3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Осталось потрудиться над фоном.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 старательно протираем пальцем, после чего наносим поверх номер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нова его растираем. Получается красивый и глубокий ц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332000" y="1700280"/>
            <a:ext cx="59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сле создания фона, возвращаемся к рисунку и создаём как можно более плавный переход от основного изображения к ф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75" name="Picture 7" descr="Рисуем кота пастелью"/>
          <p:cNvPicPr/>
          <p:nvPr/>
        </p:nvPicPr>
        <p:blipFill>
          <a:blip r:embed="rId1"/>
          <a:stretch/>
        </p:blipFill>
        <p:spPr>
          <a:xfrm>
            <a:off x="2581200" y="1628640"/>
            <a:ext cx="323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у и осталось нарисовать коту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олько «документы» - усы.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аем это при помощи острых крае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01 и 176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Рисуем кота пастелью"/>
          <p:cNvPicPr/>
          <p:nvPr/>
        </p:nvPicPr>
        <p:blipFill>
          <a:blip r:embed="rId1"/>
          <a:stretch/>
        </p:blipFill>
        <p:spPr>
          <a:xfrm>
            <a:off x="1116000" y="0"/>
            <a:ext cx="36734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от такой красавец у нас получил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628640"/>
            <a:ext cx="4464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4"/>
          <p:cNvSpPr txBox="1"/>
          <p:nvPr/>
        </p:nvSpPr>
        <p:spPr>
          <a:xfrm>
            <a:off x="468360" y="2781360"/>
            <a:ext cx="81122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лаю творческих успехов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84" name="Picture 5" descr="gallery_2_118_12924"/>
          <p:cNvPicPr/>
          <p:nvPr/>
        </p:nvPicPr>
        <p:blipFill>
          <a:blip r:embed="rId1"/>
          <a:stretch/>
        </p:blipFill>
        <p:spPr>
          <a:xfrm>
            <a:off x="1116000" y="260280"/>
            <a:ext cx="27446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егодня  мы будем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исовать животных</a:t>
            </a:r>
            <a:r>
              <a:rPr b="0" i="1" lang="ru-RU" sz="3200" spc="-1" strike="noStrike">
                <a:solidFill>
                  <a:srgbClr val="cc3300"/>
                </a:solidFill>
                <a:latin typeface="Arial"/>
              </a:rPr>
              <a:t>. 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точнее,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рисовать кота пастелями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исование пастелью — это очень увлекательно и интересно, итоговые работы получаются просто прекрасны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так, какие цвета нам понадобятс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 - Whit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76 - Van Dyke Brow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 - Dark Naples Ochre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6 - Terracotta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 - Pompeian Red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9 - Black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gallery_2_118_19902"/>
          <p:cNvPicPr/>
          <p:nvPr/>
        </p:nvPicPr>
        <p:blipFill>
          <a:blip r:embed="rId2"/>
          <a:stretch/>
        </p:blipFill>
        <p:spPr>
          <a:xfrm>
            <a:off x="755640" y="3429000"/>
            <a:ext cx="20368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Начинаем рисовать животное с шерсти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Берём 101 пастель и прорисовываем шерсть с уха. </a:t>
            </a:r>
            <a:br>
              <a:rPr sz="2000"/>
            </a:b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верх 101 пастели ложится 184: так мы затемняем внутреннюю область, оставляя белыми кр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8002440" cy="4065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2133720"/>
            <a:ext cx="568836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 верхним краям уха проходим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 пастелью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оверх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при помощи бумаги или даже обычного пальца, смешиваем цвета. Постепенно переходя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начинаем рисовать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1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и, в конце-концов, берё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: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так цветовая гамма получится очень глубокой. Осталось нарисовать коту светлые волоски, что отлично получится острыми края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 К глубоким же местам можно слегка примени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 пастель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195640" y="2421000"/>
            <a:ext cx="4968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осле чего начинаем рисовать голову: верхушку — тёмной пастелью 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а мех посветлее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номером 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белым). Обратите внимание, как мы закрашиваем по направлению меха, чтобы добиться пущей реалистичности. Сверху 186 пастели использу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 и 199 пастели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светлые же зоны применяем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 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 слегк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692360" y="2200320"/>
            <a:ext cx="61196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им же наводим немного лёгких и аккуратных мазков вокруг зрачка. Верхняя же половина рисуется 184,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268360" y="1844640"/>
            <a:ext cx="518508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В этом этапе мы рисуем нашему коту глаз. Основной карандаш —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: нижняя часть глаза особенно ярка. Зрачок рисуем с помощью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им же наводим немного лёгких и аккуратных мазков вокруг зрачка. Верхняя же половина рису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,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еремешанная с главным белым цве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2050920" y="1700280"/>
            <a:ext cx="583272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Берём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пастель и наносим её сверху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4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в районе всего глаза. После чего накладываем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(в районе зрачка и вокруг глаза). Под конец же рисования глаза можно аккуратно пройтис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76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пастелью в верхней половинке глаза, а поверх неё — самую малос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99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, в зра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Рисуем кота пастелью"/>
          <p:cNvPicPr/>
          <p:nvPr/>
        </p:nvPicPr>
        <p:blipFill>
          <a:blip r:embed="rId1"/>
          <a:stretch/>
        </p:blipFill>
        <p:spPr>
          <a:xfrm>
            <a:off x="1547640" y="1773360"/>
            <a:ext cx="54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перь рисуем меховому красавцу носик. Кончик — номеро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верхушку —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9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. Добавля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4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а после этого снова бер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01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чтобы очертить основные лёгкие участки. Тёмные же рисуем номера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186, 176 и 199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, накладывая их друг на дру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59:50Z</dcterms:created>
  <dc:creator>Lena</dc:creator>
  <dc:description/>
  <dc:language>en-US</dc:language>
  <cp:lastModifiedBy>Name</cp:lastModifiedBy>
  <dcterms:modified xsi:type="dcterms:W3CDTF">2011-02-03T12:42:46Z</dcterms:modified>
  <cp:revision>3</cp:revision>
  <dc:subject/>
  <dc:title>Рисование паст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50000000000010243000207f6000400038000</vt:lpwstr>
  </property>
</Properties>
</file>