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477D-0241-465F-8B23-910AC6BD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B7CC-ADDD-451B-AEEC-F46A25FF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7879-99CA-40C5-9275-673A76194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255E-3B86-48CE-81A6-03C65B38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CF71-41CE-47E0-8281-92B338D7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D5C4-A791-4A9E-A164-26724BBD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A2FE-20EF-4A96-A90D-85A7F57E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AEAE-FB23-44B6-8B94-6BAEC4DB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037D-A408-4F4F-8269-3469A940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1095-4EA0-4771-AAC6-B9AF1862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C212-34DE-4720-B4C7-FC83724B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7AD5-EB7D-4875-96D7-17B8875C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1B8E-59B3-49C5-9710-36C621FFA8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Прямоугольник 6"/>
          <p:cNvGrpSpPr/>
          <p:nvPr/>
        </p:nvGrpSpPr>
        <p:grpSpPr>
          <a:xfrm>
            <a:off x="115920" y="152280"/>
            <a:ext cx="8905680" cy="6602400"/>
            <a:chOff x="115920" y="152280"/>
            <a:chExt cx="8905680" cy="6602400"/>
          </a:xfrm>
        </p:grpSpPr>
        <p:pic>
          <p:nvPicPr>
            <p:cNvPr id="6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15920" y="152280"/>
              <a:ext cx="8905680" cy="66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179280" y="189000"/>
              <a:ext cx="878544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Rectangle 1"/>
          <p:cNvSpPr/>
          <p:nvPr/>
        </p:nvSpPr>
        <p:spPr>
          <a:xfrm>
            <a:off x="8640" y="6596280"/>
            <a:ext cx="162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9d9d9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1"/>
          <p:cNvSpPr/>
          <p:nvPr/>
        </p:nvSpPr>
        <p:spPr>
          <a:xfrm>
            <a:off x="685800" y="1628640"/>
            <a:ext cx="77724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Как нарисовать сло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одзаголовок 2"/>
          <p:cNvSpPr/>
          <p:nvPr/>
        </p:nvSpPr>
        <p:spPr>
          <a:xfrm>
            <a:off x="1371600" y="263700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апное рис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2340000" y="476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ОУ «СОШ ст. Евси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скитим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овосибир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2484360" y="5229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Автор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Фокина Лидия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8" descr="070.gif"/>
          <p:cNvPicPr/>
          <p:nvPr/>
        </p:nvPicPr>
        <p:blipFill>
          <a:blip r:embed="rId1"/>
          <a:stretch/>
        </p:blipFill>
        <p:spPr>
          <a:xfrm>
            <a:off x="250920" y="3573360"/>
            <a:ext cx="3006720" cy="3005280"/>
          </a:xfrm>
          <a:prstGeom prst="rect">
            <a:avLst/>
          </a:prstGeom>
          <a:ln w="0">
            <a:noFill/>
          </a:ln>
        </p:spPr>
      </p:pic>
      <p:sp>
        <p:nvSpPr>
          <p:cNvPr id="50" name="Скругленный прямоугольник 6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468360" y="549360"/>
            <a:ext cx="828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 не знаете, как нарисовать слона? Не отчаивайтесь! Возьмите в руки карандаш. Помните, рисовать нужно плавно, легкими штрихами, едва касаясь бумаги, так как часть линий у нас будет вспомогательными, и в конце работы нам придется их стереть. Итак, приступим к обучению поэтапного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11949855221461346840elefante02_architetto_fr_01.svg.hi.png"/>
          <p:cNvPicPr/>
          <p:nvPr/>
        </p:nvPicPr>
        <p:blipFill>
          <a:blip r:embed="rId1"/>
          <a:stretch/>
        </p:blipFill>
        <p:spPr>
          <a:xfrm>
            <a:off x="2916360" y="3716280"/>
            <a:ext cx="367812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395280" y="40464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1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ервую очередь рисуем два круга – один по больше для туловища, а второй на нем, он будет меньшего размера (будущая голова слон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619280" y="2637000"/>
            <a:ext cx="62928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395280" y="40464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2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ее мы рисуем хобот и ноги слона. Они могут быть произвольной формы, но хобот должен быть длинным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5975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648720" y="476280"/>
            <a:ext cx="787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3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ее на голове слоника рисуем у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52578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395280" y="47628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4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 самую последнюю очередь – глаза, клыки и хвостик нашего сло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57690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324000" y="33336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5: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раем все вспомогательные и уже не нужные нам линии. Теперь можно обвести слона поярче и даже красиво разукрас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547640" y="2276640"/>
            <a:ext cx="64738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100920" cy="4734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1835280" y="62064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а! Мы нарисовали слон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пользуемые источник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clker.com/cliparts/5/b/f/4/11949855221461346840elefante02_architetto_fr_01.svg.hi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homesticker.ru/katalog/91236/070.gi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detkam.e-papa.ru/painting/1/2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3:56:34Z</dcterms:created>
  <dc:creator>Компас</dc:creator>
  <dc:description/>
  <dc:language>en-US</dc:language>
  <cp:lastModifiedBy>Owner</cp:lastModifiedBy>
  <dcterms:modified xsi:type="dcterms:W3CDTF">2011-06-16T10:29:37Z</dcterms:modified>
  <cp:revision>12</cp:revision>
  <dc:subject/>
  <dc:title>Слайд 1</dc:title>
</cp:coreProperties>
</file>