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424-DAD1-470C-B6AD-12F8CE09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03F-7162-4C70-A834-9268AAF4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818-A5F9-4063-82C3-3FFA8A43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8DB4-EF4D-4055-B888-FE269429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7AF-A499-4AB4-8070-C78A1514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2F51-AC8A-46C5-AE41-E7F02DE2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D37-082C-4120-AA6F-FF7D8794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211-40E6-4000-9592-9DB59AD5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67E-3953-48E1-BCA9-B5FED0AA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E704-4164-439E-AFA5-3A4D0CCD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BAC5-3535-4370-8221-DCB09A93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044A-EC15-47BC-990C-5371F37D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0B24-14E9-4DDD-93EC-AFEB15F744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9d9d9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685800" y="1628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Как нарисовать сло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1371600" y="263700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340000" y="476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скитим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484360" y="522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" descr="070.gif"/>
          <p:cNvPicPr/>
          <p:nvPr/>
        </p:nvPicPr>
        <p:blipFill>
          <a:blip r:embed="rId1"/>
          <a:stretch/>
        </p:blipFill>
        <p:spPr>
          <a:xfrm>
            <a:off x="250920" y="3573360"/>
            <a:ext cx="3006720" cy="300528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6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68360" y="54936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не знаете, как нарисовать слона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11949855221461346840elefante02_architetto_fr_01.svg.hi.png"/>
          <p:cNvPicPr/>
          <p:nvPr/>
        </p:nvPicPr>
        <p:blipFill>
          <a:blip r:embed="rId1"/>
          <a:stretch/>
        </p:blipFill>
        <p:spPr>
          <a:xfrm>
            <a:off x="2916360" y="3716280"/>
            <a:ext cx="36781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95280" y="4046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1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ую очередь рисуем два круга – один по больше для туловища, а второй на нем, он будет меньшего размера (будущая голова сло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2928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95280" y="404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2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мы рисуем хобот и ноги слона. Они могут быть произвольной формы, но хобот должен быть длинны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5975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648720" y="47628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3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на голове слоника рисуем 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257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95280" y="476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4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амую последнюю очередь – глаза, клыки и хвостик нашего сло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7690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24000" y="33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5: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раем все вспомогательные и уже не нужные нам линии. Теперь можно обвести слона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64738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100920" cy="4734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835280" y="620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! Мы нарисовали сло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lker.com/cliparts/5/b/f/4/11949855221461346840elefante02_architetto_fr_01.svg.hi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homesticker.ru/katalog/91236/070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detkam.e-papa.ru/painting/1/2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56:34Z</dcterms:created>
  <dc:creator>Компас</dc:creator>
  <dc:description/>
  <dc:language>en-US</dc:language>
  <cp:lastModifiedBy>Owner</cp:lastModifiedBy>
  <dcterms:modified xsi:type="dcterms:W3CDTF">2011-06-16T10:29:37Z</dcterms:modified>
  <cp:revision>12</cp:revision>
  <dc:subject/>
  <dc:title>Слайд 1</dc:title>
</cp:coreProperties>
</file>