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CLAP.WAV" ContentType="audio/x-wav"/>
  <Override PartName="/ppt/media/image17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CHIME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EBF-79FE-4B90-A19F-526442A5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FF0-A967-419C-B51E-D6BB488D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078-44D3-4C5A-9BED-40D3B4BD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227-34D3-40E3-8647-1DF4F36C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292-DEE3-4D5B-92BC-75B64026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7FF-FAD5-44A8-B0DD-3A495EF0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211-5ECC-4D6A-9F57-26AEB170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682-B5EC-4237-9232-CB40ACD4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C73-4251-4BFB-8339-E942152E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E68-4B6C-4092-99DE-051C8444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9FC-19A8-4A3A-9C5D-8752D71D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7AF-1219-43DA-B8E3-981761BD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ED66-5392-4167-82B6-28F85648B5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8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9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0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1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2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3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4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819520" y="76320"/>
            <a:ext cx="3105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3262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.Пере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час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013360" y="14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181480" y="988920"/>
            <a:ext cx="381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яду с бытовым жанром натюрморт долгое время считался второстепенным видом живописи, в котором невозможно выразить высокие общественные идеи, гражданские добродетели. Действительно многое из того, что свойственно произведениям исторического, батального и других жанров, натюрморту недоступно. Однако великие мастера доказали, что вещи могут характеризовать и социальное положение, и образ жизни их владельца, порождая, таким образом, различные ассоциации и социальные ана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1" descr="P:\naturmort\naturmort11.jpg"/>
          <p:cNvPicPr/>
          <p:nvPr/>
        </p:nvPicPr>
        <p:blipFill>
          <a:blip r:embed="rId1"/>
          <a:stretch/>
        </p:blipFill>
        <p:spPr>
          <a:xfrm>
            <a:off x="190440" y="17398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7632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Скругленный прямоугольник 9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486400" y="171756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распространенной разновидностью натюрморта является изображение предметов домашнего обихода. Этот тип натюрморта тесно связан с развитием бытового жанра, интерьера, пейзажа и ярко расцвел в западноевропейском искусств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. Каждая национальная художественная школа по-своему, самобытно решила эту пробле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P:\naturmort\naturmort7.jpg"/>
          <p:cNvPicPr/>
          <p:nvPr/>
        </p:nvPicPr>
        <p:blipFill>
          <a:blip r:embed="rId1"/>
          <a:stretch/>
        </p:blipFill>
        <p:spPr>
          <a:xfrm>
            <a:off x="495360" y="1738440"/>
            <a:ext cx="476244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04920" y="5337000"/>
            <a:ext cx="518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увшином и медным котелк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728-173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Лугано, собрание Тиссен-Борнеми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43000" y="577836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Э.М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Розы в ваз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882-188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Цюрих, частное собр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9" descr="P:\naturmort\naturmort8.jpg"/>
          <p:cNvPicPr/>
          <p:nvPr/>
        </p:nvPicPr>
        <p:blipFill>
          <a:blip r:embed="rId1"/>
          <a:stretch/>
        </p:blipFill>
        <p:spPr>
          <a:xfrm>
            <a:off x="771480" y="1047600"/>
            <a:ext cx="3038400" cy="47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114800" y="1066680"/>
            <a:ext cx="484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амом начале 17 века в результате Нидерландской буржуазной революции на территории Северных Нидерландов образовалась буржуазная Республика Соединенных провинций. Здесь сложилась новая культура в которой нашли отражение демократические идеалы голландского бюргерства, ставшего хозяином в собственной стране. В Голландии сформировалось искусство, правдиво отражавшее быт, нравы, природу родины. Его реалистические установки были последовательно выражены живописцем, поэтом и драматургом Гербрандом Бредеро: “Как художник, я следую правилу живописцев, которое гласит, что лучшим художником является тот, кто ближе всего подходит к жизни…что меня касается, то я изучаю только одну – книгу повседневной жизни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05520" y="1298520"/>
            <a:ext cx="3809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олландии продолжали существовать различные объединения, часто полувоенного, полурелигиозного характер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гравшие важную роль в победе над испанским абсолютизмом. Их участники уже в 16 веке заказывали видным художникам групповые портреты, в которых желали видеть себя запечатленными в кругу своей корпорации. Особое место приобрели изображения торжественных встреч представителей стрелковых гильдий. В них господствовала атмосфера праздника тесной компании хорошо знающих и ценящих друг друга людей, собравшихся за столом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ставленным сосудами, бокалами, вазами с фруктами, овощами и прочей снед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P:\naturmort\Geda.jpg"/>
          <p:cNvPicPr/>
          <p:nvPr/>
        </p:nvPicPr>
        <p:blipFill>
          <a:blip r:embed="rId1"/>
          <a:stretch/>
        </p:blipFill>
        <p:spPr>
          <a:xfrm>
            <a:off x="114480" y="1890720"/>
            <a:ext cx="476244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09480" y="5337000"/>
            <a:ext cx="38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 (около 1594-около 1680)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 с ежевичным пиро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резденская картинная галере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00600" y="990720"/>
            <a:ext cx="3809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временем эти предметы как бы вырезались из банкетного стола, превращаясь в “чистый” натюрморт. Однако и в таком виде предметы и явства, приготовленные к трапезе, долгое время сохраняли свой общественный характер: в их подборе, расстановке господствовала та же строгая дисциплина, что и в групповом портрете, сохранялась парадная торжественность общественного праздника, отсутствовал тот элемент случайности, интимности, который вносит в картину подлинная жизнь. Большой шаг вперед сделал Франс Халс, придавший как групповому портрету, так и заключенному в нем миру вещей подлинную естественность, раскрывший те особенности предметов, которые характеризуют самого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7" descr="P:\naturmort\naturmort5.jpg"/>
          <p:cNvPicPr/>
          <p:nvPr/>
        </p:nvPicPr>
        <p:blipFill>
          <a:blip r:embed="rId1"/>
          <a:stretch/>
        </p:blipFill>
        <p:spPr>
          <a:xfrm>
            <a:off x="714240" y="1047600"/>
            <a:ext cx="3705480" cy="4762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762120" y="583884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. Рождественск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зиатский ча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Русски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вид натюрморта, получивший название “завтраков”, приобрел наиболее совершенные и законченные черты в творчестве живописцев харлемской школы Питера Класа и Виллема Хеды. Они стали создателями национального натюрморта с Изображением накрытых столов, уставленных скромным набором предметов, типичных для семьи голландского бюргера 1630-1640-х годов. Интимность, простота и серьезность этих произведений отражают бытовой уклад, вкусы, симпатии и настроения первого поколения голландских буржуа, выросшего в свободной, независим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9" descr="P:\naturmort\heda1.jpg"/>
          <p:cNvPicPr/>
          <p:nvPr/>
        </p:nvPicPr>
        <p:blipFill>
          <a:blip r:embed="rId1"/>
          <a:stretch/>
        </p:blipFill>
        <p:spPr>
          <a:xfrm>
            <a:off x="457200" y="1047600"/>
            <a:ext cx="3886200" cy="4762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76320" y="5791320"/>
            <a:ext cx="624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. 1594 - между 1680 и 1682.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етчина и серебряная посу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52880" y="990720"/>
            <a:ext cx="4038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йдет время, и место скромных “завтраков” Класа и Хеды займут богатые и эффектные “десерты” Адриана ван Бейерена и Виллема Кальфа, отразившие новый этап в развитии нидерландского общества, утратившего свои революционные идеалы и отошедшего от скромного и трезвого жизненного уклада своих отцов. Драгоценные кубки и редкостные плоды, сложные и разнообразные композиции, изысканные красочные сочетания, виртуозное мастерство в передаче каждого предмета – вот какие качества отныне наиболее ценятся разбогатевшими заказчиками-буржуа. Но и в этих роскошных натюрмортах поражает любовное внимание к особенностям каждого предмета, умение тонко сопоставить материал и фактуру, быть то бархатистая поверхность персика и матовая пыльца виноградных гроздьев, прозрачный блестящий хрусталь и мягко светящиеся перламутровые раков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9" descr="P:\naturmort\beiren.jpg"/>
          <p:cNvPicPr/>
          <p:nvPr/>
        </p:nvPicPr>
        <p:blipFill>
          <a:blip r:embed="rId1"/>
          <a:stretch/>
        </p:blipFill>
        <p:spPr>
          <a:xfrm>
            <a:off x="11448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6" descr="P:\naturmort\klas.jpg"/>
          <p:cNvPicPr/>
          <p:nvPr/>
        </p:nvPicPr>
        <p:blipFill>
          <a:blip r:embed="rId1"/>
          <a:stretch/>
        </p:blipFill>
        <p:spPr>
          <a:xfrm>
            <a:off x="76320" y="189540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029200" y="1022400"/>
            <a:ext cx="3962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ким контрастом к этим небольшим полотнам выглядят картины фламандских художников того же времени. Это огромные декоративные натюрморты с изображением сочных и спелых плодов, фруктов, битой птицы, кабаньих и оленьих голов, разделенных мясных туш, разнообразных рыб, от самых обычных до редких и экзотических пород. Все, чем богата плодородная земля Фландрии, чем изобилует ее леса и поля, что попадает в сети фламандских рыбаков, горами громоздится на столах и витринах, свисает и падает на тяжелые дубовые прилавки. Рамам картин становится тесно от неиссякаемого изобилия даров природы. Авторам этих громадных картин был Франс Снейдерс, а сами полотна составляют оригинальные и своеобразный тип натюрморта, получивший наименование “лавки”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29200" y="13050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олным кипучей жизни произведениям меньше всего подходит традиционное определение натюрморта как “мертвой натуры”. Настолько они нарядны, праздничны, ликую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крепко сбитых композиций “лавок” Снейдерса является массивный прилавок или стол, на котором размещены груды битой дичи, фруктов, цветов, овощей. Обычно они выдержаны в общем оливковом тоне, из которого выделяются пятна синего, белого и красного (туши животных, омары, ягоды, одеяние лавочни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04920" y="5337000"/>
            <a:ext cx="579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2880" y="1006560"/>
            <a:ext cx="403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йдерс с любовью и мастерством передает цвет, форму, фактуру предметов, объединяя их в роскошные, декоративно-целостные циклы картин, ранее украшавшие дворцы европейской знати. Он охотно вводит фигуры и полуфигуры людей, животных, иногда помещает небольшие жанровые сценки, например, собаку, бросающуюся на кошку; обезьяну, крадущую фрукты, беседующих лавочницу и покупательницу. Эти сцены имели скрытый аллегорический смысл, хорошо понятный современник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ще всего указывали на людские пороки. Обычно в натюрмортах Снейдерса человеческие фигуры теряются среди изобилия земных даров. Его произведения близки к бытовому жанру, но часто сюжетное начало играет в них второстепенную роль. Цель художника создать красочное пиршество из плодов родной зем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76320" y="5337000"/>
            <a:ext cx="4495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181480" y="190512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ая доктрина классицизма отнесла натюрморт к числу “низменных жанров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именно в 18 веке появляются великолепные полот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Б. Шардена, оживляющего мир “мертвой натуры”. С развитием академической системы образования возникает учебный, или постановочный, натюрморт, ставший одним из обязательных элементов обуч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" descr="P:\naturmort\sharden1.jpg"/>
          <p:cNvPicPr/>
          <p:nvPr/>
        </p:nvPicPr>
        <p:blipFill>
          <a:blip r:embed="rId1"/>
          <a:stretch/>
        </p:blipFill>
        <p:spPr>
          <a:xfrm>
            <a:off x="76320" y="2314440"/>
            <a:ext cx="47624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04920" y="533700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(Атрибуты искусст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P:\naturmort\beiren.jpg"/>
          <p:cNvPicPr/>
          <p:nvPr/>
        </p:nvPicPr>
        <p:blipFill>
          <a:blip r:embed="rId1"/>
          <a:stretch/>
        </p:blipFill>
        <p:spPr>
          <a:xfrm>
            <a:off x="7632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334120" y="162576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ъектов “мертвой природы” (перевод французского словосочетания натюрморт 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mort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ы, согретые живым человеческим чувством, преображаются под кистью художника, начинают жить собственной неповторимой “тихой жизнью” (таков буквальный и несравненно более точный в определении натюрморта перевод голландского терм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v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мец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b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нглий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lif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181480" y="1274760"/>
            <a:ext cx="3810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 к натюрморту значительно усиливается во второй половине прошлого века. Импрессионисты во Франции ставят акцент на живописном восприятии мира вещей, решают проблемы свето-цветовых отношений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дко трактуют натюрморт как своеобразное декоративное панно. Постимпрессионисты разрабатывают сложные проблемы композиционного и цветового решения картины, выявляют материальную вещественность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676520" y="58546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абло Пикассо. 1881-19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еленая миска и черная бутыл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6" descr="P:\naturmort\picasso.jpg"/>
          <p:cNvPicPr/>
          <p:nvPr/>
        </p:nvPicPr>
        <p:blipFill>
          <a:blip r:embed="rId1"/>
          <a:stretch/>
        </p:blipFill>
        <p:spPr>
          <a:xfrm>
            <a:off x="800280" y="1066680"/>
            <a:ext cx="369540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а 20 века натюрморт становится своего рода творческой лабораторией живописи. Мастера фовизма идут по пути обостренного выявления эмоциональных и декоративно-экспрессивных возможностей цвета и фактуры, в то время как представители кубизма утверждают новые способы передачи пространства и предметов: конструируют объемы. На плоскости, расчленяют формы на простые геометрические тела, воспринятые с точки зрения, применяют суровые, почти монохромные тона, а затем вводят в картины коллаж – присыпки, куски газет и другие материа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95280" y="53370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. Л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P:\naturmort\naturmort9.jpg"/>
          <p:cNvPicPr/>
          <p:nvPr/>
        </p:nvPicPr>
        <p:blipFill>
          <a:blip r:embed="rId1"/>
          <a:stretch/>
        </p:blipFill>
        <p:spPr>
          <a:xfrm>
            <a:off x="76320" y="1562040"/>
            <a:ext cx="476244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181480" y="1905120"/>
            <a:ext cx="381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начало 20 века приходится и расцвет русского натюрморта. К. Коровин и мастера объединения (Бубновый валет) создают мажорные, сочные по цвету произведения, воспевающие полнокровную красоту бытия. Поэтичные работы исполняют И.Грабарь, художники (Мира искусства), тонкие декоративные мастера (Голубой роз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5" descr="P:\naturmort\naturmort6.jpg"/>
          <p:cNvPicPr/>
          <p:nvPr/>
        </p:nvPicPr>
        <p:blipFill>
          <a:blip r:embed="rId1"/>
          <a:stretch/>
        </p:blipFill>
        <p:spPr>
          <a:xfrm>
            <a:off x="114480" y="2209680"/>
            <a:ext cx="476244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133720" y="53370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Ю. Пимен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альняя доро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5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029200" y="147312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традиции были продолжены в советском искусстве 20-30-х годов. Красочные, воссоздающие богатство и многообразие предметного мира работы исполнили и юти годы П.Кончаловкий, А.Куприн, И.Машков, А.Лентулов,М. Сарьян, А.Осмеркин, А.Герасимов. Одновременно были продолжены поиски тонкой колористической гармонии, поэтизации мира вещей (В.Лебедев, Н.Тырса), эксперименты в области цвета и фактуры (Д.Штеренберг, Н.Альтма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76520" y="582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Н. Ерыше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увши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P:\naturmort\naturmort4.jpg"/>
          <p:cNvPicPr/>
          <p:nvPr/>
        </p:nvPicPr>
        <p:blipFill>
          <a:blip r:embed="rId1"/>
          <a:stretch/>
        </p:blipFill>
        <p:spPr>
          <a:xfrm>
            <a:off x="866880" y="1047600"/>
            <a:ext cx="378144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5181480" y="14731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ные по манере, отражающие существенные особенности современной эпохи натюрморты были созданы и 40-50 годах П.Кузнецовым, Ю Пименовым. В 60-80-х годах тяготение к повышенной предметности изображения, стремление к эстетизации окружающего человека мира вещей обусловили интерес к натюрморту многих советских художников (В.Стожаров, А.Никич, Т.Нариманбек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02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2133720" y="58230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Т. Салах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венским стул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31" descr="P:\naturmort\naturmort3.jpg"/>
          <p:cNvPicPr/>
          <p:nvPr/>
        </p:nvPicPr>
        <p:blipFill>
          <a:blip r:embed="rId1"/>
          <a:stretch/>
        </p:blipFill>
        <p:spPr>
          <a:xfrm>
            <a:off x="1533600" y="1047600"/>
            <a:ext cx="311472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81480" y="2084400"/>
            <a:ext cx="38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рубежном натюрморте середины и второй полов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 выделяются работы итальянского живописца Д.Моранди, отличающиеся мягким созерцательным настроением, ясными композиционными построениями, блеклой цветовой гамм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66680" y="538164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. А. Асламазя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рмянский 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7" descr="P:\naturmort\aslamasyn.jpg"/>
          <p:cNvPicPr/>
          <p:nvPr/>
        </p:nvPicPr>
        <p:blipFill>
          <a:blip r:embed="rId1"/>
          <a:stretch/>
        </p:blipFill>
        <p:spPr>
          <a:xfrm>
            <a:off x="76320" y="1538280"/>
            <a:ext cx="476244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990720"/>
            <a:ext cx="381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тенденции нашли отражение в экспрессивных, скупых по подбору предметов произведениях мексиканцев Д.Риверы, Д.Сикейроса, итальянца Гуттузо. Весьма своеобразны натюрморты представителей поп-а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го из направлений в европейском и американском искусстве, провозгласивших после засилья абстракциониз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звращение к реальности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поп-артистов воспроизводят предметы домашнего обихода, упаковку товаров, детали машин и рассчитаны на многообразные ассоциации у зрителей, иногда с нотами иронии и неприятия лозунгов "потребления ради потребления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410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П. Кончаловский (1876-195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 Апельсины и мятая бума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4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7" descr="P:\naturmort\konchalovsky.jpg"/>
          <p:cNvPicPr/>
          <p:nvPr/>
        </p:nvPicPr>
        <p:blipFill>
          <a:blip r:embed="rId1"/>
          <a:stretch/>
        </p:blipFill>
        <p:spPr>
          <a:xfrm>
            <a:off x="76320" y="1733400"/>
            <a:ext cx="4762440" cy="339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ифа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а Дмитри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бин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P:\naturmort\Alifa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40080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п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гей Николае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тковской средне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6" descr="P:\naturmort\Arhipow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е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алья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й (сменной)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P:\naturmort\Bazhenowa.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4120" y="23288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ром ещ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 великий французский просветитель и художественный критик Дени Дидро для обозначения этого жанра пользовался терминами “неодушевленная натура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yre inanm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0" descr="P:\naturmort\naturmort10.jpg"/>
          <p:cNvPicPr/>
          <p:nvPr/>
        </p:nvPicPr>
        <p:blipFill>
          <a:blip r:embed="rId1"/>
          <a:stretch/>
        </p:blipFill>
        <p:spPr>
          <a:xfrm>
            <a:off x="114480" y="17622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4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док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Григо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лугов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P:\naturmort\Bordokin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хе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риса Виктор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ститель начальника Центральн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Picture 6" descr="P:\naturmort\Mahe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влю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люр Рафик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т-Акбалык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6" descr="P:\naturmort\Mavlut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енни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ил Михайл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коррекцион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6" descr="P:\naturmort\Olennik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05520" y="2666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ма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Пав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средней школы №168 г. Новосиби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7" descr="P:\naturmort\Shmak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876920" y="26668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р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 Андре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Колыва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6" descr="P:\naturmort\Ta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й библиоте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6" descr="P:\naturmort\Zhelez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52880" y="2666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Михай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Сузунск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6" descr="P:\naturmort\ZheleznovaGM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жение его многообразных форм и типов произошло в эпоху Возрождения, хотя отдельные мотивы и детали встречаются в искусстве Древнего Востока и античности: овощи, гирлянды или так называемые неприбранные комнаты в мозаиках, стенных росписях, рельеф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2" descr="P:\naturmort\kozlovsky.jpg"/>
          <p:cNvPicPr/>
          <p:nvPr/>
        </p:nvPicPr>
        <p:blipFill>
          <a:blip r:embed="rId1"/>
          <a:stretch/>
        </p:blipFill>
        <p:spPr>
          <a:xfrm>
            <a:off x="114480" y="1638360"/>
            <a:ext cx="476244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304920" y="533700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. И. Козловский (1830 -?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85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ие авторы о первом мастере греческом живописце Периакосе, жившем в эллинистическую эпоху. Возможно, что его картины послужили образцами для фресок в Помпея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яркие и сочные изображения цветов, фруктов, а также ритуальных сосудов, письменных приборов, мон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8" descr="P:\naturmort\dal.jpg"/>
          <p:cNvPicPr/>
          <p:nvPr/>
        </p:nvPicPr>
        <p:blipFill>
          <a:blip r:embed="rId1"/>
          <a:stretch/>
        </p:blipFill>
        <p:spPr>
          <a:xfrm>
            <a:off x="819000" y="1047600"/>
            <a:ext cx="3753000" cy="4762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04920" y="58672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Франсуа ван Даль (?) (1764-1840). Французская 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Фр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8" descr="P:\naturmort\sharden.jpg"/>
          <p:cNvPicPr/>
          <p:nvPr/>
        </p:nvPicPr>
        <p:blipFill>
          <a:blip r:embed="rId1"/>
          <a:stretch/>
        </p:blipFill>
        <p:spPr>
          <a:xfrm>
            <a:off x="114480" y="1733400"/>
            <a:ext cx="4762440" cy="3391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0" y="5337000"/>
            <a:ext cx="502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атрибутами искусст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6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52880" y="990720"/>
            <a:ext cx="4038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наменитой “Естественной истории” древнеримский ученый, писатель и государственный деятель Плиний Старший рассказывает о споре между греческими живописцами Зевксисом и Паррасием: Зевксис столь правдоподобно написал виноградные гроздья, что голодные птицы слетались их клевать .Паррасий же настолько совершенно изобразил занавес в своей мастерской, что сам Зевксис принял его за настоящий. После этого Зевксис признал себя побежденным, так как ему удалось обмануть лишь птиц, в то время как Паррасий ввел в заблуждение его самого – прославленного мастера, виртуозно владеющего приемами светотеневой моделиров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P:\naturmort\minon.jpg"/>
          <p:cNvPicPr/>
          <p:nvPr/>
        </p:nvPicPr>
        <p:blipFill>
          <a:blip r:embed="rId1"/>
          <a:stretch/>
        </p:blipFill>
        <p:spPr>
          <a:xfrm>
            <a:off x="352440" y="104760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380880" y="583884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гам Миньон (1640-1679) (?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ака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267080" y="183996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ины Зевксиса и Паррасия до нас не дошли, и судить о них можно лишь по рассказам античных писателей и копиям римских художников, сохранившимся в незначительном количестве. Но описанный Плинием принцип имитации видимых предметов, создающий впечатление о них как о реально существующих и даже заставляющих ошибаться искушенный глаз художника, дожил до наших дней и нередко встречается в современной живопис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4267080" y="9144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решками кни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так называемые охотничьи трофеи – убитые рябчики, тетерева, зайцы,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031" descr="P:\naturmort\bogovolov.jpg"/>
          <p:cNvPicPr/>
          <p:nvPr/>
        </p:nvPicPr>
        <p:blipFill>
          <a:blip r:embed="rId1"/>
          <a:stretch/>
        </p:blipFill>
        <p:spPr>
          <a:xfrm>
            <a:off x="905040" y="1047600"/>
            <a:ext cx="2752560" cy="4762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76320" y="586728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Г. Богомолов (художник первой половины 18 века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ниг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3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узей керамики и усадьба «Кусково» 18 века,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105520" y="91440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корешками книг или так называемые охотничьи трофеи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битые рябчики, тетерева, зайц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033" descr="P:\naturmort\Empoli.jpg"/>
          <p:cNvPicPr/>
          <p:nvPr/>
        </p:nvPicPr>
        <p:blipFill>
          <a:blip r:embed="rId1"/>
          <a:stretch/>
        </p:blipFill>
        <p:spPr>
          <a:xfrm>
            <a:off x="114480" y="1795320"/>
            <a:ext cx="4762440" cy="3267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4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Якопо Кименти да Эмполи. Около 1551-16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8:48:16Z</dcterms:created>
  <dc:creator>1u09</dc:creator>
  <dc:description/>
  <dc:language>en-US</dc:language>
  <cp:lastModifiedBy>Owner</cp:lastModifiedBy>
  <dcterms:modified xsi:type="dcterms:W3CDTF">2011-07-21T18:46:23Z</dcterms:modified>
  <cp:revision>49</cp:revision>
  <dc:subject/>
  <dc:title>Заголовок слайда отсутствует</dc:title>
</cp:coreProperties>
</file>