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CLAP.WAV" ContentType="audio/x-wav"/>
  <Override PartName="/ppt/media/image17.jpeg" ContentType="image/jpeg"/>
  <Override PartName="/ppt/media/image16.jpeg" ContentType="image/jpeg"/>
  <Override PartName="/ppt/media/TYPE.WAV" ContentType="audio/x-wav"/>
  <Override PartName="/ppt/media/image15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33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.jpeg" ContentType="image/jpeg"/>
  <Override PartName="/ppt/media/CHIMES.WAV" ContentType="audio/x-wav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2.jpeg" ContentType="image/jpeg"/>
  <Override PartName="/ppt/media/image13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E750-CC51-4DCF-89C7-CFCD8C5D4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C4EA-2237-49B2-94D3-C3D0850FF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2ED0-2EA6-406D-9158-A813426F6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C9F5-741E-4F42-B176-CEE9A952F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4A1E-FDA4-484F-AEC0-53259D14F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0FE3-0F19-45B1-85F3-C7527A4BE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1F80-9991-469E-A528-0E2AFCEE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A1BB-4CA8-4699-9AB8-B36C9F01E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5833-BD68-4E1B-8464-4D2483943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D1BA-4E82-4D7E-88AD-E82C0144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61C6-AE4F-4DC4-83F4-E9750CE7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1C48-75E9-4201-9262-16FB46B7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9833E-69D1-4BE0-9907-50CB8AE3868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7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8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9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30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31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32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33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34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35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36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3"/>
          <p:cNvSpPr txBox="1"/>
          <p:nvPr/>
        </p:nvSpPr>
        <p:spPr>
          <a:xfrm>
            <a:off x="2819520" y="76320"/>
            <a:ext cx="3105000" cy="76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304920" y="5326200"/>
            <a:ext cx="3809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А.Перед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 с часам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Масло. 1652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ый музей изобразительных искусств имени А. С Пушкина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5013360" y="1486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5181480" y="988920"/>
            <a:ext cx="3810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ряду с бытовым жанром натюрморт долгое время считался второстепенным видом живописи, в котором невозможно выразить высокие общественные идеи, гражданские добродетели. Действительно многое из того, что свойственно произведениям исторического, батального и других жанров, натюрморту недоступно. Однако великие мастера доказали, что вещи могут характеризовать и социальное положение, и образ жизни их владельца, порождая, таким образом, различные ассоциации и социальные аналоги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Picture 11" descr="P:\naturmort\naturmort11.jpg"/>
          <p:cNvPicPr/>
          <p:nvPr/>
        </p:nvPicPr>
        <p:blipFill>
          <a:blip r:embed="rId1"/>
          <a:stretch/>
        </p:blipFill>
        <p:spPr>
          <a:xfrm>
            <a:off x="190440" y="1739880"/>
            <a:ext cx="4753080" cy="33656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2"/>
          <p:cNvSpPr/>
          <p:nvPr/>
        </p:nvSpPr>
        <p:spPr>
          <a:xfrm>
            <a:off x="76320" y="0"/>
            <a:ext cx="27432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 разработке презентац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ыли использованы следующие материалы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журнал Юный художник №2-90, статья “Натюрморт” Синюкова В., журнал Юный художник №4-90, статья “Как ставить натюрморт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анжало Т.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 также репродукции картин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Скругленный прямоугольник 9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486400" y="1717560"/>
            <a:ext cx="3505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иболее распространенной разновидностью натюрморта является изображение предметов домашнего обихода. Этот тип натюрморта тесно связан с развитием бытового жанра, интерьера, пейзажа и ярко расцвел в западноевропейском искусств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VII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еке. Каждая национальная художественная школа по-своему, самобытно решила эту проблему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WordArt 8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5" name="Picture 9" descr="P:\naturmort\naturmort7.jpg"/>
          <p:cNvPicPr/>
          <p:nvPr/>
        </p:nvPicPr>
        <p:blipFill>
          <a:blip r:embed="rId1"/>
          <a:stretch/>
        </p:blipFill>
        <p:spPr>
          <a:xfrm>
            <a:off x="495360" y="1738440"/>
            <a:ext cx="4762440" cy="33811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0"/>
          <p:cNvSpPr/>
          <p:nvPr/>
        </p:nvSpPr>
        <p:spPr>
          <a:xfrm>
            <a:off x="304920" y="5337000"/>
            <a:ext cx="5181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Жан Батист Симеон Шарден (1699-1779). Французск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 с кувшином и медным котелко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Масло. 1728-1732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Лугано, собрание Тиссен-Борнемис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1143000" y="5778360"/>
            <a:ext cx="2209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Э.Ман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Розы в ваз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Масло. 1882-1883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Цюрих, частное собрани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WordArt 8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0" name="Picture 9" descr="P:\naturmort\naturmort8.jpg"/>
          <p:cNvPicPr/>
          <p:nvPr/>
        </p:nvPicPr>
        <p:blipFill>
          <a:blip r:embed="rId1"/>
          <a:stretch/>
        </p:blipFill>
        <p:spPr>
          <a:xfrm>
            <a:off x="771480" y="1047600"/>
            <a:ext cx="3038400" cy="47628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0"/>
          <p:cNvSpPr/>
          <p:nvPr/>
        </p:nvSpPr>
        <p:spPr>
          <a:xfrm>
            <a:off x="4114800" y="1066680"/>
            <a:ext cx="48448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самом начале 17 века в результате Нидерландской буржуазной революции на территории Северных Нидерландов образовалась буржуазная Республика Соединенных провинций. Здесь сложилась новая культура в которой нашли отражение демократические идеалы голландского бюргерства, ставшего хозяином в собственной стране. В Голландии сформировалось искусство, правдиво отражавшее быт, нравы, природу родины. Его реалистические установки были последовательно выражены живописцем, поэтом и драматургом Гербрандом Бредеро: “Как художник, я следую правилу живописцев, которое гласит, что лучшим художником является тот, кто ближе всего подходит к жизни…что меня касается, то я изучаю только одну – книгу повседневной жизни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5105520" y="1298520"/>
            <a:ext cx="38098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Голландии продолжали существовать различные объединения, часто полувоенного, полурелигиозного характера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ыгравшие важную роль в победе над испанским абсолютизмом. Их участники уже в 16 веке заказывали видным художникам групповые портреты, в которых желали видеть себя запечатленными в кругу своей корпорации. Особое место приобрели изображения торжественных встреч представителей стрелковых гильдий. В них господствовала атмосфера праздника тесной компании хорошо знающих и ценящих друг друга людей, собравшихся за столом,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уставленным сосудами, бокалами, вазами с фруктами, овощами и прочей снедью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5" name="Picture 6" descr="P:\naturmort\Geda.jpg"/>
          <p:cNvPicPr/>
          <p:nvPr/>
        </p:nvPicPr>
        <p:blipFill>
          <a:blip r:embed="rId1"/>
          <a:stretch/>
        </p:blipFill>
        <p:spPr>
          <a:xfrm>
            <a:off x="114480" y="1890720"/>
            <a:ext cx="4762440" cy="307656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7"/>
          <p:cNvSpPr/>
          <p:nvPr/>
        </p:nvSpPr>
        <p:spPr>
          <a:xfrm>
            <a:off x="609480" y="5337000"/>
            <a:ext cx="38102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Виллем Клас Хеда (около 1594-около 1680) Голландская школ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Завтрак с ежевичным пирого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Дерево,  масло. 1631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Дрезденская картинная галерея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4800600" y="990720"/>
            <a:ext cx="38098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 временем эти предметы как бы вырезались из банкетного стола, превращаясь в “чистый” натюрморт. Однако и в таком виде предметы и явства, приготовленные к трапезе, долгое время сохраняли свой общественный характер: в их подборе, расстановке господствовала та же строгая дисциплина, что и в групповом портрете, сохранялась парадная торжественность общественного праздника, отсутствовал тот элемент случайности, интимности, который вносит в картину подлинная жизнь. Большой шаг вперед сделал Франс Халс, придавший как групповому портрету, так и заключенному в нем миру вещей подлинную естественность, раскрывший те особенности предметов, которые характеризуют самого человек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WordArt 6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0" name="Picture 7" descr="P:\naturmort\naturmort5.jpg"/>
          <p:cNvPicPr/>
          <p:nvPr/>
        </p:nvPicPr>
        <p:blipFill>
          <a:blip r:embed="rId1"/>
          <a:stretch/>
        </p:blipFill>
        <p:spPr>
          <a:xfrm>
            <a:off x="714240" y="1047600"/>
            <a:ext cx="3705480" cy="47628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8"/>
          <p:cNvSpPr/>
          <p:nvPr/>
        </p:nvSpPr>
        <p:spPr>
          <a:xfrm>
            <a:off x="762120" y="5838840"/>
            <a:ext cx="380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В. Рождественски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Азиатский ча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Масло. 1926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ый Русский музе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3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5181480" y="990720"/>
            <a:ext cx="3810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от вид натюрморта, получивший название “завтраков”, приобрел наиболее совершенные и законченные черты в творчестве живописцев харлемской школы Питера Класа и Виллема Хеды. Они стали создателями национального натюрморта с Изображением накрытых столов, уставленных скромным набором предметов, типичных для семьи голландского бюргера 1630-1640-х годов. Интимность, простота и серьезность этих произведений отражают бытовой уклад, вкусы, симпатии и настроения первого поколения голландских буржуа, выросшего в свободной, независим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WordArt 7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5" name="Picture 9" descr="P:\naturmort\heda1.jpg"/>
          <p:cNvPicPr/>
          <p:nvPr/>
        </p:nvPicPr>
        <p:blipFill>
          <a:blip r:embed="rId1"/>
          <a:stretch/>
        </p:blipFill>
        <p:spPr>
          <a:xfrm>
            <a:off x="457200" y="1047600"/>
            <a:ext cx="3886200" cy="47628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76320" y="5791320"/>
            <a:ext cx="6248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Виллем Клас Хеда. 1594 - между 1680 и 1682. Голландская школ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Ветчина и серебряная посуд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Дерево,  масло. 1649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ый музей изобразительных искусств имени А. С Пушкин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3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4952880" y="990720"/>
            <a:ext cx="403884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йдет время, и место скромных “завтраков” Класа и Хеды займут богатые и эффектные “десерты” Адриана ван Бейерена и Виллема Кальфа, отразившие новый этап в развитии нидерландского общества, утратившего свои революционные идеалы и отошедшего от скромного и трезвого жизненного уклада своих отцов. Драгоценные кубки и редкостные плоды, сложные и разнообразные композиции, изысканные красочные сочетания, виртуозное мастерство в передаче каждого предмета – вот какие качества отныне наиболее ценятся разбогатевшими заказчиками-буржуа. Но и в этих роскошных натюрмортах поражает любовное внимание к особенностям каждого предмета, умение тонко сопоставить материал и фактуру, быть то бархатистая поверхность персика и матовая пыльца виноградных гроздьев, прозрачный блестящий хрусталь и мягко светящиеся перламутровые раковины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WordArt 7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0" name="Picture 9" descr="P:\naturmort\beiren.jpg"/>
          <p:cNvPicPr/>
          <p:nvPr/>
        </p:nvPicPr>
        <p:blipFill>
          <a:blip r:embed="rId1"/>
          <a:stretch/>
        </p:blipFill>
        <p:spPr>
          <a:xfrm>
            <a:off x="114480" y="1752480"/>
            <a:ext cx="4762440" cy="33530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1"/>
          <p:cNvSpPr/>
          <p:nvPr/>
        </p:nvSpPr>
        <p:spPr>
          <a:xfrm>
            <a:off x="304920" y="5337000"/>
            <a:ext cx="380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Абрахам ван Бейерен (1620/1621 - 1690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 с крабо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Дерево, масло. 1655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Старая пинакотека. Мюнхен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4" name="Picture 6" descr="P:\naturmort\klas.jpg"/>
          <p:cNvPicPr/>
          <p:nvPr/>
        </p:nvPicPr>
        <p:blipFill>
          <a:blip r:embed="rId1"/>
          <a:stretch/>
        </p:blipFill>
        <p:spPr>
          <a:xfrm>
            <a:off x="76320" y="1895400"/>
            <a:ext cx="4762440" cy="30672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304920" y="5337000"/>
            <a:ext cx="380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Питер Клас (1597/98-1661) Голландск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Завтрак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Дерево,  масло. 1620-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ый Эрмитаж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5029200" y="1022400"/>
            <a:ext cx="39625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зким контрастом к этим небольшим полотнам выглядят картины фламандских художников того же времени. Это огромные декоративные натюрморты с изображением сочных и спелых плодов, фруктов, битой птицы, кабаньих и оленьих голов, разделенных мясных туш, разнообразных рыб, от самых обычных до редких и экзотических пород. Все, чем богата плодородная земля Фландрии, чем изобилует ее леса и поля, что попадает в сети фламандских рыбаков, горами громоздится на столах и витринах, свисает и падает на тяжелые дубовые прилавки. Рамам картин становится тесно от неиссякаемого изобилия даров природы. Авторам этих громадных картин был Франс Снейдерс, а сами полотна составляют оригинальные и своеобразный тип натюрморта, получивший наименование “лавки”.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029200" y="1305000"/>
            <a:ext cx="3962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 полным кипучей жизни произведениям меньше всего подходит традиционное определение натюрморта как “мертвой натуры”. Настолько они нарядны, праздничны, ликующ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Центром крепко сбитых композиций “лавок” Снейдерса является массивный прилавок или стол, на котором размещены груды битой дичи, фруктов, цветов, овощей. Обычно они выдержаны в общем оливковом тоне, из которого выделяются пятна синего, белого и красного (туши животных, омары, ягоды, одеяние лавочника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WordArt 7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0" name="Picture 9" descr="P:\naturmort\sneiders.jpg"/>
          <p:cNvPicPr/>
          <p:nvPr/>
        </p:nvPicPr>
        <p:blipFill>
          <a:blip r:embed="rId1"/>
          <a:stretch/>
        </p:blipFill>
        <p:spPr>
          <a:xfrm>
            <a:off x="114480" y="1843200"/>
            <a:ext cx="4762440" cy="31716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0"/>
          <p:cNvSpPr/>
          <p:nvPr/>
        </p:nvSpPr>
        <p:spPr>
          <a:xfrm>
            <a:off x="304920" y="5337000"/>
            <a:ext cx="57909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Франс Снейдерс. (1579-1657) Фламандская школа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 с лебеде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 Около 1615-1620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ый музей изобразительных искусств имени А. С Пушкин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3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4952880" y="1006560"/>
            <a:ext cx="403884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нейдерс с любовью и мастерством передает цвет, форму, фактуру предметов, объединяя их в роскошные, декоративно-целостные циклы картин, ранее украшавшие дворцы европейской знати. Он охотно вводит фигуры и полуфигуры людей, животных, иногда помещает небольшие жанровые сценки, например, собаку, бросающуюся на кошку; обезьяну, крадущую фрукты, беседующих лавочницу и покупательницу. Эти сцены имели скрытый аллегорический смысл, хорошо понятный современникам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аще всего указывали на людские пороки. Обычно в натюрмортах Снейдерса человеческие фигуры теряются среди изобилия земных даров. Его произведения близки к бытовому жанру, но часто сюжетное начало играет в них второстепенную роль. Цель художника создать красочное пиршество из плодов родной земл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WordArt 7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5" name="Picture 9" descr="P:\naturmort\sneiders.jpg"/>
          <p:cNvPicPr/>
          <p:nvPr/>
        </p:nvPicPr>
        <p:blipFill>
          <a:blip r:embed="rId1"/>
          <a:stretch/>
        </p:blipFill>
        <p:spPr>
          <a:xfrm>
            <a:off x="114480" y="1843200"/>
            <a:ext cx="4762440" cy="31716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0"/>
          <p:cNvSpPr/>
          <p:nvPr/>
        </p:nvSpPr>
        <p:spPr>
          <a:xfrm>
            <a:off x="76320" y="5337000"/>
            <a:ext cx="44956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Франс Снейдерс. (1579-1657) Фламандская школа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 с лебеде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 Около 1615-1620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ый музей изобразительных искусств имени А. С Пушкин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3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5181480" y="1905120"/>
            <a:ext cx="3810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удожественная доктрина классицизма отнесла натюрморт к числу “низменных жанров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днако именно в 18 веке появляются великолепные полотн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Ж. Б. Шардена, оживляющего мир “мертвой натуры”. С развитием академической системы образования возникает учебный, или постановочный, натюрморт, ставший одним из обязательных элементов обучения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WordArt 6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0" name="Picture 7" descr="P:\naturmort\sharden1.jpg"/>
          <p:cNvPicPr/>
          <p:nvPr/>
        </p:nvPicPr>
        <p:blipFill>
          <a:blip r:embed="rId1"/>
          <a:stretch/>
        </p:blipFill>
        <p:spPr>
          <a:xfrm>
            <a:off x="76320" y="2314440"/>
            <a:ext cx="4762440" cy="22291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8"/>
          <p:cNvSpPr/>
          <p:nvPr/>
        </p:nvSpPr>
        <p:spPr>
          <a:xfrm>
            <a:off x="304920" y="5337000"/>
            <a:ext cx="5181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Жан Батист Симеон Шарден (1699-1779). Французск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 (Атрибуты искусств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304920" y="5337000"/>
            <a:ext cx="380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Абрахам ван Бейерен (1620/1621 - 1690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 с крабо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Дерево, масло. 1655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Старая пинакотека. Мюнхен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Picture 7" descr="P:\naturmort\beiren.jpg"/>
          <p:cNvPicPr/>
          <p:nvPr/>
        </p:nvPicPr>
        <p:blipFill>
          <a:blip r:embed="rId1"/>
          <a:stretch/>
        </p:blipFill>
        <p:spPr>
          <a:xfrm>
            <a:off x="76320" y="1752480"/>
            <a:ext cx="4762440" cy="33530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"/>
          <p:cNvSpPr/>
          <p:nvPr/>
        </p:nvSpPr>
        <p:spPr>
          <a:xfrm>
            <a:off x="5334120" y="1625760"/>
            <a:ext cx="3657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 объектов “мертвой природы” (перевод французского словосочетания натюрморт —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ture mort)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едметы, согретые живым человеческим чувством, преображаются под кистью художника, начинают жить собственной неповторимой “тихой жизнью” (таков буквальный и несравненно более точный в определении натюрморта перевод голландского термин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illeve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немецкого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illebe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английского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ill lif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3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5181480" y="1274760"/>
            <a:ext cx="38102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терес к натюрморту значительно усиливается во второй половине прошлого века. Импрессионисты во Франции ставят акцент на живописном восприятии мира вещей, решают проблемы свето-цветовых отношений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редко трактуют натюрморт как своеобразное декоративное панно. Постимпрессионисты разрабатывают сложные проблемы композиционного и цветового решения картины, выявляют материальную вещественность мир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WordArt 8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1676520" y="5854680"/>
            <a:ext cx="2895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Пабло Пикассо. 1881-197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Зеленая миска и черная бутылк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ый Эрмитаж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16" descr="P:\naturmort\picasso.jpg"/>
          <p:cNvPicPr/>
          <p:nvPr/>
        </p:nvPicPr>
        <p:blipFill>
          <a:blip r:embed="rId1"/>
          <a:stretch/>
        </p:blipFill>
        <p:spPr>
          <a:xfrm>
            <a:off x="800280" y="1066680"/>
            <a:ext cx="3695400" cy="4762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5181480" y="990720"/>
            <a:ext cx="3810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начала 20 века натюрморт становится своего рода творческой лабораторией живописи. Мастера фовизма идут по пути обостренного выявления эмоциональных и декоративно-экспрессивных возможностей цвета и фактуры, в то время как представители кубизма утверждают новые способы передачи пространства и предметов: конструируют объемы. На плоскости, расчленяют формы на простые геометрические тела, воспринятые с точки зрения, применяют суровые, почти монохромные тона, а затем вводят в картины коллаж – присыпки, куски газет и другие материал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1295280" y="5337000"/>
            <a:ext cx="1524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Ф. Леж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Масло. 1927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8" descr="P:\naturmort\naturmort9.jpg"/>
          <p:cNvPicPr/>
          <p:nvPr/>
        </p:nvPicPr>
        <p:blipFill>
          <a:blip r:embed="rId1"/>
          <a:stretch/>
        </p:blipFill>
        <p:spPr>
          <a:xfrm>
            <a:off x="76320" y="1562040"/>
            <a:ext cx="4762440" cy="3733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5181480" y="1905120"/>
            <a:ext cx="38102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начало 20 века приходится и расцвет русского натюрморта. К. Коровин и мастера объединения (Бубновый валет) создают мажорные, сочные по цвету произведения, воспевающие полнокровную красоту бытия. Поэтичные работы исполняют И.Грабарь, художники (Мира искусства), тонкие декоративные мастера (Голубой розы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5" name="Picture 5" descr="P:\naturmort\naturmort6.jpg"/>
          <p:cNvPicPr/>
          <p:nvPr/>
        </p:nvPicPr>
        <p:blipFill>
          <a:blip r:embed="rId1"/>
          <a:stretch/>
        </p:blipFill>
        <p:spPr>
          <a:xfrm>
            <a:off x="114480" y="2209680"/>
            <a:ext cx="4762440" cy="24386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>
            <a:off x="2133720" y="5337000"/>
            <a:ext cx="1828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Ю. Пимено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Дальняя дорог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Масло. 1959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5029200" y="1473120"/>
            <a:ext cx="3809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и традиции были продолжены в советском искусстве 20-30-х годов. Красочные, воссоздающие богатство и многообразие предметного мира работы исполнили и юти годы П.Кончаловкий, А.Куприн, И.Машков, А.Лентулов,М. Сарьян, А.Осмеркин, А.Герасимов. Одновременно были продолжены поиски тонкой колористической гармонии, поэтизации мира вещей (В.Лебедев, Н.Тырса), эксперименты в области цвета и фактуры (Д.Штеренберг, Н.Альтман)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1676520" y="582300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Н. Ерыше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Кувшины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Масло. 1979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7" descr="P:\naturmort\naturmort4.jpg"/>
          <p:cNvPicPr/>
          <p:nvPr/>
        </p:nvPicPr>
        <p:blipFill>
          <a:blip r:embed="rId1"/>
          <a:stretch/>
        </p:blipFill>
        <p:spPr>
          <a:xfrm>
            <a:off x="866880" y="1047600"/>
            <a:ext cx="3781440" cy="4762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8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1026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1027"/>
          <p:cNvSpPr/>
          <p:nvPr/>
        </p:nvSpPr>
        <p:spPr>
          <a:xfrm>
            <a:off x="5181480" y="1473120"/>
            <a:ext cx="3810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воеобразные по манере, отражающие существенные особенности современной эпохи натюрморты были созданы и 40-50 годах П.Кузнецовым, Ю Пименовым. В 60-80-х годах тяготение к повышенной предметности изображения, стремление к эстетизации окружающего человека мира вещей обусловили интерес к натюрморту многих советских художников (В.Стожаров, А.Никич, Т.Нариманбеков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WordArt 1028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5" name="Text Box 1029"/>
          <p:cNvSpPr/>
          <p:nvPr/>
        </p:nvSpPr>
        <p:spPr>
          <a:xfrm>
            <a:off x="2133720" y="5823000"/>
            <a:ext cx="380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Т. Салахо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 с венским стуло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Масло. 1976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1031" descr="P:\naturmort\naturmort3.jpg"/>
          <p:cNvPicPr/>
          <p:nvPr/>
        </p:nvPicPr>
        <p:blipFill>
          <a:blip r:embed="rId1"/>
          <a:stretch/>
        </p:blipFill>
        <p:spPr>
          <a:xfrm>
            <a:off x="1533600" y="1047600"/>
            <a:ext cx="3114720" cy="4762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5181480" y="2084400"/>
            <a:ext cx="3810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зарубежном натюрморте середины и второй половины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ека выделяются работы итальянского живописца Д.Моранди, отличающиеся мягким созерцательным настроением, ясными композиционными построениями, блеклой цветовой гаммой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1066680" y="5381640"/>
            <a:ext cx="3810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М. А. Асламазян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Армянский натюрморт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 1955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ая Третьяковская галере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Picture 7" descr="P:\naturmort\aslamasyn.jpg"/>
          <p:cNvPicPr/>
          <p:nvPr/>
        </p:nvPicPr>
        <p:blipFill>
          <a:blip r:embed="rId1"/>
          <a:stretch/>
        </p:blipFill>
        <p:spPr>
          <a:xfrm>
            <a:off x="76320" y="1538280"/>
            <a:ext cx="4762440" cy="3781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5181480" y="990720"/>
            <a:ext cx="3810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циальные тенденции нашли отражение в экспрессивных, скупых по подбору предметов произведениях мексиканцев Д.Риверы, Д.Сикейроса, итальянца Гуттузо. Весьма своеобразны натюрморты представителей поп-арт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дного из направлений в европейском и американском искусстве, провозгласивших после засилья абстракционизм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возвращение к реальности)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боты поп-артистов воспроизводят предметы домашнего обихода, упаковку товаров, детали машин и рассчитаны на многообразные ассоциации у зрителей, иногда с нотами иронии и неприятия лозунгов "потребления ради потребления"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304920" y="5410080"/>
            <a:ext cx="380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П. П. Кончаловский (1876-1956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. Апельсины и мятая бумаг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 1946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ая Третьяковская галере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Picture 7" descr="P:\naturmort\konchalovsky.jpg"/>
          <p:cNvPicPr/>
          <p:nvPr/>
        </p:nvPicPr>
        <p:blipFill>
          <a:blip r:embed="rId1"/>
          <a:stretch/>
        </p:blipFill>
        <p:spPr>
          <a:xfrm>
            <a:off x="76320" y="1733400"/>
            <a:ext cx="4762440" cy="3391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5105520" y="2822400"/>
            <a:ext cx="3809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лифанов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катерина Дмитриевн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ректо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мбинской основной общеобразовательной школ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0" name="Picture 5" descr="P:\naturmort\Alifanova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6"/>
          <p:cNvSpPr/>
          <p:nvPr/>
        </p:nvSpPr>
        <p:spPr>
          <a:xfrm>
            <a:off x="6400800" y="0"/>
            <a:ext cx="27432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 разработке презентац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ыли использованы следующие материалы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журнал Юный художник №2-90, статья “Натюрморт” Синюкова В., журнал Юный художник №4-90, статья “Как ставить натюрморт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анжало Т.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 также репродукции картин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5105520" y="2822400"/>
            <a:ext cx="3809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рхипов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ргей Николаевич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ректо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итковской средней общеобразовательной школ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5" name="Picture 6" descr="P:\naturmort\Arhipow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5105520" y="282240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аженов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талья Юрьевн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ректо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крытой (сменной) школ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9" name="Picture 6" descr="P:\naturmort\Bazhenowa.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5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5334120" y="2328840"/>
            <a:ext cx="3657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даром еще в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VIII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еке великий французский просветитель и художественный критик Дени Дидро для обозначения этого жанра пользовался терминами “неодушевленная натура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tyre inanme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WordArt 9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6" name="Picture 10" descr="P:\naturmort\naturmort10.jpg"/>
          <p:cNvPicPr/>
          <p:nvPr/>
        </p:nvPicPr>
        <p:blipFill>
          <a:blip r:embed="rId1"/>
          <a:stretch/>
        </p:blipFill>
        <p:spPr>
          <a:xfrm>
            <a:off x="114480" y="1762200"/>
            <a:ext cx="4762440" cy="33336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1"/>
          <p:cNvSpPr/>
          <p:nvPr/>
        </p:nvSpPr>
        <p:spPr>
          <a:xfrm>
            <a:off x="304920" y="5337000"/>
            <a:ext cx="3809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Питер Клас (1597/98-1661) Голландск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Завтрак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Масло. 1642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ый музей изобразительных искусств имени А. С Пушкина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4876920" y="243828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рдокин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алина Григорьевн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ректо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волуговской основной общеобразовательной школ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3" name="Picture 6" descr="P:\naturmort\Bordokina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5105520" y="282240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херов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ариса Викторовн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меститель начальника Центрального РО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7" name="Picture 6" descr="P:\naturmort\Maherova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4876920" y="243828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влютов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льлюр Рафикович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ректо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Юрт-Акбалыкской основной общеобразовательной школ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1" name="Picture 6" descr="P:\naturmort\Mavlutov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5105520" y="266688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ленников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ихаил Михайлович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ректор коррекционной школ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5" name="Picture 6" descr="P:\naturmort\Olennikov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5105520" y="26668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мако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алина Павловн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ректор средней школы №168 г. Новосибирс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9" name="Picture 7" descr="P:\naturmort\Shmakova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4876920" y="266688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ро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юбовь Андреевн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в. методическим кабинетом Колыванског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3" name="Picture 6" descr="P:\naturmort\Tarova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5105520" y="266688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елезно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на Юрьевн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иблиотекар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нтральной библиоте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7" name="Picture 6" descr="P:\naturmort\Zheleznova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4952880" y="2666880"/>
            <a:ext cx="396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елезнов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алина Михайловн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в. методическим кабинетом Сузунского РО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1" name="Picture 6" descr="P:\naturmort\ZheleznovaGM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5257800" y="1676520"/>
            <a:ext cx="3657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4952880" y="2282760"/>
            <a:ext cx="4038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ожение его многообразных форм и типов произошло в эпоху Возрождения, хотя отдельные мотивы и детали встречаются в искусстве Древнего Востока и античности: овощи, гирлянды или так называемые неприбранные комнаты в мозаиках, стенных росписях, рельефах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WordArt 9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2" name="Picture 12" descr="P:\naturmort\kozlovsky.jpg"/>
          <p:cNvPicPr/>
          <p:nvPr/>
        </p:nvPicPr>
        <p:blipFill>
          <a:blip r:embed="rId1"/>
          <a:stretch/>
        </p:blipFill>
        <p:spPr>
          <a:xfrm>
            <a:off x="114480" y="1638360"/>
            <a:ext cx="4762440" cy="35812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3"/>
          <p:cNvSpPr/>
          <p:nvPr/>
        </p:nvSpPr>
        <p:spPr>
          <a:xfrm>
            <a:off x="304920" y="5337000"/>
            <a:ext cx="4267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И. И. Козловский (1830 -?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 1858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Ульяновский областной художественный музе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5257800" y="1676520"/>
            <a:ext cx="3657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4952880" y="2282760"/>
            <a:ext cx="4038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ревние авторы о первом мастере греческом живописце Периакосе, жившем в эллинистическую эпоху. Возможно, что его картины послужили образцами для фресок в Помпеях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о яркие и сочные изображения цветов, фруктов, а также ритуальных сосудов, письменных приборов, монет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WordArt 6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8" name="Picture 8" descr="P:\naturmort\dal.jpg"/>
          <p:cNvPicPr/>
          <p:nvPr/>
        </p:nvPicPr>
        <p:blipFill>
          <a:blip r:embed="rId1"/>
          <a:stretch/>
        </p:blipFill>
        <p:spPr>
          <a:xfrm>
            <a:off x="819000" y="1047600"/>
            <a:ext cx="3753000" cy="47628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9"/>
          <p:cNvSpPr/>
          <p:nvPr/>
        </p:nvSpPr>
        <p:spPr>
          <a:xfrm>
            <a:off x="304920" y="5867280"/>
            <a:ext cx="4800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Жан Франсуа ван Даль (?) (1764-1840). Французская  школ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Фрукты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Дерево, масло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5257800" y="1676520"/>
            <a:ext cx="3657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WordArt 6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3" name="Picture 8" descr="P:\naturmort\sharden.jpg"/>
          <p:cNvPicPr/>
          <p:nvPr/>
        </p:nvPicPr>
        <p:blipFill>
          <a:blip r:embed="rId1"/>
          <a:stretch/>
        </p:blipFill>
        <p:spPr>
          <a:xfrm>
            <a:off x="114480" y="1733400"/>
            <a:ext cx="4762440" cy="33912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9"/>
          <p:cNvSpPr/>
          <p:nvPr/>
        </p:nvSpPr>
        <p:spPr>
          <a:xfrm>
            <a:off x="0" y="5337000"/>
            <a:ext cx="5029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Жан Батист Симеон Шарден (1699-1779). Французск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 с атрибутами искусств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 1766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ый Эрмитаж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4952880" y="990720"/>
            <a:ext cx="40388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знаменитой “Естественной истории” древнеримский ученый, писатель и государственный деятель Плиний Старший рассказывает о споре между греческими живописцами Зевксисом и Паррасием: Зевксис столь правдоподобно написал виноградные гроздья, что голодные птицы слетались их клевать .Паррасий же настолько совершенно изобразил занавес в своей мастерской, что сам Зевксис принял его за настоящий. После этого Зевксис признал себя побежденным, так как ему удалось обмануть лишь птиц, в то время как Паррасий ввел в заблуждение его самого – прославленного мастера, виртуозно владеющего приемами светотеневой моделировки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257800" y="1676520"/>
            <a:ext cx="3657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WordArt 6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9" name="Picture 8" descr="P:\naturmort\minon.jpg"/>
          <p:cNvPicPr/>
          <p:nvPr/>
        </p:nvPicPr>
        <p:blipFill>
          <a:blip r:embed="rId1"/>
          <a:stretch/>
        </p:blipFill>
        <p:spPr>
          <a:xfrm>
            <a:off x="352440" y="1047600"/>
            <a:ext cx="3686040" cy="47628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10"/>
          <p:cNvSpPr/>
          <p:nvPr/>
        </p:nvSpPr>
        <p:spPr>
          <a:xfrm>
            <a:off x="380880" y="5838840"/>
            <a:ext cx="4191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Абрагам Миньон (1640-1679) (?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 с какаду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Ульяновский областной художественный музе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4267080" y="1839960"/>
            <a:ext cx="4724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ртины Зевксиса и Паррасия до нас не дошли, и судить о них можно лишь по рассказам античных писателей и копиям римских художников, сохранившимся в незначительном количестве. Но описанный Плинием принцип имитации видимых предметов, создающий впечатление о них как о реально существующих и даже заставляющих ошибаться искушенный глаз художника, дожил до наших дней и нередко встречается в современной живописи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027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1028"/>
          <p:cNvSpPr/>
          <p:nvPr/>
        </p:nvSpPr>
        <p:spPr>
          <a:xfrm>
            <a:off x="4267080" y="914400"/>
            <a:ext cx="4724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от принцип получил название иллюзионизма (от латинского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llusio 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ман, насмешка). Частным видом этой иллюзионистической живописи являются обманки (от французского словосочетания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ompe d’oeil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обман глаза, зрения). “Обманками”, особенно любимыми в эпоху Возрождения и барокко, часто служили дверцы шкафов с написанными на них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корешками книг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ли так называемые охотничьи трофеи – убитые рябчики, тетерева, зайцы, также украшавшие дверцы шкафов для хранения дичи и воспринимавшиеся как реальные. Иногда роль “обманок” в картине выполняют отдельные иллюзорно выписанные детали, например, мухи на арбузе, стрекозы и бабочки на цветах и листья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WordArt 1029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5" name="Picture 1031" descr="P:\naturmort\bogovolov.jpg"/>
          <p:cNvPicPr/>
          <p:nvPr/>
        </p:nvPicPr>
        <p:blipFill>
          <a:blip r:embed="rId1"/>
          <a:stretch/>
        </p:blipFill>
        <p:spPr>
          <a:xfrm>
            <a:off x="905040" y="1047600"/>
            <a:ext cx="2752560" cy="47628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032"/>
          <p:cNvSpPr/>
          <p:nvPr/>
        </p:nvSpPr>
        <p:spPr>
          <a:xfrm>
            <a:off x="76320" y="5867280"/>
            <a:ext cx="4952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П. Г. Богомолов (художник первой половины 18 века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Книг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 1737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Музей керамики и усадьба «Кусково» 18 века, Москв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027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 Box 1028"/>
          <p:cNvSpPr/>
          <p:nvPr/>
        </p:nvSpPr>
        <p:spPr>
          <a:xfrm>
            <a:off x="5105520" y="914400"/>
            <a:ext cx="38862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от принцип получил название иллюзионизма (от латинского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llusio 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ман, насмешка). Частным видом этой иллюзионистической живописи являются обманки (от французского словосочетания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ompe d’oeil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обман глаза, зрения). “Обманками”, особенно любимыми в эпоху Возрождения и барокко, часто служили дверцы шкафов с написанными на них корешками книг или так называемые охотничьи трофеи –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убитые рябчики, тетерева, зайцы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также украшавшие дверцы шкафов для хранения дичи и воспринимавшиеся как реальные. Иногда роль “обманок” в картине выполняют отдельные иллюзорно выписанные детали, например, мухи на арбузе, стрекозы и бабочки на цветах и листья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WordArt 1029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0" name="Picture 1033" descr="P:\naturmort\Empoli.jpg"/>
          <p:cNvPicPr/>
          <p:nvPr/>
        </p:nvPicPr>
        <p:blipFill>
          <a:blip r:embed="rId1"/>
          <a:stretch/>
        </p:blipFill>
        <p:spPr>
          <a:xfrm>
            <a:off x="114480" y="1795320"/>
            <a:ext cx="4762440" cy="32673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034"/>
          <p:cNvSpPr/>
          <p:nvPr/>
        </p:nvSpPr>
        <p:spPr>
          <a:xfrm>
            <a:off x="304920" y="5337000"/>
            <a:ext cx="3809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Якопо Кименти да Эмполи. Около 1551-164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 1620-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ый музей изобразительных искусств имени А. С Пушкин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9T08:48:16Z</dcterms:created>
  <dc:creator>1u09</dc:creator>
  <dc:description/>
  <dc:language>en-US</dc:language>
  <cp:lastModifiedBy>Owner</cp:lastModifiedBy>
  <dcterms:modified xsi:type="dcterms:W3CDTF">2011-07-21T18:46:23Z</dcterms:modified>
  <cp:revision>49</cp:revision>
  <dc:subject/>
  <dc:title>Заголовок слайда отсутствует</dc:title>
</cp:coreProperties>
</file>