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DD7-0CEA-4D45-B45A-C0C6983E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CA4-5E2E-4EA7-8D6B-56E35718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C34-2F5A-43BC-802D-98ED6B58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FAA-2562-40E0-880E-731C6E56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826-ECFC-4C24-BF67-8970D00D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6D4-1944-47CB-BD0F-C19F38EF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E6C-7914-4BB6-BD20-794469DA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C9CC-8115-4DB8-9B36-5A828A42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13C-E55B-47EC-B0C4-0109C952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8CD-5703-460F-9E02-FF4D3D8D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2A2-78A2-4B1F-B3E0-7427E677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06A-F994-4705-852B-2C8BD100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4032-C363-464D-B59C-D4F6619444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62784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.Серов  «Девочка  с  персика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5" descr="картина девочка с персиками"/>
          <p:cNvPicPr/>
          <p:nvPr/>
        </p:nvPicPr>
        <p:blipFill>
          <a:blip r:embed="rId1"/>
          <a:stretch/>
        </p:blipFill>
        <p:spPr>
          <a:xfrm>
            <a:off x="1692360" y="189000"/>
            <a:ext cx="563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616536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.Коровин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«Роз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5" descr="Розы"/>
          <p:cNvPicPr/>
          <p:nvPr/>
        </p:nvPicPr>
        <p:blipFill>
          <a:blip r:embed="rId1"/>
          <a:stretch/>
        </p:blipFill>
        <p:spPr>
          <a:xfrm>
            <a:off x="2268360" y="189000"/>
            <a:ext cx="45309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Крамской  «Букет  цветов. Флокс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букет цветов"/>
          <p:cNvPicPr/>
          <p:nvPr/>
        </p:nvPicPr>
        <p:blipFill>
          <a:blip r:embed="rId1"/>
          <a:stretch/>
        </p:blipFill>
        <p:spPr>
          <a:xfrm>
            <a:off x="1835280" y="189000"/>
            <a:ext cx="5298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А  теперь  нарисуй  то, что  тебе  кажется  прекрасны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676160"/>
            <a:ext cx="8893080" cy="29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Прекрасное  в  жизни  и  произведениях  искусств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еловеку  всегда  хотелось  запечатлеть  прекрасное,  то,  что  удивляло  и радовало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овать  люди  научились  еще  в  глубокой  дре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image001"/>
          <p:cNvPicPr/>
          <p:nvPr/>
        </p:nvPicPr>
        <p:blipFill>
          <a:blip r:embed="rId1"/>
          <a:stretch/>
        </p:blipFill>
        <p:spPr>
          <a:xfrm>
            <a:off x="250920" y="2565360"/>
            <a:ext cx="2952720" cy="2136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080-19"/>
          <p:cNvPicPr/>
          <p:nvPr/>
        </p:nvPicPr>
        <p:blipFill>
          <a:blip r:embed="rId2"/>
          <a:stretch/>
        </p:blipFill>
        <p:spPr>
          <a:xfrm>
            <a:off x="3059280" y="3429000"/>
            <a:ext cx="3274920" cy="213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Наскальная живопись бушменов"/>
          <p:cNvPicPr/>
          <p:nvPr/>
        </p:nvPicPr>
        <p:blipFill>
          <a:blip r:embed="rId3"/>
          <a:stretch/>
        </p:blipFill>
        <p:spPr>
          <a:xfrm>
            <a:off x="6156360" y="4365720"/>
            <a:ext cx="28083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22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72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22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Шли  века.  Некоторые  люди  достигли  высокого  мастерства  в  умении рисовать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16572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Березовая  рощ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Березовая роща"/>
          <p:cNvPicPr/>
          <p:nvPr/>
        </p:nvPicPr>
        <p:blipFill>
          <a:blip r:embed="rId1"/>
          <a:stretch/>
        </p:blipFill>
        <p:spPr>
          <a:xfrm>
            <a:off x="971640" y="1413000"/>
            <a:ext cx="72579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Золотая  осен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5" descr="Золотая осень. 1895 год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Девятый  вал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" descr="картина Девятый вал"/>
          <p:cNvPicPr/>
          <p:nvPr/>
        </p:nvPicPr>
        <p:blipFill>
          <a:blip r:embed="rId1"/>
          <a:stretch/>
        </p:blipFill>
        <p:spPr>
          <a:xfrm>
            <a:off x="324000" y="260280"/>
            <a:ext cx="85723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165360"/>
            <a:ext cx="822960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Ночь  в  Венец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Ночь в Венеции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Зим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Зима 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Рож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Рожь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1:26:10Z</dcterms:created>
  <dc:creator>Наталья</dc:creator>
  <dc:description/>
  <dc:language>en-US</dc:language>
  <cp:lastModifiedBy>Owner</cp:lastModifiedBy>
  <dcterms:modified xsi:type="dcterms:W3CDTF">2011-07-30T19:59:10Z</dcterms:modified>
  <cp:revision>4</cp:revision>
  <dc:subject/>
  <dc:title>Прекрасное  в  жизни  и  произведениях  искусства</dc:title>
</cp:coreProperties>
</file>