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FDCA-4EF8-4976-AAD3-F3DECCAE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335-7331-442D-BC6E-953B8164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732-BACA-4124-B16B-871B6D8A1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730-2126-4BBA-A1FD-DF110A0B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729-B811-46E8-9F91-BA7CEEE9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1135-1FFF-4AC6-9E9A-6F2950D6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BA6-B43A-49F4-BD81-E3CD39C1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927-5F73-46CF-AF8D-8169491F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1FD-82C8-4526-A2D5-0104E5FD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3B8-9999-48EE-B0B2-28DE7415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261-6550-46E8-8CE1-BA4A4F7A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F529-64D2-42E9-8526-1D819767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EB3A-D8F1-488E-85C9-A3E7873A0A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chaikov.ru/images/pushkin1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9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124760" cy="252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обенности развития русской портретной жив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213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парсуны до  порт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ветски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960" y="1769760"/>
            <a:ext cx="8204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В советский период реалистический портрет-тип получил дальнейшее развитие в творчестве таких художников, как Г.Г. Ряжский (“Председательница”, 1928), М.В. Нестеров (“Портрет академика И.П. Павлова”, 1935). Типические особенности народного характера отразились в многочисленных образах крестьян, созданных художником А.А. Пласт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68360" y="765000"/>
            <a:ext cx="4608360" cy="547236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540640" cy="112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69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сов. время реалистические начала творчества Н. получили качественно новое развитие. Он работал главным образом как портретист, создав замечательные образы деятелей науки и искусства. Эти портреты, в основном 1930-х гг. (П. Д. и А. Д. Кориных, 1930, А. Н. Северцова, 1934, И. Д. Шадра, 1934, С. С. Юдина, 1935, И. П. Павлова, 1935, Государственная премия СССР, 1941; К. Г. Держинской, 1937, Е. С. Кругликозой, 1938, В. И. Мухиной, 1940, — все в Третьяковской галерее), выдвинули художника в ряд ведущих мастеров живописи социалистического реализма. Их объединяют ощущение богатства духовной жизни, творческого горения, разнообразие остро выявленных характеров и гибкость в выборе средств, наиболее рельефно выражающих психологических склад и настроение человека. Портретам свойственны совершенство картинной формы, гармоничное, чёткое построение композиции, точность живописной характеристики объёма и пространства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b_pinacoteca_nesterov_portrait_of_count_leo_tolstoy"/>
          <p:cNvPicPr/>
          <p:nvPr/>
        </p:nvPicPr>
        <p:blipFill>
          <a:blip r:embed="rId2"/>
          <a:stretch/>
        </p:blipFill>
        <p:spPr>
          <a:xfrm>
            <a:off x="539640" y="836640"/>
            <a:ext cx="4413240" cy="53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2916360" y="765000"/>
            <a:ext cx="2735280" cy="3456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торая полов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8242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трую психологическую характеристику своих моделей дают такие известные портретисты, как П.Д. Корин (“Портрет скульптора С.Т. Коненкова”, 1947), Т.Т. Салахов (“Композитор Кара Караев, 1960), Д.И. Жилинский (“Портрет скульптора И.С. Ефимова”, 1954) и многие друг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в портретном жанре успешно работают такие художники, как Н. Сафронов, исполнивший множество живописных образов знаменитых политиков, актеров и музыкантов, И.С. Глазунов, создавший целую галерею портретов известных деятелей науки и культуры. Огромный вклад в развитие русской портретной живописи внес А.М. Шилов (“Портрет академика И.Л. Кнунянца”, 1974; “Портрет Оли”, 1974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XGetDBPicServlet?xpub_id=4802&amp;img_id=2"/>
          <p:cNvPicPr/>
          <p:nvPr/>
        </p:nvPicPr>
        <p:blipFill>
          <a:blip r:embed="rId2"/>
          <a:stretch/>
        </p:blipFill>
        <p:spPr>
          <a:xfrm>
            <a:off x="2987640" y="836640"/>
            <a:ext cx="2583000" cy="33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Rectangle 13"/>
          <p:cNvSpPr/>
          <p:nvPr/>
        </p:nvSpPr>
        <p:spPr>
          <a:xfrm>
            <a:off x="395280" y="2781360"/>
            <a:ext cx="3024360" cy="3672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glazunov-4"/>
          <p:cNvPicPr/>
          <p:nvPr/>
        </p:nvPicPr>
        <p:blipFill>
          <a:blip r:embed="rId3"/>
          <a:stretch/>
        </p:blipFill>
        <p:spPr>
          <a:xfrm>
            <a:off x="468360" y="2852640"/>
            <a:ext cx="2859120" cy="35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1.   Расскажите, чем парсуна отличается от иконы и портр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2.  Что повлияло на возникновение портретного жанра в русском искус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3.  Назовите первых русских портретистов (начало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VIII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4.  Что нового привнес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 в русскую портретную живоп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5.  Назовите великих мастеров портрет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6.  Новые влияния в живописи начал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5"/>
          <p:cNvSpPr/>
          <p:nvPr/>
        </p:nvSpPr>
        <p:spPr>
          <a:xfrm>
            <a:off x="5940360" y="1341360"/>
            <a:ext cx="23767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3276720" y="1341360"/>
            <a:ext cx="244764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684360" y="1341360"/>
            <a:ext cx="23749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72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Times New Roman"/>
              </a:rPr>
              <a:t>Определите к какому времени принадлежат портр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Портрет А. С. Пушкина работы О. А. Кипренского. 1827. ГТГ - кликните по картинке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484280"/>
            <a:ext cx="2140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5" descr="13081249_Portret_A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156360" y="1484280"/>
            <a:ext cx="19638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Picture 6" descr="ioann_vasilyevich_groznyi"/>
          <p:cNvPicPr/>
          <p:nvPr/>
        </p:nvPicPr>
        <p:blipFill>
          <a:blip r:embed="rId5"/>
          <a:stretch/>
        </p:blipFill>
        <p:spPr>
          <a:xfrm>
            <a:off x="3419640" y="1484280"/>
            <a:ext cx="2095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1" name="Text Box 7"/>
          <p:cNvSpPr/>
          <p:nvPr/>
        </p:nvSpPr>
        <p:spPr>
          <a:xfrm>
            <a:off x="971640" y="4365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971640" y="501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71640" y="422100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торая полов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X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5661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онец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473640" y="503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564000" y="4365720"/>
            <a:ext cx="20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арсу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XV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564000" y="5013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еред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564000" y="5661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6227640" y="49417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351480" y="553716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227640" y="544500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6156360" y="4292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Конец XVIII 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619280" y="1341360"/>
            <a:ext cx="5905440" cy="4464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 action="ppaction://hlinksldjump"/>
              </a:rPr>
              <a:t>Парсу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3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4" action="ppaction://hlinksldjump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5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6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7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8" action="ppaction://hlinksldjump"/>
              </a:rPr>
              <a:t>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9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0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1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2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3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4" action="ppaction://hlinksldjump"/>
              </a:rPr>
              <a:t>Конец XVIII 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5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7" action="ppaction://hlinksldjump"/>
              </a:rPr>
              <a:t>Живопись 1830 – 185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8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9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0" action="ppaction://hlinksldjump"/>
              </a:rPr>
              <a:t>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1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2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3" action="ppaction://hlinksldjump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4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5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7" action="ppaction://hlinksldjump"/>
              </a:rPr>
              <a:t>Вторая половина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700"/>
                </a:solidFill>
                <a:latin typeface="Times New Roman"/>
              </a:rPr>
              <a:t>Сопроводите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648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Тема: Особенности развития русской портретной живописи. От парсуны до портр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Автор: Африна Н. Ю., студентка ХГФ МПГУ 304 группы, </a:t>
            </a:r>
            <a:r>
              <a:rPr b="0" lang="en-US" sz="1800" spc="-1" strike="noStrike">
                <a:solidFill>
                  <a:srgbClr val="221700"/>
                </a:solidFill>
                <a:latin typeface="Times New Roman"/>
              </a:rPr>
              <a:t>nadia0509@mail.ru</a:t>
            </a: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Научный руководитель: кандидат педагогических наук, доцент Гудилина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Для кого: 9 -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Цели: Ознакомление с историей и развитием русской портретной живописи,                  эсте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4653000"/>
            <a:ext cx="806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Презентация содержит информацию о развитии русского портрета начиная от парсуны </a:t>
            </a:r>
            <a:r>
              <a:rPr b="0" lang="en-US" sz="2000" spc="-1" strike="noStrike">
                <a:solidFill>
                  <a:srgbClr val="221700"/>
                </a:solidFill>
                <a:latin typeface="Times New Roman"/>
              </a:rPr>
              <a:t>XVII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века. В презентации указаны основные этапы становления русской портретной живописи. Также включает в себя вопросы и задание для самопроверк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Untitled-2"/>
          <p:cNvPicPr/>
          <p:nvPr/>
        </p:nvPicPr>
        <p:blipFill>
          <a:blip r:embed="rId2"/>
          <a:stretch/>
        </p:blipFill>
        <p:spPr>
          <a:xfrm>
            <a:off x="7308720" y="620640"/>
            <a:ext cx="117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5759280" cy="1209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700"/>
                </a:solidFill>
                <a:latin typeface="Lucida Sans Unicode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В Сарабьянов, история русского и советского искусства, издательство «высшая школа» М.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imart.ru/istoria/ist_port/ist_0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268360" y="2421000"/>
            <a:ext cx="475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 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700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84360" y="2421000"/>
            <a:ext cx="43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771640" y="3068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0920" y="981000"/>
            <a:ext cx="4249800" cy="4896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79000" cy="90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Парсу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8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арсуна появляется в переходный период русской истории, во время преобразования средневекового мировоззрения и складывания новых художественных идеалов. Первые русские парсуны создаются, скорее всего, мастерами Оружейной палаты Московского Кремля в XVII в. Наиболее известным автором парсун считается Симон Ушаков. По стилю, приемам и материалам живописи парсуны первоначально ничем не отличаются от икон, выполняются на иконных досках с ковчегом. Иногда пишется такой составляющий элемент иконы, как нимб вокруг головы персонажа. Во второй половине XVII в. парсуна часто пишется на холсте в технике масляной живописи, хотя манера исполнения продолжает содержать иконописные традиции. Временем окончательного превращения парсунной живописи в западноевропейский живописный портрет считаются 1760-е гг., однако, в провинции техника парсуны существовала и в более поздний пери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арсуне портретное сходство передается весьма условно, часто используются атрибуты и подпись, позволяющие идентифицировать изображенного. Персонажами являются, прежде всего, цари, князья, военачальники, церковные иерархи.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5272"/>
          <p:cNvPicPr/>
          <p:nvPr/>
        </p:nvPicPr>
        <p:blipFill>
          <a:blip r:embed="rId2"/>
          <a:stretch/>
        </p:blipFill>
        <p:spPr>
          <a:xfrm>
            <a:off x="324000" y="1052640"/>
            <a:ext cx="41050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brandenburg_concerto_n3_bwv_1048_-_1_allegro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539640" y="765000"/>
            <a:ext cx="4392720" cy="5616720"/>
          </a:xfrm>
          <a:prstGeom prst="rect">
            <a:avLst/>
          </a:prstGeom>
          <a:solidFill>
            <a:srgbClr val="ebf1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3640" y="90756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известный художник конца 17 в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ортрет Якова Федоровича Тург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 позднее 16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лоскостность изображения, локальность цвета, резкие контуры говорят о традициях, связывающих его с приемами древнерусской живописи. Однако в основе художественного видения мастера уже преобладают натурные наблюдения. Они сказываются в искусной передаче материала и деталей одежды, но более всего — в экспрессии лица и позы портретируем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Портрет Якова Тургенева"/>
          <p:cNvPicPr/>
          <p:nvPr/>
        </p:nvPicPr>
        <p:blipFill>
          <a:blip r:embed="rId2"/>
          <a:stretch/>
        </p:blipFill>
        <p:spPr>
          <a:xfrm>
            <a:off x="611280" y="836640"/>
            <a:ext cx="4216320" cy="54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39640" y="981000"/>
            <a:ext cx="431964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6560" cy="91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3210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ервые десятилетия после основания Петербурга в нем выдвинулась группа молодых художников, порвавших с застывшими каноническими формами древнерусского искусства, обратившихся к изображению реального мира, к передаче психологического облика человека.  Первые русские портретисты Иван Никитин и Андрей Матвеев были посланы Петром I за границу совершенствовать свое живописное мастерство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99783894"/>
          <p:cNvPicPr/>
          <p:nvPr/>
        </p:nvPicPr>
        <p:blipFill>
          <a:blip r:embed="rId2"/>
          <a:stretch/>
        </p:blipFill>
        <p:spPr>
          <a:xfrm>
            <a:off x="611280" y="1052640"/>
            <a:ext cx="4163760" cy="52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"/>
          <p:cNvSpPr/>
          <p:nvPr/>
        </p:nvSpPr>
        <p:spPr>
          <a:xfrm>
            <a:off x="468360" y="836640"/>
            <a:ext cx="439092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3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Это сочетание объемно написанной головы и несколько более плоскостно и декоративно трактованной фигуры в изукрашенном наряде, выступающей чаще всего из темного фона, придает портретам Вишнякова особую прелесть. Он относится к числу тех редких, рождающихся обычно в переходные эпохи, художников, в искусстве которых утонченное мастерство соединяется с наивностью, а изысканность - с непосредственностью восприятия. Поэтому созданный им образ Сарры Фермор - одетой во "взрослое" платье очаровательной девочки с непомерно длинными руками - стал своеобразным символом всего русского искусства середины XVIII столетия.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5448"/>
          <p:cNvPicPr/>
          <p:nvPr/>
        </p:nvPicPr>
        <p:blipFill>
          <a:blip r:embed="rId2"/>
          <a:stretch/>
        </p:blipFill>
        <p:spPr>
          <a:xfrm>
            <a:off x="539640" y="907920"/>
            <a:ext cx="422136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836640"/>
            <a:ext cx="4176720" cy="5329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XVIII 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8920" y="764640"/>
            <a:ext cx="3814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XVIII век вошел в историю русского живописного искусства как «век портрета», одним из лучших его портретистов является Владимир Лукич Боровиковский. Портрет М. И. Лопухиной — одно из поэтичнейших произведений  Боровиковского, в которых отразилось влияние стиля сентиментализм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релестная молодая женщина показана в уединенном уголке парка, в изображение которого художник условно привносит мотивы русской сельской природы. 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С ленивой и томной грацией Лопухина облокотилась на садовый парапет. Пейзажный фон, подчеркивая близость к природе, соответствует мечтательной настроенности молодой женщины. В портрете поражает удивительная гармоничность образа и средств выражения. Грустно задумчивому взгляду, нежной улыбке, свободной, чуть усталой позе Лопухиной отвечают плавный ритм линий, мягкая округлость форм, нежные тона белого платья, голубого пояса, сиреневых шарфа и розы, пепельные волосы, неяркая зелень древесной листвы. Мягкая воздушная дымка заполняет пространств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lopuhina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11280" y="907920"/>
            <a:ext cx="4032000" cy="518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777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Жанр портрета становится необыкновенно популярным в русском искусстве конца XVIII века. Это подтверждает и широкое распространение провинциального портрета. Как правило, их заказчиками были представители небогатого дворянства и купечества, а иногда и знатные вельможи. Зачастую провинциальные художники копировали существующие образцы, повторяли приемы, разработанные столичной школой. Таков представленный на выставке овальный портрет императрицы Екатерины II, который, скорее всего, выполнен на основе гравюрного оригинала.</a:t>
            </a:r>
            <a:r>
              <a:rPr b="1" lang="ru-RU" sz="2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50920" y="692280"/>
            <a:ext cx="273672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Живопись 1830 – 18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640" y="836280"/>
            <a:ext cx="3888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Творчество Брюллова внесло в живопись русского классицизма струю романтизма, жизненности. Произведения Брюллова отмечены утверждением чувственно-пластической красоты человека, драматической напряженностью образов, реалистическими тенденциями, тонким психологизмом. Блестящий мастер парадного портрет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роизведениях В.А. Тропинина, С.К. Зарянко, П.А. Федотова мы имеем дело с теми же свойственными времени тенденциями максимального приближения к натуре, к интимной, частной жизни человека. В поздних работах П.А. Федотова (Вдовушка; Анкор, еще анкор, ГТГ) уже видна попытка передать тягостную атмосферу, окружающую бедных людей, настроение безотрадной тоски, наполнить картину социальным смыслом. Однако все эти задачи было трудно решить в рамках стиля бидермайер. Новые требования к жизни вызывали в искусстве появление новых средств выражения. На смену идиллического изображения селян и натюрмортов пришли остросоциальные проблемы и новый стиль - критический реализм, который стал ведущим в русском искусстве второй половины XI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natali"/>
          <p:cNvPicPr/>
          <p:nvPr/>
        </p:nvPicPr>
        <p:blipFill>
          <a:blip r:embed="rId2"/>
          <a:stretch/>
        </p:blipFill>
        <p:spPr>
          <a:xfrm>
            <a:off x="324000" y="765000"/>
            <a:ext cx="257940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1" name="Rectangle 14"/>
          <p:cNvSpPr/>
          <p:nvPr/>
        </p:nvSpPr>
        <p:spPr>
          <a:xfrm>
            <a:off x="2411280" y="2924280"/>
            <a:ext cx="2808360" cy="345744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fedotov07"/>
          <p:cNvPicPr/>
          <p:nvPr/>
        </p:nvPicPr>
        <p:blipFill>
          <a:blip r:embed="rId3"/>
          <a:stretch/>
        </p:blipFill>
        <p:spPr>
          <a:xfrm>
            <a:off x="2484360" y="2997360"/>
            <a:ext cx="2627280" cy="33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7"/>
          <p:cNvSpPr/>
          <p:nvPr/>
        </p:nvSpPr>
        <p:spPr>
          <a:xfrm>
            <a:off x="324000" y="907920"/>
            <a:ext cx="2808000" cy="30258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0000" y="1052640"/>
            <a:ext cx="316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Живописное мастерство, совершенство рисунка Серова необыкновенно высоки. Полнота эмоционального воздействия произведений художника объясняется умением найти точные изобразительные средства и в совершенной форме воплотить многогранную картину жизни. Портрет работы В. А. Серова- "Портрет Портретыч", как шутя называл этот жанр художник, - не просто талантливое воссоздание черт индивидуального лица, но -и мир, в котором живет изображаемый человек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а рубеже 19 и20 вв. искусство ряда передвижников стало утрачивать глубину отражения жизни, обличительный пафос. ТПХВ теряло былое общественное влияние, но основное ядро передвижников до конца сохранило верность реализму и демократическим идеал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erov_dev"/>
          <p:cNvPicPr/>
          <p:nvPr/>
        </p:nvPicPr>
        <p:blipFill>
          <a:blip r:embed="rId2"/>
          <a:stretch/>
        </p:blipFill>
        <p:spPr>
          <a:xfrm>
            <a:off x="395280" y="981000"/>
            <a:ext cx="2616120" cy="28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Rectangle 15"/>
          <p:cNvSpPr/>
          <p:nvPr/>
        </p:nvSpPr>
        <p:spPr>
          <a:xfrm>
            <a:off x="2627280" y="2852640"/>
            <a:ext cx="259236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epin2"/>
          <p:cNvPicPr/>
          <p:nvPr/>
        </p:nvPicPr>
        <p:blipFill>
          <a:blip r:embed="rId3"/>
          <a:stretch/>
        </p:blipFill>
        <p:spPr>
          <a:xfrm>
            <a:off x="2700360" y="2924280"/>
            <a:ext cx="244332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5:30Z</dcterms:created>
  <dc:creator>МЫ ВМЕСТЕ!!!</dc:creator>
  <dc:description/>
  <dc:language>en-US</dc:language>
  <cp:lastModifiedBy>Owner</cp:lastModifiedBy>
  <dcterms:modified xsi:type="dcterms:W3CDTF">2011-07-11T09:40:56Z</dcterms:modified>
  <cp:revision>32</cp:revision>
  <dc:subject/>
  <dc:title>Особенности развития русской портретной живописи</dc:title>
</cp:coreProperties>
</file>