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B26E-1D1E-4757-B860-3DDFBAB0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B25E-FD86-41B0-935B-24548DE7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337-A5F7-4613-8218-F1CFD567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529-FEA4-469F-80D7-C2DABA49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BCF-6B9A-44CC-87D9-CF92A3D4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45C-7918-4E55-9804-91C73E67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FC1-1386-4D70-9E82-BF45F4F0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86D-F76A-4006-9A52-AD751C90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011-3207-4B73-AE9A-ABD82F09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997C-0765-4195-BB33-16B570FB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76E-0232-4790-985F-16F497C2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322-AC56-4A96-AEC3-72DF1E1E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F833-5F41-44DD-92E7-B5ABF3B941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сский портрет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риалы к уроку МХК в 11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61160" y="981000"/>
            <a:ext cx="8128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лексей Петрович Антроп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1716 – 1795г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го можно назвать прозаико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вои модели он смотрит трезвым взгля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душного худож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 удавались образы знатных стару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ь с живописью допетровской Ру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ет конкретные, объективные образ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, что модель хочет открыть зрит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942160" y="0"/>
            <a:ext cx="3201840" cy="421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108000" y="2209680"/>
            <a:ext cx="3562200" cy="464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2987640" y="0"/>
            <a:ext cx="2944800" cy="3933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3419640" y="233352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[IS7IR_4-35]_[PD_04-r]"/>
          <p:cNvPicPr/>
          <p:nvPr/>
        </p:nvPicPr>
        <p:blipFill>
          <a:blip r:embed="rId1"/>
          <a:stretch/>
        </p:blipFill>
        <p:spPr>
          <a:xfrm>
            <a:off x="2990880" y="1047600"/>
            <a:ext cx="31622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04080" y="981000"/>
            <a:ext cx="767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ван Петрович Аргу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27 -180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постной графов Шереметев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им из первых стал изображ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просто, почти буднич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моделей свободно разверну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ростран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более объемны и самостоятель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0" y="2708280"/>
            <a:ext cx="2922480" cy="385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3027600" cy="391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2916360" y="0"/>
            <a:ext cx="3092400" cy="35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4"/>
          <a:stretch/>
        </p:blipFill>
        <p:spPr>
          <a:xfrm>
            <a:off x="2916360" y="2744640"/>
            <a:ext cx="30700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904040" y="1700280"/>
            <a:ext cx="5336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котов Федор Степан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08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ич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хотвор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каза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им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552840" cy="477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4869000" y="692280"/>
            <a:ext cx="3689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959120" y="469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20240" y="830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митрий Григорьевич Левиц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2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В передаче интимного, неуловим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чарования лица, не блещущего красото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 выделяющегося оригинальностью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изображении простого, среднег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заметного лиц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перников он не зна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42228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647600" y="5445000"/>
            <a:ext cx="426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евицкий Д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Екатерины Нелид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616400" y="2205000"/>
            <a:ext cx="601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ладимир Лукич Боровико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57-1825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иментализ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904320" y="1197000"/>
            <a:ext cx="770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Портрет 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единственная область живописи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 которой Россия … временам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шла в уровень с Европо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09920" cy="4181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3252960" cy="44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508720" y="0"/>
            <a:ext cx="34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503960" cy="648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152680" y="4197240"/>
            <a:ext cx="400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ровиковский В.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р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ександра Борисович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ак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3800" y="549360"/>
            <a:ext cx="85536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 – от парсуны – к портрет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парсуны еще тесно связ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традициями иконописных изображени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их чувствуется застылость, идеализ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твлеченность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одство с изображаемым человеком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язательное условие. «…яково бо что види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… слышит тако и в образах рек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ицах начертыва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[IS7IR_16]_[PD_14-u]"/>
          <p:cNvPicPr/>
          <p:nvPr/>
        </p:nvPicPr>
        <p:blipFill>
          <a:blip r:embed="rId1"/>
          <a:stretch/>
        </p:blipFill>
        <p:spPr>
          <a:xfrm>
            <a:off x="3419640" y="3213000"/>
            <a:ext cx="2628720" cy="364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[IS7IR_1-09]_[PD_05-r]"/>
          <p:cNvPicPr/>
          <p:nvPr/>
        </p:nvPicPr>
        <p:blipFill>
          <a:blip r:embed="rId2"/>
          <a:stretch/>
        </p:blipFill>
        <p:spPr>
          <a:xfrm>
            <a:off x="3419640" y="189000"/>
            <a:ext cx="2660400" cy="307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[IS7IR_15]_[PF_01]"/>
          <p:cNvPicPr/>
          <p:nvPr/>
        </p:nvPicPr>
        <p:blipFill>
          <a:blip r:embed="rId3"/>
          <a:stretch/>
        </p:blipFill>
        <p:spPr>
          <a:xfrm>
            <a:off x="6084720" y="0"/>
            <a:ext cx="2213280" cy="4330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[IS7IR_15]_[PF_05]"/>
          <p:cNvPicPr/>
          <p:nvPr/>
        </p:nvPicPr>
        <p:blipFill>
          <a:blip r:embed="rId4"/>
          <a:stretch/>
        </p:blipFill>
        <p:spPr>
          <a:xfrm>
            <a:off x="6012000" y="3246480"/>
            <a:ext cx="2927160" cy="361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[IS7IR_15]_[PF_06]"/>
          <p:cNvPicPr/>
          <p:nvPr/>
        </p:nvPicPr>
        <p:blipFill>
          <a:blip r:embed="rId5"/>
          <a:stretch/>
        </p:blipFill>
        <p:spPr>
          <a:xfrm>
            <a:off x="1403280" y="0"/>
            <a:ext cx="202896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[IS7IR_1-09]_[PD_03-r]"/>
          <p:cNvPicPr/>
          <p:nvPr/>
        </p:nvPicPr>
        <p:blipFill>
          <a:blip r:embed="rId6"/>
          <a:stretch/>
        </p:blipFill>
        <p:spPr>
          <a:xfrm>
            <a:off x="611280" y="3284640"/>
            <a:ext cx="28922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69920" y="476280"/>
            <a:ext cx="878364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– начало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еображенская (Потешная) сер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физического сход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ет решающую 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пись не умеет обобща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ожет увидеть в индивидуальном типич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Передразнивание» древней иконной живопи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276720" cy="4029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400200" cy="3772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5756400" y="2852640"/>
            <a:ext cx="3232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28680" y="1413000"/>
            <a:ext cx="8596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ван Никитич Никитин (1690-174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ин из «птенцов гнезда Петро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лся в семье священ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лся в Венеции и Флорен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Анне Иоанновне приговоре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бессрочной ссылке в Тоболь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божден Елизаветой Петр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2854080" cy="378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4643280" y="0"/>
            <a:ext cx="2873520" cy="378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075120" cy="39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250920" y="2924280"/>
            <a:ext cx="2985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362400" cy="474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438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11-08-08T23:20:33Z</dcterms:modified>
  <cp:revision>6</cp:revision>
  <dc:subject/>
  <dc:title>PowerPoint Presentation</dc:title>
</cp:coreProperties>
</file>