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F8E-E75C-4969-8C5F-D4F1332D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D49-BCDA-4FCF-8428-02DC8164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7B6-4410-4E2F-AADC-76B54E43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347-94F9-4589-8C3C-A5AA67C6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736-94CF-43C3-BD63-35C44358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1D8C-CD4D-4CA7-9112-C8C56620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2001-9D90-458C-B9D6-D47BB3D8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6C1-FBC3-4418-B16C-546A5EF2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F06-FEEF-4CAC-A99B-4999D1F1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2F3-279D-4C51-B7A8-C11315E9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59FD-4D48-4ED0-A434-F4D10FDC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FF8-D3E9-4E7B-B2C7-99C3A2A1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537C-E720-4F9A-8820-F6BB5E2F73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сский портрет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ериалы к уроку МХК в 11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Скругленный прямоугольник 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61160" y="981000"/>
            <a:ext cx="8128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лексей Петрович Антроп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1716 – 1795г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го можно назвать прозаиком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вои модели он смотрит трезвым взгля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душного худож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енно удавались образы знатных стару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ь с живописью допетровской Ру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ет конкретные, объективные образ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, что модель хочет открыть зрит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942160" y="0"/>
            <a:ext cx="3201840" cy="4214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108000" y="2209680"/>
            <a:ext cx="3562200" cy="464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2987640" y="0"/>
            <a:ext cx="2944800" cy="3933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3419640" y="2333520"/>
            <a:ext cx="3390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[IS7IR_4-35]_[PD_04-r]"/>
          <p:cNvPicPr/>
          <p:nvPr/>
        </p:nvPicPr>
        <p:blipFill>
          <a:blip r:embed="rId1"/>
          <a:stretch/>
        </p:blipFill>
        <p:spPr>
          <a:xfrm>
            <a:off x="2990880" y="1047600"/>
            <a:ext cx="31622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04080" y="981000"/>
            <a:ext cx="767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ван Петрович Аргу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27 -180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постной графов Шереметев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им из первых стал изображ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просто, почти буднич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моделей свободно разверну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ространст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более объемны и самостоятель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0" y="2708280"/>
            <a:ext cx="2922480" cy="385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3027600" cy="391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2916360" y="0"/>
            <a:ext cx="3092400" cy="357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4"/>
          <a:stretch/>
        </p:blipFill>
        <p:spPr>
          <a:xfrm>
            <a:off x="2916360" y="2744640"/>
            <a:ext cx="30700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904040" y="1700280"/>
            <a:ext cx="5336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котов Федор Степан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08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этичн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хотвор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каза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им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552840" cy="477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4869000" y="692280"/>
            <a:ext cx="36892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959120" y="469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20240" y="83016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митрий Григорьевич Левиц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2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В передаче интимного, неуловим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чарования лица, не блещущего красото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 выделяющегося оригинальностью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изображении простого, среднег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заметного лица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перников он не знал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42228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647600" y="5445000"/>
            <a:ext cx="426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евицкий Д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Екатерины Нелид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1616400" y="2205000"/>
            <a:ext cx="601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ладимир Лукич Боровиков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57-1825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тиментализ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904320" y="1197000"/>
            <a:ext cx="770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Портрет 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единственная область живописи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 которой Россия … временам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шла в уровень с Европо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09920" cy="4181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3252960" cy="443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508720" y="0"/>
            <a:ext cx="3467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503960" cy="648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152680" y="4197240"/>
            <a:ext cx="400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оровиковский В.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р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ександра Борисович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ак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3800" y="549360"/>
            <a:ext cx="85536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 – от парсуны – к портрет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е парсуны еще тесно связ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традициями иконописных изображени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их чувствуется застылость, идеализ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твлеченность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ходство с изображаемым человеком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язательное условие. «…яково бо что види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… слышит тако и в образах рек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ицах начертыва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[IS7IR_16]_[PD_14-u]"/>
          <p:cNvPicPr/>
          <p:nvPr/>
        </p:nvPicPr>
        <p:blipFill>
          <a:blip r:embed="rId1"/>
          <a:stretch/>
        </p:blipFill>
        <p:spPr>
          <a:xfrm>
            <a:off x="3419640" y="3213000"/>
            <a:ext cx="2628720" cy="364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[IS7IR_1-09]_[PD_05-r]"/>
          <p:cNvPicPr/>
          <p:nvPr/>
        </p:nvPicPr>
        <p:blipFill>
          <a:blip r:embed="rId2"/>
          <a:stretch/>
        </p:blipFill>
        <p:spPr>
          <a:xfrm>
            <a:off x="3419640" y="189000"/>
            <a:ext cx="2660400" cy="307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[IS7IR_15]_[PF_01]"/>
          <p:cNvPicPr/>
          <p:nvPr/>
        </p:nvPicPr>
        <p:blipFill>
          <a:blip r:embed="rId3"/>
          <a:stretch/>
        </p:blipFill>
        <p:spPr>
          <a:xfrm>
            <a:off x="6084720" y="0"/>
            <a:ext cx="2213280" cy="4330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[IS7IR_15]_[PF_05]"/>
          <p:cNvPicPr/>
          <p:nvPr/>
        </p:nvPicPr>
        <p:blipFill>
          <a:blip r:embed="rId4"/>
          <a:stretch/>
        </p:blipFill>
        <p:spPr>
          <a:xfrm>
            <a:off x="6012000" y="3246480"/>
            <a:ext cx="2927160" cy="3611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[IS7IR_15]_[PF_06]"/>
          <p:cNvPicPr/>
          <p:nvPr/>
        </p:nvPicPr>
        <p:blipFill>
          <a:blip r:embed="rId5"/>
          <a:stretch/>
        </p:blipFill>
        <p:spPr>
          <a:xfrm>
            <a:off x="1403280" y="0"/>
            <a:ext cx="202896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[IS7IR_1-09]_[PD_03-r]"/>
          <p:cNvPicPr/>
          <p:nvPr/>
        </p:nvPicPr>
        <p:blipFill>
          <a:blip r:embed="rId6"/>
          <a:stretch/>
        </p:blipFill>
        <p:spPr>
          <a:xfrm>
            <a:off x="611280" y="3284640"/>
            <a:ext cx="28922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69920" y="476280"/>
            <a:ext cx="878364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онец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– начало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еображенская (Потешная) сер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 физического сход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ет решающую р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вопись не умеет обобща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может увидеть в индивидуальном типич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Передразнивание» древней иконной живопи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276720" cy="4029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3400200" cy="3772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5756400" y="2852640"/>
            <a:ext cx="3232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28680" y="1413000"/>
            <a:ext cx="85960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ван Никитич Никитин (1690-174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ин из «птенцов гнезда Петро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лся в семье священ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лся в Венеции и Флорен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Анне Иоанновне приговоре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бессрочной ссылке в Тобольс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божден Елизаветой Петров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2854080" cy="378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4643280" y="0"/>
            <a:ext cx="2873520" cy="378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3075120" cy="393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250920" y="2924280"/>
            <a:ext cx="2985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3362400" cy="474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438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wner</cp:lastModifiedBy>
  <dcterms:modified xsi:type="dcterms:W3CDTF">2011-08-08T23:20:33Z</dcterms:modified>
  <cp:revision>6</cp:revision>
  <dc:subject/>
  <dc:title>PowerPoint Presentation</dc:title>
</cp:coreProperties>
</file>