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1792-F2B2-477E-9BBF-2265A216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138A-1174-4365-AD2F-74170A6E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967F-4E27-4E85-A83C-CA54571C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2073-AE4A-45C6-8CC6-F7C8BA7E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04D6-DDB1-468B-A0B5-BD36A128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E059-F385-415C-B1FF-15AF3289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64C9-B13E-40EA-A465-4AD4D1E5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F40D-33D1-4435-9D81-F653571F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6397-E70C-41DC-8E94-AD196928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1811-46FF-4ED2-A584-143843E0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4501-718A-4251-B188-F2A03DBB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9E6A-4CE4-491E-BA59-9F03A4D5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E3FB-E60E-4F57-B270-7996CE98FA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усский портрет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ве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териалы к уроку МХК в 11 клас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Скругленный прямоугольник 3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61160" y="981000"/>
            <a:ext cx="8128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лексей Петрович Антроп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1716 – 1795г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го можно назвать прозаиком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свои модели он смотрит трезвым взгля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одушного худож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енно удавались образы знатных стару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ь с живописью допетровской Ру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ет конкретные, объективные образы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, что модель хочет открыть зрител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942160" y="0"/>
            <a:ext cx="3201840" cy="4214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108000" y="2209680"/>
            <a:ext cx="3562200" cy="4648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2987640" y="0"/>
            <a:ext cx="2944800" cy="3933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4"/>
          <a:stretch/>
        </p:blipFill>
        <p:spPr>
          <a:xfrm>
            <a:off x="3419640" y="2333520"/>
            <a:ext cx="33908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[IS7IR_4-35]_[PD_04-r]"/>
          <p:cNvPicPr/>
          <p:nvPr/>
        </p:nvPicPr>
        <p:blipFill>
          <a:blip r:embed="rId1"/>
          <a:stretch/>
        </p:blipFill>
        <p:spPr>
          <a:xfrm>
            <a:off x="2990880" y="1047600"/>
            <a:ext cx="31622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604080" y="981000"/>
            <a:ext cx="7674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ван Петрович Аргу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27 -1802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постной графов Шереметев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им из первых стал изображ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просто, почти буднич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гуры моделей свободно развернут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пространст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гуры более объемны и самостоятель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0" y="2708280"/>
            <a:ext cx="2922480" cy="385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5940360" y="2781360"/>
            <a:ext cx="3027600" cy="391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3"/>
          <a:stretch/>
        </p:blipFill>
        <p:spPr>
          <a:xfrm>
            <a:off x="2916360" y="0"/>
            <a:ext cx="3092400" cy="357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4"/>
          <a:stretch/>
        </p:blipFill>
        <p:spPr>
          <a:xfrm>
            <a:off x="2916360" y="2744640"/>
            <a:ext cx="307008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904040" y="1700280"/>
            <a:ext cx="5336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окотов Федор Степан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35-1808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этичнос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ухотвор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досказа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им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3552840" cy="4771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4869000" y="692280"/>
            <a:ext cx="36892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959120" y="469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20240" y="830160"/>
            <a:ext cx="7643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митрий Григорьевич Левиц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35-1822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«В передаче интимного, неуловимог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чарования лица, не блещущего красото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 выделяющегося оригинальностью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 изображении простого, среднег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заметного лица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перников он не знал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.Э.Грабар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42228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4647600" y="5445000"/>
            <a:ext cx="426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евицкий Д.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Екатерины Нелидо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1616400" y="2205000"/>
            <a:ext cx="6017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ладимир Лукич Боровиков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57-1825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тиментализ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904320" y="1197000"/>
            <a:ext cx="770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Портрет –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единственная область живописи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в которой Россия … временам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шла в уровень с Европой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И.Э.Грабар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09920" cy="4181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2484360" y="2421000"/>
            <a:ext cx="3252960" cy="4437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5508720" y="0"/>
            <a:ext cx="3467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00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503960" cy="648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152680" y="4197240"/>
            <a:ext cx="400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оровиковский В.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р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ександра Борисович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рак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253800" y="549360"/>
            <a:ext cx="85536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ек – от парсуны – к портрет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ые парсуны еще тесно связа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традициями иконописных изображени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них чувствуется застылость, идеализ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отвлеченность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ходство с изображаемым человеком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язательное условие. «…яково бо что види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… слышит тако и в образах рекш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лицах начертывает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[IS7IR_16]_[PD_14-u]"/>
          <p:cNvPicPr/>
          <p:nvPr/>
        </p:nvPicPr>
        <p:blipFill>
          <a:blip r:embed="rId1"/>
          <a:stretch/>
        </p:blipFill>
        <p:spPr>
          <a:xfrm>
            <a:off x="3419640" y="3213000"/>
            <a:ext cx="2628720" cy="3645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[IS7IR_1-09]_[PD_05-r]"/>
          <p:cNvPicPr/>
          <p:nvPr/>
        </p:nvPicPr>
        <p:blipFill>
          <a:blip r:embed="rId2"/>
          <a:stretch/>
        </p:blipFill>
        <p:spPr>
          <a:xfrm>
            <a:off x="3419640" y="189000"/>
            <a:ext cx="2660400" cy="3076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[IS7IR_15]_[PF_01]"/>
          <p:cNvPicPr/>
          <p:nvPr/>
        </p:nvPicPr>
        <p:blipFill>
          <a:blip r:embed="rId3"/>
          <a:stretch/>
        </p:blipFill>
        <p:spPr>
          <a:xfrm>
            <a:off x="6084720" y="0"/>
            <a:ext cx="2213280" cy="4330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[IS7IR_15]_[PF_05]"/>
          <p:cNvPicPr/>
          <p:nvPr/>
        </p:nvPicPr>
        <p:blipFill>
          <a:blip r:embed="rId4"/>
          <a:stretch/>
        </p:blipFill>
        <p:spPr>
          <a:xfrm>
            <a:off x="6012000" y="3246480"/>
            <a:ext cx="2927160" cy="3611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[IS7IR_15]_[PF_06]"/>
          <p:cNvPicPr/>
          <p:nvPr/>
        </p:nvPicPr>
        <p:blipFill>
          <a:blip r:embed="rId5"/>
          <a:stretch/>
        </p:blipFill>
        <p:spPr>
          <a:xfrm>
            <a:off x="1403280" y="0"/>
            <a:ext cx="2028960" cy="4114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[IS7IR_1-09]_[PD_03-r]"/>
          <p:cNvPicPr/>
          <p:nvPr/>
        </p:nvPicPr>
        <p:blipFill>
          <a:blip r:embed="rId6"/>
          <a:stretch/>
        </p:blipFill>
        <p:spPr>
          <a:xfrm>
            <a:off x="611280" y="3284640"/>
            <a:ext cx="28922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69920" y="476280"/>
            <a:ext cx="878364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Конец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– начало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ек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реображенская (Потешная) сер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а физического сход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ает решающую ро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вопись не умеет обобщат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может увидеть в индивидуальном типич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Передразнивание» древней иконной живопи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276720" cy="4029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3400200" cy="3772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5756400" y="2852640"/>
            <a:ext cx="32320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28680" y="1413000"/>
            <a:ext cx="859608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ван Никитич Никитин (1690-174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ин из «птенцов гнезда Петров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лся в семье священ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лся в Венеции и Флорен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Анне Иоанновне приговоре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бессрочной ссылке в Тобольс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вобожден Елизаветой Петров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692360" y="0"/>
            <a:ext cx="2854080" cy="378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4643280" y="0"/>
            <a:ext cx="2873520" cy="378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5796000" y="2924280"/>
            <a:ext cx="3075120" cy="3933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250920" y="2924280"/>
            <a:ext cx="29858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3362400" cy="474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3438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wner</cp:lastModifiedBy>
  <dcterms:modified xsi:type="dcterms:W3CDTF">2011-08-08T23:20:33Z</dcterms:modified>
  <cp:revision>6</cp:revision>
  <dc:subject/>
  <dc:title>PowerPoint Presentation</dc:title>
</cp:coreProperties>
</file>