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30B6-D676-4A8A-B1E9-8731C9A9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3721-9EBC-423F-B5ED-8DE599F1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2F14-7C09-4689-A1C0-1AE83E3E1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E251-1A3D-45FC-ACA3-720F1ADAD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0A41-11F0-4AA2-B8D3-DE28EEBB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A9DD-F214-4B14-8032-9F1940A7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005F-779D-4ACA-95F0-103FB679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CA17-FC9C-446F-9087-409C75EF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5F40-E89D-4862-9FDF-BE32ED7A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6C99-AFDA-47C0-8EB4-B39D8BE8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C02E-821F-43E3-84E7-E99C96D3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6FB4-8BF5-46B1-9734-F0C5D773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7D4F-0201-45C7-BB5F-62D4495463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ambler.ru/click?from=planet&amp;_URL=http://foto.rambler.ru/users/freluche/6/100/webbig.html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rambler.ru/click?from=planet&amp;_URL=http://foto.rambler.ru/users/freluche/6/103/webbig.html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54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53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krug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57.jpg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pic1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61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ambler.ru/click?from=planet&amp;_URL=http://foto.rambler.ru/users/freluche/8/3duma/webbig.html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rambler.ru/click?from=planet&amp;_URL=http://foto.rambler.ru/users/freluche/8/karpovka/webbig.html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324000"/>
            <a:ext cx="864216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stronCTT"/>
              </a:rPr>
              <a:t>По ту сторону холста</a:t>
            </a:r>
            <a:r>
              <a:rPr b="0" lang="ru-RU" sz="6600" spc="-1" strike="noStrike">
                <a:solidFill>
                  <a:srgbClr val="000000"/>
                </a:solidFill>
                <a:latin typeface="AstronCTT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40360" y="5371920"/>
            <a:ext cx="4784400" cy="109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nnaLightCTT"/>
              </a:rPr>
              <a:t>Авто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nnaCTT"/>
              </a:rPr>
              <a:t>Петрова Ю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nnaLightCTT"/>
              </a:rPr>
              <a:t>10 «а»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nnaLightCTT"/>
              </a:rPr>
              <a:t>МОУ СОШ №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-9-49"/>
          <p:cNvPicPr/>
          <p:nvPr/>
        </p:nvPicPr>
        <p:blipFill>
          <a:blip r:embed="rId1"/>
          <a:stretch/>
        </p:blipFill>
        <p:spPr>
          <a:xfrm>
            <a:off x="1692360" y="2077920"/>
            <a:ext cx="5610240" cy="3267360"/>
          </a:xfrm>
          <a:prstGeom prst="rect">
            <a:avLst/>
          </a:prstGeom>
          <a:ln w="0">
            <a:noFill/>
          </a:ln>
        </p:spPr>
      </p:pic>
      <p:sp>
        <p:nvSpPr>
          <p:cNvPr id="44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моменты анали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создание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риал, в котором выполнена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есные исторические факты о данном шедев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ременное местонахождение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79280" y="18900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Без названия"/>
          <p:cNvPicPr/>
          <p:nvPr/>
        </p:nvPicPr>
        <p:blipFill>
          <a:blip r:embed="rId1"/>
          <a:stretch/>
        </p:blipFill>
        <p:spPr>
          <a:xfrm>
            <a:off x="2268360" y="476280"/>
            <a:ext cx="4391280" cy="597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250920" y="189000"/>
          <a:ext cx="8642160" cy="64800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4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Без названия"/>
          <p:cNvPicPr/>
          <p:nvPr/>
        </p:nvPicPr>
        <p:blipFill>
          <a:blip r:embed="rId1"/>
          <a:stretch/>
        </p:blipFill>
        <p:spPr>
          <a:xfrm>
            <a:off x="1042920" y="569880"/>
            <a:ext cx="7129440" cy="566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179280" y="260280"/>
          <a:ext cx="8640720" cy="633744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12-web"/>
          <p:cNvPicPr/>
          <p:nvPr/>
        </p:nvPicPr>
        <p:blipFill>
          <a:blip r:embed="rId1"/>
          <a:stretch/>
        </p:blipFill>
        <p:spPr>
          <a:xfrm>
            <a:off x="2268360" y="333360"/>
            <a:ext cx="4462560" cy="612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250920" y="260280"/>
          <a:ext cx="8569080" cy="633744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ременное искусство- зеркало сегодняшней действи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ject 6" descr=""/>
          <p:cNvPicPr/>
          <p:nvPr/>
        </p:nvPicPr>
        <p:blipFill>
          <a:blip r:embed="rId1"/>
          <a:stretch/>
        </p:blipFill>
        <p:spPr>
          <a:xfrm>
            <a:off x="1525680" y="1830240"/>
            <a:ext cx="6091200" cy="406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250920" y="260280"/>
          <a:ext cx="8713800" cy="626436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626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nnaLightCTT"/>
              </a:rPr>
              <a:t>литератур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ипелов, А. Д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овая российская энциклопедия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м I. Россия. Издательство «Эмциклопедия», Москва 200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кровища России. Введение в русское искусство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дательство "Искусство", Москва 199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zikoš, A., Reiterová, T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Reálie rusky mluvících zemí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Nakladatelství Fraus, Plzeň, 199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Lepilová, K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Oчерк русской культyры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U, Ostrava, 199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anková, N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Čítanka z dějin ruské kultury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Západočeská univerzita, Pedagogická Fakulta, Plzeň199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блиотека изобразительных искусств: http://www.artlib.ru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вопись: http://jivopis.ru/gallery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олотой архив Икон Древней Руси 11 - 16 век: http://staratel.com/pictures/icona/main.ht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ская живопись: http://staratel.com/pictures/ruspaint/main.ht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50920" y="260280"/>
          <a:ext cx="8497800" cy="626436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626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ndorra"/>
              </a:rPr>
              <a:t>Цель рабо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ться с новыми направлениями современного искусства 20- го века в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ть  моменты биографии художников- ярких представителей современного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ся анализировать шедевры современного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08000" y="115920"/>
          <a:ext cx="8928000" cy="6553080"/>
        </p:xfrm>
        <a:graphic>
          <a:graphicData uri="http://schemas.openxmlformats.org/drawingml/2006/table">
            <a:tbl>
              <a:tblPr/>
              <a:tblGrid>
                <a:gridCol w="8928000"/>
              </a:tblGrid>
              <a:tr h="65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ременное искусство-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лософия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ение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ссоциация символа, как формулы само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Без назван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005360"/>
            <a:ext cx="4969080" cy="2616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Без названия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3645000"/>
            <a:ext cx="2995560" cy="30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179280" y="0"/>
          <a:ext cx="8785440" cy="674208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74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правления современного искус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3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рнистские на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0-х гг. 20 в. в России развивается абстрактное искусство. Его представители считаются художниками мирового значения, основоположниками современного искусства. На русское искусство оказывают большое влияние кубизм, футуризм и конструктив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2-9-62"/>
          <p:cNvPicPr/>
          <p:nvPr/>
        </p:nvPicPr>
        <p:blipFill>
          <a:blip r:embed="rId1"/>
          <a:stretch/>
        </p:blipFill>
        <p:spPr>
          <a:xfrm>
            <a:off x="4211640" y="2133720"/>
            <a:ext cx="4676760" cy="395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108000" y="115920"/>
          <a:ext cx="8928000" cy="6553080"/>
        </p:xfrm>
        <a:graphic>
          <a:graphicData uri="http://schemas.openxmlformats.org/drawingml/2006/table">
            <a:tbl>
              <a:tblPr/>
              <a:tblGrid>
                <a:gridCol w="8928000"/>
              </a:tblGrid>
              <a:tr h="65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4284720" y="1133640"/>
            <a:ext cx="4643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ворчество Малевича решительно повлиял кубизм, но автор разработал собственную систему абстрактного искусства, так называемый „супрематизм“. Художник комбинирует простые геометрические формы контрастных цветов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упрематическая компози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старается как можно более упростить свои картин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евич написал всемирно известный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рный квадра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Изображение черного квадрата на белом фоне многозначно: белый цвет - это сумма всех цветов, а черный - это отсутствие всякого цвета, то есть, в картине сочетается контраст „нечто-ничто“, „бытие-небытие“. Черный квадрат – это „дыра в бесконечность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Супрематическая композиц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276640"/>
            <a:ext cx="3571560" cy="4286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2-9-52"/>
          <p:cNvPicPr/>
          <p:nvPr/>
        </p:nvPicPr>
        <p:blipFill>
          <a:blip r:embed="rId3"/>
          <a:stretch/>
        </p:blipFill>
        <p:spPr>
          <a:xfrm>
            <a:off x="-4400640" y="-379440"/>
            <a:ext cx="666720" cy="952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Черный квадрат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76360" y="1341360"/>
            <a:ext cx="2554200" cy="21337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2"/>
          <p:cNvSpPr/>
          <p:nvPr/>
        </p:nvSpPr>
        <p:spPr>
          <a:xfrm>
            <a:off x="477720" y="561960"/>
            <a:ext cx="26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зимир Мал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26028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684360" y="372960"/>
            <a:ext cx="784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силий Канд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динский является одним из основоположников абстракционизма. После революции 1917 г. эмигрировал в Германию. В историю искусства вошел своими Композициями, например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озицией № 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Несколько кругов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57720"/>
            <a:ext cx="3162240" cy="2739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2-9-56"/>
          <p:cNvPicPr/>
          <p:nvPr/>
        </p:nvPicPr>
        <p:blipFill>
          <a:blip r:embed="rId3"/>
          <a:stretch/>
        </p:blipFill>
        <p:spPr>
          <a:xfrm>
            <a:off x="-3814920" y="1138320"/>
            <a:ext cx="781200" cy="952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2-9-5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6360" y="3789360"/>
            <a:ext cx="3810240" cy="267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179280" y="260280"/>
          <a:ext cx="8785440" cy="633744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826920" y="477000"/>
            <a:ext cx="749016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рк Шаг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гал родился в Белоруссии, в городе Витебске, образ которого стал тематической основой его картин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Я и деревн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Рисует простых деревенских жителей, раввинов, клоунов, музыкантов. На его картинах повторяются фигуры животных (лошадь, осел, петух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гал близок экспрессионизму и народному примитивному искусству, пишет картины в гротескно-символическом духе. После революции художник продолжал работать в Париже и в Америке, создал витражи и мозаики в Иерусалиме, илюсстрировал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ртвые душ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го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Мертвые душ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3716280"/>
            <a:ext cx="3168720" cy="2881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Шагал"/>
          <p:cNvPicPr/>
          <p:nvPr/>
        </p:nvPicPr>
        <p:blipFill>
          <a:blip r:embed="rId3"/>
          <a:stretch/>
        </p:blipFill>
        <p:spPr>
          <a:xfrm>
            <a:off x="5940360" y="189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Я и деревня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3933720"/>
            <a:ext cx="2556000" cy="273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179280" y="189000"/>
          <a:ext cx="8785440" cy="655308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5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тная сторона холст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а узнают по почер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900000" y="2267640"/>
            <a:ext cx="75596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36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онид Кипари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 </a:t>
            </a:r>
            <a:r>
              <a:rPr b="0" lang="ru-RU" sz="1200" spc="-1" strike="noStrike">
                <a:solidFill>
                  <a:srgbClr val="181512"/>
                </a:solidFill>
                <a:latin typeface="Arial"/>
                <a:ea typeface="Arial"/>
              </a:rPr>
              <a:t>    </a:t>
            </a: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 </a:t>
            </a: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Родился в 1964 г. Профессиональную деятельность в сфере искусства начал в старших классах школы - карикатуристом областной газеты “Приокская правда”. В 1984 году, закончив три курса Ленинградского Электротехнического Института, оставил его, и в том же году поступил на художественно-графический факультет Ленинградского Педагогического института, окончил его в 1989 г. С 1987 г. участвую в выставках живописи в России и за рубеж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face11"/>
          <p:cNvPicPr/>
          <p:nvPr/>
        </p:nvPicPr>
        <p:blipFill>
          <a:blip r:embed="rId1"/>
          <a:stretch/>
        </p:blipFill>
        <p:spPr>
          <a:xfrm>
            <a:off x="1547640" y="2205000"/>
            <a:ext cx="2695680" cy="180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179280" y="18900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3dum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413000"/>
            <a:ext cx="3673440" cy="5184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karpovk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404640"/>
            <a:ext cx="3024000" cy="476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179280" y="26028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4:29:55Z</dcterms:created>
  <dc:creator>Учитель</dc:creator>
  <dc:description/>
  <dc:language>en-US</dc:language>
  <cp:lastModifiedBy>Name</cp:lastModifiedBy>
  <dcterms:modified xsi:type="dcterms:W3CDTF">2011-02-03T12:42:04Z</dcterms:modified>
  <cp:revision>16</cp:revision>
  <dc:subject/>
  <dc:title>Современное искусств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80a0000000000010243000207f6000400038000</vt:lpwstr>
  </property>
</Properties>
</file>