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6BB-D29F-4604-B772-A5F9987B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04E-903B-4D14-BA98-DDE108AF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A60-4D6C-46F9-8199-D6BAEAB5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8AD-003D-4BA4-9F13-25C79DF3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B0B-1B34-42E1-9CAA-D4FCA5DB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CBB-DDE4-4070-B4E4-88E5CCFC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56A-4E19-4B5A-B4CE-B2BB89CD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725-A8A4-4556-B553-BDD8F3D3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CA7-BF8F-421A-AACD-3FD98D8C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13E-D324-48C8-ADA4-69C71A18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8C8-63A1-4C22-8B2C-595199DA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233-005B-4243-A6F4-F4E0D4B0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D88C-6ED8-4E49-BE43-E268F67C0C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6/100/webbig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rambler.ru/click?from=planet&amp;_URL=http://foto.rambler.ru/users/freluche/6/103/webbig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3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krug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7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pic1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61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8/3duma/webbig.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rambler.ru/click?from=planet&amp;_URL=http://foto.rambler.ru/users/freluche/8/karpovka/webbig.htm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24000"/>
            <a:ext cx="864216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stronCTT"/>
              </a:rPr>
              <a:t>По ту сторону холста</a:t>
            </a:r>
            <a:r>
              <a:rPr b="0" lang="ru-RU" sz="6600" spc="-1" strike="noStrike">
                <a:solidFill>
                  <a:srgbClr val="000000"/>
                </a:solidFill>
                <a:latin typeface="AstronCTT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360" y="5371920"/>
            <a:ext cx="4784400" cy="10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nnaCTT"/>
              </a:rPr>
              <a:t>Петрова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10 «а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МОУ СОШ №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-9-49"/>
          <p:cNvPicPr/>
          <p:nvPr/>
        </p:nvPicPr>
        <p:blipFill>
          <a:blip r:embed="rId1"/>
          <a:stretch/>
        </p:blipFill>
        <p:spPr>
          <a:xfrm>
            <a:off x="1692360" y="2077920"/>
            <a:ext cx="5610240" cy="32673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оменты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созд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, в котором выполнена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ные исторические факты о данном шедев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местонахождение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Без названия"/>
          <p:cNvPicPr/>
          <p:nvPr/>
        </p:nvPicPr>
        <p:blipFill>
          <a:blip r:embed="rId1"/>
          <a:stretch/>
        </p:blipFill>
        <p:spPr>
          <a:xfrm>
            <a:off x="2268360" y="476280"/>
            <a:ext cx="4391280" cy="59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Без названия"/>
          <p:cNvPicPr/>
          <p:nvPr/>
        </p:nvPicPr>
        <p:blipFill>
          <a:blip r:embed="rId1"/>
          <a:stretch/>
        </p:blipFill>
        <p:spPr>
          <a:xfrm>
            <a:off x="1042920" y="569880"/>
            <a:ext cx="7129440" cy="56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2-web"/>
          <p:cNvPicPr/>
          <p:nvPr/>
        </p:nvPicPr>
        <p:blipFill>
          <a:blip r:embed="rId1"/>
          <a:stretch/>
        </p:blipFill>
        <p:spPr>
          <a:xfrm>
            <a:off x="2268360" y="333360"/>
            <a:ext cx="4462560" cy="612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50920" y="260280"/>
          <a:ext cx="8569080" cy="63374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искусство- зеркало сегодняшней действи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6" descr=""/>
          <p:cNvPicPr/>
          <p:nvPr/>
        </p:nvPicPr>
        <p:blipFill>
          <a:blip r:embed="rId1"/>
          <a:stretch/>
        </p:blipFill>
        <p:spPr>
          <a:xfrm>
            <a:off x="1525680" y="1830240"/>
            <a:ext cx="6091200" cy="40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50920" y="260280"/>
          <a:ext cx="8713800" cy="62643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nnaLightCTT"/>
              </a:rPr>
              <a:t>литерату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ипелов, А. Д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вая российская энциклопедия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I. Россия. Издательство «Эмциклопедия», Москва 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кровища России. Введение в русское искусст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дательство "Искусство", Москва 19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zikoš, A., Reiterová, T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eálie rusky mluvících zemí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kladatelství Fraus, Plzeň, 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epilová, K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Oчерк русской культyры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U, Ostrava, 199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nková, N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Čítanka z dějin ruské kultury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Západočeská univerzita, Pedagogická Fakulta, Plzeň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изобразительных искусств: http://www.artlib.r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пись: http://jivopis.ru/gallery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ой архив Икон Древней Руси 11 - 16 век: http://staratel.com/pictures/icona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ая живопись: http://staratel.com/pictures/ruspaint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0280"/>
          <a:ext cx="8497800" cy="626436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ndorra"/>
              </a:rPr>
              <a:t>Цель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новыми направлениями современного искусства 20- го века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  моменты биографии художников- ярких представителей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анализировать шедевры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ое искусство-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ние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оциация символа, как формулы само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Без назва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05360"/>
            <a:ext cx="4969080" cy="26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Без назван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645000"/>
            <a:ext cx="2995560" cy="30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79280" y="0"/>
          <a:ext cx="8785440" cy="6742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7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современного искус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рнистски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0-х гг. 20 в. в России развивается абстрактное искусство. Его представители считаются художниками мирового значения, основоположниками современного искусства. На русское искусство оказывают большое влияние кубизм, футуризм и конструктив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-9-62"/>
          <p:cNvPicPr/>
          <p:nvPr/>
        </p:nvPicPr>
        <p:blipFill>
          <a:blip r:embed="rId1"/>
          <a:stretch/>
        </p:blipFill>
        <p:spPr>
          <a:xfrm>
            <a:off x="4211640" y="2133720"/>
            <a:ext cx="4676760" cy="395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284720" y="1133640"/>
            <a:ext cx="464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ворчество Малевича решительно повлиял кубизм, но автор разработал собственную систему абстрактного искусства, так называемый „супрематизм“. Художник комбинирует простые геометрические формы контрастных цветов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прематическая компози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старается как можно более упростить свои карти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вич написал всемирно известны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ный квад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ображение черного квадрата на белом фоне многозначно: белый цвет - это сумма всех цветов, а черный - это отсутствие всякого цвета, то есть, в картине сочетается контраст „нечто-ничто“, „бытие-небытие“. Черный квадрат – это „дыра в бесконечность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Супрематическая композиц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76640"/>
            <a:ext cx="3571560" cy="428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2-9-52"/>
          <p:cNvPicPr/>
          <p:nvPr/>
        </p:nvPicPr>
        <p:blipFill>
          <a:blip r:embed="rId3"/>
          <a:stretch/>
        </p:blipFill>
        <p:spPr>
          <a:xfrm>
            <a:off x="-4400640" y="-379440"/>
            <a:ext cx="66672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Черный квадрат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341360"/>
            <a:ext cx="255420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477720" y="56196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имир Мал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4360" y="37296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Канд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нский является одним из основоположников абстракционизма. После революции 1917 г. эмигрировал в Германию. В историю искусства вошел своими Композициями, например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озицией № 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Несколько круг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57720"/>
            <a:ext cx="3162240" cy="273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-9-56"/>
          <p:cNvPicPr/>
          <p:nvPr/>
        </p:nvPicPr>
        <p:blipFill>
          <a:blip r:embed="rId3"/>
          <a:stretch/>
        </p:blipFill>
        <p:spPr>
          <a:xfrm>
            <a:off x="-3814920" y="1138320"/>
            <a:ext cx="78120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2-9-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789360"/>
            <a:ext cx="38102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79280" y="260280"/>
          <a:ext cx="8785440" cy="6337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826920" y="477000"/>
            <a:ext cx="74901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 Шаг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родился в Белоруссии, в городе Витебске, образ которого стал тематической основой его картин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и деревн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Рисует простых деревенских жителей, раввинов, клоунов, музыкантов. На его картинах повторяются фигуры животных (лошадь, осел, петух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близок экспрессионизму и народному примитивному искусству, пишет картины в гротескно-символическом духе. После революции художник продолжал работать в Париже и в Америке, создал витражи и мозаики в Иерусалиме, илюсстрирова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ртвые душ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г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Мертвые душ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716280"/>
            <a:ext cx="316872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Шагал"/>
          <p:cNvPicPr/>
          <p:nvPr/>
        </p:nvPicPr>
        <p:blipFill>
          <a:blip r:embed="rId3"/>
          <a:stretch/>
        </p:blipFill>
        <p:spPr>
          <a:xfrm>
            <a:off x="594036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Я и деревн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933720"/>
            <a:ext cx="255600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79280" y="189000"/>
          <a:ext cx="8785440" cy="6553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тная сторона холст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а узнают по поче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900000" y="2267640"/>
            <a:ext cx="755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онид Кипар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200" spc="-1" strike="noStrike">
                <a:solidFill>
                  <a:srgbClr val="181512"/>
                </a:solidFill>
                <a:latin typeface="Arial"/>
                <a:ea typeface="Arial"/>
              </a:rPr>
              <a:t>    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Родился в 1964 г. Профессиональную деятельность в сфере искусства начал в старших классах школы - карикатуристом областной газеты “Приокская правда”. В 1984 году, закончив три курса Ленинградского Электротехнического Института, оставил его, и в том же году поступил на художественно-графический факультет Ленинградского Педагогического института, окончил его в 1989 г. С 1987 г. участвую в выставках живописи в России и за рубеж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ace11"/>
          <p:cNvPicPr/>
          <p:nvPr/>
        </p:nvPicPr>
        <p:blipFill>
          <a:blip r:embed="rId1"/>
          <a:stretch/>
        </p:blipFill>
        <p:spPr>
          <a:xfrm>
            <a:off x="1547640" y="2205000"/>
            <a:ext cx="269568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du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3673440" cy="518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karpovk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404640"/>
            <a:ext cx="3024000" cy="47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4:29:55Z</dcterms:created>
  <dc:creator>Учитель</dc:creator>
  <dc:description/>
  <dc:language>en-US</dc:language>
  <cp:lastModifiedBy>Name</cp:lastModifiedBy>
  <dcterms:modified xsi:type="dcterms:W3CDTF">2011-02-03T12:42:04Z</dcterms:modified>
  <cp:revision>16</cp:revision>
  <dc:subject/>
  <dc:title>Современное искус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43000207f6000400038000</vt:lpwstr>
  </property>
</Properties>
</file>