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CC56-DAD5-497A-8F17-71F66EDFEA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A2A7-5301-4FCC-AC79-F11F25FF59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1CC51-1321-4955-86B6-9D7F61D5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5CE6D-56CE-4115-92D6-FAADA7E9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991D0-1FFA-44AF-B711-0AECB213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E0F27-7129-4DEF-9188-9AF39AA9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018D-C4C1-4A91-BA21-2039B0E6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0310-9C97-4066-9CD0-763F7B72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3BAF-AC25-4DC7-AFC9-2DCCA4EC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E114-3141-438F-B635-F5C03DB7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4823-1BD0-40A7-B8FC-DCFD78B1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F2BA-D899-4111-BC24-A748C6B9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A951-7783-4E4C-A030-9914F250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32559-20A7-4E34-AD9B-3CCD6354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DDFE-BC5B-41B8-8844-F4FE22C7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5B56-6F2D-4ED8-8476-39789141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F0E9-2BD0-453C-97A3-84A111A5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1F22-4DFF-4F0A-A5C5-56F325CE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C66F-E77C-4226-BBD7-B84BF105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0B38F-4667-44A1-81CF-791F97BC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ADB0A-71AF-47AD-8B7F-02ACA81A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B47D3-EC21-4536-BB8C-5B4C7EEE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AB674-46FE-409E-B9AE-3F8C2787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9A975-5521-4CA6-A231-65535322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6A355-B236-44B0-B2C2-CEB54DB5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FC4C6-C6CD-437D-8A7F-2E499495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2026-FFC0-4681-8841-6EB65F86B9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61A1-E382-4E49-B147-3153AED838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сновы теории искус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кусство как феномен 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нятие художественной 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новные методологические подходы в искусствознан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рмы и виды 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3.Использование художественных средств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ямые, непосредствен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мимика, поэзия, отчасти - музык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свенные, опосредован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архитектура, скульптура, живопис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Oval 2"/>
          <p:cNvSpPr/>
          <p:nvPr/>
        </p:nvSpPr>
        <p:spPr>
          <a:xfrm>
            <a:off x="2286000" y="3124080"/>
            <a:ext cx="22860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6629400" y="0"/>
            <a:ext cx="0" cy="685800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80880" y="914400"/>
            <a:ext cx="183528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дна из форм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бщественно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сознания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ественно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тражение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ействительност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514600" y="914400"/>
            <a:ext cx="1835280" cy="144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роцесс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кой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аботы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человеческ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уха и рук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572000" y="914400"/>
            <a:ext cx="1835280" cy="144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обая форм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ознания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мысления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ценки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кружающего ми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04920" y="5181480"/>
            <a:ext cx="1834920" cy="1446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Качество способ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ействия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тличающе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тво одн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ника от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тва друг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514600" y="5181480"/>
            <a:ext cx="1835280" cy="144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езультат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кой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аботы –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ественное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роизведени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4572000" y="5181480"/>
            <a:ext cx="1835280" cy="1446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обенность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человеческо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восприяти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кружающего ми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000" y="3357720"/>
            <a:ext cx="2281320" cy="90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00"/>
                </a:solidFill>
                <a:latin typeface="Garamond"/>
              </a:rPr>
              <a:t>Искусство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1219320" y="2362320"/>
            <a:ext cx="137160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3429000" y="23623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Line 13"/>
          <p:cNvSpPr/>
          <p:nvPr/>
        </p:nvSpPr>
        <p:spPr>
          <a:xfrm flipH="1">
            <a:off x="4114800" y="2362320"/>
            <a:ext cx="13716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14"/>
          <p:cNvSpPr/>
          <p:nvPr/>
        </p:nvSpPr>
        <p:spPr>
          <a:xfrm flipV="1">
            <a:off x="1219320" y="4267080"/>
            <a:ext cx="13716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Line 15"/>
          <p:cNvSpPr/>
          <p:nvPr/>
        </p:nvSpPr>
        <p:spPr>
          <a:xfrm flipV="1">
            <a:off x="3429000" y="44953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Line 16"/>
          <p:cNvSpPr/>
          <p:nvPr/>
        </p:nvSpPr>
        <p:spPr>
          <a:xfrm flipH="1" flipV="1">
            <a:off x="4114800" y="4343400"/>
            <a:ext cx="137160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6629400" y="0"/>
            <a:ext cx="2514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1) искусств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отражени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действительнос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в художественных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образах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2) ремесло, умение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навык, мастерств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творчеств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WordArt 18"/>
          <p:cNvSpPr txBox="1"/>
          <p:nvPr/>
        </p:nvSpPr>
        <p:spPr>
          <a:xfrm>
            <a:off x="7162920" y="7621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4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latin typeface="Arial"/>
              </a:rPr>
              <a:t>Art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6600"/>
                </a:solidFill>
                <a:latin typeface="Garamond"/>
              </a:rPr>
              <a:t>Эстетика – о сущности искус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атериалистическая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еор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imesis(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реч.-изображение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отражение, имитация действительности. (Аристотель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526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деалистическая теор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Phantasia(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реч.-воображение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выражение внутренних чувств вечных истин, сути времени. (Платон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3962160"/>
            <a:ext cx="7769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Функции искусст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Эстетическ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наково - коммуникатив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носелогическ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Ценностно-ориентацион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еобразовательная или созидатель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спитатель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гров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едонистическа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520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564000" y="1628640"/>
            <a:ext cx="167616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Искус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2555640" y="1989000"/>
            <a:ext cx="99036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5219640" y="1989000"/>
            <a:ext cx="8384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0" y="3962520"/>
            <a:ext cx="9144000" cy="0"/>
          </a:xfrm>
          <a:prstGeom prst="line">
            <a:avLst/>
          </a:prstGeom>
          <a:ln w="38160">
            <a:solidFill>
              <a:srgbClr val="000514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6600"/>
                </a:solidFill>
                <a:latin typeface="Garamond"/>
              </a:rPr>
              <a:t>Зонально-слоевое строение художественной культур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752480"/>
          <a:ext cx="8367840" cy="4432320"/>
        </p:xfrm>
        <a:graphic>
          <a:graphicData uri="http://schemas.openxmlformats.org/drawingml/2006/table">
            <a:tbl>
              <a:tblPr/>
              <a:tblGrid>
                <a:gridCol w="836784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ХОВНАЯ КУЛЬ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ная зона прикладных искус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аторское искусство                                        художественная публицис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чисто художественного словес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музыка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актерского словесно-пластического и музыкально-пластическ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пантомимического и танцева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чисто художественного приметно-изобразите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ная зона архитектонических бифункциональных искус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ремесленной базе                                                  На индустриальной баз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ЬНАЯ КУЛЬ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7280" y="476280"/>
            <a:ext cx="59770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Искусствознани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Line 3"/>
          <p:cNvSpPr/>
          <p:nvPr/>
        </p:nvSpPr>
        <p:spPr>
          <a:xfrm flipH="1">
            <a:off x="1332000" y="1484280"/>
            <a:ext cx="151128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284720" y="1484280"/>
            <a:ext cx="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6012000" y="1484280"/>
            <a:ext cx="151128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132000" y="3213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5796000" y="3213000"/>
            <a:ext cx="33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удожествен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ти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72720" y="-3220920"/>
            <a:ext cx="712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179280" y="3213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Теория искусств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2923920"/>
            <a:ext cx="85186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общает накопленные данные с историософской точки зрен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89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Arial"/>
              </a:rPr>
              <a:t>История 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24000" y="9079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514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тизирует и описывает наличный и вновь открываемый материал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514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ет закономерности развития искусст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50920" y="422100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Arial"/>
              </a:rPr>
              <a:t>Художественная критик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79280" y="4941720"/>
            <a:ext cx="88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ражает реакцию на произведение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ирует тенденции и  перспективы развития современного искусст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сновные методологические школы искусствознания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тория стилей (Вельфлин, Хаузер, Винкельман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наточество ( Бернсон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зучение сюжетов ( Маль, Панофски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ультурно-историческая школа ( Тэн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1.Особенности художественного язык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онационные (музыка, поэзия, пр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емые» (архитектура, скульптур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нтомима, танец, живопись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2. Способ существования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транственные (архитектура, изобразительное искусство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ременные (музыка, поэзия, пр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транственно-временные (балет, театр, кино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5T06:46:15Z</dcterms:created>
  <dc:creator>xdemon</dc:creator>
  <dc:description/>
  <dc:language>en-US</dc:language>
  <cp:lastModifiedBy>Name</cp:lastModifiedBy>
  <dcterms:modified xsi:type="dcterms:W3CDTF">2011-02-03T12:41:49Z</dcterms:modified>
  <cp:revision>3</cp:revision>
  <dc:subject/>
  <dc:title>Основы теории искус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50000000000010243000207f6000400038000</vt:lpwstr>
  </property>
</Properties>
</file>