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1299-6191-4A2D-A0B1-18B1782EAB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7D47-B0FD-499A-B13C-6B0B6CC06F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243B3-C327-46BB-9306-C76E69EE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52B3-C3DC-44AB-B800-970F1060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D8FA4-8B65-4CDF-9358-6D748FDA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A1589-4B5D-4778-A6D1-063B1BC7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C986-9B24-44C1-AC90-3588BA7B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F970-A638-49A2-AD18-9F9DFFB3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FEE7-81C1-41AF-A1C8-7B963EEA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71BB-929F-402A-ABA6-A7A47C8F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A131-0490-4679-9976-F1BFDBFD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4CA2-96F9-4813-AC8B-842C1CB5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8832-671F-455E-907A-DCCE0C27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4D2B4-33FC-4847-817B-5FCFA45A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2FB2-C93C-4BC0-BA81-0E3F2909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1458-4457-4F48-BEA2-5569B434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9B3E-DFC3-4CE8-844E-956BB371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0A0B-DC89-4B72-B138-0D1AA152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6820-9E8F-4D95-A049-9BF9B16A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BA81-F521-4352-87E4-73D57E95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51FD-56CC-4F9B-A1E6-3599083C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E728-EC73-43D0-B9B6-5DF59128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F37B2-020D-435E-885C-E7147718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4063D-3B83-4483-9FCD-F0C0D2CA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8439-39C5-4464-B322-C2431E8F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4730C-FF2C-40BA-906E-DB374D2A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F744-D227-4137-AE75-FA171A821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0593-D7D5-4E43-9E6F-0C4E3EFFC4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ы теори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усство как феномен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нятие художественной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методологические подходы в искусствозна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ы и виды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3.Использование художественных средств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ямые, непосредстве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мимика, поэзия, отчасти - музык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свенные, опосредова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архитектура, скульптура, живопис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2"/>
          <p:cNvSpPr/>
          <p:nvPr/>
        </p:nvSpPr>
        <p:spPr>
          <a:xfrm>
            <a:off x="2286000" y="3124080"/>
            <a:ext cx="22860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6629400" y="0"/>
            <a:ext cx="0" cy="685800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80880" y="914400"/>
            <a:ext cx="183528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дна из фор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бщественн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сознания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тельност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514600" y="914400"/>
            <a:ext cx="1835280" cy="14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цесс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уха и ру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572000" y="914400"/>
            <a:ext cx="1835280" cy="144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ая форм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ознан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мысления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ценки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04920" y="5181480"/>
            <a:ext cx="1834920" cy="1446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Качество способ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личающе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о одн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ника о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а друг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514600" y="5181480"/>
            <a:ext cx="1835280" cy="144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езульта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–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изведе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572000" y="5181480"/>
            <a:ext cx="1835280" cy="1446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енность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восприят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000" y="3357720"/>
            <a:ext cx="2281320" cy="90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Garamond"/>
              </a:rPr>
              <a:t>Искусство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1219320" y="2362320"/>
            <a:ext cx="137160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3429000" y="2362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4114800" y="236232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4"/>
          <p:cNvSpPr/>
          <p:nvPr/>
        </p:nvSpPr>
        <p:spPr>
          <a:xfrm flipV="1">
            <a:off x="1219320" y="426708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5"/>
          <p:cNvSpPr/>
          <p:nvPr/>
        </p:nvSpPr>
        <p:spPr>
          <a:xfrm flipV="1">
            <a:off x="3429000" y="4495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6"/>
          <p:cNvSpPr/>
          <p:nvPr/>
        </p:nvSpPr>
        <p:spPr>
          <a:xfrm flipH="1" flipV="1">
            <a:off x="4114800" y="4343400"/>
            <a:ext cx="13716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6629400" y="0"/>
            <a:ext cx="2514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1) искус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действительн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в художественных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браза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2) ремесло, умение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навык, мастер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творчеств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WordArt 18"/>
          <p:cNvSpPr txBox="1"/>
          <p:nvPr/>
        </p:nvSpPr>
        <p:spPr>
          <a:xfrm>
            <a:off x="7162920" y="7621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4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latin typeface="Arial"/>
              </a:rPr>
              <a:t>Ar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Эстетика – о сущност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атериалистическая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imesis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из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отражение, имитация действительности. (Аристотел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526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деалистическая 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hantasia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во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выражение внутренних чувств вечных истин, сути времени. (Платон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3962160"/>
            <a:ext cx="7769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Функции искусст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стет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наково - коммуникатив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носелог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Ценностно-ориентацион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образовательная или созид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спит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гров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едонистическ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520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564000" y="1628640"/>
            <a:ext cx="16761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Искус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555640" y="198900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219640" y="1989000"/>
            <a:ext cx="838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0" y="3962520"/>
            <a:ext cx="9144000" cy="0"/>
          </a:xfrm>
          <a:prstGeom prst="line">
            <a:avLst/>
          </a:prstGeom>
          <a:ln w="38160">
            <a:solidFill>
              <a:srgbClr val="000514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Зонально-слоевое строение художественной культур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752480"/>
          <a:ext cx="8367840" cy="4432320"/>
        </p:xfrm>
        <a:graphic>
          <a:graphicData uri="http://schemas.openxmlformats.org/drawingml/2006/table">
            <a:tbl>
              <a:tblPr/>
              <a:tblGrid>
                <a:gridCol w="836784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приклад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аторское искусство                                        художественная публицис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словес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музык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актерского словесно-пластического и музыкально-пластическ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пантомимического и танцев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приметно-изобразите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архитектонических бифункциональ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ремесленной базе                                                  На индустриальной баз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59770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Искусствознани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Line 3"/>
          <p:cNvSpPr/>
          <p:nvPr/>
        </p:nvSpPr>
        <p:spPr>
          <a:xfrm flipH="1">
            <a:off x="133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284720" y="1484280"/>
            <a:ext cx="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601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13200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5796000" y="3213000"/>
            <a:ext cx="33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дожествен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т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72720" y="-3220920"/>
            <a:ext cx="71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17928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еория искусс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2923920"/>
            <a:ext cx="85186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бщает накопленные данные с историософской точки зр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89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История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4000" y="9079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тизирует и описывает наличный и вновь открываемый материал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ет закономерности развития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50920" y="4221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Художественная критик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79280" y="4941720"/>
            <a:ext cx="88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жает реакцию на произведение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ует тенденции и  перспективы развития современного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новные методологические школы искусствознания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тория стилей (Вельфлин, Хаузер, Винкельма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наточество ( Бернсо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учение сюжетов ( Маль, Панофски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ультурно-историческая школа ( Тэ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.Особенности художественного язык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онацио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емые» (архитектура, скульптур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нтомима, танец, живопись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2. Способ существования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ые (архитектура, изобразительное искусств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е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о-временные (балет, театр, кин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06:46:15Z</dcterms:created>
  <dc:creator>xdemon</dc:creator>
  <dc:description/>
  <dc:language>en-US</dc:language>
  <cp:lastModifiedBy>Name</cp:lastModifiedBy>
  <dcterms:modified xsi:type="dcterms:W3CDTF">2011-02-03T12:41:49Z</dcterms:modified>
  <cp:revision>3</cp:revision>
  <dc:subject/>
  <dc:title>Основы теории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50000000000010243000207f6000400038000</vt:lpwstr>
  </property>
</Properties>
</file>