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79C8-EB0D-4560-AA71-A31D81E956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A455-9C34-4EBB-B814-E5DA297AA9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B3919-D50C-4430-9550-48F4FC84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F0AF-4BE7-47B1-AFD2-4A44D618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7374-5CE0-44ED-820B-3CC7DC80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68AED-A7B7-4F5D-8220-DD14ED64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65D7-9525-4711-AFCE-04A958E8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FD46-9DC9-4C46-92E6-94776C03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B683-1E94-42F7-9661-3F0833ED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CD62-CC33-4FEC-B119-A0E97D10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5994-6296-4095-88E3-0032BA56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4330-38D1-440F-857F-2E53103E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DF9A-B725-4927-A5A5-70F3DAF6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0D6A-C7F8-48CE-8D58-48A796A3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105D-7066-417C-974B-A79303FE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8AEC-9445-4F18-A618-F9F85EC6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A03A-23F0-47DC-801B-3E05FF8E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2D1E-732C-4B95-8241-DF6B1F5D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2D2F-8671-42B3-8B21-9829EC53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E4963-45EA-4B8C-AEBF-D00B9232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51F8-56C8-423F-84AE-C00402E8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ED4E8-87B6-4F6A-87D0-8EECCFA1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C425E-E75F-4B50-89CC-3965B832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6C76-8448-447F-B2D4-A2A61D9A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1BB59-8248-4358-BAE9-CB60CD4B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7637E-7FE3-4973-9CEA-665A006A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CDE7-D361-4583-BB07-3A08F88F9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0FCD-DBA9-4503-800F-538B18C5F3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ы теори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усство как феномен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нятие художественной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методологические подходы в искусствозна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ы и виды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3.Использование художественных средств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ямые, непосредстве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мимика, поэзия, отчасти - музы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свенные, опосредова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архитектура, скульптура, живопис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"/>
          <p:cNvSpPr/>
          <p:nvPr/>
        </p:nvSpPr>
        <p:spPr>
          <a:xfrm>
            <a:off x="2286000" y="3124080"/>
            <a:ext cx="22860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629400" y="0"/>
            <a:ext cx="0" cy="685800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914400"/>
            <a:ext cx="183528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дна из фор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бщественн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сознания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тельност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14600" y="914400"/>
            <a:ext cx="1835280" cy="14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цесс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уха и ру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72000" y="914400"/>
            <a:ext cx="1835280" cy="144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ая форм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ознан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мыслени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ценки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04920" y="5181480"/>
            <a:ext cx="1834920" cy="1446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Качество способ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личающе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о одн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ника о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а друг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514600" y="5181480"/>
            <a:ext cx="1835280" cy="144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езульта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–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извед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572000" y="5181480"/>
            <a:ext cx="1835280" cy="144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енност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восприят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000" y="3357720"/>
            <a:ext cx="2281320" cy="90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Garamond"/>
              </a:rPr>
              <a:t>Искусство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219320" y="2362320"/>
            <a:ext cx="137160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3429000" y="2362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114800" y="236232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1219320" y="426708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5"/>
          <p:cNvSpPr/>
          <p:nvPr/>
        </p:nvSpPr>
        <p:spPr>
          <a:xfrm flipV="1">
            <a:off x="3429000" y="449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6"/>
          <p:cNvSpPr/>
          <p:nvPr/>
        </p:nvSpPr>
        <p:spPr>
          <a:xfrm flipH="1" flipV="1">
            <a:off x="4114800" y="4343400"/>
            <a:ext cx="1371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6629400" y="0"/>
            <a:ext cx="2514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1) искус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действительн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в художественны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браз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2) ремесло, умени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навык, мастер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творчеств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WordArt 18"/>
          <p:cNvSpPr txBox="1"/>
          <p:nvPr/>
        </p:nvSpPr>
        <p:spPr>
          <a:xfrm>
            <a:off x="7162920" y="762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Arial"/>
              </a:rPr>
              <a:t>Ar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Эстетика – о сущност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атериалистическая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imesis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из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отражение, имитация действительности. (Аристотел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деалистическая 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hantasia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во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выражение внутренних чувств вечных истин, сути времени. (Платон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3962160"/>
            <a:ext cx="7769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Функции искус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стет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наково - коммуникатив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носелог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Ценностно-ориентацион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образовательная или созид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спит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гров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едонистическ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520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564000" y="1628640"/>
            <a:ext cx="16761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Искус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555640" y="198900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219640" y="1989000"/>
            <a:ext cx="838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0" y="3962520"/>
            <a:ext cx="9144000" cy="0"/>
          </a:xfrm>
          <a:prstGeom prst="line">
            <a:avLst/>
          </a:prstGeom>
          <a:ln w="38160">
            <a:solidFill>
              <a:srgbClr val="000514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Зонально-слоевое строение художественной культур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752480"/>
          <a:ext cx="8367840" cy="4432320"/>
        </p:xfrm>
        <a:graphic>
          <a:graphicData uri="http://schemas.openxmlformats.org/drawingml/2006/table">
            <a:tbl>
              <a:tblPr/>
              <a:tblGrid>
                <a:gridCol w="836784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приклад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аторское искусство                                        художественная публицис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словес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музык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актерского словесно-пластического и музыкально-пластическ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пантомимического и танцев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приметно-изобразите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архитектонических бифункциональ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ремесленной базе                                                  На индустриальной баз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59770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Искусствозн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Line 3"/>
          <p:cNvSpPr/>
          <p:nvPr/>
        </p:nvSpPr>
        <p:spPr>
          <a:xfrm flipH="1">
            <a:off x="133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284720" y="148428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601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13200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796000" y="321300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ествен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72720" y="-322092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17928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еория искусс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2923920"/>
            <a:ext cx="85186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бщает накопленные данные с историософской точки зр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8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История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4000" y="9079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тизирует и описывает наличный и вновь открываемый материа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ет закономерности развития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50920" y="4221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Художественная критик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79280" y="4941720"/>
            <a:ext cx="88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жает реакцию на произведение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ует тенденции и  перспективы развития современного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новные методологические школы искусствознан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тория стилей (Вельфлин, Хаузер, Винкельма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наточество ( Бернсо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ение сюжетов ( Маль, Панофски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ультурно-историческая школа ( Тэ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.Особенности художественного язык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онацио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емые» (архитектура, скульптур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нтомима, танец, живопись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2. Способ существования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ые (архитектура, изобразительное искусств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е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о-временные (балет, театр, кин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6:46:15Z</dcterms:created>
  <dc:creator>xdemon</dc:creator>
  <dc:description/>
  <dc:language>en-US</dc:language>
  <cp:lastModifiedBy>Name</cp:lastModifiedBy>
  <dcterms:modified xsi:type="dcterms:W3CDTF">2011-02-03T12:41:49Z</dcterms:modified>
  <cp:revision>3</cp:revision>
  <dc:subject/>
  <dc:title>Основы теории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50000000000010243000207f6000400038000</vt:lpwstr>
  </property>
</Properties>
</file>