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D53-2422-4806-9F02-64E63646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0A9-CADB-4792-BC8D-46A5B835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5A3-E340-42F1-9C69-F42F40FE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F77-5024-4F7C-8D9C-EFC4D0A5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6DF9-8F91-43EF-895F-CC2F9C10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94ED-A23B-48D5-B2F3-9056185B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E89B-03A7-4A28-B886-CB809E05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E73E-F6E3-489F-BD37-9E6B5EEE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EE3E-13C2-411D-B372-915360ED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A53F-18F9-42BB-8C50-B3C487C6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A7D2-F106-4646-9DA9-D36BE35C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6E3-4144-4B58-8504-DB5DE98F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56B3-1A27-4606-A0EB-2831284E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C0D0-A682-4817-A462-42298D21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9C48-0905-41FC-AA7B-28837A7E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A0E0-1913-4FED-83EC-2096579A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04DA-E8C5-4F5C-B6A6-31C5A88D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C95-DA81-45AC-85F0-F1E1B56A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134-F353-4896-B522-A894ED77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F16-D960-43D2-83F0-EF57935F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2249-2759-4681-8895-12516856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550-688F-4C2B-A2F1-73494326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A606-6154-4FE9-A0FE-C9794B33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602-CD85-4555-BCD1-EE2BF5C0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D4E8-A043-4DCD-BA43-FEC6121D08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59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37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58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40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B67E-2222-494D-9C8B-EE368791A3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844280"/>
            <a:ext cx="6400800" cy="1841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Пропорции и строение фигуры челове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Выполнение аппликации «ЦИРК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870600" cy="14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Египтяне пользовались и специальными сетками-таблицами, которые наносили на поверхность каменной плиты или стены для создания рельефа или роспис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а_0012"/>
          <p:cNvPicPr/>
          <p:nvPr/>
        </p:nvPicPr>
        <p:blipFill>
          <a:blip r:embed="rId1"/>
          <a:stretch/>
        </p:blipFill>
        <p:spPr>
          <a:xfrm>
            <a:off x="5640480" y="1700280"/>
            <a:ext cx="2993760" cy="38894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324000" y="2205000"/>
            <a:ext cx="5472000" cy="25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пределенные размеры для сидячих фигу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зображение разных богов в соответств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с их иерархическим старшинством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Детей изображали как взрослых, н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начительно меньших по размер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484360" y="5661000"/>
            <a:ext cx="6659640" cy="1008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анесение квадратной сетки помогает более точно переда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пропорции фигуры и выполнять части одного произвед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азными мастер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406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Скульптор Поликлет в </a:t>
            </a: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V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веке до н. э. создал систему идеальных пропорций человеческой фигуры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открытие пропорций связывают с ПИФАГОРО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олотое сечение – это универсальный принцип гармонии 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красоты в пропорциях, которое олицетворяло равновес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наний, чувств и сил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4284720" y="981000"/>
            <a:ext cx="3959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Леонардо да Винчи разрабатыв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равила изображ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человеческой фигуры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ытаясь восстановить так называемы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«квадрат древних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18" descr="а_0002"/>
          <p:cNvPicPr/>
          <p:nvPr/>
        </p:nvPicPr>
        <p:blipFill>
          <a:blip r:embed="rId1"/>
          <a:stretch/>
        </p:blipFill>
        <p:spPr>
          <a:xfrm>
            <a:off x="4932360" y="2492280"/>
            <a:ext cx="3390840" cy="36576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9"/>
          <p:cNvSpPr/>
          <p:nvPr/>
        </p:nvSpPr>
        <p:spPr>
          <a:xfrm>
            <a:off x="1798560" y="602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н выполнил рисунок, в котором показана пропорциональная закономерность в соотношении частей тела челове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512240" y="40464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498960" y="18900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Древняя Гре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Над выработкой канонов пропорций трудились такие знаменитые мастера эпохи Возрождения, как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. БОТИЧЕЛИ и МИКЕЛАНДЖЕ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4" descr="а_0003"/>
          <p:cNvPicPr/>
          <p:nvPr/>
        </p:nvPicPr>
        <p:blipFill>
          <a:blip r:embed="rId1"/>
          <a:stretch/>
        </p:blipFill>
        <p:spPr>
          <a:xfrm>
            <a:off x="1979640" y="1773360"/>
            <a:ext cx="2374920" cy="468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а_0004"/>
          <p:cNvPicPr/>
          <p:nvPr/>
        </p:nvPicPr>
        <p:blipFill>
          <a:blip r:embed="rId2"/>
          <a:stretch/>
        </p:blipFill>
        <p:spPr>
          <a:xfrm>
            <a:off x="5364000" y="1773360"/>
            <a:ext cx="2397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Художники и архитекторы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XX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Французский зодчий </a:t>
            </a: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Ле Корбюзье в 1947г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разработал «Модулор» - систему дел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человеческой фигуры на согласованные 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олотом сечении отрезки от ступни до тали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т талии до затылка и о затылка до вер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пальцев поднятой ру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На этой основе была создана школ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модулей для архитектурного проектирова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 дизай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а_0005"/>
          <p:cNvPicPr/>
          <p:nvPr/>
        </p:nvPicPr>
        <p:blipFill>
          <a:blip r:embed="rId1"/>
          <a:stretch/>
        </p:blipFill>
        <p:spPr>
          <a:xfrm>
            <a:off x="5724360" y="1773360"/>
            <a:ext cx="288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опорции всякого живого организма, развиваясь, изменя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Ребенок четырех-пяти лет – 1/4 или 1/5 ча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Подросток – примерно 1/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Взрослый человек – размер голов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анимает примерно 1/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или 1/8 часть его рос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а_0006"/>
          <p:cNvPicPr/>
          <p:nvPr/>
        </p:nvPicPr>
        <p:blipFill>
          <a:blip r:embed="rId1"/>
          <a:stretch/>
        </p:blipFill>
        <p:spPr>
          <a:xfrm>
            <a:off x="5867280" y="2133720"/>
            <a:ext cx="2872080" cy="29685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187280" y="5300640"/>
            <a:ext cx="7777440" cy="64944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 каждого человека свои характерные пропор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Форму и движения тела человека во многом определяет ске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келет играет роль каркаса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троении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а_0007"/>
          <p:cNvPicPr/>
          <p:nvPr/>
        </p:nvPicPr>
        <p:blipFill>
          <a:blip r:embed="rId1"/>
          <a:stretch/>
        </p:blipFill>
        <p:spPr>
          <a:xfrm>
            <a:off x="5435640" y="1413000"/>
            <a:ext cx="2770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5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Полезно, передавая в рисунке форму человеческого тела и любого другого объекта, не только учитывать, но и намечать его каркас даже в тех случаях, когда он находится  внутри и его можно себе только представить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16"/>
          <p:cNvPicPr/>
          <p:nvPr/>
        </p:nvPicPr>
        <p:blipFill>
          <a:blip r:embed="rId1"/>
          <a:stretch/>
        </p:blipFill>
        <p:spPr>
          <a:xfrm>
            <a:off x="1619280" y="2924280"/>
            <a:ext cx="61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Выполнение апплика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Сегодня мы выполним пропорциональную фигуру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человека, используя метод апплик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1. Деление квадрата на ча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а_0008"/>
          <p:cNvPicPr/>
          <p:nvPr/>
        </p:nvPicPr>
        <p:blipFill>
          <a:blip r:embed="rId1"/>
          <a:stretch/>
        </p:blipFill>
        <p:spPr>
          <a:xfrm>
            <a:off x="4716360" y="2205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23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2. Выполнение частей фигурки 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   человечка из альбомного ли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а_0009"/>
          <p:cNvPicPr/>
          <p:nvPr/>
        </p:nvPicPr>
        <p:blipFill>
          <a:blip r:embed="rId1"/>
          <a:stretch/>
        </p:blipFill>
        <p:spPr>
          <a:xfrm>
            <a:off x="2411280" y="1628640"/>
            <a:ext cx="460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а_0010"/>
          <p:cNvPicPr/>
          <p:nvPr/>
        </p:nvPicPr>
        <p:blipFill>
          <a:blip r:embed="rId1"/>
          <a:stretch/>
        </p:blipFill>
        <p:spPr>
          <a:xfrm>
            <a:off x="2771640" y="1557360"/>
            <a:ext cx="3888000" cy="4032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1187280" y="5484960"/>
            <a:ext cx="74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       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195640" y="59500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4.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Фигурка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клоуна в профил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2124000" y="5589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3. Фигурка клоуна в фа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539640" y="549360"/>
            <a:ext cx="7201080" cy="6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Так как фигурки у нас получились смешные, предлагаю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выполнить цирковых артист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8" descr="3_0001"/>
          <p:cNvPicPr/>
          <p:nvPr/>
        </p:nvPicPr>
        <p:blipFill>
          <a:blip r:embed="rId1"/>
          <a:stretch/>
        </p:blipFill>
        <p:spPr>
          <a:xfrm>
            <a:off x="755640" y="1413000"/>
            <a:ext cx="3108240" cy="268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3_0002"/>
          <p:cNvPicPr/>
          <p:nvPr/>
        </p:nvPicPr>
        <p:blipFill>
          <a:blip r:embed="rId2"/>
          <a:stretch/>
        </p:blipFill>
        <p:spPr>
          <a:xfrm>
            <a:off x="4643280" y="4005360"/>
            <a:ext cx="3678480" cy="18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3"/>
          <p:cNvSpPr/>
          <p:nvPr/>
        </p:nvSpPr>
        <p:spPr>
          <a:xfrm>
            <a:off x="5724360" y="6165720"/>
            <a:ext cx="237492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евний Египе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3924360" y="1341360"/>
            <a:ext cx="410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Главно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( живот, груд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b200"/>
                </a:solidFill>
                <a:uFillTx/>
                <a:latin typeface="Arial"/>
              </a:rPr>
              <a:t>Не обращали вним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ва, лицо, ру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1547640" y="4292640"/>
            <a:ext cx="2808360" cy="1584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ие фигур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 правые руки 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ые ног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WordArt 19"/>
          <p:cNvSpPr txBox="1"/>
          <p:nvPr/>
        </p:nvSpPr>
        <p:spPr>
          <a:xfrm>
            <a:off x="3995640" y="105264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5. Примеры разных движ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5" descr="а_0011"/>
          <p:cNvPicPr/>
          <p:nvPr/>
        </p:nvPicPr>
        <p:blipFill>
          <a:blip r:embed="rId1"/>
          <a:stretch/>
        </p:blipFill>
        <p:spPr>
          <a:xfrm>
            <a:off x="2843280" y="1341360"/>
            <a:ext cx="3168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ворческая страни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Как вы думаете, найдется ли работа для художника в цир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Выбрать артиста определенного жан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Одеть» фигурку в яркий костю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(используя фломастеры и цветную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бумагу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Расположить свои фигурки 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арене цирка» путем приклеи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45840" y="1628280"/>
            <a:ext cx="8497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нового мы узнали на уро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поиск пропорции фигуры человека в различные исторические периоды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 какими новыми терминами мы познаком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«пропорции». «канон», «золотое сечение»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му науч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учились находить пропорции, выполняли фигурки человечков в движении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понравилось на уроке?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Подобрать рисун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с изображение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человека в движе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5" descr="3_0003"/>
          <p:cNvPicPr/>
          <p:nvPr/>
        </p:nvPicPr>
        <p:blipFill>
          <a:blip r:embed="rId1"/>
          <a:stretch/>
        </p:blipFill>
        <p:spPr>
          <a:xfrm>
            <a:off x="6300720" y="1268280"/>
            <a:ext cx="1785960" cy="3614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3_0004"/>
          <p:cNvPicPr/>
          <p:nvPr/>
        </p:nvPicPr>
        <p:blipFill>
          <a:blip r:embed="rId2"/>
          <a:stretch/>
        </p:blipFill>
        <p:spPr>
          <a:xfrm>
            <a:off x="324000" y="1341360"/>
            <a:ext cx="2100240" cy="36813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"/>
          <p:cNvSpPr/>
          <p:nvPr/>
        </p:nvSpPr>
        <p:spPr>
          <a:xfrm>
            <a:off x="3276720" y="1484280"/>
            <a:ext cx="2447640" cy="25542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графическа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жесть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стичнос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ция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те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лиц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10_0006"/>
          <p:cNvPicPr/>
          <p:nvPr/>
        </p:nvPicPr>
        <p:blipFill>
          <a:blip r:embed="rId1"/>
          <a:stretch/>
        </p:blipFill>
        <p:spPr>
          <a:xfrm>
            <a:off x="250920" y="981000"/>
            <a:ext cx="3449520" cy="549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11_0006"/>
          <p:cNvPicPr/>
          <p:nvPr/>
        </p:nvPicPr>
        <p:blipFill>
          <a:blip r:embed="rId2"/>
          <a:stretch/>
        </p:blipFill>
        <p:spPr>
          <a:xfrm>
            <a:off x="4716360" y="1052640"/>
            <a:ext cx="3210120" cy="51670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8"/>
          <p:cNvSpPr txBox="1"/>
          <p:nvPr/>
        </p:nvSpPr>
        <p:spPr>
          <a:xfrm>
            <a:off x="3492360" y="404640"/>
            <a:ext cx="215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ве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15_0005"/>
          <p:cNvPicPr/>
          <p:nvPr/>
        </p:nvPicPr>
        <p:blipFill>
          <a:blip r:embed="rId1"/>
          <a:stretch/>
        </p:blipFill>
        <p:spPr>
          <a:xfrm>
            <a:off x="395280" y="260280"/>
            <a:ext cx="3789360" cy="6315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_0006"/>
          <p:cNvPicPr/>
          <p:nvPr/>
        </p:nvPicPr>
        <p:blipFill>
          <a:blip r:embed="rId2"/>
          <a:stretch/>
        </p:blipFill>
        <p:spPr>
          <a:xfrm>
            <a:off x="4788000" y="333360"/>
            <a:ext cx="3952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12_0006"/>
          <p:cNvPicPr/>
          <p:nvPr/>
        </p:nvPicPr>
        <p:blipFill>
          <a:blip r:embed="rId1"/>
          <a:stretch/>
        </p:blipFill>
        <p:spPr>
          <a:xfrm>
            <a:off x="324000" y="260280"/>
            <a:ext cx="3989160" cy="2646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842400" y="314172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А. Матис. Танец. Масл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Франция. 19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13_0006"/>
          <p:cNvPicPr/>
          <p:nvPr/>
        </p:nvPicPr>
        <p:blipFill>
          <a:blip r:embed="rId2"/>
          <a:stretch/>
        </p:blipFill>
        <p:spPr>
          <a:xfrm>
            <a:off x="5076720" y="260280"/>
            <a:ext cx="3384720" cy="33130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3919320" y="357336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П. Брейтель Младший 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Ярмарка с театральным представле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539640" y="4941720"/>
            <a:ext cx="7993080" cy="115128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ЧЕЛОВЕК – главная тема в искусстве. Каждая историческая эпо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Выражает понимание красоты по-своему, но в этом разнообрази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Безусловно, есть что-то обще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Пропорци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13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Слово пропорция в переводе с латыни обозначает, «соотношение», «соразмернос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порциями называются размерные соотношения элементов или частей формы между собой, а также между различными объект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опорция это гармонизация формы художественного произведения, пропорциональность – её эстетическое качество. Соразмерность частей образует красоту фор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88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16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а уроке нам понадобитс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6960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1.   Альбомный лис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2.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Цветная бумага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3.   Ножниц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4.   К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5.   Простой карандаш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6.   Фломасте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6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12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88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иск пропорц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95280" y="620640"/>
            <a:ext cx="7416720" cy="720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Обратимся к истории. Как решили её художники раз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эпох и разных культу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556000" y="1484280"/>
            <a:ext cx="2808000" cy="432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Comic Sans MS"/>
              </a:rPr>
              <a:t>Древний Егип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2" descr="а_0001"/>
          <p:cNvPicPr/>
          <p:nvPr/>
        </p:nvPicPr>
        <p:blipFill>
          <a:blip r:embed="rId1"/>
          <a:stretch/>
        </p:blipFill>
        <p:spPr>
          <a:xfrm>
            <a:off x="6804000" y="1413000"/>
            <a:ext cx="1776600" cy="48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4"/>
          <p:cNvSpPr/>
          <p:nvPr/>
        </p:nvSpPr>
        <p:spPr>
          <a:xfrm>
            <a:off x="250920" y="1484280"/>
            <a:ext cx="6408720" cy="4176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Древний Егип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нон</a:t>
            </a:r>
            <a:r>
              <a:rPr b="1" lang="ru-RU" sz="2400" spc="-1" strike="noStrike" u="sng">
                <a:solidFill>
                  <a:srgbClr val="00b200"/>
                </a:solidFill>
                <a:uFillTx/>
                <a:latin typeface="Times New Roman"/>
              </a:rPr>
              <a:t> –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то 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такая система пропорций человеческой фигуры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которая делила изображения на част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Египтяне положили в основу деление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1 ¼ части. В это число входили 19 рав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час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Разделения самой фигуры, 2 ¼ ч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иходилась на изображени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головного убо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6732720" y="1916280"/>
            <a:ext cx="18000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2:12:51Z</dcterms:created>
  <dc:creator>*</dc:creator>
  <dc:description/>
  <dc:language>en-US</dc:language>
  <cp:lastModifiedBy>Owner</cp:lastModifiedBy>
  <dcterms:modified xsi:type="dcterms:W3CDTF">2011-07-20T14:07:02Z</dcterms:modified>
  <cp:revision>64</cp:revision>
  <dc:subject/>
  <dc:title>Пропорции и строение фигуры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