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781-A441-4894-91BA-F2B37217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EB2-6498-4E87-ADB5-33681DE7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5EE-362A-42EF-9789-46334C4F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A36-8A29-48C6-8923-A920AFA7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D80C-43E4-4B0E-978C-70E4FDFE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4292-4177-47BB-97AE-8C8C8BE1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0EED-0ACA-47D6-8934-21AEFB58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0589-0B62-4F58-993F-8BAC64EF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8D1F-1712-4E88-A701-F5F05644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0299-5472-4FA6-AE34-9A66071A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C5A1-1E00-4199-996E-65ECD771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144-C477-4D35-8C3A-9027B47E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92C3-EF17-474E-B35A-9B0DF7E7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072A-74EF-4A38-8255-32FE3AE8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D926-3550-4C55-868C-DBED18E2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C739-1C71-41C5-9045-B56AE2E7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2102-5459-40B6-9167-A4233482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774-E137-4BDB-9F58-ADF6C374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2AE-F968-4BAA-BB37-9D40FB87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7A4-AFAD-4E0F-BA56-2883CF72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DC6-864B-47D2-8015-5DA615B6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01F-49EA-4A9D-997E-0E8E2F4F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623-D49E-43E6-B058-622CA40C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8BC-4732-4232-B2A7-BF7343D7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03AA-850C-4813-A427-407DC15A46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7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2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42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2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2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25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33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34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35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36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37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137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128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49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5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56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4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50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51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126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3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4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47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48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5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5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5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5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13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2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5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141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132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3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131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31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38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39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0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1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2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43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44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14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6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5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59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58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40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41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42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43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44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4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4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C71D-A8B8-4A36-8C3B-F164509E98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18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omic Sans MS"/>
              </a:rPr>
              <a:t>Пропорции и строение фигуры человек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omic Sans MS"/>
              </a:rPr>
              <a:t>Выполнение аппликации «ЦИРК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870600" cy="14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Египтяне пользовались и специальными сетками-таблицами, которые наносили на поверхность каменной плиты или стены для создания рельефа или роспис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4" descr="а_0012"/>
          <p:cNvPicPr/>
          <p:nvPr/>
        </p:nvPicPr>
        <p:blipFill>
          <a:blip r:embed="rId1"/>
          <a:stretch/>
        </p:blipFill>
        <p:spPr>
          <a:xfrm>
            <a:off x="5640480" y="1700280"/>
            <a:ext cx="2993760" cy="38894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24000" y="2205000"/>
            <a:ext cx="5472000" cy="25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пределенные размеры для сидячих фигу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зображение разных богов в соответств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с их иерархическим старшинством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Детей изображали как взрослых, 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начительно меньших по разме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484360" y="5661000"/>
            <a:ext cx="6659640" cy="1008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Нанесение квадратной сетки помогает более точно передать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пропорции фигуры и выполнять части одного произвед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разными мастер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4067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Скульптор Поликлет в </a:t>
            </a:r>
            <a:r>
              <a:rPr b="0" lang="en-US" sz="2000" spc="-1" strike="noStrike">
                <a:solidFill>
                  <a:srgbClr val="003300"/>
                </a:solidFill>
                <a:latin typeface="Comic Sans MS"/>
              </a:rPr>
              <a:t>V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веке до н. э. создал систему идеальных пропорций человеческой фигуры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открытие пропорций связывают с ПИФАГОРО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олотое сечение – это универсальный принцип гармонии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красоты в пропорциях, которое олицетворяло равновеси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наний, чувств и си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284720" y="981000"/>
            <a:ext cx="3959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Леонардо да Винчи разрабатыв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равила изображ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человеческой фигуры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пытаясь восстановить так называемы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«квадрат древних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18" descr="а_0002"/>
          <p:cNvPicPr/>
          <p:nvPr/>
        </p:nvPicPr>
        <p:blipFill>
          <a:blip r:embed="rId1"/>
          <a:stretch/>
        </p:blipFill>
        <p:spPr>
          <a:xfrm>
            <a:off x="4932360" y="2492280"/>
            <a:ext cx="339084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9"/>
          <p:cNvSpPr/>
          <p:nvPr/>
        </p:nvSpPr>
        <p:spPr>
          <a:xfrm>
            <a:off x="179856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н выполнил рисунок, в котором показана пропорциональная закономерность в соотношении частей тела челове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512240" y="40464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498960" y="18900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Над выработкой канонов пропорций трудились такие знаменитые мастера эпохи Возрождения, как 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С. БОТИЧЕЛИ и МИКЕЛАНДЖЕ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4" descr="а_0003"/>
          <p:cNvPicPr/>
          <p:nvPr/>
        </p:nvPicPr>
        <p:blipFill>
          <a:blip r:embed="rId1"/>
          <a:stretch/>
        </p:blipFill>
        <p:spPr>
          <a:xfrm>
            <a:off x="1979640" y="1773360"/>
            <a:ext cx="2374920" cy="468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а_0004"/>
          <p:cNvPicPr/>
          <p:nvPr/>
        </p:nvPicPr>
        <p:blipFill>
          <a:blip r:embed="rId2"/>
          <a:stretch/>
        </p:blipFill>
        <p:spPr>
          <a:xfrm>
            <a:off x="5364000" y="1773360"/>
            <a:ext cx="2397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Художники и архитекторы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Comic Sans MS"/>
              </a:rPr>
              <a:t>XX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Французский зодчий </a:t>
            </a:r>
            <a:r>
              <a:rPr b="1" lang="ru-RU" sz="1800" spc="-1" strike="noStrike">
                <a:solidFill>
                  <a:srgbClr val="003300"/>
                </a:solidFill>
                <a:latin typeface="Comic Sans MS"/>
              </a:rPr>
              <a:t>Ле Корбюзье в 1947г</a:t>
            </a: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разработал «Модулор» - систему де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человеческой фигуры на согласованные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золотом сечении отрезки от ступни до талии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от талии до затылка и о затылка до вер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пальцев поднятой ру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На этой основе была создана школ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модулей для архитектурного проектирова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и дизай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а_0005"/>
          <p:cNvPicPr/>
          <p:nvPr/>
        </p:nvPicPr>
        <p:blipFill>
          <a:blip r:embed="rId1"/>
          <a:stretch/>
        </p:blipFill>
        <p:spPr>
          <a:xfrm>
            <a:off x="5724360" y="1773360"/>
            <a:ext cx="2880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опорции всякого живого организма, развиваясь, изменяют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Ребенок четырех-пяти лет – 1/4 или 1/5 ча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Подросток – примерно 1/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Взрослый человек – размер голов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занимает примерно 1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или 1/8 часть его ро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а_0006"/>
          <p:cNvPicPr/>
          <p:nvPr/>
        </p:nvPicPr>
        <p:blipFill>
          <a:blip r:embed="rId1"/>
          <a:stretch/>
        </p:blipFill>
        <p:spPr>
          <a:xfrm>
            <a:off x="5867280" y="2133720"/>
            <a:ext cx="2872080" cy="29685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1187280" y="5300640"/>
            <a:ext cx="7777440" cy="64944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 каждого человека свои характерные пропор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Форму и движения тела человека во многом определяет ске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келет играет роль каркаса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троении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а_0007"/>
          <p:cNvPicPr/>
          <p:nvPr/>
        </p:nvPicPr>
        <p:blipFill>
          <a:blip r:embed="rId1"/>
          <a:stretch/>
        </p:blipFill>
        <p:spPr>
          <a:xfrm>
            <a:off x="5435640" y="1413000"/>
            <a:ext cx="2770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5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Полезно, передавая в рисунке форму человеческого тела и любого другого объекта, не только учитывать, но и намечать его каркас даже в тех случаях, когда он находится  внутри и его можно себе только представить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16"/>
          <p:cNvPicPr/>
          <p:nvPr/>
        </p:nvPicPr>
        <p:blipFill>
          <a:blip r:embed="rId1"/>
          <a:stretch/>
        </p:blipFill>
        <p:spPr>
          <a:xfrm>
            <a:off x="1619280" y="2924280"/>
            <a:ext cx="6192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Выполнение апплик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Сегодня мы выполним пропорциональную фигуру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человека, используя метод аппликац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1. Деление квадрата на ч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а_0008"/>
          <p:cNvPicPr/>
          <p:nvPr/>
        </p:nvPicPr>
        <p:blipFill>
          <a:blip r:embed="rId1"/>
          <a:stretch/>
        </p:blipFill>
        <p:spPr>
          <a:xfrm>
            <a:off x="4716360" y="220500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23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2. Выполнение частей фигурки 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   человечка из альбомного 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а_0009"/>
          <p:cNvPicPr/>
          <p:nvPr/>
        </p:nvPicPr>
        <p:blipFill>
          <a:blip r:embed="rId1"/>
          <a:stretch/>
        </p:blipFill>
        <p:spPr>
          <a:xfrm>
            <a:off x="2411280" y="1628640"/>
            <a:ext cx="460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а_0010"/>
          <p:cNvPicPr/>
          <p:nvPr/>
        </p:nvPicPr>
        <p:blipFill>
          <a:blip r:embed="rId1"/>
          <a:stretch/>
        </p:blipFill>
        <p:spPr>
          <a:xfrm>
            <a:off x="2771640" y="1557360"/>
            <a:ext cx="3888000" cy="4032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1187280" y="5484960"/>
            <a:ext cx="745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        </a:t>
            </a:r>
            <a:br>
              <a:rPr sz="2800"/>
            </a:b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195640" y="59500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4.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Фигурка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клоуна в профи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2124000" y="558972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3. Фигурка клоуна в фа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39640" y="549360"/>
            <a:ext cx="720108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Так как фигурки у нас получились смешные, предлагаю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omic Sans MS"/>
              </a:rPr>
              <a:t>выполнить цирковых артис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8" descr="3_0001"/>
          <p:cNvPicPr/>
          <p:nvPr/>
        </p:nvPicPr>
        <p:blipFill>
          <a:blip r:embed="rId1"/>
          <a:stretch/>
        </p:blipFill>
        <p:spPr>
          <a:xfrm>
            <a:off x="755640" y="1413000"/>
            <a:ext cx="3108240" cy="268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3_0002"/>
          <p:cNvPicPr/>
          <p:nvPr/>
        </p:nvPicPr>
        <p:blipFill>
          <a:blip r:embed="rId2"/>
          <a:stretch/>
        </p:blipFill>
        <p:spPr>
          <a:xfrm>
            <a:off x="4643280" y="4005360"/>
            <a:ext cx="3678480" cy="18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5724360" y="6165720"/>
            <a:ext cx="237492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евний Егип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3924360" y="1341360"/>
            <a:ext cx="41036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Главно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о( живот, грудь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b200"/>
                </a:solidFill>
                <a:uFillTx/>
                <a:latin typeface="Arial"/>
              </a:rPr>
              <a:t>Не обращали вним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, лицо, ру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1547640" y="4292640"/>
            <a:ext cx="280836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ие фигур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 правые руки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ые ног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19"/>
          <p:cNvSpPr txBox="1"/>
          <p:nvPr/>
        </p:nvSpPr>
        <p:spPr>
          <a:xfrm>
            <a:off x="3995640" y="105264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5. Примеры разных движ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5" descr="а_0011"/>
          <p:cNvPicPr/>
          <p:nvPr/>
        </p:nvPicPr>
        <p:blipFill>
          <a:blip r:embed="rId1"/>
          <a:stretch/>
        </p:blipFill>
        <p:spPr>
          <a:xfrm>
            <a:off x="2843280" y="1341360"/>
            <a:ext cx="3168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ворческая страни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Как вы думаете, найдется ли работа для художника в цир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Выбрать артиста определенного жан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Одеть» фигурку в яркий костю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(используя фломастеры и цветную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бумагу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Расположить свои фигурки 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3300"/>
                </a:solidFill>
                <a:latin typeface="Comic Sans MS"/>
              </a:rPr>
              <a:t>«арене цирка» путем приклеи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45840" y="1628280"/>
            <a:ext cx="8497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нового мы узнали на урок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поиск пропорции фигуры человека в различные исторические периоды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какими новыми терминами мы познаком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«пропорции». «канон», «золотое сечение»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му научили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(учились находить пропорции, выполняли фигурки человечков в движении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Подобрать рису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с изображение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                 </a:t>
            </a:r>
            <a:r>
              <a:rPr b="1" lang="ru-RU" sz="3200" spc="-1" strike="noStrike">
                <a:solidFill>
                  <a:srgbClr val="003300"/>
                </a:solidFill>
                <a:latin typeface="Comic Sans MS"/>
              </a:rPr>
              <a:t>человека в движен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7305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Различные представления о красоте человека в определенные исторические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3_0003"/>
          <p:cNvPicPr/>
          <p:nvPr/>
        </p:nvPicPr>
        <p:blipFill>
          <a:blip r:embed="rId1"/>
          <a:stretch/>
        </p:blipFill>
        <p:spPr>
          <a:xfrm>
            <a:off x="6300720" y="1268280"/>
            <a:ext cx="1785960" cy="3614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3_0004"/>
          <p:cNvPicPr/>
          <p:nvPr/>
        </p:nvPicPr>
        <p:blipFill>
          <a:blip r:embed="rId2"/>
          <a:stretch/>
        </p:blipFill>
        <p:spPr>
          <a:xfrm>
            <a:off x="324000" y="1341360"/>
            <a:ext cx="2100240" cy="3681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8"/>
          <p:cNvSpPr/>
          <p:nvPr/>
        </p:nvSpPr>
        <p:spPr>
          <a:xfrm>
            <a:off x="3276720" y="1484280"/>
            <a:ext cx="2447640" cy="25542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графическ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жесть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стичнос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ция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те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та лиц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10_0006"/>
          <p:cNvPicPr/>
          <p:nvPr/>
        </p:nvPicPr>
        <p:blipFill>
          <a:blip r:embed="rId1"/>
          <a:stretch/>
        </p:blipFill>
        <p:spPr>
          <a:xfrm>
            <a:off x="250920" y="981000"/>
            <a:ext cx="3449520" cy="549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11_0006"/>
          <p:cNvPicPr/>
          <p:nvPr/>
        </p:nvPicPr>
        <p:blipFill>
          <a:blip r:embed="rId2"/>
          <a:stretch/>
        </p:blipFill>
        <p:spPr>
          <a:xfrm>
            <a:off x="4716360" y="1052640"/>
            <a:ext cx="3210120" cy="5167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8"/>
          <p:cNvSpPr txBox="1"/>
          <p:nvPr/>
        </p:nvSpPr>
        <p:spPr>
          <a:xfrm>
            <a:off x="3492360" y="404640"/>
            <a:ext cx="215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ве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15_0005"/>
          <p:cNvPicPr/>
          <p:nvPr/>
        </p:nvPicPr>
        <p:blipFill>
          <a:blip r:embed="rId1"/>
          <a:stretch/>
        </p:blipFill>
        <p:spPr>
          <a:xfrm>
            <a:off x="395280" y="260280"/>
            <a:ext cx="3789360" cy="6315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_0006"/>
          <p:cNvPicPr/>
          <p:nvPr/>
        </p:nvPicPr>
        <p:blipFill>
          <a:blip r:embed="rId2"/>
          <a:stretch/>
        </p:blipFill>
        <p:spPr>
          <a:xfrm>
            <a:off x="4788000" y="333360"/>
            <a:ext cx="3952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12_0006"/>
          <p:cNvPicPr/>
          <p:nvPr/>
        </p:nvPicPr>
        <p:blipFill>
          <a:blip r:embed="rId1"/>
          <a:stretch/>
        </p:blipFill>
        <p:spPr>
          <a:xfrm>
            <a:off x="324000" y="260280"/>
            <a:ext cx="3989160" cy="2646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9"/>
          <p:cNvSpPr/>
          <p:nvPr/>
        </p:nvSpPr>
        <p:spPr>
          <a:xfrm>
            <a:off x="842400" y="314172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А. Матис. Танец. Масл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Франция. 19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13_0006"/>
          <p:cNvPicPr/>
          <p:nvPr/>
        </p:nvPicPr>
        <p:blipFill>
          <a:blip r:embed="rId2"/>
          <a:stretch/>
        </p:blipFill>
        <p:spPr>
          <a:xfrm>
            <a:off x="5076720" y="260280"/>
            <a:ext cx="3384720" cy="3313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3919320" y="357336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П. Брейтель Младший 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Ярмарка с театральным представле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39640" y="4941720"/>
            <a:ext cx="7993080" cy="1151280"/>
          </a:xfrm>
          <a:prstGeom prst="rect">
            <a:avLst/>
          </a:prstGeom>
          <a:solidFill>
            <a:srgbClr val="ffef66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ЧЕЛОВЕК – главная тема в искусстве. Каждая историческая эпох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Выражает понимание красоты по-своему, но в этом разнообразии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Безусловно, есть что-то обще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omic Sans MS"/>
              </a:rPr>
              <a:t>Пропорци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13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Слово пропорция в переводе с латыни обозначает, «соотношение», «соразмернос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порциями называются размерные соотношения элементов или частей формы между собой, а также между различными объект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опорция это гармонизация формы художественного произведения, пропорциональность – её эстетическое качество. Соразмерность частей образует красоту форм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16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а уроке нам понадобитс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6960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1.   Альбомный ли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2.</a:t>
            </a:r>
            <a:r>
              <a:rPr b="1" lang="ru-RU" sz="2000" spc="-1" strike="noStrike">
                <a:solidFill>
                  <a:srgbClr val="003300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Цветная бумаг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3.   Ножниц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4.   К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5.   Простой карандаш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mic Sans MS"/>
              </a:rPr>
              <a:t>6.   Фломастер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6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2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8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иск пропор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95280" y="620640"/>
            <a:ext cx="7416720" cy="720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Обратимся к истории. Как решили её художники разны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эпох и разных культу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56000" y="1484280"/>
            <a:ext cx="2808000" cy="432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Comic Sans MS"/>
              </a:rPr>
              <a:t>Древний Егип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2" descr="а_0001"/>
          <p:cNvPicPr/>
          <p:nvPr/>
        </p:nvPicPr>
        <p:blipFill>
          <a:blip r:embed="rId1"/>
          <a:stretch/>
        </p:blipFill>
        <p:spPr>
          <a:xfrm>
            <a:off x="6804000" y="1413000"/>
            <a:ext cx="1776600" cy="48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4"/>
          <p:cNvSpPr/>
          <p:nvPr/>
        </p:nvSpPr>
        <p:spPr>
          <a:xfrm>
            <a:off x="250920" y="1484280"/>
            <a:ext cx="6408720" cy="41767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Comic Sans MS"/>
              </a:rPr>
              <a:t>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Древний Егип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нон</a:t>
            </a:r>
            <a:r>
              <a:rPr b="1" lang="ru-RU" sz="2400" spc="-1" strike="noStrike" u="sng">
                <a:solidFill>
                  <a:srgbClr val="00b200"/>
                </a:solidFill>
                <a:uFillTx/>
                <a:latin typeface="Times New Roman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то 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такая система пропорций человеческой фигуры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которая делила изображения на части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Египтяне положили в основу деление фигу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21 ¼ части. В это число входили 19 равн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част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Разделения самой фигуры, 2 ¼ ч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риходилась на изображени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головного убо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6732720" y="1916280"/>
            <a:ext cx="18000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2:12:51Z</dcterms:created>
  <dc:creator>*</dc:creator>
  <dc:description/>
  <dc:language>en-US</dc:language>
  <cp:lastModifiedBy>Owner</cp:lastModifiedBy>
  <dcterms:modified xsi:type="dcterms:W3CDTF">2011-07-20T14:07:02Z</dcterms:modified>
  <cp:revision>64</cp:revision>
  <dc:subject/>
  <dc:title>Пропорции и строение фигуры челове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