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D57-406B-45B9-97D2-2A31E591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A11-4F9D-4846-8D7E-61997AA3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E0D-78EA-4220-8EBB-D4C0F92E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5AD-5CA5-42D4-BEE2-613488F1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9C84-3681-4D74-B1EE-7578C095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68C2-EE3E-45FB-B5C6-DF31F16D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6E50-42C8-4BC3-AC31-991E87F7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E51E-F495-4DA9-9973-DB6D3978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C8C8-7B4F-46EF-845F-E3061ACE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9931-9CDD-4C20-BD97-641BF9A6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6D75-C2DD-4D42-BBA5-3C8D3184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09C-49C4-4294-9D94-C245A026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32D2-A462-4801-B5D8-B908C4E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08CC-BA4F-4B92-882D-213677DD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B2CA-93C7-408E-84A7-6D0D6C73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AB68-7BC0-45EF-B5A8-87CECFEA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B815-2796-4954-AF48-B64AEBD7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6D0-D429-4342-8302-29CE2FF5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CBB-4C0C-4741-B079-D0D27054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580-C91A-4507-A91D-0C978824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16B-AE89-43B4-9C5E-09C16B25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1F6-AFF0-48B7-B6D0-E6812868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2AD-871B-4058-8B26-2C0CB41D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9AF-4E98-4FC6-81C6-1DB1505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1C59-2B62-4EBF-96FE-772199E873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1A9D-E55C-4693-AA8A-E15F16AE0E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Owner</cp:lastModifiedBy>
  <dcterms:modified xsi:type="dcterms:W3CDTF">2011-07-20T14:07:02Z</dcterms:modified>
  <cp:revision>64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