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A4E9-6B7A-4EB7-A5A2-783A72D1E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CC4C-5627-4311-9AF0-F60FBC9E6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C2D9-26D7-479B-86CD-6811CF5CA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B776-8CA4-4ED2-B275-8470ECE86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EB67-1611-4971-9DF2-CA5AB81F0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2D36-6783-40C2-994B-6034B485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43E6-0498-4397-B876-C356B61D4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9549-E3AC-45C3-B1F0-10FFB895C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7CA2-01BE-4DE1-84A8-BA5522C01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4152-47FF-4468-B8EA-DBED6693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66DE-879F-4062-8CDA-65B9B043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6C99-C4AC-4337-86C3-E37DFD4E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35BEB-14D3-4A17-9642-1F6BFAFE5F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Гриб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Значение гриб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2c07"/>
                </a:solidFill>
                <a:latin typeface="Tahoma"/>
                <a:ea typeface="Tahoma"/>
              </a:rPr>
              <a:t>Значение грибов не ограничивается только использованием их в пищу. Сапротрофные грибы играют важную роль в круговороте веществ в природе. Разрушая растительные остатки с тем, чтобы добыть необходимые для жизни питательные вещества, сапротрофы возвращают часть этих веществ в почву, делая их доступными для усвоения другими растения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редные гриб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2c07"/>
                </a:solidFill>
                <a:latin typeface="Tahoma"/>
                <a:ea typeface="Tahoma"/>
              </a:rPr>
              <a:t>Многие грибы вредны. Так, плесени вызывают гниение и порчу продуктов, зерна, фруктов, а также тканей. Многие грибы-сапрофиты – активные разрушители древесины. Поселяясь на деревянных частях домов и других построек, на шпалах и столбах, на штабелях лесоматериалов в складах, грибы приводят древесину в полную негодност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2c07"/>
                </a:solidFill>
                <a:latin typeface="Tahoma"/>
                <a:ea typeface="Tahoma"/>
              </a:rPr>
              <a:t>Pазличные виды головнёвых гpибов поpажают овёс, ячмень, пpосо, кукуpузу, пшеницу и дpугие зла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2c07"/>
                </a:solidFill>
                <a:latin typeface="Tahoma"/>
                <a:ea typeface="Tahoma"/>
              </a:rPr>
              <a:t>Помимо зеpна и деpевьев, гpибы-паpазиты живут на каpтофеле, кpыжовнике, яблоках. Так, на зеpновых культуpах живет также гpиб-паpазит споpынья, пpевpащающая здоpовые зеpновки в ядовитые чёpные pож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2c07"/>
                </a:solidFill>
                <a:latin typeface="Tahoma"/>
                <a:ea typeface="Tahoma"/>
              </a:rPr>
              <a:t>Все грибковые заболевания pаспpостpаняются быстpо, так как споpы легко пеpеносятся ветp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Царство гриб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Грибы</a:t>
            </a:r>
            <a:r>
              <a:rPr b="0" lang="ru-RU" sz="2400" spc="-1" strike="noStrike">
                <a:solidFill>
                  <a:srgbClr val="172c07"/>
                </a:solidFill>
                <a:latin typeface="Tahoma"/>
                <a:ea typeface="Tahoma"/>
              </a:rPr>
              <a:t> – это отдельное царство организмов, насчитывающее свыше 80 тысяч видов, различных по образу жизни, строению и внешнему виду. Считается, что всего на Земле полтора миллиона видов гриб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2c07"/>
                </a:solidFill>
                <a:latin typeface="Tahoma"/>
              </a:rPr>
              <a:t>О</a:t>
            </a:r>
            <a:r>
              <a:rPr b="0" lang="ru-RU" sz="2400" spc="-1" strike="noStrike">
                <a:solidFill>
                  <a:srgbClr val="172c07"/>
                </a:solidFill>
                <a:latin typeface="Tahoma"/>
                <a:ea typeface="Tahoma"/>
              </a:rPr>
              <a:t>ни выделены в отдельное царство эукариот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итание гриб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отличие от растений грибы не имеют хлорофилла и питаются гетеротрофно. С другой стороны, грибы имеют жёсткую клеточную стенку, а большинство из них также, как и растения, не способны передвигатьс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Разнообразие гриб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2c07"/>
                </a:solidFill>
                <a:latin typeface="Tahoma"/>
                <a:ea typeface="Tahoma"/>
              </a:rPr>
              <a:t>К грибам относятся бесчисленные плесени, дрожжи, паразиты растений и животных. Одни виды мелки, их можно просто не заметить невооружённым глазом, другие же огромн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акромице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2c07"/>
                </a:solidFill>
                <a:latin typeface="Tahoma"/>
                <a:ea typeface="Tahoma"/>
              </a:rPr>
              <a:t>Наиболее известны каждому из нас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макромицеты</a:t>
            </a:r>
            <a:r>
              <a:rPr b="0" lang="ru-RU" sz="2000" spc="-1" strike="noStrike">
                <a:solidFill>
                  <a:srgbClr val="172c07"/>
                </a:solidFill>
                <a:latin typeface="Tahoma"/>
                <a:ea typeface="Tahoma"/>
              </a:rPr>
              <a:t>, представляющие собой грибы с шляпками. Это могут быть различные по своему систематическому положению и морфологическим особенностям виды, объединённые наличием плодовых тел достаточно крупных размеров, доступных для наблюдения невооруженным глаз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03010101" descr=""/>
          <p:cNvPicPr/>
          <p:nvPr/>
        </p:nvPicPr>
        <p:blipFill>
          <a:blip r:embed="rId1"/>
          <a:stretch/>
        </p:blipFill>
        <p:spPr>
          <a:xfrm>
            <a:off x="4648320" y="2046240"/>
            <a:ext cx="3809880" cy="39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Группы гриб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2c07"/>
                </a:solidFill>
                <a:latin typeface="Tahoma"/>
                <a:ea typeface="Tahoma"/>
              </a:rPr>
              <a:t>Среди макрогрибов выделяются группы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сапротрофных</a:t>
            </a:r>
            <a:r>
              <a:rPr b="0" lang="ru-RU" sz="3200" spc="-1" strike="noStrike">
                <a:solidFill>
                  <a:srgbClr val="172c07"/>
                </a:solidFill>
                <a:latin typeface="Tahoma"/>
                <a:ea typeface="Tahoma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паразитических</a:t>
            </a:r>
            <a:r>
              <a:rPr b="0" lang="ru-RU" sz="3200" spc="-1" strike="noStrike">
                <a:solidFill>
                  <a:srgbClr val="172c07"/>
                </a:solidFill>
                <a:latin typeface="Tahoma"/>
                <a:ea typeface="Tahoma"/>
              </a:rPr>
              <a:t> и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симбиотических</a:t>
            </a:r>
            <a:r>
              <a:rPr b="0" lang="ru-RU" sz="3200" spc="-1" strike="noStrike">
                <a:solidFill>
                  <a:srgbClr val="172c07"/>
                </a:solidFill>
                <a:latin typeface="Tahoma"/>
                <a:ea typeface="Tahoma"/>
              </a:rPr>
              <a:t> организм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апротроф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2c07"/>
                </a:solidFill>
                <a:latin typeface="Tahoma"/>
                <a:ea typeface="Tahoma"/>
              </a:rPr>
              <a:t>Большинство макромицетов селится на всевозможных растительных остатках – опавшей хвое и листве, на веточках и шишках, стеблях однолетних трав и других элементах лесного опада, в подстилке – это подстилочные сапрофиты. К сапротрофам также относятся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плесени</a:t>
            </a:r>
            <a:r>
              <a:rPr b="0" lang="ru-RU" sz="2800" spc="-1" strike="noStrike">
                <a:solidFill>
                  <a:srgbClr val="172c07"/>
                </a:solidFill>
                <a:latin typeface="Tahoma"/>
                <a:ea typeface="Tahoma"/>
              </a:rPr>
              <a:t> (пеницилл, мукор), селящиеся на почве, хлебе, гниющих фруктах, и дрожж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силофаг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2c07"/>
                </a:solidFill>
                <a:latin typeface="Tahoma"/>
                <a:ea typeface="Tahoma"/>
              </a:rPr>
              <a:t>Другая большая группа – дереворазрушающие макромицеты, или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ксилофаги</a:t>
            </a:r>
            <a:r>
              <a:rPr b="0" lang="ru-RU" sz="2000" spc="-1" strike="noStrike">
                <a:solidFill>
                  <a:srgbClr val="172c07"/>
                </a:solidFill>
                <a:latin typeface="Tahoma"/>
                <a:ea typeface="Tahoma"/>
              </a:rPr>
              <a:t>, – состоит из видов, которые поселяются на древесине. Многие из них живут за счёт разложения живой древесины – это грибы-паразиты. Паразиты могут жить не только на деревьях, но и на других растениях: так, спорынья поражает рож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03010102" descr=""/>
          <p:cNvPicPr/>
          <p:nvPr/>
        </p:nvPicPr>
        <p:blipFill>
          <a:blip r:embed="rId1"/>
          <a:stretch/>
        </p:blipFill>
        <p:spPr>
          <a:xfrm>
            <a:off x="4648320" y="2604960"/>
            <a:ext cx="380988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имбиотроф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Широко распространены в природе грибы-симбиотрофы, которые получают необходимые для жизни органические вещества при помощи симбиоза с высшими растениями (микориза или грибокорень). Вероятно, большинство наземных растений способно вступать в такого рода связь с почвенными грибам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0:49:48Z</dcterms:created>
  <dc:creator>Lussia</dc:creator>
  <dc:description/>
  <dc:language>en-US</dc:language>
  <cp:lastModifiedBy>Lussia</cp:lastModifiedBy>
  <dcterms:modified xsi:type="dcterms:W3CDTF">2008-07-30T20:59:58Z</dcterms:modified>
  <cp:revision>6</cp:revision>
  <dc:subject/>
  <dc:title>Грибы</dc:title>
</cp:coreProperties>
</file>