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7294-2890-498A-BF8A-B60C83D93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809-AEEA-4342-9A3E-0D20849D9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7DAB-0CF9-43F5-9DB3-989B6FA9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E8BD-B55F-40D9-8EED-3B53951B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689F-7280-45B5-AF9B-CB2B4FE9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02D-4CB4-4C5C-B2E3-44E3E77A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E56E-CF89-4BE7-99EB-5592C332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D376-E076-4A05-962E-47AB2791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A8DC-0279-457C-BD33-E2B3346B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DE61-4C49-4CBC-8DA9-5B9B668C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1E37-1BA9-4027-BC99-F8D73EFA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00F9-10E8-41B8-83A2-9B3AB39A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9B0C-C241-423A-BCA1-098CEF372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Значен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Значение грибов не ограничивается только использованием их в пищу. Сапротрофные грибы играют важную роль в круговороте веществ в природе. Разрушая растительные остатки с тем, чтобы добыть необходимые для жизни питательные вещества, сапротрофы возвращают часть этих веществ в почву, делая их доступными для усвоения другими растен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редные гриб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Многие грибы вредны. Так, плесени вызывают гниение и порчу продуктов, зерна, фруктов, а также тканей. Многие грибы-сапрофиты – активные разрушители древесины. Поселяясь на деревянных частях домов и других построек, на шпалах и столбах, на штабелях лесоматериалов в складах, грибы приводят древесину в полную негодн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Pазличные виды головнёвых гpибов поpажают овёс, ячмень, пpосо, кукуpузу, пшеницу и дpугие зла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Помимо зеpна и деpевьев, гpибы-паpазиты живут на каpтофеле, кpыжовнике, яблоках. Так, на зеpновых культуpах живет также гpиб-паpазит споpынья, пpевpащающая здоpовые зеpновки в ядовитые чёpные pож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Все грибковые заболевания pаспpостpаняются быстpо, так как споpы легко пеpеносятся ветp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Царство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Грибы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 – это отдельное царство организмов, насчитывающее свыше 80 тысяч видов, различных по образу жизни, строению и внешнему виду. Считается, что всего на Земле полтора миллиона видов гриб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72c07"/>
                </a:solidFill>
                <a:latin typeface="Tahoma"/>
              </a:rPr>
              <a:t>О</a:t>
            </a:r>
            <a:r>
              <a:rPr b="0" lang="ru-RU" sz="2400" spc="-1" strike="noStrike">
                <a:solidFill>
                  <a:srgbClr val="172c07"/>
                </a:solidFill>
                <a:latin typeface="Tahoma"/>
                <a:ea typeface="Tahoma"/>
              </a:rPr>
              <a:t>ни выделены в отдельное царство эукариот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итан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отличие от растений грибы не имеют хлорофилла и питаются гетеротрофно. С другой стороны, грибы имеют жёсткую клеточную стенку, а большинство из них также, как и растения, не способны передвигатьс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Разнообразие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2c07"/>
                </a:solidFill>
                <a:latin typeface="Tahoma"/>
                <a:ea typeface="Tahoma"/>
              </a:rPr>
              <a:t>К грибам относятся бесчисленные плесени, дрожжи, паразиты растений и животных. Одни виды мелки, их можно просто не заметить невооружённым глазом, другие же огром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акромице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Наиболее известны каждому из нас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макромицеты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представляющие собой грибы с шляпками. Это могут быть различные по своему систематическому положению и морфологическим особенностям виды, объединённые наличием плодовых тел достаточно крупных размеров, доступных для наблюдения невооруженным глазо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03010101" descr=""/>
          <p:cNvPicPr/>
          <p:nvPr/>
        </p:nvPicPr>
        <p:blipFill>
          <a:blip r:embed="rId1"/>
          <a:stretch/>
        </p:blipFill>
        <p:spPr>
          <a:xfrm>
            <a:off x="4648320" y="2046240"/>
            <a:ext cx="380988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Группы гриб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Среди макрогрибов выделяются группы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апротрофны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аразитически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имбиотических</a:t>
            </a:r>
            <a:r>
              <a:rPr b="0" lang="ru-RU" sz="3200" spc="-1" strike="noStrike">
                <a:solidFill>
                  <a:srgbClr val="172c07"/>
                </a:solidFill>
                <a:latin typeface="Tahoma"/>
                <a:ea typeface="Tahoma"/>
              </a:rPr>
              <a:t> организм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протроф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Большинство макромицетов селится на всевозможных растительных остатках – опавшей хвое и листве, на веточках и шишках, стеблях однолетних трав и других элементах лесного опада, в подстилке – это подстилочные сапрофиты. К сапротрофам также относятся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плесени</a:t>
            </a:r>
            <a:r>
              <a:rPr b="0" lang="ru-RU" sz="2800" spc="-1" strike="noStrike">
                <a:solidFill>
                  <a:srgbClr val="172c07"/>
                </a:solidFill>
                <a:latin typeface="Tahoma"/>
                <a:ea typeface="Tahoma"/>
              </a:rPr>
              <a:t> (пеницилл, мукор), селящиеся на почве, хлебе, гниющих фруктах, и дрожж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силофаг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172c07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Другая большая группа – дереворазрушающие макромицеты, или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  <a:ea typeface="Tahoma"/>
              </a:rPr>
              <a:t>ксилофаги</a:t>
            </a:r>
            <a:r>
              <a:rPr b="0" lang="ru-RU" sz="2000" spc="-1" strike="noStrike">
                <a:solidFill>
                  <a:srgbClr val="172c07"/>
                </a:solidFill>
                <a:latin typeface="Tahoma"/>
                <a:ea typeface="Tahoma"/>
              </a:rPr>
              <a:t>, – состоит из видов, которые поселяются на древесине. Многие из них живут за счёт разложения живой древесины – это грибы-паразиты. Паразиты могут жить не только на деревьях, но и на других растениях: так, спорынья поражает рож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03010102" descr=""/>
          <p:cNvPicPr/>
          <p:nvPr/>
        </p:nvPicPr>
        <p:blipFill>
          <a:blip r:embed="rId1"/>
          <a:stretch/>
        </p:blipFill>
        <p:spPr>
          <a:xfrm>
            <a:off x="4648320" y="260496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имбиотроф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Широко распространены в природе грибы-симбиотрофы, которые получают необходимые для жизни органические вещества при помощи симбиоза с высшими растениями (микориза или грибокорень). Вероятно, большинство наземных растений способно вступать в такого рода связь с почвенными гриб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20:49:48Z</dcterms:created>
  <dc:creator>Lussia</dc:creator>
  <dc:description/>
  <dc:language>en-US</dc:language>
  <cp:lastModifiedBy>Lussia</cp:lastModifiedBy>
  <dcterms:modified xsi:type="dcterms:W3CDTF">2008-07-30T20:59:58Z</dcterms:modified>
  <cp:revision>6</cp:revision>
  <dc:subject/>
  <dc:title>Грибы</dc:title>
</cp:coreProperties>
</file>