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0E31-5E12-48F9-8380-EABE4D36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6F24-4838-4CBA-9BB1-62687229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A59A-7CF2-4678-BF19-D6787409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3A2-A5D5-429C-A6AD-E6742BEF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57BB-75D3-4736-8D98-D30D2752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629-D9AF-42D3-B70F-067B33E0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EAB-8954-441D-B006-8D080F45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412B-8773-46F1-BB84-B12C5AC8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2A8C-1F2B-4E16-9F47-952CFA74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D6C5-50DB-47A2-9CC1-92F158F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B94-8BC5-4A1A-B906-B4CD1717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479-F8F0-4981-A462-AD0DC406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89AD-17BA-430B-9DA4-F413E9965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Значение грибов не ограничивается только использованием их в пищу. Сапротрофные грибы играют важную роль в круговороте веществ в природе. Разрушая растительные остатки с тем, чтобы добыть необходимые для жизни питательные вещества, сапротрофы возвращают часть этих веществ в почву, делая их доступными для усвоения другими растен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редные 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Многие грибы вредны. Так, плесени вызывают гниение и порчу продуктов, зерна, фруктов, а также тканей. Многие грибы-сапрофиты – активные разрушители древесины. Поселяясь на деревянных частях домов и других построек, на шпалах и столбах, на штабелях лесоматериалов в складах, грибы приводят древесину в полную негод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Pазличные виды головнёвых гpибов поpажают овёс, ячмень, пpосо, кукуpузу, пшеницу и дpугие зла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Помимо зеpна и деpевьев, гpибы-паpазиты живут на каpтофеле, кpыжовнике, яблоках. Так, на зеpновых культуpах живет также гpиб-паpазит споpынья, пpевpащающая здоpовые зеpновки в ядовитые чёpные pо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Все грибковые заболевания pаспpостpаняются быстpо, так как споpы легко пеpеносятся ветp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арство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Грибы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 – это отдельное царство организмов, насчитывающее свыше 80 тысяч видов, различных по образу жизни, строению и внешнему виду. Считается, что всего на Земле полтора миллиона видов гриб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ни выделены в отдельное царство эукарио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ита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личие от растений грибы не имеют хлорофилла и питаются гетеротрофно. С другой стороны, грибы имеют жёсткую клеточную стенку, а большинство из них также, как и растения, не способны передвигать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нообраз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К грибам относятся бесчисленные плесени, дрожжи, паразиты растений и животных. Одни виды мелки, их можно просто не заметить невооружённым глазом, другие же огром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кромиц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Наиболее известны каждому из нас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макромицеты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представляющие собой грибы с шляпками. Это могут быть различные по своему систематическому положению и морфологическим особенностям виды, объединённые наличием плодовых тел достаточно крупных размеров, доступных для наблюдения невооруженным глаз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3010101" descr=""/>
          <p:cNvPicPr/>
          <p:nvPr/>
        </p:nvPicPr>
        <p:blipFill>
          <a:blip r:embed="rId1"/>
          <a:stretch/>
        </p:blipFill>
        <p:spPr>
          <a:xfrm>
            <a:off x="4648320" y="2046240"/>
            <a:ext cx="38098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уппы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реди макрогрибов выделяются групп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апротрофны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арази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мбио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организ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пр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Большинство макромицетов селится на всевозможных растительных остатках – опавшей хвое и листве, на веточках и шишках, стеблях однолетних трав и других элементах лесного опада, в подстилке – это подстилочные сапрофиты. К сапротрофам также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лесени</a:t>
            </a: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 (пеницилл, мукор), селящиеся на почве, хлебе, гниющих фруктах, и дрож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силоф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Другая большая группа – дереворазрушающие макромицеты, ил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ксилофаги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– состоит из видов, которые поселяются на древесине. Многие из них живут за счёт разложения живой древесины – это грибы-паразиты. Паразиты могут жить не только на деревьях, но и на других растениях: так, спорынья поражает рож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03010102" descr=""/>
          <p:cNvPicPr/>
          <p:nvPr/>
        </p:nvPicPr>
        <p:blipFill>
          <a:blip r:embed="rId1"/>
          <a:stretch/>
        </p:blipFill>
        <p:spPr>
          <a:xfrm>
            <a:off x="4648320" y="260496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мби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ироко распространены в природе грибы-симбиотрофы, которые получают необходимые для жизни органические вещества при помощи симбиоза с высшими растениями (микориза или грибокорень). Вероятно, большинство наземных растений способно вступать в такого рода связь с почвенными гриб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0:49:48Z</dcterms:created>
  <dc:creator>Lussia</dc:creator>
  <dc:description/>
  <dc:language>en-US</dc:language>
  <cp:lastModifiedBy>Lussia</cp:lastModifiedBy>
  <dcterms:modified xsi:type="dcterms:W3CDTF">2008-07-30T20:59:58Z</dcterms:modified>
  <cp:revision>6</cp:revision>
  <dc:subject/>
  <dc:title>Грибы</dc:title>
</cp:coreProperties>
</file>