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CCF2-D355-44B7-8374-04804D7D7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5FCA-121C-42F3-81B4-95B13A437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F944-BD11-4057-B7F0-1FA3798E2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81E0-62DE-4CB6-BE4A-5D7833CD7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5361-8486-4126-8C4D-75B733EE0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5241-56A1-4F21-859B-56839D4B8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520A-B3DA-4232-9BBD-BB1DB886F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29C8-B104-4A3E-A0F3-22ACCC3F0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1935-A822-416A-8FD6-4D34DE0FE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0BA3-9DE9-4887-A4F6-8D306FA4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3AC6-21D8-44D7-A378-6F67F295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1D9A-8E4D-4A01-808A-63E6CEE6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127F0-4014-43EF-8A99-435DD92567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Хвойные раст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Декоративны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2c07"/>
                </a:solidFill>
                <a:latin typeface="Tahoma"/>
                <a:ea typeface="Tahoma"/>
              </a:rPr>
              <a:t>Многие хвойные – декоративные раст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1"/>
          <a:stretch/>
        </p:blipFill>
        <p:spPr>
          <a:xfrm>
            <a:off x="4857840" y="1981080"/>
            <a:ext cx="3390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2c07"/>
                </a:solidFill>
                <a:latin typeface="Tahoma"/>
                <a:ea typeface="Tahoma"/>
              </a:rPr>
              <a:t>Самой процветающей сегодня группой голосеменных растений являютс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хвойные</a:t>
            </a:r>
            <a:r>
              <a:rPr b="0" lang="ru-RU" sz="3200" spc="-1" strike="noStrike">
                <a:solidFill>
                  <a:srgbClr val="172c07"/>
                </a:solidFill>
                <a:latin typeface="Tahoma"/>
                <a:ea typeface="Tahoma"/>
              </a:rPr>
              <a:t>, часто выделяемые в отдел </a:t>
            </a:r>
            <a:r>
              <a:rPr b="0" lang="ru-RU" sz="3200" spc="-1" strike="noStrike">
                <a:solidFill>
                  <a:srgbClr val="172c07"/>
                </a:solidFill>
                <a:latin typeface="Tahoma"/>
              </a:rPr>
              <a:t>Кониферофита</a:t>
            </a:r>
            <a:r>
              <a:rPr b="0" lang="ru-RU" sz="3200" spc="-1" strike="noStrike">
                <a:solidFill>
                  <a:srgbClr val="172c07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ечнозелены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2c07"/>
                </a:solidFill>
                <a:latin typeface="Tahoma"/>
                <a:ea typeface="Tahoma"/>
              </a:rPr>
              <a:t>Хвойные – это деревья либо кустарники, обычно вечнозелёные с цельными игловидными листьями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хвоей</a:t>
            </a:r>
            <a:r>
              <a:rPr b="0" lang="en-US" sz="2000" spc="-1" strike="noStrike">
                <a:solidFill>
                  <a:srgbClr val="172c07"/>
                </a:solidFill>
                <a:latin typeface="Tahoma"/>
                <a:ea typeface="Tahoma"/>
              </a:rPr>
              <a:t>); иногда листья чешуевидные или пластинчатые. Небольшая площадь поверхности листа и толстый восковой слой, покрывающий его, способствуют удержанию вод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1" descr=""/>
          <p:cNvPicPr/>
          <p:nvPr/>
        </p:nvPicPr>
        <p:blipFill>
          <a:blip r:embed="rId1"/>
          <a:stretch/>
        </p:blipFill>
        <p:spPr>
          <a:xfrm>
            <a:off x="5033880" y="1981080"/>
            <a:ext cx="3038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Древеси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древесине развита ксилема из трахеид с заметными годичными кольц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которые хвойные достигают высоты 50–60 м и даже 100 м и диаметра 6–9 м (например, секвойя) и живут тысячелетия (сосна долговечная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2" descr=""/>
          <p:cNvPicPr/>
          <p:nvPr/>
        </p:nvPicPr>
        <p:blipFill>
          <a:blip r:embed="rId1"/>
          <a:stretch/>
        </p:blipFill>
        <p:spPr>
          <a:xfrm>
            <a:off x="4822920" y="1981080"/>
            <a:ext cx="3459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Размнож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2c07"/>
                </a:solidFill>
                <a:latin typeface="Tahoma"/>
                <a:ea typeface="Tahoma"/>
              </a:rPr>
              <a:t>Хвойные – большей частью однодомные растения. Пыльца образуется в микроспорангиях, расположенных на микроспорофиллах, иногда собранных в шишках (у сосны обыкновенной – около 5 мм в диаметре); яйцеклетки образуются на мегастробилах, собранных в шишки (у калифорнийской сосны Ламберта их размеры достигают 65 см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плодотвор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2c07"/>
                </a:solidFill>
                <a:latin typeface="Tahoma"/>
                <a:ea typeface="Tahoma"/>
              </a:rPr>
              <a:t>Опыление происходит при помощи ветра. Пыльцевые зёрна прорастают, достигая яйцеклетки; наличие капельножидкой воды для этого не обязательно. После оплодотворения развивается зародыш, имеющий от 2 до 15 семядолей. У сосны оплодотворение происходит через год после опыления, а на созревание требуется ещё полтора год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еме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2c07"/>
                </a:solidFill>
                <a:latin typeface="Tahoma"/>
                <a:ea typeface="Tahoma"/>
              </a:rPr>
              <a:t>Семена развиваются «голыми» – на поверхности семенных чешуй шишек. К моменту созревания чешуйки отгибаются, и семена (нередко крылатые) высыпаются наружу.</a:t>
            </a:r>
            <a:br>
              <a:rPr sz="3200"/>
            </a:br>
            <a:r>
              <a:rPr b="0" lang="en-US" sz="3200" spc="-1" strike="noStrike">
                <a:solidFill>
                  <a:srgbClr val="172c07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Значение в пищевой промышлен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2c07"/>
                </a:solidFill>
                <a:latin typeface="Tahoma"/>
                <a:ea typeface="Tahoma"/>
              </a:rPr>
              <a:t>Семена кедровой сосны и некоторых других хвойных употребляются в пищу, из них добывают масло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3" descr=""/>
          <p:cNvPicPr/>
          <p:nvPr/>
        </p:nvPicPr>
        <p:blipFill>
          <a:blip r:embed="rId1"/>
          <a:stretch/>
        </p:blipFill>
        <p:spPr>
          <a:xfrm>
            <a:off x="4819680" y="1981080"/>
            <a:ext cx="3467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Значение в хозяйств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2c07"/>
                </a:solidFill>
                <a:latin typeface="Tahoma"/>
                <a:ea typeface="Tahoma"/>
              </a:rPr>
              <a:t>Хвойные (ель, сосна, пихта, кедр, тсуга) – важнейший источник древесины и продуктов её переработки – бумаги, канифоли, скипидара, дёгтя, лаков, дубильных вещест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4" descr=""/>
          <p:cNvPicPr/>
          <p:nvPr/>
        </p:nvPicPr>
        <p:blipFill>
          <a:blip r:embed="rId1"/>
          <a:stretch/>
        </p:blipFill>
        <p:spPr>
          <a:xfrm>
            <a:off x="4911840" y="1981080"/>
            <a:ext cx="3282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1:07:18Z</dcterms:created>
  <dc:creator>Lussia</dc:creator>
  <dc:description/>
  <dc:language>en-US</dc:language>
  <cp:lastModifiedBy>Lussia</cp:lastModifiedBy>
  <dcterms:modified xsi:type="dcterms:W3CDTF">2008-07-30T21:18:03Z</dcterms:modified>
  <cp:revision>2</cp:revision>
  <dc:subject/>
  <dc:title>Хвойные растения</dc:title>
</cp:coreProperties>
</file>