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C4A-4AD3-42C1-A131-C07B3153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5BE-90BA-4817-B65C-F4D0164B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048-118A-4C66-B1C1-157AB391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43A-BB4E-497A-AD41-C5DA3F4B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8E83-58BA-4C2C-9DBC-078FF627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249A-0801-4CC0-955B-EB0081CE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249A-C407-4093-850A-678524C7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BB4B-0131-43E7-AD2C-C1A13DC5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35F0-6D3D-4A31-9DCE-D66DBBE0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B579-08A2-4AF7-B287-CAB5D3E2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2F4A-9AC6-4F34-B32E-0472F142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80D-6B0D-40FC-B1FB-DAFA2B43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9789-056A-4D67-8320-2B4A6BAC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ACCB-1BC0-4DBF-BD20-59D70BEA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24CC-D98A-44B0-8911-B934A577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2DB1-B540-4C33-BD34-CF746543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A9FF-7373-4D27-BBD4-307AD87D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49D1-D6F1-4906-BF26-8850F3E0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3E8B-CE80-42B4-A315-2CA160A2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53F6-2FE1-4121-B34A-B75871B7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533-04A3-466E-B98E-C0187DE2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B55-2EC2-4029-B7CD-F05782C7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F04-F5D0-4EFF-8BC8-A49BF526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6EE-4467-4205-89F5-22CB23B5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12E5-9B1A-4CE9-8470-3A8433CD60D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E811-2F95-4D09-AFE3-8EE826E0F63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33600" y="-166680"/>
            <a:ext cx="60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0305" descr=""/>
          <p:cNvPicPr/>
          <p:nvPr/>
        </p:nvPicPr>
        <p:blipFill>
          <a:blip r:embed="rId1"/>
          <a:stretch/>
        </p:blipFill>
        <p:spPr>
          <a:xfrm>
            <a:off x="3998880" y="50760"/>
            <a:ext cx="5005440" cy="666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2760" y="1052640"/>
            <a:ext cx="30016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 ти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перам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о Х.Битструпу, 19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сихология лич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оотношение генетического и социального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анализ З.Фрейда, «конституционная психология» Э.Кречм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социализации, теория научения (Э.Торндайк, Б.Скиннер и др.), теория 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Ж.Пиаже, психодинамические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соци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Биосоциальный подход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ологические предпосылки (тип нервной системы, половые особенности, задатки и т.п.) определяют некоторую предрасположенность к чему-либо, однако социальная среда оказывает важное влияние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лич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933720"/>
            <a:ext cx="2160720" cy="24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не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581360"/>
            <a:ext cx="3024000" cy="115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64000" y="5300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4797360"/>
            <a:ext cx="237636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Генетическое   и   Социальное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2421000"/>
          <a:ext cx="8223480" cy="4317840"/>
        </p:xfrm>
        <a:graphic>
          <a:graphicData uri="http://schemas.openxmlformats.org/drawingml/2006/table">
            <a:tbl>
              <a:tblPr/>
              <a:tblGrid>
                <a:gridCol w="3600720"/>
                <a:gridCol w="4622760"/>
              </a:tblGrid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т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томо-физиологические особенности индивидуума лежащие в основе развития способностей, потенциал индивид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тная реализация потенциала (задатков), динамическое понятие обозначающее индивидуально-психологические особенности проявляющиеся в успешности выполнения какой либо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мен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показателей характеризующих динамические особенности психической деятельности индиви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ость устойчивых индивидуальных особенностей человека обуславливающих типичные способы поведение в определенных жизненных ситуациях и выражающих отношение человека к миру и к самому себ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Феномен человек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3573000"/>
            <a:ext cx="77263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атегория принадлежности к человеческому р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зультат включения в пространство межиндивидуальных связей и может пониматься как относительно устойчивая совокупность психических свой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вторимость, уникальность свойств человека, сочетание всех свойств человека как индивида и как л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4160" y="2565360"/>
            <a:ext cx="6014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умом рождаются, Личностью становя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альность отстаивают. (В.П.Зинченк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Закономерност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 развития лежит вне на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а ближайшего развит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Л.С.Выгот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зитивные пери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личност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.Л.Рубинштейн, К.К.Платон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и и зад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мент и 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психических процессов и состоя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ий опыт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5:54:02Z</dcterms:created>
  <dc:creator>Александр</dc:creator>
  <dc:description/>
  <dc:language>en-US</dc:language>
  <cp:lastModifiedBy>юлий</cp:lastModifiedBy>
  <dcterms:modified xsi:type="dcterms:W3CDTF">2009-11-17T11:37:34Z</dcterms:modified>
  <cp:revision>7</cp:revision>
  <dc:subject/>
  <dc:title>Психология л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10000000000010250600207f5200358026400</vt:lpwstr>
  </property>
</Properties>
</file>