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6B3E-9BB6-4F3F-8974-A3271934C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A8F4-E7D4-42E9-BA8E-55B56493A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3B3A-1396-4C24-93FE-5C2CB093D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ED93-2F8D-49ED-BEAF-191E772C3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B4826-B5A9-4033-9258-355291526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139D1-B592-4E1B-81BB-D8EF52315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F1460-9FC8-4C91-9C64-48250C4CC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C0085-F8B3-4359-AEC5-05313A8E8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D9F73-E87C-45BD-9CEB-F51B5046E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4F2E2-AE95-447D-A6C2-3A7133B85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1257D-6984-4470-A531-5396A84F8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C005-8937-4506-B955-FB0FB89BD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E7392-44CA-46A9-B5FC-DA826FDBB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D18F7-AA24-49DB-8789-A11565AC5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D0421-FD44-46E6-850A-429AAE483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0DCC6-22FF-4FBC-9F85-361A7BA70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64812-14DA-434A-BCDE-AF3177EC2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3E23-2A84-4A6C-AE04-84E3D171C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769F-9009-48EF-B797-6AD5DC8D2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A298-6402-42E3-BD70-F738875A0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44CA-6725-4F90-BDF1-5DC9B8430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0B52-768E-4B6B-8A96-907F70A48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9DCE-DAD7-422A-84F0-84DA394A7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111A-C2DC-4F68-A8BE-7743AEA4A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82D9E-D3D2-4676-B0AE-4A9AC287EBB5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32BDD-9D17-4528-B3D4-1E6E0393252F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533600" y="-166680"/>
            <a:ext cx="6076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0305" descr=""/>
          <p:cNvPicPr/>
          <p:nvPr/>
        </p:nvPicPr>
        <p:blipFill>
          <a:blip r:embed="rId1"/>
          <a:stretch/>
        </p:blipFill>
        <p:spPr>
          <a:xfrm>
            <a:off x="3998880" y="50760"/>
            <a:ext cx="5005440" cy="66643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752760" y="1052640"/>
            <a:ext cx="3001680" cy="18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етыре тип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мперамен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по Х.Битструпу, 196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сихология личности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Соотношение генетического и социального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иогенетическ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сихоанализ З.Фрейда, «конституционная психология» Э.Кречмер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циогенетическ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ория социализации, теория научения (Э.Торндайк, Б.Скиннер и др.), теория ро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сихогенетическ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ория Ж.Пиаже, психодинамические теор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иосоциаль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Биосоциальный подход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8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иологические предпосылки (тип нервной системы, половые особенности, задатки и т.п.) определяют некоторую предрасположенность к чему-либо, однако социальная среда оказывает важное влияние 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азвитие личност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3933720"/>
            <a:ext cx="2160720" cy="2448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енетическ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акто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340000" y="4581360"/>
            <a:ext cx="3024000" cy="1151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циаль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акто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364000" y="5300640"/>
            <a:ext cx="64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12000" y="4797360"/>
            <a:ext cx="2376360" cy="936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звит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ич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Генетическое   и   Социальное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826920" y="2421000"/>
          <a:ext cx="8223480" cy="4317840"/>
        </p:xfrm>
        <a:graphic>
          <a:graphicData uri="http://schemas.openxmlformats.org/drawingml/2006/table">
            <a:tbl>
              <a:tblPr/>
              <a:tblGrid>
                <a:gridCol w="3600720"/>
                <a:gridCol w="4622760"/>
              </a:tblGrid>
              <a:tr h="216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датки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атомо-физиологические особенности индивидуума лежащие в основе развития способностей, потенциал индивида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особ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кретная реализация потенциала (задатков), динамическое понятие обозначающее индивидуально-психологические особенности проявляющиеся в успешности выполнения какой либо деятельност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мперамент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стема показателей характеризующих динамические особенности психической деятельности индивид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аракте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вокупность устойчивых индивидуальных особенностей человека обуславливающих типичные способы поведение в определенных жизненных ситуациях и выражающих отношение человека к миру и к самому себ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Феномен человека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71640" y="3573000"/>
            <a:ext cx="772632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ндивид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категория принадлежности к человеческому род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ичност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результат включения в пространство межиндивидуальных связей и может пониматься как относительно устойчивая совокупность психических свойст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ндивидуальность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повторимость, уникальность свойств человека, сочетание всех свойств человека как индивида и как личн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774160" y="2565360"/>
            <a:ext cx="601452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Индивидуумом рождаются, Личностью становятс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Индивидуальность отстаивают. (В.П.Зинченко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Закономерности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1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точник развития лежит вне нас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она ближайшего развития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Л.С.Выготский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ензитивные пери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руктура личности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С.Л.Рубинштейн, К.К.Платонов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правлен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мосозн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особности и задат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мперамент и характ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обенности психических процессов и состоя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сихологический опыт лич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2T05:54:02Z</dcterms:created>
  <dc:creator>Александр</dc:creator>
  <dc:description/>
  <dc:language>en-US</dc:language>
  <cp:lastModifiedBy>юлий</cp:lastModifiedBy>
  <dcterms:modified xsi:type="dcterms:W3CDTF">2009-11-17T11:37:34Z</dcterms:modified>
  <cp:revision>7</cp:revision>
  <dc:subject/>
  <dc:title>Психология личност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c010000000000010250600207f5200358026400</vt:lpwstr>
  </property>
</Properties>
</file>