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F8DC-F42C-4CA7-895B-F0F85703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345-DE18-4A7E-8E87-4CD2C21E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906D-3E27-4ACA-862B-754CE8D3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D000-4979-47C2-A0CB-F972EB8A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2064-FD0B-40EC-9CAD-7F71AD7E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C97A-A41D-4768-AD00-0B40E534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560A-2663-4D0F-A521-EECFC90C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FD80-092C-4965-B080-2EA7C23E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9E4B-B6D7-498E-A0AB-FD85D302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2EAC-FA32-4FE9-B379-2F9E9EDB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1AAF-D148-483D-8070-ABCAC2FA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4F4D-40AA-4328-887F-B06801FA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CAB8-8B5A-469A-8AED-2A1AED71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64DC-1024-47F9-8FDC-30DEC31D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047C-9475-497C-93FA-AB72D37B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C33F-8E96-49EB-AACF-31697717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03EA-DED9-47F3-A77F-F74BAB5B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73CF-6872-4C3C-AD27-7C1D79EC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2A03-2FF4-41C8-820E-BB46DF4C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097-AC52-4D47-A61A-614E9D0C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9BB-E7BA-49A7-916E-FDA66D75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8D70-39E9-4B1D-97FD-FCF27F6D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AA6-2419-44EE-8F3A-725483BA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A510-DC17-41BC-8F33-0CFF8DAB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85DF-B77C-4ECD-A9D0-4F282CF1CE9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7C33-C247-4C01-B588-409017E2CFD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33600" y="-166680"/>
            <a:ext cx="60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0305" descr=""/>
          <p:cNvPicPr/>
          <p:nvPr/>
        </p:nvPicPr>
        <p:blipFill>
          <a:blip r:embed="rId1"/>
          <a:stretch/>
        </p:blipFill>
        <p:spPr>
          <a:xfrm>
            <a:off x="3998880" y="50760"/>
            <a:ext cx="5005440" cy="666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2760" y="1052640"/>
            <a:ext cx="30016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 ти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пераме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о Х.Битструпу, 19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сихология лич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оотношение генетического и социального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анализ З.Фрейда, «конституционная психология» Э.Кречм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социализации, теория научения (Э.Торндайк, Б.Скиннер и др.), теория 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Ж.Пиаже, психодинамические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соци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Биосоциальный подход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ологические предпосылки (тип нервной системы, половые особенности, задатки и т.п.) определяют некоторую предрасположенность к чему-либо, однако социальная среда оказывает важное влияние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лич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933720"/>
            <a:ext cx="2160720" cy="244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не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581360"/>
            <a:ext cx="3024000" cy="115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64000" y="5300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4797360"/>
            <a:ext cx="237636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Генетическое   и   Социальное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2421000"/>
          <a:ext cx="8223480" cy="4317840"/>
        </p:xfrm>
        <a:graphic>
          <a:graphicData uri="http://schemas.openxmlformats.org/drawingml/2006/table">
            <a:tbl>
              <a:tblPr/>
              <a:tblGrid>
                <a:gridCol w="3600720"/>
                <a:gridCol w="4622760"/>
              </a:tblGrid>
              <a:tr h="21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т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томо-физиологические особенности индивидуума лежащие в основе развития способностей, потенциал индивид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тная реализация потенциала (задатков), динамическое понятие обозначающее индивидуально-психологические особенности проявляющиеся в успешности выполнения какой либо деяте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мен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показателей характеризующих динамические особенности психической деятельности индиви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окупность устойчивых индивидуальных особенностей человека обуславливающих типичные способы поведение в определенных жизненных ситуациях и выражающих отношение человека к миру и к самому себ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Феномен человек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3573000"/>
            <a:ext cx="77263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атегория принадлежности к человеческому р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зультат включения в пространство межиндивидуальных связей и может пониматься как относительно устойчивая совокупность психических свой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вторимость, уникальность свойств человека, сочетание всех свойств человека как индивида и как ли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4160" y="2565360"/>
            <a:ext cx="6014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дивидуумом рождаются, Личностью становя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дивидуальность отстаивают. (В.П.Зинченк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Закономерност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 развития лежит вне на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на ближайшего развит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Л.С.Выгот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зитивные пери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личност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.Л.Рубинштейн, К.К.Платон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и и зад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мент и 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психических процессов и состоя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ий опыт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5:54:02Z</dcterms:created>
  <dc:creator>Александр</dc:creator>
  <dc:description/>
  <dc:language>en-US</dc:language>
  <cp:lastModifiedBy>юлий</cp:lastModifiedBy>
  <dcterms:modified xsi:type="dcterms:W3CDTF">2009-11-17T11:37:34Z</dcterms:modified>
  <cp:revision>7</cp:revision>
  <dc:subject/>
  <dc:title>Психология лич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10000000000010250600207f5200358026400</vt:lpwstr>
  </property>
</Properties>
</file>