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C4158-E01E-4A6D-8E71-C64B37E5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2CCC8-DE3A-4F7A-8BC9-4EBD6A81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D8DA7-A862-4DD2-A54D-37DAD7C8C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0BF2E-000F-4EBE-A601-F0F24EBEF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A20DF-DB8F-42FB-AC89-6BB7E2960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64D-E851-4F2E-B700-ED769462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038C-178B-4904-AD6B-7C6D49A3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E19C0-85B4-42F0-B92F-7D7288A5E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E3308-0CB4-4CDA-BC70-C51EE3B6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4C84-C97A-49F0-B500-C943C4E9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D9BB9-D74C-42DD-B760-A3E128D5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95EE6-C837-44EC-96CE-05F4D9B0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A9356-AF2E-435E-B3F3-BBB92C2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64F9D-AE19-4DA8-8B0A-BF0755F7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AC4A-44EA-463C-B934-1332328C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48EF-1D71-4529-8705-6DF84113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C0DF-85D2-46B1-B728-F945FCF9B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58691-3B64-4D2E-8C0A-957410A5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59584-51A9-4F9D-9504-25E496F4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A294B-1B97-4411-88FC-44A707E8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7FCA9-D53C-4191-9C50-237848F5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74983-5941-4947-AFFE-F42C36BF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B603-53EE-46D5-B0FF-0C0FD692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F9004-5D70-46AE-A9EC-257CED9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046DC-FA4B-4CBE-9E1E-A9F47BF508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F3B8-55F9-49D6-97BE-0C5E5D21085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Небольшое исследование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Заполните, на сколько процентов интеллект (100) состоит из усилий и способносте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теллект =__% усили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+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Феномен выученной беспомощ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кошках, рыбах, мышах, крысах, тараканах и обезъянах примата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 на человеке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ы Дональда Хирото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и группы, вместо удара током неприятный шу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торая часть – возможно действова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/3 людей (и животных) продолжает пыта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Зависимости (случайность или тест на способност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окус контроля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переживания неблагоприятных событ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пыт наблюдения беспомощных модел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тсутствие самостоятельности в детств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казывается что ВБ формируется у ребенка уже к 8 годам и является относительно стабильной (Селигман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следование Г.Феррари – 71% новостей приводят к формированию В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Так ли все плохо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се дело в стиле объяснения  - что Вы говорите о неудачах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ессимистическ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ически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 депресс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2017800"/>
          <a:ext cx="7767720" cy="3568680"/>
        </p:xfrm>
        <a:graphic>
          <a:graphicData uri="http://schemas.openxmlformats.org/drawingml/2006/table">
            <a:tbl>
              <a:tblPr/>
              <a:tblGrid>
                <a:gridCol w="2586240"/>
                <a:gridCol w="2590920"/>
                <a:gridCol w="2590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стоя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конченный челове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ечно ворчиш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-настоящий придур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талан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сегда счастли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никуда не годит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ремен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дохс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чальник в плохом настроен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ворчишь, если я не уберу свою комнату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о мой счастливый ден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тараюсь из всех си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соперник уста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2600" y="2017800"/>
          <a:ext cx="7772400" cy="4170240"/>
        </p:xfrm>
        <a:graphic>
          <a:graphicData uri="http://schemas.openxmlformats.org/drawingml/2006/table">
            <a:tbl>
              <a:tblPr/>
              <a:tblGrid>
                <a:gridCol w="2587680"/>
                <a:gridCol w="2592360"/>
                <a:gridCol w="2592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5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онкрет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офессор Х пристраст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ьна для нег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та книга бесполез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соображаю в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на считала меня обаятельны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сведущ в нефтячных дел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ниверса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се преподаватели пристраст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твратителен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Книги бесполезн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чень сообразитель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обаятельн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ой маклер знает рыно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яснение к стилям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457200" y="1600200"/>
          <a:ext cx="8229240" cy="4250880"/>
        </p:xfrm>
        <a:graphic>
          <a:graphicData uri="http://schemas.openxmlformats.org/drawingml/2006/table">
            <a:tbl>
              <a:tblPr/>
              <a:tblGrid>
                <a:gridCol w="2739600"/>
                <a:gridCol w="2745000"/>
                <a:gridCol w="2744640"/>
              </a:tblGrid>
              <a:tr h="43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сс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тимистич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утрен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У меня нет таланта к математи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человек ненадежн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умею пользоваться везение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мастер своего дел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нешн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ы глупы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е везет мне в карта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Я выросла в бедност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овезл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астерство моих товарищей по команд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Итого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 более успешны в профессиональном плане (исследование на материале 30 профессий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тимисты имеют более высокий уровень здоровья (даже если заболеют раком то живут дольше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Можно ли научиться оптимизму? Д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Результаты исследован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теллект = __% усилий +__% способносте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и мотивации и интеллект (Керол Двек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ория задан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быльная теор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тоге разная стратегия поведения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e5e5ff"/>
                </a:solidFill>
                <a:latin typeface="Garamond"/>
              </a:rPr>
              <a:t>Психология мотивации</a:t>
            </a:r>
            <a:endParaRPr b="1" lang="en-US" sz="4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"/>
          <p:cNvSpPr/>
          <p:nvPr/>
        </p:nvSpPr>
        <p:spPr>
          <a:xfrm>
            <a:off x="3564000" y="260280"/>
            <a:ext cx="5375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У Вас могут быть все таланты мира, но без мощного побуждения они практически бесполез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П.Стол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воспринимаемого контроля (Эллен Скиннер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Еще один эксперимент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970 год. Дом для престарелых. По договоренности с администрацией создаются два вида экспериментальных условий. В обоих случаях для этого проводится собрание группы и администрация сообщает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 группа «Наша обязанность сделать все что в наших силах, чтобы вы могли гордиться пребываем здесь  и быть счастливы. Были вручены цветы, за которыми должны ухаживать медсестры, сказано по каким дням будут показывать фильмы и т.д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 группа «Наша обязанность сделать все, но от вас тоже требуется и подчеркивалась возможность влиять на обстановку, чувствовать ответственность за свою жизнь, решать самим как проводить время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оспринимаемый контрол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щущение контроля – двигатель человека (например, описание поведения в концлагерях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Инициати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Люди, которые могут выбирать чувствуют себя более счастлив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еятельностный подход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ятель – Средство – Результа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илия, способности, удач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я о возможност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контролируем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едставление о стратегиях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Самоэффективность (Альберт 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ждение людей о своих способностях организовать и выполнить цепь действий, требуемой для достижения определенного результа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) Люди избегают ситуаций с которыми по их убеждению не могут справитьс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) Принимают участие в таких действиях в которых увере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Источники самоэффективности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жения в выполнении деятельности (самоинструктирование, участие в моделировнии, воздействие извне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Чужой опы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ербальное убеждение (самовнушение, увещевание и т.д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изиологическое и эмоциональное убеждение (релаксация, атрибутивный треннинг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. Эксперимент – Они могут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Целеполагание – важный фактор самоэффективности (А.Бандура)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нкретные и яс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ксимальные (ближние = здесь и сейчас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Трудновыполнимыми (но достижимы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стоятельно определенны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остепенными (прирастающими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Теория самодетерминации Деси и Рай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утренняя (награды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нешняя (компетентность, автономность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5280" y="1557360"/>
            <a:ext cx="8353440" cy="460836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рамида Масло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ыраж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знание и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амоутвержде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3284640"/>
            <a:ext cx="3097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0920" y="4365720"/>
            <a:ext cx="5042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5013360"/>
            <a:ext cx="6264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5516640"/>
            <a:ext cx="7200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Альдерфер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амовыраж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знание и самоутверждени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Принадлежность и причаст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езопасност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изиологические потребност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1773360"/>
            <a:ext cx="3311280" cy="576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292720" y="2420640"/>
            <a:ext cx="12952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92720" y="2852640"/>
            <a:ext cx="1295280" cy="863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378936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2627280" y="3860280"/>
            <a:ext cx="3960720" cy="792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627280" y="4724280"/>
            <a:ext cx="3889440" cy="505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219640" y="5229000"/>
            <a:ext cx="1297080" cy="36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3960" y="2133720"/>
            <a:ext cx="9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78280" y="4975200"/>
            <a:ext cx="2628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Garamond"/>
              </a:rPr>
              <a:t>СУЩЕСТВОВАНИ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46320" y="357336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ВЯЗ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250920" y="1341000"/>
            <a:ext cx="0" cy="431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20" y="1157400"/>
            <a:ext cx="37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Удовлетворение потребност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9240" y="609300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Процесс фруст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4000" y="1773360"/>
            <a:ext cx="0" cy="46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еория Герцбер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удовлетворенно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"/>
          <p:cNvSpPr/>
          <p:nvPr/>
        </p:nvSpPr>
        <p:spPr>
          <a:xfrm>
            <a:off x="911160" y="3313080"/>
            <a:ext cx="734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982440" y="4681440"/>
            <a:ext cx="727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4360" y="1589040"/>
            <a:ext cx="353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МОТИВИРУЮЩИЕ ФАКТ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80920" y="5373720"/>
            <a:ext cx="25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ФАКТОРЫ ЗДОРОВЬ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4 дворняжки  от 37 до 48 см в холке и весом от 11,5 до 13 кг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ри группы по восемь соба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ервой группе  - нажатие на панель носом отменяет удар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 второй группе они получали эл.ток когда его получала собака из первой групп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третьей группе собаки не получали ударов током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Через 24 часа второй этап эксперимент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89000"/>
            <a:ext cx="77932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5e5ff"/>
                </a:solidFill>
                <a:latin typeface="Garamond"/>
              </a:rPr>
              <a:t>Эксперимент Мартина Селигма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78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03640" y="3284640"/>
            <a:ext cx="144360" cy="144360"/>
          </a:xfrm>
          <a:prstGeom prst="ellipse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3357720"/>
            <a:ext cx="129564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092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860640"/>
            <a:ext cx="64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7492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72360" y="3357720"/>
            <a:ext cx="1295280" cy="7920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0000" y="335772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516720" y="3500280"/>
            <a:ext cx="252360" cy="433440"/>
          </a:xfrm>
          <a:custGeom>
            <a:avLst/>
            <a:gdLst/>
            <a:ahLst/>
            <a:rect l="l" t="t" r="r" b="b"/>
            <a:pathLst>
              <a:path w="159" h="273">
                <a:moveTo>
                  <a:pt x="90" y="0"/>
                </a:moveTo>
                <a:lnTo>
                  <a:pt x="0" y="136"/>
                </a:lnTo>
                <a:lnTo>
                  <a:pt x="129" y="84"/>
                </a:lnTo>
                <a:lnTo>
                  <a:pt x="90" y="273"/>
                </a:lnTo>
                <a:lnTo>
                  <a:pt x="159" y="39"/>
                </a:lnTo>
                <a:lnTo>
                  <a:pt x="84" y="69"/>
                </a:lnTo>
                <a:lnTo>
                  <a:pt x="90" y="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7840" y="2924280"/>
            <a:ext cx="61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с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979640" y="4941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332000" y="46530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 каждым животным опыт повторялся 10 ра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Среднее время воздействия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03280" y="1992240"/>
            <a:ext cx="7345440" cy="41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5e5ff"/>
                </a:solidFill>
                <a:latin typeface="Garamond"/>
              </a:rPr>
              <a:t>Количество животных которые не делали попыток спастись</a:t>
            </a:r>
            <a:endParaRPr b="1" lang="en-US" sz="3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61880" y="1636560"/>
            <a:ext cx="8159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4:07:15Z</dcterms:created>
  <dc:creator>Porshnev</dc:creator>
  <dc:description/>
  <dc:language>en-US</dc:language>
  <cp:lastModifiedBy>юлий</cp:lastModifiedBy>
  <dcterms:modified xsi:type="dcterms:W3CDTF">2009-11-17T11:39:28Z</dcterms:modified>
  <cp:revision>7</cp:revision>
  <dc:subject/>
  <dc:title>Психология мотив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c010000000000010250600207f5200358026400</vt:lpwstr>
  </property>
</Properties>
</file>