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6E82-D208-4ECA-9ED8-523150A6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B62E-C457-4EE1-8A08-FA5FC527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109C-0CD3-453E-8FD5-94A73A25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ADD5-62BB-4F4C-A850-ACC70012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9AB8-7ECB-4935-9F63-D08712A3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C778-237D-4152-898F-9A13997B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64A4-FD46-4F44-90C1-31A37EE6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EF2F-BFF0-4946-8193-5800323C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5F50-5EE3-4B44-BE08-E6E44C04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01D8-169E-4081-86C6-D4E3616C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3963-633A-4EE8-9D48-B6852852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E379-B9AC-4F07-BEF0-EB6709B2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7561-F4D2-4EB4-84B6-6E938855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499D-9F4A-4455-964A-F18EF12E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0F8A-925C-4C9B-B681-74228CC5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3085-1979-43DE-8F70-3F04F726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313C-12B2-4723-A283-0F0E6FBA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0F936-D538-4066-AC9E-69B73835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B931-0E30-4529-BA6A-8A341331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603B-F955-4629-BE36-0BD68841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EA24-08D0-4ED6-B9F6-797029E9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636A-52B4-42A5-AC31-79E735C8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299DC-2CCA-4BF4-BD19-32CDB38E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EE4C-D7A5-4542-85C9-751D95D0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72AA-48EC-409E-8C7E-AF4AFF62DE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F9AB-2F9D-4897-BD19-4FEE941C79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Небольшое исследование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Заполните, на сколько процентов интеллект (100) состоит из усилий и спосо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ллект =__% усили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Феномен выученной беспомощ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кошках, рыбах, мышах, крысах, тараканах и обезъянах прима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а человек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ы Дональда Хирото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и группы, вместо удара током неприятный шу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торая часть – возможно действов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 людей (и животных) продолжает пыта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висимости (случайность или тест на способност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окус контрол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переживания неблагоприятных событ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наблюдения беспомощных мод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сутствие самостоятельности в дет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ывается что ВБ формируется у ребенка уже к 8 годам и является относительно стабильной (Селигм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ние Г.Феррари – 71% новостей приводят к формированию В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 ли все плох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дело в стиле объяснения  - что Вы говорите о неудач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ссимистическ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депресс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2017800"/>
          <a:ext cx="7767720" cy="3568680"/>
        </p:xfrm>
        <a:graphic>
          <a:graphicData uri="http://schemas.openxmlformats.org/drawingml/2006/table">
            <a:tbl>
              <a:tblPr/>
              <a:tblGrid>
                <a:gridCol w="258624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оя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конченный челов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ечно ворчи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-настоящий придур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талан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сегда счас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никуда не год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до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 в плохом настро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орчишь, если я не уберу свою комна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о мой счастливы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тараюсь из всех с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уст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2600" y="2017800"/>
          <a:ext cx="7772400" cy="4170240"/>
        </p:xfrm>
        <a:graphic>
          <a:graphicData uri="http://schemas.openxmlformats.org/drawingml/2006/table">
            <a:tbl>
              <a:tblPr/>
              <a:tblGrid>
                <a:gridCol w="258768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кр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фессор Х пристраст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ьна для н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 книга бесполез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оображаю в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на считала меня обаятель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сведущ в нефтячных де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ниверс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 преподаватели пристраст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ниги бесполез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чень сообраз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баятель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знает ры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4250880"/>
        </p:xfrm>
        <a:graphic>
          <a:graphicData uri="http://schemas.openxmlformats.org/drawingml/2006/table">
            <a:tbl>
              <a:tblPr/>
              <a:tblGrid>
                <a:gridCol w="2739600"/>
                <a:gridCol w="2745000"/>
                <a:gridCol w="27446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меня нет таланта к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человек ненаде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умею пользоваться везени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мастер своего де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ш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везет мне в кар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росла в бед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вез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терство моих товарищей по коман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тог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 более успешны в профессиональном плане (исследование на материале 30 професс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имеют более высокий уровень здоровья (даже если заболеют раком то живут доль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жно ли научиться оптимизму?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Результаты исследован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ллект = __% усилий +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и мотивации и интеллект (Керол Двек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ория за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ыльная 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тоге разная стратегия поведен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5e5ff"/>
                </a:solidFill>
                <a:latin typeface="Garamond"/>
              </a:rPr>
              <a:t>Психология мотивации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0280"/>
            <a:ext cx="537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 Вас могут быть все таланты мира, но без мощного побуждения они практически бесполез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.Стол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воспринимаемого контроля (Эллен Скиннер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Еще один эксперимен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 год. Дом для престарелых. По договоренности с администрацией создаются два вида экспериментальных условий. В обоих случаях для этого проводится собрание группы и администрация сообщае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группа «Наша обязанность сделать все что в наших силах, чтобы вы могли гордиться пребываем здесь  и быть счастливы. Были вручены цветы, за которыми должны ухаживать медсестры, сказано по каким дням будут показывать фильмы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группа «Наша обязанность сделать все, но от вас тоже требуется и подчеркивалась возможность влиять на обстановку, чувствовать ответственность за свою жизнь, решать самим как проводить врем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ринимаемый контр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щущение контроля – двигатель человека (например, описание поведения в концлагерях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ициа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, которые могут выбирать чувствуют себя более счастлив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ятельностный подх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ятель – Средство – Результ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илия, способности, у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я о возможност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контролируем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стратег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Самоэффективность (Альберт 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ждение людей о своих способностях организовать и выполнить цепь действий, требуемой для достижения определенного результ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юди избегают ситуаций с которыми по их убеждению не могут справ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Принимают участие в таких действиях в которых увере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Источники самоэффектив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ожения в выполнении деятельности (самоинструктирование, участие в моделировнии, воздействие извн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жой опы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бальное убеждение (самовнушение, увещевание и т.д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зиологическое и эмоциональное убеждение (релаксация, атрибутивный треннинг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. Эксперимент – Они могу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Целеполагание – важный фактор самоэффективности (А.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кретные и яс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ксимальные (ближние = здесь и сейч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дновыполнимыми (но достижимы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стоятельно определенн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епенными (прирастающ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самодетерминации Деси и Рай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утренняя (наград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ешняя (компетентность, автономност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557360"/>
            <a:ext cx="8353440" cy="46083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рамида Масло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нание 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утверж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28464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365720"/>
            <a:ext cx="50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501336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516640"/>
            <a:ext cx="720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Альдерф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амовыра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знание и самоутверж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773360"/>
            <a:ext cx="3311280" cy="57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242064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852640"/>
            <a:ext cx="129528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789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27280" y="3860280"/>
            <a:ext cx="3960720" cy="7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4724280"/>
            <a:ext cx="3889440" cy="5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19640" y="522900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3960" y="213372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280" y="4975200"/>
            <a:ext cx="262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aramond"/>
              </a:rPr>
              <a:t>СУЩЕСТВОВАНИ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6320" y="3573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0920" y="134100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20" y="115740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довлетворение потре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60930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цесс фру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773360"/>
            <a:ext cx="0" cy="46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Герцбер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3313080"/>
            <a:ext cx="734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82440" y="468144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360" y="158904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ТИВИРУЮЩИЕ 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920" y="53737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АКТОРЫ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4 дворняжки  от 37 до 48 см в холке и весом от 11,5 до 13 к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 группы по восемь соб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ервой группе  - нажатие на панель носом отменяет удар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 второй группе они получали эл.ток когда его получала собака из первой групп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ретьей группе собаки не получали ударов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рез 24 часа второй этап эксперим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28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860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492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3357720"/>
            <a:ext cx="12952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350028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90" y="0"/>
                </a:moveTo>
                <a:lnTo>
                  <a:pt x="0" y="136"/>
                </a:lnTo>
                <a:lnTo>
                  <a:pt x="129" y="84"/>
                </a:lnTo>
                <a:lnTo>
                  <a:pt x="90" y="273"/>
                </a:lnTo>
                <a:lnTo>
                  <a:pt x="159" y="39"/>
                </a:lnTo>
                <a:lnTo>
                  <a:pt x="84" y="69"/>
                </a:lnTo>
                <a:lnTo>
                  <a:pt x="9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784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653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каждым животным опыт повторялся 10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Среднее время воздейств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992240"/>
            <a:ext cx="734544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Количество животных которые не делали попыток спастись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880" y="1636560"/>
            <a:ext cx="8159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07:15Z</dcterms:created>
  <dc:creator>Porshnev</dc:creator>
  <dc:description/>
  <dc:language>en-US</dc:language>
  <cp:lastModifiedBy>юлий</cp:lastModifiedBy>
  <dcterms:modified xsi:type="dcterms:W3CDTF">2009-11-17T11:39:28Z</dcterms:modified>
  <cp:revision>7</cp:revision>
  <dc:subject/>
  <dc:title>Психология мотив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10000000000010250600207f5200358026400</vt:lpwstr>
  </property>
</Properties>
</file>