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0FD1-E6BF-420E-805C-4DDE2E6F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BC92-FE25-4B3C-A158-FB5D5404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018D-59A9-4077-95F3-6A84C485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3A97-26A8-49C7-9066-1EBFDF34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595-4F54-4B43-9D9E-E4A92F64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8C6A-4950-422B-AE07-708F285B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442E-DA53-47AF-A116-B948B434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4335-CA1D-498C-9887-D3218233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39E3-FCF3-4719-A186-06BF725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CB62-77D1-47DB-9AE9-0B464A7D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A748-3532-4D7B-A66E-3C0B2114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3C31-3675-4558-8173-62DBC1F1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A947-C938-4DC6-9592-A43964D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6170-1C2C-40C9-A49B-5F5BF61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38B2-5428-4C0E-996B-9B592FB3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2528-897D-466F-AD0C-11504919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8809-3FBD-4453-A9D1-8FA18134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3E4B-B304-4B8C-A186-591752C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E479-7231-44B6-A7FC-0D67887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E540-E8E8-4AB7-9C7F-03663C8F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219C-8F49-4950-8D63-B341EFD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E1DB-42AA-4C9B-8B4F-0D5BD6FD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98AB-8525-4316-A69C-9313D7E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C31D-EA87-47EC-B25C-81B13953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D2A1-4BD0-4F34-9C04-102A055679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BE9-09B3-49EB-AE89-0A4D63686B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424160"/>
            <a:ext cx="6019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Психологическая регуляция поведения и деятельности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3400" spc="-1" strike="noStrike">
                <a:solidFill>
                  <a:srgbClr val="cc0000"/>
                </a:solidFill>
                <a:latin typeface="Arial"/>
              </a:rPr>
              <a:t>–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Эмоциональные</a:t>
            </a:r>
            <a:r>
              <a:rPr b="0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i="1" lang="ru-RU" sz="3400" spc="-1" strike="noStrike" u="sng">
                <a:solidFill>
                  <a:srgbClr val="cc0000"/>
                </a:solidFill>
                <a:uFillTx/>
                <a:latin typeface="Arial"/>
              </a:rPr>
              <a:t>явл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Процессы внутренней регуляции поведения и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цели</a:t>
            </a: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) </a:t>
            </a:r>
            <a:r>
              <a:rPr b="0" lang="ru-RU" sz="3600" spc="-1" strike="noStrike" u="sng">
                <a:solidFill>
                  <a:srgbClr val="666699"/>
                </a:solidFill>
                <a:uFillTx/>
                <a:latin typeface="Arial"/>
              </a:rPr>
              <a:t>Оценка результата по отношению к потребности – выражение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реакция на какое-то воздейств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Эмоция – это внутренняя работа. Работа печали З. Фрей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1) Знак (+/-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2) Формально-динамические характеристики – интенсивность, дл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(аффекты - собственно эмоции – чувства /А.Н. Леонтьев/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) Модальность – качественное своеобразие пережи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спокоение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Удоволь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Неудоволь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.Вунд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3059280" y="4581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2050560" y="4581360"/>
            <a:ext cx="1008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3059280" y="335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4) Базовые (первичные) – производные (вторичные) (Плачик, Изар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Критерии: четкий нервный субстрат, мимика, отчетливо осознанное переживание, имеет адаптационное значение, рано формиру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эмоциональных яв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Базовые эмоции по </a:t>
            </a: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(Plutchik, 196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Радость – Печ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ринятие – Отвра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Гнев – Ст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жидание - Уди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Физиологический стресс (Г. Селье) – неспецифический ответ организма на предъявляемое сильное и опасное воздействие – Общий адаптационный синд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99"/>
                </a:solidFill>
                <a:latin typeface="Arial"/>
              </a:rPr>
              <a:t>Фазы стресса – А) Фаза тревоги, Б) Фаза сопротивления,  В) Фаза исто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обенности психологического стрес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Информационный стрес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ПТС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Фрустрация – комплекс эмоциональных реакций в условиях недостижимой цели или неудовлетворения потреб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Ситуации: Лишения, Потери, Конфликт (по Розенцвейг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download"/>
          <p:cNvPicPr/>
          <p:nvPr/>
        </p:nvPicPr>
        <p:blipFill>
          <a:blip r:embed="rId1"/>
          <a:stretch/>
        </p:blipFill>
        <p:spPr>
          <a:xfrm>
            <a:off x="611280" y="2781360"/>
            <a:ext cx="2089080" cy="264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963705"/>
          <p:cNvPicPr/>
          <p:nvPr/>
        </p:nvPicPr>
        <p:blipFill>
          <a:blip r:embed="rId2"/>
          <a:stretch/>
        </p:blipFill>
        <p:spPr>
          <a:xfrm>
            <a:off x="4284720" y="2421000"/>
            <a:ext cx="34002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га – состояние: 1) Реакция на опасность, 2) которая угрожает «ядру» личности, + 3) ощущение беспомощ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Тревожность – личностная черта - ощущение неопределенной угрозы; чувство диффузного опасения и тревожн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вротическая трев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Эмоциональные)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Эмпа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ыть в состоянии эмпатии – значит воспринимать внутренний мир другого со всеми эмоциональными и смысловыми оттенками. Но без потери ощущения «как будт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(К. Роджер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i?id=21885283&amp;tov=7"/>
          <p:cNvPicPr/>
          <p:nvPr/>
        </p:nvPicPr>
        <p:blipFill>
          <a:blip r:embed="rId1"/>
          <a:stretch/>
        </p:blipFill>
        <p:spPr>
          <a:xfrm>
            <a:off x="1619280" y="256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_8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н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gnev_2"/>
          <p:cNvPicPr/>
          <p:nvPr/>
        </p:nvPicPr>
        <p:blipFill>
          <a:blip r:embed="rId1"/>
          <a:stretch/>
        </p:blipFill>
        <p:spPr>
          <a:xfrm>
            <a:off x="539640" y="2781360"/>
            <a:ext cx="2381400" cy="361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?id=30558465&amp;tov=7"/>
          <p:cNvPicPr/>
          <p:nvPr/>
        </p:nvPicPr>
        <p:blipFill>
          <a:blip r:embed="rId2"/>
          <a:stretch/>
        </p:blipFill>
        <p:spPr>
          <a:xfrm>
            <a:off x="3492360" y="2997360"/>
            <a:ext cx="2664000" cy="20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?id=20998009&amp;tov=8"/>
          <p:cNvPicPr/>
          <p:nvPr/>
        </p:nvPicPr>
        <p:blipFill>
          <a:blip r:embed="rId3"/>
          <a:stretch/>
        </p:blipFill>
        <p:spPr>
          <a:xfrm>
            <a:off x="6732720" y="3213000"/>
            <a:ext cx="15843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ив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Удивление"/>
          <p:cNvPicPr/>
          <p:nvPr/>
        </p:nvPicPr>
        <p:blipFill>
          <a:blip r:embed="rId1"/>
          <a:stretch/>
        </p:blipFill>
        <p:spPr>
          <a:xfrm>
            <a:off x="3203640" y="2852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юблен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di-Portret-Margariti"/>
          <p:cNvPicPr/>
          <p:nvPr/>
        </p:nvPicPr>
        <p:blipFill>
          <a:blip r:embed="rId1"/>
          <a:stretch/>
        </p:blipFill>
        <p:spPr>
          <a:xfrm>
            <a:off x="3492360" y="2276640"/>
            <a:ext cx="2519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Откуда мы знаем о своих собственных эмоциональных состояни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А о чуж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"/>
              </a:rPr>
              <a:t>Есть ли эмоции у детей, животных, компьютеров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3 компонента эмо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Субъективный то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Поведенческие проявл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Arial"/>
              </a:rPr>
              <a:t>Физиологические процес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ональ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евая экспрессия (мим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_1684187762_1921956600"/>
          <p:cNvPicPr/>
          <p:nvPr/>
        </p:nvPicPr>
        <p:blipFill>
          <a:blip r:embed="rId1"/>
          <a:stretch/>
        </p:blipFill>
        <p:spPr>
          <a:xfrm>
            <a:off x="2700360" y="2852640"/>
            <a:ext cx="3095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3:07:53Z</dcterms:created>
  <dc:creator>User</dc:creator>
  <dc:description/>
  <dc:language>en-US</dc:language>
  <cp:lastModifiedBy>User</cp:lastModifiedBy>
  <dcterms:modified xsi:type="dcterms:W3CDTF">2010-05-26T16:03:39Z</dcterms:modified>
  <cp:revision>32</cp:revision>
  <dc:subject/>
  <dc:title>Тема 7 Лекц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