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48D6-DB4D-4999-BD59-3C5F4277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8479-5B81-40D7-8FE4-26A263E1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8FC6-63FD-4752-8C81-3A46C3F8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79925-49AD-419E-8886-344D765A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7543-6A11-47F9-9506-BB7940A2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DE08-59BA-4AD1-B595-3A0B38B1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9FA1-E5C9-4C60-9DC0-396FC2A1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F25D-990B-4393-9838-F2841803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0853-2F53-431D-A46E-E97B4E2B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0F9A-5852-417A-850C-89875E1A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AC41-1372-4E6F-8494-76EDA983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11B5-7436-48A0-8D59-8EC7BF13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4338-BA5D-4436-AD9A-A4D6367C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7688-7643-4638-B4F6-11A936EE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EECE-7164-45C5-9BEC-FECE927C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5F50-C8BA-49E0-95C2-3F0627B6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EF8D-C894-45A7-836F-F99A8050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F63F-F19D-4F96-AC9F-ACCB23B7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0228C-BD15-43F8-AF11-49C70D0E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3BE2-0063-4924-947E-C91043DE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EF71-91B0-4BAA-8072-F66EF2A1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080B-7D89-4495-B390-DF287E27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FA29-21DB-4461-B194-6E385E15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5DAC-A848-4F9E-A690-2F215BD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147E-BF9B-4899-AAAC-C04F4327D0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237A-F2C2-4453-BB0C-C7AB135D71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424160"/>
            <a:ext cx="6019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Психологическая регуляция поведения и деятельности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Эмоциональные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явл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Процессы внутренней регуляции поведения и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цели</a:t>
            </a: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потребности – выражение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реакция на какое-то воздейств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внутренняя работа. Работа печали З. Фрей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1) Знак (+/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2) Формально-динамические характеристики – интенсивность, дли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(аффекты - собственно эмоции – чувства /А.Н. Леонтьев/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) Модальность – качественное своеобразие переж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спокоение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Удоволь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Неудоволь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оз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.Вунд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059280" y="4581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2050560" y="4581360"/>
            <a:ext cx="1008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3059280" y="335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4) Базовые (первичные) – производные (вторичные) (Плачик, Изар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Критерии: четкий нервный субстрат, мимика, отчетливо осознанное переживание, имеет адаптационное значение, рано формиру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азовые эмоции по </a:t>
            </a: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(Plutchik, 196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Радость – Печ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ринятие – Отвра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Гнев – Ст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жидание - Уди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Физиологический стресс (Г. Селье) – неспецифический ответ организма на предъявляемое сильное и опасное воздействие – Общий адаптационный синд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Фазы стресса – А) Фаза тревоги, Б) Фаза сопротивления,  В) Фаза исто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1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обенности психологического стресс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Информационный стрес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ТС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Фрустрация – комплекс эмоциональных реакций в условиях недостижимой цели или неудовлетворения потреб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Ситуации: Лишения, Потери, Конфликт (по Розенцвейг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download"/>
          <p:cNvPicPr/>
          <p:nvPr/>
        </p:nvPicPr>
        <p:blipFill>
          <a:blip r:embed="rId1"/>
          <a:stretch/>
        </p:blipFill>
        <p:spPr>
          <a:xfrm>
            <a:off x="611280" y="2781360"/>
            <a:ext cx="2089080" cy="264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963705"/>
          <p:cNvPicPr/>
          <p:nvPr/>
        </p:nvPicPr>
        <p:blipFill>
          <a:blip r:embed="rId2"/>
          <a:stretch/>
        </p:blipFill>
        <p:spPr>
          <a:xfrm>
            <a:off x="4284720" y="2421000"/>
            <a:ext cx="3400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га – состояние: 1) Реакция на опасность, 2) которая угрожает «ядру» личности, + 3) ощущение беспомощ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жность – личностная черта - ощущение неопределенной угрозы; чувство диффузного опасения и тревожного ожи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вротическая трев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Эмпа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Быть в состоянии эмпатии – значит воспринимать внутренний мир другого со всеми эмоциональными и смысловыми оттенками. Но без потери ощущения «как будт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(К. Роджер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?id=21885283&amp;tov=7"/>
          <p:cNvPicPr/>
          <p:nvPr/>
        </p:nvPicPr>
        <p:blipFill>
          <a:blip r:embed="rId1"/>
          <a:stretch/>
        </p:blipFill>
        <p:spPr>
          <a:xfrm>
            <a:off x="1619280" y="2565360"/>
            <a:ext cx="180036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_8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н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nev_2"/>
          <p:cNvPicPr/>
          <p:nvPr/>
        </p:nvPicPr>
        <p:blipFill>
          <a:blip r:embed="rId1"/>
          <a:stretch/>
        </p:blipFill>
        <p:spPr>
          <a:xfrm>
            <a:off x="539640" y="2781360"/>
            <a:ext cx="2381400" cy="361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?id=30558465&amp;tov=7"/>
          <p:cNvPicPr/>
          <p:nvPr/>
        </p:nvPicPr>
        <p:blipFill>
          <a:blip r:embed="rId2"/>
          <a:stretch/>
        </p:blipFill>
        <p:spPr>
          <a:xfrm>
            <a:off x="3492360" y="2997360"/>
            <a:ext cx="2664000" cy="20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?id=20998009&amp;tov=8"/>
          <p:cNvPicPr/>
          <p:nvPr/>
        </p:nvPicPr>
        <p:blipFill>
          <a:blip r:embed="rId3"/>
          <a:stretch/>
        </p:blipFill>
        <p:spPr>
          <a:xfrm>
            <a:off x="6732720" y="3213000"/>
            <a:ext cx="1584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Удивление"/>
          <p:cNvPicPr/>
          <p:nvPr/>
        </p:nvPicPr>
        <p:blipFill>
          <a:blip r:embed="rId1"/>
          <a:stretch/>
        </p:blipFill>
        <p:spPr>
          <a:xfrm>
            <a:off x="3203640" y="285264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юб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odi-Portret-Margariti"/>
          <p:cNvPicPr/>
          <p:nvPr/>
        </p:nvPicPr>
        <p:blipFill>
          <a:blip r:embed="rId1"/>
          <a:stretch/>
        </p:blipFill>
        <p:spPr>
          <a:xfrm>
            <a:off x="3492360" y="2276640"/>
            <a:ext cx="2519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Откуда мы знаем о своих собственных эмоциональных состояни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 о чуж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Есть ли эмоции у детей, животных, компьютеров и т.д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 компонента эмо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Субъективный то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оведенческие проявлен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Физиологические процес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вая экспрессия (мим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_1684187762_1921956600"/>
          <p:cNvPicPr/>
          <p:nvPr/>
        </p:nvPicPr>
        <p:blipFill>
          <a:blip r:embed="rId1"/>
          <a:stretch/>
        </p:blipFill>
        <p:spPr>
          <a:xfrm>
            <a:off x="2700360" y="2852640"/>
            <a:ext cx="3095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07:53Z</dcterms:created>
  <dc:creator>User</dc:creator>
  <dc:description/>
  <dc:language>en-US</dc:language>
  <cp:lastModifiedBy>User</cp:lastModifiedBy>
  <dcterms:modified xsi:type="dcterms:W3CDTF">2010-05-26T16:03:39Z</dcterms:modified>
  <cp:revision>32</cp:revision>
  <dc:subject/>
  <dc:title>Тема 7 Лекция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40000000000010250600207f5200358026400</vt:lpwstr>
  </property>
</Properties>
</file>