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E121-2B79-47D9-AF0F-F413FBC3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8B7F-9668-4FF9-B0D8-7137FA5C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A93E-06F8-4004-8EA6-7839FECD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C91C-9E09-4370-B349-93EA28C5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8D2A-8AEB-4C92-8A9D-DF7659DC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2900-9297-4592-9164-24728165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2D2E5-A1A0-457A-A3DD-BC99C642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73ACA-862E-48E5-A42F-DA2B42AA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A368-0375-4A7D-8B97-E40E001E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398A-0CCC-4C16-89C1-590C990C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9B39-0302-413F-B525-F3F05736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33C-5352-45BD-ADA0-AAE0C323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8C19-6C77-4199-B802-46C8EBBC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F5EB-BD41-4CB0-B86B-86890A78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A50B-A851-436F-BA05-8D865492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D7DB-1B1F-40BC-BA17-303D7E6B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9AAD-D921-42DA-A0A4-19A4C7C3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0F3-5809-449A-955C-0EEF6E48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BEED-0FBC-4393-9B63-6444E5AB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95B3-6585-4953-954C-C4F32877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7B7-8A1B-4E8E-9F3C-2E1D61B4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5DA-6622-4377-A6C2-772AEC27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176D-8B53-411A-ACD8-5378F54A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4915-C0EB-428E-9CE3-A50D1A29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81d5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99ad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5763-CD1C-4D4F-8C70-D05AA2947D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Arc 3"/>
            <p:cNvSpPr/>
            <p:nvPr/>
          </p:nvSpPr>
          <p:spPr>
            <a:xfrm>
              <a:off x="468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21600" h="43200">
                  <a:moveTo>
                    <a:pt x="21600" y="43200"/>
                  </a:move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21600" y="4320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1333440" y="465120"/>
              <a:ext cx="399960" cy="64008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adc7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" name="Rectangle 5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81d5ff"/>
                </a:gs>
                <a:gs pos="100000">
                  <a:srgbClr val="dfc0ff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99adc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338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9172-FE56-47F7-AFB5-8660EB96EAB0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4"/>
          <p:cNvSpPr txBox="1"/>
          <p:nvPr/>
        </p:nvSpPr>
        <p:spPr>
          <a:xfrm>
            <a:off x="2214720" y="642960"/>
            <a:ext cx="728640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7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ЗНЕННЫЕ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РМЫ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cc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ТЕНИЙ</a:t>
            </a:r>
            <a:endParaRPr b="0" lang="en-US" sz="1800" spc="1" strike="noStrike">
              <a:ln w="19080">
                <a:solidFill>
                  <a:srgbClr val="00ccff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ыполнил: учитель биологии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МБОУ ООШ п.Туголесский Бор 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олдакова Марина Александровна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РАСТЕНИЯ-ПОДУШКИ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124000" y="5516640"/>
            <a:ext cx="651528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1 – «растение-овца»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2 – трагакантовый астрагал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7" descr="сканирование0002"/>
          <p:cNvPicPr/>
          <p:nvPr/>
        </p:nvPicPr>
        <p:blipFill>
          <a:blip r:embed="rId1"/>
          <a:stretch/>
        </p:blipFill>
        <p:spPr>
          <a:xfrm>
            <a:off x="2268360" y="1628640"/>
            <a:ext cx="6102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371600" y="566856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Осина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9" descr="осина"/>
          <p:cNvPicPr/>
          <p:nvPr/>
        </p:nvPicPr>
        <p:blipFill>
          <a:blip r:embed="rId1"/>
          <a:stretch/>
        </p:blipFill>
        <p:spPr>
          <a:xfrm>
            <a:off x="5508720" y="765000"/>
            <a:ext cx="3270240" cy="3270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осина1"/>
          <p:cNvPicPr/>
          <p:nvPr/>
        </p:nvPicPr>
        <p:blipFill>
          <a:blip r:embed="rId2"/>
          <a:stretch/>
        </p:blipFill>
        <p:spPr>
          <a:xfrm>
            <a:off x="1692360" y="1700280"/>
            <a:ext cx="355104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371600" y="593568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Облепиха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Объект 2" descr=""/>
          <p:cNvPicPr/>
          <p:nvPr/>
        </p:nvPicPr>
        <p:blipFill>
          <a:blip r:embed="rId1"/>
          <a:stretch/>
        </p:blipFill>
        <p:spPr>
          <a:xfrm>
            <a:off x="2843280" y="404640"/>
            <a:ext cx="468144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71600" y="580536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Вишня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7" descr="вишня"/>
          <p:cNvPicPr/>
          <p:nvPr/>
        </p:nvPicPr>
        <p:blipFill>
          <a:blip r:embed="rId1"/>
          <a:stretch/>
        </p:blipFill>
        <p:spPr>
          <a:xfrm>
            <a:off x="5292720" y="2852640"/>
            <a:ext cx="3259080" cy="2352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вишня1"/>
          <p:cNvPicPr/>
          <p:nvPr/>
        </p:nvPicPr>
        <p:blipFill>
          <a:blip r:embed="rId2"/>
          <a:stretch/>
        </p:blipFill>
        <p:spPr>
          <a:xfrm>
            <a:off x="1692360" y="1125360"/>
            <a:ext cx="32716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566100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Щавелек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7" descr="щавелек"/>
          <p:cNvPicPr/>
          <p:nvPr/>
        </p:nvPicPr>
        <p:blipFill>
          <a:blip r:embed="rId1"/>
          <a:stretch/>
        </p:blipFill>
        <p:spPr>
          <a:xfrm>
            <a:off x="2987640" y="90792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Деревья лесной зоны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63640" y="2565360"/>
            <a:ext cx="7772400" cy="344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Широколиственные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Мелколиственные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Хвойные 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5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истья широколиственных (1,2,5,6) и мелколиственных (3,4,7) деревьев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дуб, 2 – липа, 3 – береза, 4 – осина,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5 -  клен, 6 – вяз, 7 - ольх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Picture 7" descr="сканирование0003"/>
          <p:cNvPicPr/>
          <p:nvPr/>
        </p:nvPicPr>
        <p:blipFill>
          <a:blip r:embed="rId1"/>
          <a:stretch/>
        </p:blipFill>
        <p:spPr>
          <a:xfrm>
            <a:off x="1763640" y="549360"/>
            <a:ext cx="6912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371600" y="4876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орма крон у деревьев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береза повислая, 2 – тополь пирамидальный, 3 – итальянская сосна, 4 – пихта, 5 – липа, 6 – дуб черешчатый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7" descr="сканирование0004"/>
          <p:cNvPicPr/>
          <p:nvPr/>
        </p:nvPicPr>
        <p:blipFill>
          <a:blip r:embed="rId1"/>
          <a:stretch/>
        </p:blipFill>
        <p:spPr>
          <a:xfrm>
            <a:off x="1692360" y="333360"/>
            <a:ext cx="7245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9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005440" y="2852640"/>
            <a:ext cx="4138560" cy="31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 – столбовидный кактус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2 – канделябровидный кактус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Суккулентные деревья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pic>
        <p:nvPicPr>
          <p:cNvPr id="135" name="Picture 11" descr="сканирование0005"/>
          <p:cNvPicPr/>
          <p:nvPr/>
        </p:nvPicPr>
        <p:blipFill>
          <a:blip r:embed="rId1"/>
          <a:stretch/>
        </p:blipFill>
        <p:spPr>
          <a:xfrm>
            <a:off x="1763640" y="1700280"/>
            <a:ext cx="3376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b3384"/>
                </a:solidFill>
                <a:latin typeface="Times New Roman"/>
              </a:rPr>
              <a:t>Саксаул </a:t>
            </a:r>
            <a:endParaRPr b="0" lang="en-US" sz="72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6165360"/>
            <a:ext cx="7772400" cy="4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Общий вид дерева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7" descr="сканирование0006"/>
          <p:cNvPicPr/>
          <p:nvPr/>
        </p:nvPicPr>
        <p:blipFill>
          <a:blip r:embed="rId1"/>
          <a:stretch/>
        </p:blipFill>
        <p:spPr>
          <a:xfrm>
            <a:off x="3492360" y="1413000"/>
            <a:ext cx="352116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еревь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устарники и кустарнич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рав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иан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стения-подуш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орнеотпрысковые растения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1763640" y="260280"/>
            <a:ext cx="6983640" cy="16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4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лассификац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изненных форм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Жизненные формы </a:t>
            </a:r>
            <a:br>
              <a:rPr sz="5400"/>
            </a:b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комнатных растений 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уккулент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Древес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апоротник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укович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Лианообраз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Эпифитные растения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3357720"/>
            <a:ext cx="7772400" cy="116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b3384"/>
                </a:solidFill>
                <a:latin typeface="Times New Roman"/>
              </a:rPr>
              <a:t>Практическая работа «Изучение жизненных форм растений на пришкольном участке»</a:t>
            </a:r>
            <a:endParaRPr b="0" lang="en-US" sz="5400" spc="-1" strike="noStrike">
              <a:solidFill>
                <a:srgbClr val="4b338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b3384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А.М. Былова Экология растений. Учебник 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b3384"/>
                </a:solidFill>
                <a:latin typeface="Times New Roman"/>
              </a:rPr>
              <a:t>ПОЛУКУСТАРНИК</a:t>
            </a:r>
            <a:endParaRPr b="0" lang="en-US" sz="6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47640" y="5084280"/>
            <a:ext cx="7772400" cy="15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лынь сантолинолистная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Общий вид растения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Его схем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7" descr="сканирование"/>
          <p:cNvPicPr/>
          <p:nvPr/>
        </p:nvPicPr>
        <p:blipFill>
          <a:blip r:embed="rId1"/>
          <a:stretch/>
        </p:blipFill>
        <p:spPr>
          <a:xfrm>
            <a:off x="3203640" y="1268280"/>
            <a:ext cx="37447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b3384"/>
                </a:solidFill>
                <a:latin typeface="Times New Roman"/>
              </a:rPr>
              <a:t>ЛИАНЫ</a:t>
            </a:r>
            <a:endParaRPr b="0" lang="en-US" sz="8000" spc="-1" strike="noStrike">
              <a:solidFill>
                <a:srgbClr val="4b338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2492280"/>
            <a:ext cx="7772400" cy="329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Деревянистые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Травянистые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907640" y="5300280"/>
            <a:ext cx="6767640" cy="99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Плющ обыкновенный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Объект 2" descr=""/>
          <p:cNvPicPr/>
          <p:nvPr/>
        </p:nvPicPr>
        <p:blipFill>
          <a:blip r:embed="rId1"/>
          <a:stretch/>
        </p:blipFill>
        <p:spPr>
          <a:xfrm>
            <a:off x="2700360" y="11592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70160" y="587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Виноград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7" descr="виноград"/>
          <p:cNvPicPr/>
          <p:nvPr/>
        </p:nvPicPr>
        <p:blipFill>
          <a:blip r:embed="rId1"/>
          <a:stretch/>
        </p:blipFill>
        <p:spPr>
          <a:xfrm>
            <a:off x="1692360" y="692280"/>
            <a:ext cx="3311280" cy="2493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виноград1"/>
          <p:cNvPicPr/>
          <p:nvPr/>
        </p:nvPicPr>
        <p:blipFill>
          <a:blip r:embed="rId2"/>
          <a:stretch/>
        </p:blipFill>
        <p:spPr>
          <a:xfrm>
            <a:off x="5435640" y="3068640"/>
            <a:ext cx="32734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70160" y="594972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1000"/>
          </a:bodyPr>
          <a:p>
            <a:pPr marL="17496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Ротанговая пальма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7" descr="сканирование0001"/>
          <p:cNvPicPr/>
          <p:nvPr/>
        </p:nvPicPr>
        <p:blipFill>
          <a:blip r:embed="rId1"/>
          <a:stretch/>
        </p:blipFill>
        <p:spPr>
          <a:xfrm>
            <a:off x="3492360" y="549360"/>
            <a:ext cx="3384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619280" y="566100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Хмель </a:t>
            </a:r>
            <a:endParaRPr b="1" lang="en-US" sz="6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7" descr="хмель"/>
          <p:cNvPicPr/>
          <p:nvPr/>
        </p:nvPicPr>
        <p:blipFill>
          <a:blip r:embed="rId1"/>
          <a:stretch/>
        </p:blipFill>
        <p:spPr>
          <a:xfrm>
            <a:off x="5580000" y="1341360"/>
            <a:ext cx="2732040" cy="403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хмель1"/>
          <p:cNvPicPr/>
          <p:nvPr/>
        </p:nvPicPr>
        <p:blipFill>
          <a:blip r:embed="rId2"/>
          <a:stretch/>
        </p:blipFill>
        <p:spPr>
          <a:xfrm>
            <a:off x="1835280" y="260280"/>
            <a:ext cx="311148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71600" y="5589720"/>
            <a:ext cx="7772400" cy="77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Мышиный горошек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Picture 7" descr="мыш"/>
          <p:cNvPicPr/>
          <p:nvPr/>
        </p:nvPicPr>
        <p:blipFill>
          <a:blip r:embed="rId1"/>
          <a:stretch/>
        </p:blipFill>
        <p:spPr>
          <a:xfrm>
            <a:off x="5867280" y="836640"/>
            <a:ext cx="2874960" cy="381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мыш"/>
          <p:cNvPicPr/>
          <p:nvPr/>
        </p:nvPicPr>
        <p:blipFill>
          <a:blip r:embed="rId2"/>
          <a:stretch/>
        </p:blipFill>
        <p:spPr>
          <a:xfrm>
            <a:off x="1763640" y="1341360"/>
            <a:ext cx="37450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6:10:51Z</dcterms:created>
  <dc:creator>123</dc:creator>
  <dc:description/>
  <dc:language>en-US</dc:language>
  <cp:lastModifiedBy>Сова</cp:lastModifiedBy>
  <dcterms:modified xsi:type="dcterms:W3CDTF">2012-11-14T19:31:41Z</dcterms:modified>
  <cp:revision>23</cp:revision>
  <dc:subject/>
  <dc:title>Слайд 1</dc:title>
</cp:coreProperties>
</file>