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4825" cy="97123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549F1-1D68-4F7A-ABF5-37D989891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71301-DDBF-4105-B06E-42351FC66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D6C39-2B4D-4329-AE86-93B7A2830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998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62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370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998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62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0B203-23C8-42FF-AA5F-5F23E53B3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74A1E-0FE2-4109-A472-3C2C84907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D70A0-50C9-4A53-8369-626F535C4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E294A-85BF-49AB-8289-6178F98FF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11639-D24E-412B-8570-B22514449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92358-CECD-4565-9868-3DD39E2F9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370160" y="247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8E71B-14EF-49B0-93F9-2B46A5B1C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70027-04F2-4E23-AA23-C3CFF0924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A7FAE-8E1B-4A5C-B64D-E66A2FF08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2FD4B-41CB-4430-9F47-B16C5F6FE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8CBC8-4B12-467B-8CF7-2B1C06449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18BAF-81BF-4970-9F93-384A7D1E4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01EAE-754F-47B8-94F0-7523FE711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998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62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370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998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62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3E3BE-93ED-4531-940E-250DD3917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0970C-7057-40CA-9108-AA4BA5B6A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595D9-068A-462D-89F0-8C8112C00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E5FE9-4490-4C7A-B896-6D356FB33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370160" y="247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7D365-1933-4960-A09F-8832777C6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C86C0-1C8B-4204-BC1D-4DB13966C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65D96-13D0-4DC3-B807-53EB4EA28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5B078-B82B-4EF1-AC59-E7BFBBE01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680" y="0"/>
            <a:ext cx="1728720" cy="6865920"/>
            <a:chOff x="4680" y="0"/>
            <a:chExt cx="1728720" cy="6865920"/>
          </a:xfrm>
        </p:grpSpPr>
        <p:sp>
          <p:nvSpPr>
            <p:cNvPr id="1" name="Arc 3"/>
            <p:cNvSpPr/>
            <p:nvPr/>
          </p:nvSpPr>
          <p:spPr>
            <a:xfrm>
              <a:off x="4680" y="465120"/>
              <a:ext cx="399960" cy="640080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21600" y="43200"/>
                  </a:move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21600" h="43200">
                  <a:moveTo>
                    <a:pt x="21600" y="43200"/>
                  </a:move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21600" y="43200"/>
                  </a:lnTo>
                  <a:close/>
                </a:path>
              </a:pathLst>
            </a:custGeom>
            <a:gradFill rotWithShape="0">
              <a:gsLst>
                <a:gs pos="0">
                  <a:srgbClr val="99adc7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1333440" y="465120"/>
              <a:ext cx="399960" cy="640080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</a:path>
                <a:path stroke="0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gradFill rotWithShape="0">
              <a:gsLst>
                <a:gs pos="0">
                  <a:srgbClr val="99adc7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324000" y="0"/>
              <a:ext cx="1066680" cy="6856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" name="AutoShape 6"/>
            <p:cNvSpPr/>
            <p:nvPr/>
          </p:nvSpPr>
          <p:spPr>
            <a:xfrm rot="6000000">
              <a:off x="551880" y="590400"/>
              <a:ext cx="723960" cy="571680"/>
            </a:xfrm>
            <a:prstGeom prst="triangle">
              <a:avLst>
                <a:gd name="adj" fmla="val 49995"/>
              </a:avLst>
            </a:prstGeom>
            <a:gradFill rotWithShape="0">
              <a:gsLst>
                <a:gs pos="0">
                  <a:srgbClr val="81d5ff"/>
                </a:gs>
                <a:gs pos="100000">
                  <a:srgbClr val="dfc0ff"/>
                </a:gs>
              </a:gsLst>
              <a:lin ang="0"/>
            </a:gradFill>
            <a:ln w="0">
              <a:noFill/>
            </a:ln>
            <a:effectLst>
              <a:outerShdw dist="107932" dir="2700000" blurRad="0" rotWithShape="0">
                <a:srgbClr val="99adc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338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457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4267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723744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E251F-A20F-4328-B32B-1B6F5D0FC74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4680" y="0"/>
            <a:ext cx="1728720" cy="6865920"/>
            <a:chOff x="4680" y="0"/>
            <a:chExt cx="1728720" cy="6865920"/>
          </a:xfrm>
        </p:grpSpPr>
        <p:sp>
          <p:nvSpPr>
            <p:cNvPr id="47" name="Arc 3"/>
            <p:cNvSpPr/>
            <p:nvPr/>
          </p:nvSpPr>
          <p:spPr>
            <a:xfrm>
              <a:off x="4680" y="465120"/>
              <a:ext cx="399960" cy="640080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21600" y="43200"/>
                  </a:move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21600" h="43200">
                  <a:moveTo>
                    <a:pt x="21600" y="43200"/>
                  </a:move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21600" y="43200"/>
                  </a:lnTo>
                  <a:close/>
                </a:path>
              </a:pathLst>
            </a:custGeom>
            <a:gradFill rotWithShape="0">
              <a:gsLst>
                <a:gs pos="0">
                  <a:srgbClr val="99adc7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8" name="Arc 4"/>
            <p:cNvSpPr/>
            <p:nvPr/>
          </p:nvSpPr>
          <p:spPr>
            <a:xfrm>
              <a:off x="1333440" y="465120"/>
              <a:ext cx="399960" cy="640080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</a:path>
                <a:path stroke="0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gradFill rotWithShape="0">
              <a:gsLst>
                <a:gs pos="0">
                  <a:srgbClr val="99adc7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9" name="Rectangle 5"/>
            <p:cNvSpPr/>
            <p:nvPr/>
          </p:nvSpPr>
          <p:spPr>
            <a:xfrm>
              <a:off x="324000" y="0"/>
              <a:ext cx="1066680" cy="6856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0" name="AutoShape 6"/>
            <p:cNvSpPr/>
            <p:nvPr/>
          </p:nvSpPr>
          <p:spPr>
            <a:xfrm rot="6000000">
              <a:off x="551880" y="2609640"/>
              <a:ext cx="723960" cy="571680"/>
            </a:xfrm>
            <a:prstGeom prst="triangle">
              <a:avLst>
                <a:gd name="adj" fmla="val 49995"/>
              </a:avLst>
            </a:prstGeom>
            <a:gradFill rotWithShape="0">
              <a:gsLst>
                <a:gs pos="0">
                  <a:srgbClr val="81d5ff"/>
                </a:gs>
                <a:gs pos="100000">
                  <a:srgbClr val="dfc0ff"/>
                </a:gs>
              </a:gsLst>
              <a:lin ang="0"/>
            </a:gradFill>
            <a:ln w="0">
              <a:noFill/>
            </a:ln>
            <a:effectLst>
              <a:outerShdw dist="107932" dir="2700000" blurRad="0" rotWithShape="0">
                <a:srgbClr val="99adc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338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457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20004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723744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06913-4084-4C18-A7EB-CE57B262F8E9}" type="slidenum">
              <a:rPr b="0" lang="ru-RU" sz="14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WordArt 4"/>
          <p:cNvSpPr txBox="1"/>
          <p:nvPr/>
        </p:nvSpPr>
        <p:spPr>
          <a:xfrm>
            <a:off x="2214720" y="642960"/>
            <a:ext cx="7286400" cy="540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6732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ccff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ЖИЗНЕННЫЕ</a:t>
            </a:r>
            <a:endParaRPr b="0" lang="en-US" sz="1800" spc="1" strike="noStrike">
              <a:ln w="19080">
                <a:solidFill>
                  <a:srgbClr val="00ccff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ccff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ФОРМЫ</a:t>
            </a:r>
            <a:endParaRPr b="0" lang="en-US" sz="1800" spc="1" strike="noStrike">
              <a:ln w="19080">
                <a:solidFill>
                  <a:srgbClr val="00ccff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ccff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АСТЕНИЙ</a:t>
            </a:r>
            <a:endParaRPr b="0" lang="en-US" sz="1800" spc="1" strike="noStrike">
              <a:ln w="19080">
                <a:solidFill>
                  <a:srgbClr val="00ccff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Выполнил: учитель биологии 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МБОУ ООШ п.Туголесский Бор 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Солдакова Марина Александровна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4b3384"/>
                </a:solidFill>
                <a:latin typeface="Times New Roman"/>
              </a:rPr>
              <a:t>РАСТЕНИЯ-ПОДУШКИ</a:t>
            </a:r>
            <a:endParaRPr b="0" lang="en-US" sz="5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124000" y="5516640"/>
            <a:ext cx="6515280" cy="122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1 – «растение-овца»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2 – трагакантовый астрагал</a:t>
            </a: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6" name="Picture 7" descr="сканирование0002"/>
          <p:cNvPicPr/>
          <p:nvPr/>
        </p:nvPicPr>
        <p:blipFill>
          <a:blip r:embed="rId1"/>
          <a:stretch/>
        </p:blipFill>
        <p:spPr>
          <a:xfrm>
            <a:off x="2268360" y="1628640"/>
            <a:ext cx="610236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0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5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4" dur="1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5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8" dur="10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1371600" y="5668560"/>
            <a:ext cx="7772400" cy="118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3366"/>
                </a:solidFill>
                <a:latin typeface="Arial"/>
              </a:rPr>
              <a:t>Осина</a:t>
            </a:r>
            <a:endParaRPr b="1" lang="en-US" sz="4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8" name="Picture 9" descr="осина"/>
          <p:cNvPicPr/>
          <p:nvPr/>
        </p:nvPicPr>
        <p:blipFill>
          <a:blip r:embed="rId1"/>
          <a:stretch/>
        </p:blipFill>
        <p:spPr>
          <a:xfrm>
            <a:off x="5508720" y="765000"/>
            <a:ext cx="3270240" cy="32706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0" descr="осина1"/>
          <p:cNvPicPr/>
          <p:nvPr/>
        </p:nvPicPr>
        <p:blipFill>
          <a:blip r:embed="rId2"/>
          <a:stretch/>
        </p:blipFill>
        <p:spPr>
          <a:xfrm>
            <a:off x="1692360" y="1700280"/>
            <a:ext cx="3551040" cy="36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0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7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3" dur="1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1371600" y="5935680"/>
            <a:ext cx="7772400" cy="92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3366"/>
                </a:solidFill>
                <a:latin typeface="Arial"/>
              </a:rPr>
              <a:t>Облепиха</a:t>
            </a: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1" name="Объект 2" descr=""/>
          <p:cNvPicPr/>
          <p:nvPr/>
        </p:nvPicPr>
        <p:blipFill>
          <a:blip r:embed="rId1"/>
          <a:stretch/>
        </p:blipFill>
        <p:spPr>
          <a:xfrm>
            <a:off x="2843280" y="404640"/>
            <a:ext cx="4681440" cy="538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0"/>
                      </p:stCondLst>
                      <p:childTnLst>
                        <p:par>
                          <p:cTn id="17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0" dur="1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1371600" y="5805360"/>
            <a:ext cx="77724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3366"/>
                </a:solidFill>
                <a:latin typeface="Arial"/>
              </a:rPr>
              <a:t>Вишня</a:t>
            </a: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3" name="Picture 7" descr="вишня"/>
          <p:cNvPicPr/>
          <p:nvPr/>
        </p:nvPicPr>
        <p:blipFill>
          <a:blip r:embed="rId1"/>
          <a:stretch/>
        </p:blipFill>
        <p:spPr>
          <a:xfrm>
            <a:off x="5292720" y="2852640"/>
            <a:ext cx="3259080" cy="23526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вишня1"/>
          <p:cNvPicPr/>
          <p:nvPr/>
        </p:nvPicPr>
        <p:blipFill>
          <a:blip r:embed="rId2"/>
          <a:stretch/>
        </p:blipFill>
        <p:spPr>
          <a:xfrm>
            <a:off x="1692360" y="1125360"/>
            <a:ext cx="327168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0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9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5" dur="1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1371600" y="5661000"/>
            <a:ext cx="7772400" cy="83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003366"/>
                </a:solidFill>
                <a:latin typeface="Arial"/>
              </a:rPr>
              <a:t>Щавелек</a:t>
            </a: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6" name="Picture 7" descr="щавелек"/>
          <p:cNvPicPr/>
          <p:nvPr/>
        </p:nvPicPr>
        <p:blipFill>
          <a:blip r:embed="rId1"/>
          <a:stretch/>
        </p:blipFill>
        <p:spPr>
          <a:xfrm>
            <a:off x="2987640" y="907920"/>
            <a:ext cx="431964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0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6" dur="1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716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4b3384"/>
                </a:solidFill>
                <a:latin typeface="Times New Roman"/>
              </a:rPr>
              <a:t>Деревья лесной зоны</a:t>
            </a:r>
            <a:endParaRPr b="0" lang="en-US" sz="60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763640" y="2565360"/>
            <a:ext cx="7772400" cy="344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3366"/>
                </a:solidFill>
                <a:latin typeface="Arial"/>
              </a:rPr>
              <a:t>Широколиственные</a:t>
            </a:r>
            <a:endParaRPr b="1" lang="en-US" sz="4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3366"/>
                </a:solidFill>
                <a:latin typeface="Arial"/>
              </a:rPr>
              <a:t>Мелколиственные</a:t>
            </a:r>
            <a:endParaRPr b="1" lang="en-US" sz="4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3366"/>
                </a:solidFill>
                <a:latin typeface="Arial"/>
              </a:rPr>
              <a:t>Хвойные </a:t>
            </a:r>
            <a:endParaRPr b="1" lang="en-US" sz="4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0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7" dur="1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1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1" dur="10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2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5" dur="10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1371600" y="47242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Листья широколиственных (1,2,5,6) и мелколиственных (3,4,7) деревьев: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1 – дуб, 2 – липа, 3 – береза, 4 – осина, 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5 -  клен, 6 – вяз, 7 - ольха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0" name="Picture 7" descr="сканирование0003"/>
          <p:cNvPicPr/>
          <p:nvPr/>
        </p:nvPicPr>
        <p:blipFill>
          <a:blip r:embed="rId1"/>
          <a:stretch/>
        </p:blipFill>
        <p:spPr>
          <a:xfrm>
            <a:off x="1763640" y="549360"/>
            <a:ext cx="6912000" cy="40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0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6" dur="1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0" dur="10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4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4" dur="10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1371600" y="48765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Форма крон у деревьев: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1 – береза повислая, 2 – тополь пирамидальный, 3 – итальянская сосна, 4 – пихта, 5 – липа, 6 – дуб черешчатый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2" name="Picture 7" descr="сканирование0004"/>
          <p:cNvPicPr/>
          <p:nvPr/>
        </p:nvPicPr>
        <p:blipFill>
          <a:blip r:embed="rId1"/>
          <a:stretch/>
        </p:blipFill>
        <p:spPr>
          <a:xfrm>
            <a:off x="1692360" y="333360"/>
            <a:ext cx="724536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0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5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9" dur="10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5005440" y="2852640"/>
            <a:ext cx="4138560" cy="315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1 – столбовидный кактус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2 – канделябровидный кактус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4b3384"/>
                </a:solidFill>
                <a:latin typeface="Times New Roman"/>
              </a:rPr>
              <a:t>Суккулентные деревья</a:t>
            </a:r>
            <a:endParaRPr b="0" lang="en-US" sz="6000" spc="-1" strike="noStrike">
              <a:solidFill>
                <a:srgbClr val="4b3384"/>
              </a:solidFill>
              <a:latin typeface="Times New Roman"/>
            </a:endParaRPr>
          </a:p>
        </p:txBody>
      </p:sp>
      <p:pic>
        <p:nvPicPr>
          <p:cNvPr id="135" name="Picture 11" descr="сканирование0005"/>
          <p:cNvPicPr/>
          <p:nvPr/>
        </p:nvPicPr>
        <p:blipFill>
          <a:blip r:embed="rId1"/>
          <a:stretch/>
        </p:blipFill>
        <p:spPr>
          <a:xfrm>
            <a:off x="1763640" y="1700280"/>
            <a:ext cx="337680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0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7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74" dur="1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7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78" dur="10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4b3384"/>
                </a:solidFill>
                <a:latin typeface="Times New Roman"/>
              </a:rPr>
              <a:t>Саксаул </a:t>
            </a:r>
            <a:endParaRPr b="0" lang="en-US" sz="72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371600" y="6165360"/>
            <a:ext cx="7772400" cy="419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67000"/>
          </a:bodyPr>
          <a:p>
            <a:pPr marL="2296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66"/>
                </a:solidFill>
                <a:latin typeface="Arial"/>
              </a:rPr>
              <a:t>Общий вид дерева</a:t>
            </a: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8" name="Picture 7" descr="сканирование0006"/>
          <p:cNvPicPr/>
          <p:nvPr/>
        </p:nvPicPr>
        <p:blipFill>
          <a:blip r:embed="rId1"/>
          <a:stretch/>
        </p:blipFill>
        <p:spPr>
          <a:xfrm>
            <a:off x="3492360" y="1413000"/>
            <a:ext cx="3521160" cy="44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nodeType="clickEffect" fill="hold">
                      <p:stCondLst>
                        <p:cond delay="0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9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3" dur="1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деревья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кустарники и кустарнички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травы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лианы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растения-подушки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корнеотпрысковые растения 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" name="WordArt 4"/>
          <p:cNvSpPr txBox="1"/>
          <p:nvPr/>
        </p:nvSpPr>
        <p:spPr>
          <a:xfrm>
            <a:off x="1763640" y="260280"/>
            <a:ext cx="6983640" cy="16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1404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Классификация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жизненных форм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3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" dur="1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" dur="1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6" dur="10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0" dur="10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4" dur="1000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8" dur="1000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76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4b3384"/>
                </a:solidFill>
                <a:latin typeface="Times New Roman"/>
              </a:rPr>
              <a:t>Жизненные формы </a:t>
            </a:r>
            <a:br>
              <a:rPr sz="5400"/>
            </a:br>
            <a:r>
              <a:rPr b="0" lang="ru-RU" sz="5400" spc="-1" strike="noStrike">
                <a:solidFill>
                  <a:srgbClr val="4b3384"/>
                </a:solidFill>
                <a:latin typeface="Times New Roman"/>
              </a:rPr>
              <a:t>комнатных растений </a:t>
            </a:r>
            <a:endParaRPr b="0" lang="en-US" sz="5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71600" y="2492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Суккуленты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Древесные растения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Папоротники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Луковичные растения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Лианообразные растения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Эпифитные растения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nodeType="clickEffect" fill="hold">
                      <p:stCondLst>
                        <p:cond delay="0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0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04" dur="1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0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08" dur="10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1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12" dur="10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1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16" dur="10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1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20" dur="10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2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24" dur="1000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71600" y="3357720"/>
            <a:ext cx="7772400" cy="116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4b3384"/>
                </a:solidFill>
                <a:latin typeface="Times New Roman"/>
              </a:rPr>
              <a:t>Практическая работа «Изучение жизненных форм растений на пришкольном участке»</a:t>
            </a:r>
            <a:endParaRPr b="0" lang="en-US" sz="5400" spc="-1" strike="noStrike">
              <a:solidFill>
                <a:srgbClr val="4b338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nodeType="clickEffect" fill="hold">
                      <p:stCondLst>
                        <p:cond delay="0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1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b3384"/>
                </a:solidFill>
                <a:latin typeface="Times New Roman"/>
              </a:rPr>
              <a:t>Литература</a:t>
            </a: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А.М. Былова Экология растений. Учебник .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4b3384"/>
                </a:solidFill>
                <a:latin typeface="Times New Roman"/>
              </a:rPr>
              <a:t>ПОЛУКУСТАРНИК</a:t>
            </a:r>
            <a:endParaRPr b="0" lang="en-US" sz="60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547640" y="5084280"/>
            <a:ext cx="7772400" cy="1576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Полынь сантолинолистная: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Общий вид растения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Его схема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8" name="Picture 7" descr="сканирование"/>
          <p:cNvPicPr/>
          <p:nvPr/>
        </p:nvPicPr>
        <p:blipFill>
          <a:blip r:embed="rId1"/>
          <a:stretch/>
        </p:blipFill>
        <p:spPr>
          <a:xfrm>
            <a:off x="3203640" y="1268280"/>
            <a:ext cx="3744720" cy="36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3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5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7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1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71600" y="69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4b3384"/>
                </a:solidFill>
                <a:latin typeface="Times New Roman"/>
              </a:rPr>
              <a:t>ЛИАНЫ</a:t>
            </a:r>
            <a:endParaRPr b="0" lang="en-US" sz="80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0160" y="2492280"/>
            <a:ext cx="7772400" cy="3299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ctr">
              <a:spcBef>
                <a:spcPts val="15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3366"/>
                </a:solidFill>
                <a:latin typeface="Arial"/>
              </a:rPr>
              <a:t>Деревянистые</a:t>
            </a:r>
            <a:endParaRPr b="1" lang="en-US" sz="6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3366"/>
                </a:solidFill>
                <a:latin typeface="Arial"/>
              </a:rPr>
              <a:t>Травянистые</a:t>
            </a: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0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2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" dur="1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1907640" y="5300280"/>
            <a:ext cx="6767640" cy="99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2000"/>
          </a:bodyPr>
          <a:p>
            <a:pPr marL="28116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3366"/>
                </a:solidFill>
                <a:latin typeface="Arial"/>
              </a:rPr>
              <a:t>Плющ обыкновенный</a:t>
            </a:r>
            <a:endParaRPr b="1" lang="en-US" sz="4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2" name="Объект 2" descr=""/>
          <p:cNvPicPr/>
          <p:nvPr/>
        </p:nvPicPr>
        <p:blipFill>
          <a:blip r:embed="rId1"/>
          <a:stretch/>
        </p:blipFill>
        <p:spPr>
          <a:xfrm>
            <a:off x="2700360" y="115920"/>
            <a:ext cx="518472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0"/>
                      </p:stCondLst>
                      <p:childTnLst>
                        <p:par>
                          <p:cTn id="8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3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1370160" y="587664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3366"/>
                </a:solidFill>
                <a:latin typeface="Arial"/>
              </a:rPr>
              <a:t>Виноград</a:t>
            </a: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4" name="Picture 7" descr="виноград"/>
          <p:cNvPicPr/>
          <p:nvPr/>
        </p:nvPicPr>
        <p:blipFill>
          <a:blip r:embed="rId1"/>
          <a:stretch/>
        </p:blipFill>
        <p:spPr>
          <a:xfrm>
            <a:off x="1692360" y="692280"/>
            <a:ext cx="3311280" cy="24937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виноград1"/>
          <p:cNvPicPr/>
          <p:nvPr/>
        </p:nvPicPr>
        <p:blipFill>
          <a:blip r:embed="rId2"/>
          <a:stretch/>
        </p:blipFill>
        <p:spPr>
          <a:xfrm>
            <a:off x="5435640" y="3068640"/>
            <a:ext cx="3273480" cy="244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0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9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8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1370160" y="5949720"/>
            <a:ext cx="7772400" cy="43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51000"/>
          </a:bodyPr>
          <a:p>
            <a:pPr marL="17496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3366"/>
                </a:solidFill>
                <a:latin typeface="Arial"/>
              </a:rPr>
              <a:t>Ротанговая пальма</a:t>
            </a:r>
            <a:endParaRPr b="1" lang="en-US" sz="4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7" name="Picture 7" descr="сканирование0001"/>
          <p:cNvPicPr/>
          <p:nvPr/>
        </p:nvPicPr>
        <p:blipFill>
          <a:blip r:embed="rId1"/>
          <a:stretch/>
        </p:blipFill>
        <p:spPr>
          <a:xfrm>
            <a:off x="3492360" y="549360"/>
            <a:ext cx="3384720" cy="48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0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9" dur="1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1619280" y="5661000"/>
            <a:ext cx="7772400" cy="17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3366"/>
                </a:solidFill>
                <a:latin typeface="Arial"/>
              </a:rPr>
              <a:t>Хмель </a:t>
            </a:r>
            <a:endParaRPr b="1" lang="en-US" sz="6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9" name="Picture 7" descr="хмель"/>
          <p:cNvPicPr/>
          <p:nvPr/>
        </p:nvPicPr>
        <p:blipFill>
          <a:blip r:embed="rId1"/>
          <a:stretch/>
        </p:blipFill>
        <p:spPr>
          <a:xfrm>
            <a:off x="5580000" y="1341360"/>
            <a:ext cx="2732040" cy="40323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8" descr="хмель1"/>
          <p:cNvPicPr/>
          <p:nvPr/>
        </p:nvPicPr>
        <p:blipFill>
          <a:blip r:embed="rId2"/>
          <a:stretch/>
        </p:blipFill>
        <p:spPr>
          <a:xfrm>
            <a:off x="1835280" y="260280"/>
            <a:ext cx="3111480" cy="41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0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4" dur="1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1371600" y="5589720"/>
            <a:ext cx="7772400" cy="77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3366"/>
                </a:solidFill>
                <a:latin typeface="Arial"/>
              </a:rPr>
              <a:t>Мышиный горошек</a:t>
            </a:r>
            <a:endParaRPr b="1" lang="en-US" sz="4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2" name="Picture 7" descr="мыш"/>
          <p:cNvPicPr/>
          <p:nvPr/>
        </p:nvPicPr>
        <p:blipFill>
          <a:blip r:embed="rId1"/>
          <a:stretch/>
        </p:blipFill>
        <p:spPr>
          <a:xfrm>
            <a:off x="5867280" y="836640"/>
            <a:ext cx="2874960" cy="38163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8" descr="мыш"/>
          <p:cNvPicPr/>
          <p:nvPr/>
        </p:nvPicPr>
        <p:blipFill>
          <a:blip r:embed="rId2"/>
          <a:stretch/>
        </p:blipFill>
        <p:spPr>
          <a:xfrm>
            <a:off x="1763640" y="1341360"/>
            <a:ext cx="3745080" cy="30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0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3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9" dur="1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6T16:10:51Z</dcterms:created>
  <dc:creator>123</dc:creator>
  <dc:description/>
  <dc:language>en-US</dc:language>
  <cp:lastModifiedBy>Сова</cp:lastModifiedBy>
  <dcterms:modified xsi:type="dcterms:W3CDTF">2012-11-14T19:31:41Z</dcterms:modified>
  <cp:revision>23</cp:revision>
  <dc:subject/>
  <dc:title>Слайд 1</dc:title>
</cp:coreProperties>
</file>