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1555-B8C0-4437-B3F2-8DAEC7A2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F0C8-C088-4896-8932-9E8D69C0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50BC-506F-4586-A981-8D0800B63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4CD2-81C2-46A4-B9AB-B3881EB3C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BB0E-D324-4717-9F31-08CE6740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0ACA-0967-45C8-9205-7E426FBB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4A94-CEDA-4D8F-A08D-AAE34A73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D902-5149-412D-B90E-8DC60E8C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BA70-F658-497C-87DF-8D6CAEA3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5348-F67A-4C5E-B4CE-3F285571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B9D0-BCBD-4002-A45A-132B7771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ADBF-0903-466C-BFFA-06C5BBEB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8A48-ECE6-4AF7-B9C5-388DD173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C753-2BE3-4C8B-BABE-A1ABBDD0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F41B-C47E-41F7-AB1E-889E563A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DCB4-92BE-4B73-B164-CCDCB014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32CA-A6D2-48B0-8592-FA42D05A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EC2D-B5B1-4D15-A60E-B510C1DE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66AA-F3E6-4C6B-9719-9519F392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059C-1960-4F42-8158-EDC1D641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FBA0-4B20-4DD2-980F-AAB9A515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3F73-E9F4-48B0-AC56-EF8E4A3B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AAB2-55F8-44CC-802D-071272A9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CDA2-6853-485E-B8D9-DD5C7D9A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81d5ff"/>
                </a:gs>
                <a:gs pos="100000">
                  <a:srgbClr val="dfc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99adc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A8EE-306D-47C2-9D5A-17B6482EE4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81d5ff"/>
                </a:gs>
                <a:gs pos="100000">
                  <a:srgbClr val="dfc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99adc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7C93-EA90-4E1B-A79B-9EA23B63D965}" type="slidenum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>
            <a:off x="2214720" y="642960"/>
            <a:ext cx="728640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7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ЗНЕННЫЕ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Ы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ТЕНИЙ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ыполнил: учитель биологии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БОУ ООШ п.Туголесский Бор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олдакова Марина Александровна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РАСТЕНИЯ-ПОДУШКИ</a:t>
            </a:r>
            <a:endParaRPr b="0" lang="en-US" sz="5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124000" y="5516640"/>
            <a:ext cx="651528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1 – «растение-овца»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2 – трагакантовый астрагал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7" descr="сканирование0002"/>
          <p:cNvPicPr/>
          <p:nvPr/>
        </p:nvPicPr>
        <p:blipFill>
          <a:blip r:embed="rId1"/>
          <a:stretch/>
        </p:blipFill>
        <p:spPr>
          <a:xfrm>
            <a:off x="2268360" y="1628640"/>
            <a:ext cx="6102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371600" y="566856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Осина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9" descr="осина"/>
          <p:cNvPicPr/>
          <p:nvPr/>
        </p:nvPicPr>
        <p:blipFill>
          <a:blip r:embed="rId1"/>
          <a:stretch/>
        </p:blipFill>
        <p:spPr>
          <a:xfrm>
            <a:off x="5508720" y="765000"/>
            <a:ext cx="3270240" cy="3270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осина1"/>
          <p:cNvPicPr/>
          <p:nvPr/>
        </p:nvPicPr>
        <p:blipFill>
          <a:blip r:embed="rId2"/>
          <a:stretch/>
        </p:blipFill>
        <p:spPr>
          <a:xfrm>
            <a:off x="1692360" y="1700280"/>
            <a:ext cx="355104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371600" y="593568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Облепиха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Объект 2" descr=""/>
          <p:cNvPicPr/>
          <p:nvPr/>
        </p:nvPicPr>
        <p:blipFill>
          <a:blip r:embed="rId1"/>
          <a:stretch/>
        </p:blipFill>
        <p:spPr>
          <a:xfrm>
            <a:off x="2843280" y="404640"/>
            <a:ext cx="468144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371600" y="580536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Вишня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7" descr="вишня"/>
          <p:cNvPicPr/>
          <p:nvPr/>
        </p:nvPicPr>
        <p:blipFill>
          <a:blip r:embed="rId1"/>
          <a:stretch/>
        </p:blipFill>
        <p:spPr>
          <a:xfrm>
            <a:off x="5292720" y="2852640"/>
            <a:ext cx="3259080" cy="2352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вишня1"/>
          <p:cNvPicPr/>
          <p:nvPr/>
        </p:nvPicPr>
        <p:blipFill>
          <a:blip r:embed="rId2"/>
          <a:stretch/>
        </p:blipFill>
        <p:spPr>
          <a:xfrm>
            <a:off x="1692360" y="1125360"/>
            <a:ext cx="32716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71600" y="566100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Щавелек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7" descr="щавелек"/>
          <p:cNvPicPr/>
          <p:nvPr/>
        </p:nvPicPr>
        <p:blipFill>
          <a:blip r:embed="rId1"/>
          <a:stretch/>
        </p:blipFill>
        <p:spPr>
          <a:xfrm>
            <a:off x="2987640" y="907920"/>
            <a:ext cx="4319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b3384"/>
                </a:solidFill>
                <a:latin typeface="Times New Roman"/>
              </a:rPr>
              <a:t>Деревья лесной зоны</a:t>
            </a:r>
            <a:endParaRPr b="0" lang="en-US" sz="60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63640" y="2565360"/>
            <a:ext cx="7772400" cy="34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Широколиственные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Мелколиственные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Хвойные 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1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5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Листья широколиственных (1,2,5,6) и мелколиственных (3,4,7) деревьев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 – дуб, 2 – липа, 3 – береза, 4 – осина,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5 -  клен, 6 – вяз, 7 - ольха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7" descr="сканирование0003"/>
          <p:cNvPicPr/>
          <p:nvPr/>
        </p:nvPicPr>
        <p:blipFill>
          <a:blip r:embed="rId1"/>
          <a:stretch/>
        </p:blipFill>
        <p:spPr>
          <a:xfrm>
            <a:off x="1763640" y="549360"/>
            <a:ext cx="69120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371600" y="4876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Форма крон у деревьев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 – береза повислая, 2 – тополь пирамидальный, 3 – итальянская сосна, 4 – пихта, 5 – липа, 6 – дуб черешчатый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7" descr="сканирование0004"/>
          <p:cNvPicPr/>
          <p:nvPr/>
        </p:nvPicPr>
        <p:blipFill>
          <a:blip r:embed="rId1"/>
          <a:stretch/>
        </p:blipFill>
        <p:spPr>
          <a:xfrm>
            <a:off x="1692360" y="333360"/>
            <a:ext cx="7245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005440" y="2852640"/>
            <a:ext cx="4138560" cy="31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 – столбовидный кактус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2 – канделябровидный кактус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b3384"/>
                </a:solidFill>
                <a:latin typeface="Times New Roman"/>
              </a:rPr>
              <a:t>Суккулентные деревья</a:t>
            </a:r>
            <a:endParaRPr b="0" lang="en-US" sz="60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135" name="Picture 11" descr="сканирование0005"/>
          <p:cNvPicPr/>
          <p:nvPr/>
        </p:nvPicPr>
        <p:blipFill>
          <a:blip r:embed="rId1"/>
          <a:stretch/>
        </p:blipFill>
        <p:spPr>
          <a:xfrm>
            <a:off x="1763640" y="1700280"/>
            <a:ext cx="3376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8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b3384"/>
                </a:solidFill>
                <a:latin typeface="Times New Roman"/>
              </a:rPr>
              <a:t>Саксаул </a:t>
            </a:r>
            <a:endParaRPr b="0" lang="en-US" sz="72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6165360"/>
            <a:ext cx="7772400" cy="41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Общий вид дерева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7" descr="сканирование0006"/>
          <p:cNvPicPr/>
          <p:nvPr/>
        </p:nvPicPr>
        <p:blipFill>
          <a:blip r:embed="rId1"/>
          <a:stretch/>
        </p:blipFill>
        <p:spPr>
          <a:xfrm>
            <a:off x="3492360" y="1413000"/>
            <a:ext cx="352116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3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деревь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устарники и кустарничк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трав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лиан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растения-подушк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орнеотпрысковые растения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1763640" y="260280"/>
            <a:ext cx="698364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лассификац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изненных форм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Жизненные формы </a:t>
            </a:r>
            <a:br>
              <a:rPr sz="5400"/>
            </a:b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комнатных растений </a:t>
            </a:r>
            <a:endParaRPr b="0" lang="en-US" sz="5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уккулент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Древес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апоротник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Лукович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Лианообраз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Эпифит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8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2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6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0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" dur="1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3357720"/>
            <a:ext cx="7772400" cy="116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Практическая работа «Изучение жизненных форм растений на пришкольном участке»</a:t>
            </a:r>
            <a:endParaRPr b="0" lang="en-US" sz="5400" spc="-1" strike="noStrike">
              <a:solidFill>
                <a:srgbClr val="4b338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b3384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А.М. Былова Экология растений. Учебник 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b3384"/>
                </a:solidFill>
                <a:latin typeface="Times New Roman"/>
              </a:rPr>
              <a:t>ПОЛУКУСТАРНИК</a:t>
            </a:r>
            <a:endParaRPr b="0" lang="en-US" sz="60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47640" y="5084280"/>
            <a:ext cx="7772400" cy="157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лынь сантолинолистная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бщий вид растения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Его схема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Picture 7" descr="сканирование"/>
          <p:cNvPicPr/>
          <p:nvPr/>
        </p:nvPicPr>
        <p:blipFill>
          <a:blip r:embed="rId1"/>
          <a:stretch/>
        </p:blipFill>
        <p:spPr>
          <a:xfrm>
            <a:off x="3203640" y="1268280"/>
            <a:ext cx="3744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4b3384"/>
                </a:solidFill>
                <a:latin typeface="Times New Roman"/>
              </a:rPr>
              <a:t>ЛИАНЫ</a:t>
            </a:r>
            <a:endParaRPr b="0" lang="en-US" sz="80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0160" y="2492280"/>
            <a:ext cx="7772400" cy="329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Деревянистые</a:t>
            </a: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Травянистые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907640" y="5300280"/>
            <a:ext cx="6767640" cy="99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Плющ обыкновенный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Объект 2" descr=""/>
          <p:cNvPicPr/>
          <p:nvPr/>
        </p:nvPicPr>
        <p:blipFill>
          <a:blip r:embed="rId1"/>
          <a:stretch/>
        </p:blipFill>
        <p:spPr>
          <a:xfrm>
            <a:off x="2700360" y="115920"/>
            <a:ext cx="5184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70160" y="5876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Виноград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7" descr="виноград"/>
          <p:cNvPicPr/>
          <p:nvPr/>
        </p:nvPicPr>
        <p:blipFill>
          <a:blip r:embed="rId1"/>
          <a:stretch/>
        </p:blipFill>
        <p:spPr>
          <a:xfrm>
            <a:off x="1692360" y="692280"/>
            <a:ext cx="3311280" cy="2493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виноград1"/>
          <p:cNvPicPr/>
          <p:nvPr/>
        </p:nvPicPr>
        <p:blipFill>
          <a:blip r:embed="rId2"/>
          <a:stretch/>
        </p:blipFill>
        <p:spPr>
          <a:xfrm>
            <a:off x="5435640" y="3068640"/>
            <a:ext cx="327348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70160" y="59497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1000"/>
          </a:bodyPr>
          <a:p>
            <a:pPr marL="1749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Ротанговая пальма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7" descr="сканирование0001"/>
          <p:cNvPicPr/>
          <p:nvPr/>
        </p:nvPicPr>
        <p:blipFill>
          <a:blip r:embed="rId1"/>
          <a:stretch/>
        </p:blipFill>
        <p:spPr>
          <a:xfrm>
            <a:off x="3492360" y="549360"/>
            <a:ext cx="3384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619280" y="5661000"/>
            <a:ext cx="7772400" cy="17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Хмель </a:t>
            </a:r>
            <a:endParaRPr b="1" lang="en-US" sz="6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7" descr="хмель"/>
          <p:cNvPicPr/>
          <p:nvPr/>
        </p:nvPicPr>
        <p:blipFill>
          <a:blip r:embed="rId1"/>
          <a:stretch/>
        </p:blipFill>
        <p:spPr>
          <a:xfrm>
            <a:off x="5580000" y="1341360"/>
            <a:ext cx="2732040" cy="403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хмель1"/>
          <p:cNvPicPr/>
          <p:nvPr/>
        </p:nvPicPr>
        <p:blipFill>
          <a:blip r:embed="rId2"/>
          <a:stretch/>
        </p:blipFill>
        <p:spPr>
          <a:xfrm>
            <a:off x="1835280" y="260280"/>
            <a:ext cx="311148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71600" y="5589720"/>
            <a:ext cx="7772400" cy="7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Мышиный горошек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7" descr="мыш"/>
          <p:cNvPicPr/>
          <p:nvPr/>
        </p:nvPicPr>
        <p:blipFill>
          <a:blip r:embed="rId1"/>
          <a:stretch/>
        </p:blipFill>
        <p:spPr>
          <a:xfrm>
            <a:off x="5867280" y="836640"/>
            <a:ext cx="2874960" cy="381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мыш"/>
          <p:cNvPicPr/>
          <p:nvPr/>
        </p:nvPicPr>
        <p:blipFill>
          <a:blip r:embed="rId2"/>
          <a:stretch/>
        </p:blipFill>
        <p:spPr>
          <a:xfrm>
            <a:off x="1763640" y="1341360"/>
            <a:ext cx="37450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6:10:51Z</dcterms:created>
  <dc:creator>123</dc:creator>
  <dc:description/>
  <dc:language>en-US</dc:language>
  <cp:lastModifiedBy>Сова</cp:lastModifiedBy>
  <dcterms:modified xsi:type="dcterms:W3CDTF">2012-11-14T19:31:41Z</dcterms:modified>
  <cp:revision>23</cp:revision>
  <dc:subject/>
  <dc:title>Слайд 1</dc:title>
</cp:coreProperties>
</file>