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59C-CDB6-41DB-BF6A-F3AC7CB3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814-0352-49BD-904C-B4E64163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5E9-F371-40B0-B216-7E17C6F6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289-D7DB-482A-88C0-3FB15D55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04B-F88F-4F31-8835-8A0DE4AB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5B8-9F7E-4BFA-96B6-03357082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A6F-FD00-41C2-9514-0B470597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9E3-65B6-4C60-A5E3-E722BEBD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4AE-1CF6-440E-A0E2-CBE55F3D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AD6-550F-48AE-8B46-D2FE8B91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A09-43B7-4B5E-A6FD-B88322EB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27C-C574-4B49-A9B4-F0ECCBE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63B3-84A6-443D-9436-290057817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ylonglife.com/fobii-spiso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5956200"/>
            <a:ext cx="2136600" cy="71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3280" y="260280"/>
            <a:ext cx="423036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существуют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различные методы лечения фобий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страхов. Наиболее эффективн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бавления от фобий,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наилучшим образом зарекомендовала себя на Западе – когнитивно-поведенческая терапия. В ее основе лежит работа с психологом: причем психолог работает с механизмом страха напрямую – здесь и сейчас, что позволяет быстро достигать результатов (всего за 2-4 часа работы). Во время первого занятия Вы получаете практические навыки самостоятельного контроля своих эмоций. Т.е. психолог выступает в качестве тренера, задача которого – дать вам ключ к преодолению страха, а воспользоваться им Вы сможете сами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4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2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 — тест для самооценки тревожных расстройств (неврозов), разработанный в Университете Дьюка Вильямом За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6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является инструментом для измерения степени выраженности различных фобий, панических атак и других тревожных расстройств. Оценка тяжести тревожного расстройства по шкале проводится на основе самооценки пациента. Шкала применяется в диагностических и клинических исследованиях тревоги, предварительной диагностике тревожных расстройств, эпидемиологических исследованиях и клинических испытаниях лекарствен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содержит 20 утверждений, по каждому из которых исследуемый дает ответ по частоте возникновения у него того или иного признака, ранжированной в четырех градациях: «редко», «иногда», «часто» и «очень часто». Исследуемого просят отметить соответствующие ячейки бланка шкалы, которые точнее всего отражают его состояние за последнюю неделю. По результатам ответов на все 20 пунктов определяется суммарный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6328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себя более нервным(ой) и тревожным(ой), чем обы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испытываю чувство страха совершенно без 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легко огорчаюсь или впадаю в па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, что я не могу собраться и взять себя в р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 благополучия, я чувствую, что со мной не случится ничего плох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и руки и ноги дрожат и трясу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ют головные боли, боли в шее и сп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разбитость и быстро ус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спокоен(а) и не суетлив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ет ощущение учащенного сердцеби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04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приступы головокруж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обмороки или я чувствую, что могу потерять 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дышу свобод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испытываю ощущение онемения и покалывания в пальцах рук и но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боли в желудке и расстройства пищева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позывы к мочеиспусканию бываю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и руки сухие и тепл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е лицо «горит» и красне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легко засыпаю и утром просыпаюсь отдохнувшим(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ня мучают ночные кошм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1, 2, 3, 4, 6, 7, 8, 10, 11, 12, 14, 15, 16, 18 и 20 оцениваются следующим образом: «редко» — 1; «иногда» — 2; «часто» — 3; «очень часто» —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5, 9, 13, 17 и 19 шкалы оцениваются следующим образом: «редко» — 4; «иногда» — 3; «часто» — 2; «очень часто» —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ка суммарного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4 — Н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59 — Легкое тревожное расстройство или средне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4 — Выраженное тревожное расстройство или тревожное расстройство тяжело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-80 — Тревожное расстройство крайне тяжело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54080"/>
            <a:ext cx="863748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520" y="3446640"/>
            <a:ext cx="8637480" cy="48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68360" y="4002120"/>
            <a:ext cx="4318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й распространен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атофобия. Боязнь смерти,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ктрофобия. Боязнь призр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офобия. Страх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акнофобия. Боязнь па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луофобия. Боязнь тем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устрофобия. Страх замкнутых простра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зофобия. Боязнь грязи и микро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дайофобия. Страх перед зме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самые необычные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ксакосиойгексеконтагексафобия. Боязнь числа — 6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лрофобия. Страхи при виде кло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бофобия. Панический страх перед фоб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тидаефобия. Навязчивый страх, что где-то в мире есть утка, следящая за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офобия — боязнь выхода в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терафобия. Боязнь тё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обофия. Страх остаться без связи, теле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тофобия. Страх перед стоматологами и процессом лечения з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itann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и фобии — подробный список того, чего зря боятся…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erylonglife.com/fobii-spiso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ервый взгляд, разница между страхом и фобией небольшая. Там страшно, здесь страш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амом деле, фобия – это иррациональный, панический, неконтролируемый, навязчивый, болезненный УЖАС, вынуждающий человека избегать относительно безопасных ситуаций ил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стр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92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бии следует строго отличать от бреда. При фобическом синдроме больной ясно осознает навязчивый, болезненный характер одолевающего его страха, что является отличительной особенностью невротического уровня расстройств. В случаях бреда больной глубоко уверен в "реальности" собственного страха, критика к своему состоянию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часть фобий является психическим отклонением и по сути они должны подлежать лечению. Серьезные и не очень, глупые и обоснованные, постоянные и периодические фобии. Все подробности должен выяснять только врач. Иначе есть риск ‘подхватить’ следующую фобию, хорошим питанием для которой будут уже существующ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фобии признаны психическим отклонением. Часть из них является лишь некоторой проблемой реакции организма от принятого стандартна. И чаще всего, причина этого находится где-то очень недалеко, что для хорошего врача не составляет больших проблем найти ее, и испр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ами фобии можно назвать регулярное избегание ситуации, в которой возникает ощущение страха, и наступление приступов паники. Их легко распознать по следующим призна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удушья, спазмы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енное сердцебиение (сердце выскакивает из груди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слабости, оцепенение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, что вот-вот наступит обмор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льный холодный п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сильного страха, ужа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жь во всем 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вота или расстройство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о кажется “не своим”, перестает слуш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того, что сходишь с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сть хотя бы четыре из этих признаков, можно предположить наличие фоб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05:26Z</dcterms:created>
  <dc:creator>Климова</dc:creator>
  <dc:description/>
  <dc:language>en-US</dc:language>
  <cp:lastModifiedBy>User</cp:lastModifiedBy>
  <dcterms:modified xsi:type="dcterms:W3CDTF">2012-11-12T11:15:47Z</dcterms:modified>
  <cp:revision>4</cp:revision>
  <dc:subject/>
  <dc:title>Фрустр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40000000000010250600207f5200358026400</vt:lpwstr>
  </property>
</Properties>
</file>