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1F56-9D69-4D7A-8B54-8BB912BE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B0C7-4126-48F2-BC2A-C903873C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8136-BCF4-409D-90DC-DCA021FF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892-820E-4895-9AC7-0E43BEA6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83DA-F10E-4CC4-80A5-091ED080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87C3-AB0B-4B44-B41E-AE8B7002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C94F-136A-4DB3-82DB-00FDF45F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206C-DA59-4838-A891-0F1511F4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F9B2-4B8C-46E3-8CE2-E0729225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DB62-418B-4FA5-B609-922D6F1D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6F32-0343-42A8-AF3D-6A507D5C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0AD2-5F8D-4FD2-9EAD-36F20FB5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255D-A840-4E4B-8C70-B5B55FDE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1CF9-7B51-43DE-8606-11A699F1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63F1-7E09-4C56-B81B-554E8A5E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3A2B-F40B-4927-9792-2359B913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1EE6-21CD-40FE-9BCF-CAFC21E8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77E529-90E8-4372-927A-3517FF93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7CF27-059E-41FB-8916-C96D46F1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35FDC0-5899-4391-BF34-11CBA503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10EE84-868F-40DE-B20E-041E9C99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A9668F-D5FA-4A24-8CE3-98AF23F8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375C-EA9E-42BE-99D6-EA1C0C32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8074EA-0C79-4563-BC38-C02A1BF7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3EE006-B0DA-4CC9-9387-2AE59774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6BEC61-D47D-4F64-9BF9-56BAD7F3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D3BF9-94F9-45CA-AF97-43D130DA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939DFF-957E-4D1B-B405-9973BE9F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DA530-10CC-49E2-B83A-5FF1332B0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254EB-8263-4712-9D1B-7A4B82EF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8C191-C2D9-41CF-AB76-D467364C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8DA75-5AED-412A-9739-96C629BE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5A6CB-9D8E-445C-897D-7C7C440F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1DA1-D18E-4CC9-AA19-E78D5D64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26E3E-BD75-4630-B96C-6284BD80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84AA4-BDE0-4375-8F7E-EF14AD86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38279-1732-4C7D-B019-A0D5A0AA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A7A19-DCD5-401F-8671-A502B35A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7D997-8594-4CC3-B982-7F37CB1C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C431D-5585-43FC-A895-016C1A38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5F6A4-9FC6-4FF0-9FC1-765A812F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03D06-1E5D-47E3-A323-4628E335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AAE6C-0530-4C04-8609-9B23D7AE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F55EC6-2F3D-462F-92C7-B60B6B84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B6E6-4DA5-4254-A1EE-4A864D42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F2410D-187F-41B4-882C-49942488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AD8A0D-B1F6-429E-AEF9-8E2A2F03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4F897A-52A0-4D11-9AB9-B7525959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EC84F8-FF41-4253-9949-DEEB2F46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E24AF2-12D7-4D47-AE71-81082D09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1DB62C-7439-4A7D-B2BB-750DA300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B10C03-8C9D-41E2-80F7-9AF35FB8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CC73B2-512E-4C81-88D1-29610A1E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CFC514-0481-4EAA-8EF7-E9A68121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A3E035-1D1E-4583-B6C6-4E771B10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F415-EAEF-40B0-AA7F-A61F0E56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1A6B4B-EFD3-4B0A-A1AE-8B7A0CF9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DC1899-0CF5-4DB5-9B6B-D437AD68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16814F-F989-4223-A85E-BE1B0997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FC0110-B0BA-472F-A587-91C340A3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E7EE5C-9815-49EB-A719-0918A7D1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FB5FE3-934B-4FD5-AA84-0DC7D6D1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FE0463-FCAD-4348-984B-7B2B2ED2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4DB145-12BA-4072-8E2F-6F02E2F4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6D4D05-CD4E-42CF-BBB4-C90ECC53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457723-B505-451C-829A-4149E33E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DEC1-000C-44DC-A515-310B86B8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F48476-91F8-4F23-8FE5-3013BC9A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915C29-9C8A-40EA-B004-1D1757D8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C384A5-20DC-4119-B035-6420578E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EDCC04-A945-4F5E-B6D4-DEABF539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B8588D-593A-4081-9DF5-69ABCD9A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0F6F4A-C2B8-4C3C-A3D4-F19A2759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CCDC32-5776-496E-BA63-0DDA2C67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002070-A879-49E2-8747-10AA9105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6A64D9-AD5E-4FC3-BAE8-A6177D8C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534681-8982-4EA7-AEE4-85AE48BA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4E1B-5EE3-437D-984A-D32544E2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BC71FE-A0BA-493F-BC45-76C2B786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7862A7-07FE-444C-BBEF-F67A5F91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DE557E-C8E8-40C8-B29D-03970529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E00A82-D582-45EA-8014-8949B032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3DDB69-6F56-4FBC-80AD-945D1DE8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62A4-F6F8-4096-B95F-E8177D3C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AE70-A0FB-4BDA-A669-99BA714D5DC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422A-A120-49B6-93C7-45B38EB58BF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2607-C891-458F-89D3-F4E4D697E83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847A-E538-4FC1-B197-C6AF6A2D82C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71CD-BC56-4468-B852-8D6BE792625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25CB-C668-4490-A413-0F623CB7DDD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FE06-2580-4A31-84F1-17DDE9FC78F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28920" y="285480"/>
            <a:ext cx="65008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МОЦИИ ТРЕВОГИ И СТРАХА: СРАВНИТЕЛЬНАЯ ХАРАКТЕРИСТИ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 rot="21285600">
            <a:off x="5357880" y="1643040"/>
            <a:ext cx="3413160" cy="2571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 rot="541800">
            <a:off x="2144520" y="4540320"/>
            <a:ext cx="3166920" cy="20811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3"/>
          <a:stretch/>
        </p:blipFill>
        <p:spPr>
          <a:xfrm rot="1005600">
            <a:off x="500040" y="428760"/>
            <a:ext cx="1776600" cy="2357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4"/>
          <a:stretch/>
        </p:blipFill>
        <p:spPr>
          <a:xfrm rot="20731800">
            <a:off x="2499840" y="1857240"/>
            <a:ext cx="2265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3920" y="357120"/>
            <a:ext cx="6829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ГА И ТРЕВОЖНОСТЬ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143000"/>
            <a:ext cx="825804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это эмоциональное переживание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жно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психологическая особенность, устойчивое свойство человека, характерная для него черта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 rot="211200">
            <a:off x="433440" y="3832200"/>
            <a:ext cx="3929040" cy="26114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"/>
          <p:cNvPicPr/>
          <p:nvPr/>
        </p:nvPicPr>
        <p:blipFill>
          <a:blip r:embed="rId2"/>
          <a:stretch/>
        </p:blipFill>
        <p:spPr>
          <a:xfrm rot="21229200">
            <a:off x="4838400" y="3839760"/>
            <a:ext cx="37861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63579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ЖНОСТЬ И СТРАХ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13840" y="928800"/>
            <a:ext cx="8543880" cy="56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итерии различ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конкретности угрозы, опасности, на которую реагирует челове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угроз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реагирования человек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ь организации пережи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сть пережи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ение внутренней напряженност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ражительност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бственно тревог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ах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ение неотвратимости надвигающейся катастрофы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вожно-боязливое возбужде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6929280" y="214200"/>
            <a:ext cx="1722600" cy="1785960"/>
          </a:xfrm>
          <a:prstGeom prst="rect">
            <a:avLst/>
          </a:prstGeom>
          <a:ln w="0">
            <a:noFill/>
          </a:ln>
        </p:spPr>
      </p:pic>
      <p:sp>
        <p:nvSpPr>
          <p:cNvPr id="363" name="Стрелка вправо 5"/>
          <p:cNvSpPr/>
          <p:nvPr/>
        </p:nvSpPr>
        <p:spPr>
          <a:xfrm>
            <a:off x="357120" y="457200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Стрелка вправо 6"/>
          <p:cNvSpPr/>
          <p:nvPr/>
        </p:nvSpPr>
        <p:spPr>
          <a:xfrm>
            <a:off x="357120" y="492912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Стрелка вправо 7"/>
          <p:cNvSpPr/>
          <p:nvPr/>
        </p:nvSpPr>
        <p:spPr>
          <a:xfrm>
            <a:off x="7429680" y="4929120"/>
            <a:ext cx="285480" cy="214560"/>
          </a:xfrm>
          <a:prstGeom prst="rightArrow">
            <a:avLst>
              <a:gd name="adj1" fmla="val 50000"/>
              <a:gd name="adj2" fmla="val 49895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Стрелка вправо 8"/>
          <p:cNvSpPr/>
          <p:nvPr/>
        </p:nvSpPr>
        <p:spPr>
          <a:xfrm>
            <a:off x="3714840" y="492912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Стрелка вправо 9"/>
          <p:cNvSpPr/>
          <p:nvPr/>
        </p:nvSpPr>
        <p:spPr>
          <a:xfrm>
            <a:off x="357120" y="5286240"/>
            <a:ext cx="28584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Стрелка вправо 10"/>
          <p:cNvSpPr/>
          <p:nvPr/>
        </p:nvSpPr>
        <p:spPr>
          <a:xfrm>
            <a:off x="357120" y="5643720"/>
            <a:ext cx="28584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28880" y="357120"/>
            <a:ext cx="4543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ВОГА И СТРАХ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57200" y="1143000"/>
          <a:ext cx="8186760" cy="4857840"/>
        </p:xfrm>
        <a:graphic>
          <a:graphicData uri="http://schemas.openxmlformats.org/drawingml/2006/table">
            <a:tbl>
              <a:tblPr/>
              <a:tblGrid>
                <a:gridCol w="4210200"/>
                <a:gridCol w="397656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ТР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РЕВ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ная определенная, специфичная эмо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да несет негативный оттен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комбинация эмоций, где страх – лишь одна из н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а и в виде радостного волнения, волнующего ожи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: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рахе и в тревоге есть общий эмоциональный компонент в виде чувства волнения и беспокойства, т.е. в обоих понятиях отображено восприятие угрозы или отсутствие чувства без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13880" y="213840"/>
            <a:ext cx="768204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АХ И ТРЕВОГА ПО ЩЕРБАТЫХ Ю.В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28760" y="1071720"/>
          <a:ext cx="8072280" cy="5367240"/>
        </p:xfrm>
        <a:graphic>
          <a:graphicData uri="http://schemas.openxmlformats.org/drawingml/2006/table">
            <a:tbl>
              <a:tblPr/>
              <a:tblGrid>
                <a:gridCol w="2690640"/>
                <a:gridCol w="2691000"/>
                <a:gridCol w="269064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ризна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Тревог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тр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гнал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 на 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2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ные особ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до наступления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никает во время наступления опас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 на психи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буждаю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мозя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17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стимулов, вызывающих эмоци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пределенный, абстрактный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ный, конкретный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500040" y="428760"/>
          <a:ext cx="7786800" cy="6000480"/>
        </p:xfrm>
        <a:graphic>
          <a:graphicData uri="http://schemas.openxmlformats.org/drawingml/2006/table">
            <a:tbl>
              <a:tblPr/>
              <a:tblGrid>
                <a:gridCol w="2595600"/>
                <a:gridCol w="2595600"/>
                <a:gridCol w="2595600"/>
              </a:tblGrid>
              <a:tr h="1711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во време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цирована в будуще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ом является прошлый травмирующий опы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92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ь мыслительных процессов в формировании психических ощущ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рациональный феном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циональный феноме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кализация в к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вое полушар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е полушар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реагир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обусловле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инктивно-обусловле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23572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ЮМЕ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214200" y="1000080"/>
            <a:ext cx="850104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эмоциональным переживанием, 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ж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тойчивое свойство челове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вожность и страх различаются по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конкретности угрозы; направленности угрозы; способу реагирования человека; сложности организации переживания; интенсивности пережива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овершенная определенная, специфичная эмоция.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тревог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комбинация эмоций, где страх – лишь одна из них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несет негативный оттенок, а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ревог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зможна и в виде радостного волнения, волнующего ожид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4114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ЛИТЕРАТУРА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428840"/>
            <a:ext cx="775800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ербатых Ю.В. Ивлева Е.И. «Психофизиологические и клинические аспекты страха, тревоги и фобий». Воронеж. Истоки. 199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psy.1september.ru/articlef.php?ID=200400804. Статья: «ТРЕВОЖНОСТЬ, ТРЕВОГА, СТРАХ: РАЗЛИЧЕНИЕ ПОНЯТИЙ» - Игорь ВАЧКОВ, доктор психологических нау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рд  К.Э.  Психология эмоций  СПб., 199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2T18:50:53Z</dcterms:modified>
  <cp:revision>8</cp:revision>
  <dc:subject/>
  <dc:title>Эмоции тревоги и страха: сравнительная характерис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a0000000000010250600207f5200358026400</vt:lpwstr>
  </property>
</Properties>
</file>