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C61C-43F0-48AB-958F-30576641B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354D-075D-4A38-88AE-17498646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2832-1108-45C1-8C89-5D192EBAB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C6B7-DFC8-4C35-A820-267471D7E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32F1-98A4-49EE-85E0-47B7D5778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4230-205C-44D9-9BB8-1AAB997E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2B0D-C56E-4D8A-8CF1-E560F7AB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035C-BC8E-4CFF-9CF3-3019529A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42C2-6D9E-405E-B0F2-83D289C7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E87E-5870-41B3-9FC6-123B86AA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1550-62C7-43DC-AAFF-3BA07A8A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AB2D-4FDD-464C-AEF3-A9BD177D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AFB6-F22C-4366-8E2F-7AF1CF22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B010-FAB6-4DBD-A722-7074E96C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AFE9-9965-44A9-82DF-478AAFF8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557A-D49B-4A26-8B3C-9474BE2CD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64A5-89A0-449C-90DB-B21C3B420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B2CA5E-32F0-4C9D-BDF8-0952A050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584A9C-DE97-4E4D-B19B-78A5F4A9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70DCEE-D35F-483F-A355-E155AC00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D38494-D09A-423B-8812-9FF71FD3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43FCDA-0A66-4A1E-B7BC-B2CFBA3C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82A9-4AC7-438F-89C7-7DCE9167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DFD6A7-F3E1-49F4-B997-C307E6EC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F9A4DF-FCD5-4096-992A-A7AD29EB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AAA72E-A249-43F1-98E5-6A93F33F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4740E9-388B-4CAA-8E95-D0A229D0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208A74-2DA1-4341-9A62-3FE9B2E6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BE1B2B-BD8B-4803-B69B-ACAAB43E2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9D5DC6-520C-425B-BF37-6FBB83FD8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2EDB9-2EC0-4F1B-B546-54F429DD5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F3A2C-B2AB-442D-880E-55894514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C84DE-A242-467A-A252-277E8971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AEF4-49E6-4BAE-9918-6D185EFE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5B915-BF7B-4791-90BE-27940319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83D68-EC20-4041-8335-B7729718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B95C9-AB6A-4462-8D8C-2ECA7AE4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D612F-076A-4520-9CD8-A6507142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13612-E03F-4F21-BE5B-85574754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22A63-6EAF-49BC-B203-A8A76045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CDE78-E23A-4D0A-807E-3C2894DB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C00BF-673F-4836-A936-CE71EF59B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D911B-06FC-4360-A8CD-0EFF402BA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0BA1F0-0986-4370-8C94-D5E19F3A0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C0FC-EF0F-4EFD-A065-5E6D2454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500ADF-CE6D-41F2-87C4-15D8734F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7DD8B0-4E3C-4CED-86A5-FC8D155E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D9C0B0-CB35-446A-9627-0A82B3A9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5AC2A4-91D8-4742-B3E2-577A9D90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515EFC-EB6C-41AF-BFFF-6AC0FFEA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DEC0F5-1167-42DD-99CB-B276AF7C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A87D9C-7F2A-423A-8DD3-2AABF9D2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EE6F36-7241-49FD-9C7C-6B4B35A4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17F10C-5AB1-473E-A84E-12C2E886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7B611A-23CD-4B55-B236-AD6DACDE5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DE12-05F3-4186-92C8-6C472ECD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E32111-53F5-4C95-A564-4701114E1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FEBA93-DA2F-4D72-8E92-77981E050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12214D-1474-4F58-B8D0-1171BCD6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5C0074-692E-403A-AEC3-8044516D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DBE047-FB5E-4B56-9499-ECC4737C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842F71-8079-4979-B44E-BBD4C72D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E3438D-0AE2-4B7A-9D99-2F059353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3C95C9-FFAD-4A20-AECD-7EC275C8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F33132-30D1-45E5-9035-A5AE2116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8AD86A-FB2D-44CB-A690-7C17E304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E249-F6A2-4982-BCC4-B81F8987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38A47B-1CF8-4889-9C31-69A8A9A3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21723F-951B-440A-B538-D2AF62F88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6F603B-7567-4895-9B64-5B0E90A64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4A4740-2A20-41BF-B504-6ABD71B37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62B540-AA96-48D6-B0C1-B6CAE49E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D97ECB-0AA1-4E94-B25D-5DAFAD4A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7FD250-3EFE-4EE8-BEDB-2936EAF5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C8326F-3F13-4D1B-AE39-1901145D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7FFD41-EA63-41C1-A8B4-F30C04E9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3021A0-31F0-4A25-8E67-4F30AF77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D1EB-B20B-49E2-BE04-5888EEDC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B9D166-93DD-4D3A-ADBA-D558B7B2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551FA5-A585-4027-A073-D17718FE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F94A5D-E99C-48D2-AD0C-6ED7787F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E68B49-BA9D-4CA7-BDED-1A1717E3C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01AEFF-F78D-4D4E-ACD0-9AAE5A683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8C85-1F7D-4088-ACC1-8F141406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C1E0-9058-43DC-8A80-E837EBC9248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ACDD-5239-4FEC-A184-EDC58C2FA2E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A8F3-AFD6-4B19-BFAB-2B92443483E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1FA9-40E0-49F5-9675-77C54EF5F8B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86FD-813D-4770-A2B2-5BEB3866518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AE2F-F16C-411F-8611-428F4B1BC5D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8746-BFC5-4B2B-A319-6EA29251AF9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28920" y="285480"/>
            <a:ext cx="650088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МОЦИИ ТРЕВОГИ И СТРАХА: СРАВНИТЕЛЬНАЯ ХАРАКТЕРИСТИК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 rot="21285600">
            <a:off x="5357880" y="1643040"/>
            <a:ext cx="3413160" cy="2571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" descr=""/>
          <p:cNvPicPr/>
          <p:nvPr/>
        </p:nvPicPr>
        <p:blipFill>
          <a:blip r:embed="rId2"/>
          <a:stretch/>
        </p:blipFill>
        <p:spPr>
          <a:xfrm rot="541800">
            <a:off x="2144520" y="4540320"/>
            <a:ext cx="3166920" cy="20811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"/>
          <p:cNvPicPr/>
          <p:nvPr/>
        </p:nvPicPr>
        <p:blipFill>
          <a:blip r:embed="rId3"/>
          <a:stretch/>
        </p:blipFill>
        <p:spPr>
          <a:xfrm rot="1005600">
            <a:off x="500040" y="428760"/>
            <a:ext cx="1776600" cy="2357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"/>
          <p:cNvPicPr/>
          <p:nvPr/>
        </p:nvPicPr>
        <p:blipFill>
          <a:blip r:embed="rId4"/>
          <a:stretch/>
        </p:blipFill>
        <p:spPr>
          <a:xfrm rot="20731800">
            <a:off x="2499840" y="1857240"/>
            <a:ext cx="2265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3920" y="357120"/>
            <a:ext cx="6829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ВОГА И ТРЕВОЖНОСТЬ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143000"/>
            <a:ext cx="825804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г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это эмоциональное переживание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жнос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психологическая особенность, устойчивое свойство человека, характерная для него черта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 rot="211200">
            <a:off x="433440" y="3832200"/>
            <a:ext cx="3929040" cy="26114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"/>
          <p:cNvPicPr/>
          <p:nvPr/>
        </p:nvPicPr>
        <p:blipFill>
          <a:blip r:embed="rId2"/>
          <a:stretch/>
        </p:blipFill>
        <p:spPr>
          <a:xfrm rot="21229200">
            <a:off x="4838400" y="3839760"/>
            <a:ext cx="378612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63579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ВОЖНОСТЬ И СТРАХ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13840" y="928800"/>
            <a:ext cx="854388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ритерии различия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ь конкретности угрозы, опасности, на которую реагирует человек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ость угроз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реагирования человек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ь организации пережива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сивность пережива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щущение внутренней напряженности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ражительност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бственно тревог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ах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щущение неотвратимости надвигающейся катастроф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вожно-боязливое возбужде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6929280" y="214200"/>
            <a:ext cx="1722600" cy="1785960"/>
          </a:xfrm>
          <a:prstGeom prst="rect">
            <a:avLst/>
          </a:prstGeom>
          <a:ln w="0">
            <a:noFill/>
          </a:ln>
        </p:spPr>
      </p:pic>
      <p:sp>
        <p:nvSpPr>
          <p:cNvPr id="363" name="Стрелка вправо 5"/>
          <p:cNvSpPr/>
          <p:nvPr/>
        </p:nvSpPr>
        <p:spPr>
          <a:xfrm>
            <a:off x="357120" y="457200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Стрелка вправо 6"/>
          <p:cNvSpPr/>
          <p:nvPr/>
        </p:nvSpPr>
        <p:spPr>
          <a:xfrm>
            <a:off x="357120" y="4929120"/>
            <a:ext cx="28584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Стрелка вправо 7"/>
          <p:cNvSpPr/>
          <p:nvPr/>
        </p:nvSpPr>
        <p:spPr>
          <a:xfrm>
            <a:off x="7429680" y="4929120"/>
            <a:ext cx="285480" cy="214560"/>
          </a:xfrm>
          <a:prstGeom prst="rightArrow">
            <a:avLst>
              <a:gd name="adj1" fmla="val 50000"/>
              <a:gd name="adj2" fmla="val 49895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Стрелка вправо 8"/>
          <p:cNvSpPr/>
          <p:nvPr/>
        </p:nvSpPr>
        <p:spPr>
          <a:xfrm>
            <a:off x="3714840" y="4929120"/>
            <a:ext cx="28584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Стрелка вправо 9"/>
          <p:cNvSpPr/>
          <p:nvPr/>
        </p:nvSpPr>
        <p:spPr>
          <a:xfrm>
            <a:off x="357120" y="5286240"/>
            <a:ext cx="28584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Стрелка вправо 10"/>
          <p:cNvSpPr/>
          <p:nvPr/>
        </p:nvSpPr>
        <p:spPr>
          <a:xfrm>
            <a:off x="357120" y="564372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28880" y="357120"/>
            <a:ext cx="4543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ВОГА И СТРАХ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457200" y="1143000"/>
          <a:ext cx="8186760" cy="4857840"/>
        </p:xfrm>
        <a:graphic>
          <a:graphicData uri="http://schemas.openxmlformats.org/drawingml/2006/table">
            <a:tbl>
              <a:tblPr/>
              <a:tblGrid>
                <a:gridCol w="4210200"/>
                <a:gridCol w="397656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ТР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ТРЕВО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енная определенная, специфичная эмо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да несет негативный оттен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 комбинация эмоций, где страх – лишь одна из н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а и в виде радостного волнения, волнующего ожи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9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: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рахе и в тревоге есть общий эмоциональный компонент в виде чувства волнения и беспокойства, т.е. в обоих понятиях отображено восприятие угрозы или отсутствие чувства без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13880" y="213840"/>
            <a:ext cx="7682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АХ И ТРЕВОГА ПО ЩЕРБАТЫХ Ю.В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428760" y="1071720"/>
          <a:ext cx="8072280" cy="5367240"/>
        </p:xfrm>
        <a:graphic>
          <a:graphicData uri="http://schemas.openxmlformats.org/drawingml/2006/table">
            <a:tbl>
              <a:tblPr/>
              <a:tblGrid>
                <a:gridCol w="2690640"/>
                <a:gridCol w="2691000"/>
                <a:gridCol w="2690640"/>
              </a:tblGrid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ризна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Трево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тр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к 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гнал 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 на опа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24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енные особен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никает до наступления 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никает во время наступления 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е на психи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буждающ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мозящ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17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 стимулов, вызывающих эмоци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пределенный, абстрактный харак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ный, конкретный харак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500040" y="428760"/>
          <a:ext cx="7786800" cy="6000480"/>
        </p:xfrm>
        <a:graphic>
          <a:graphicData uri="http://schemas.openxmlformats.org/drawingml/2006/table">
            <a:tbl>
              <a:tblPr/>
              <a:tblGrid>
                <a:gridCol w="2595600"/>
                <a:gridCol w="2595600"/>
                <a:gridCol w="2595600"/>
              </a:tblGrid>
              <a:tr h="17110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 во време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цирована в будущ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чником является прошлый травмирующий опы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924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мыслительных процессов в формировании психических ощущ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рациональный феном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циональный феном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кализация в ко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вое полушар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е полушар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реагир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-обусловлен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инктивно-обусловлен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235728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ЗЮМЕ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14200" y="1000080"/>
            <a:ext cx="850104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г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ется эмоциональным переживанием, а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ж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стойчивое свойство челове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вожность и страх различаются по: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и конкретности угрозы; направленности угрозы; способу реагирования человека; сложности организации переживания; интенсивности пережива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ра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овершенная определенная, специфичная эмоция.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 тревог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комбинация эмоций, где страх – лишь одна из ни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рах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 несет негативный оттенок, а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г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зможна и в виде радостного волнения, волнующего ожидани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71680" y="357120"/>
            <a:ext cx="4114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ЛИТЕРАТУРА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428840"/>
            <a:ext cx="775800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рбатых Ю.В. Ивлева Е.И. «Психофизиологические и клинические аспекты страха, тревоги и фобий». Воронеж. Истоки. 199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psy.1september.ru/articlef.php?ID=200400804. Статья: «ТРЕВОЖНОСТЬ, ТРЕВОГА, СТРАХ: РАЗЛИЧЕНИЕ ПОНЯТИЙ» - Игорь ВАЧКОВ, доктор психологических нау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рд  К.Э.  Психология эмоций  СПб., 1999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12T18:50:53Z</dcterms:modified>
  <cp:revision>8</cp:revision>
  <dc:subject/>
  <dc:title>Эмоции тревоги и страха: сравнительная характерист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e0a0000000000010250600207f5200358026400</vt:lpwstr>
  </property>
</Properties>
</file>