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DF2-7AFB-4677-ABD4-9B1D4657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1C4-8CD8-4C64-BC9C-4F3BE017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01B-2B76-43C1-BA21-C7D900B5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1FE-C95C-4A6C-AB7D-1F4422DF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7C5-B01B-4082-9ED8-DC1295D9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B66-172A-4BA1-9AFB-3700F8D3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357-4142-457E-9AF8-24257BE5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172-9620-495D-AA6A-0E3DBD64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2B4-5710-4F29-9863-5806415D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679-439E-46BB-B223-F3B86D28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85E-BDF2-4352-9F06-5027D1D5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716-65D3-4DC3-ABB7-EE4D702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FCA3-1E04-433D-8EC8-AB95BDC63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14360" y="762120"/>
            <a:ext cx="8242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живая стыд, человек опускает или отворачивает голову, прячет взгляд, прикрывает глаза и заливается стыдливым румянц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ишком откровенные,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интенсив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лишком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част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прояв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тыда свидетельствуют о </a:t>
            </a:r>
            <a:r>
              <a:rPr b="0" lang="ru-RU" sz="3600" spc="-1" strike="noStrike">
                <a:solidFill>
                  <a:srgbClr val="a9432b"/>
                </a:solidFill>
                <a:latin typeface="Times New Roman"/>
              </a:rPr>
              <a:t>социальном неблагополуч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ндивид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ящийся человек чувствует свою общую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стоятельность, некомпетен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забывает слова, делает неверные движения, нередк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заик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ановится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уклюж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трашно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гримаснича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680" y="1499760"/>
            <a:ext cx="81151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кажется себ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м, беспомощным, скованным, эмоционально расстроенным, глупым, никуда не годны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т. 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опровождается временной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пособностью мыслить логично и эффектив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нередко и ощущением неудачи, пораж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стыженный человек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 в состоянии выразить словам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и переж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возможно лишь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а фоне эмоциональной связ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ругим человеком, причем с таким, чье мнение и чьи чувства имеют особую ц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избежать сты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тверж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е стыда мож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т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ичи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ережив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ругих эмо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наоборот -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которых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ослужи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ой сты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В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на из базовых эмоций. Связана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соответствием ожидания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Чем бли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м человек, перед которым вы провинилис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тем сильне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ереж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Мим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опровождающая переживание вины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оль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разитель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 по одному внешнему виду человека определить, чувствует он за собой вину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сылки развития эмоции в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ятие общих моральны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ализация этих цен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5144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ность к самокри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 «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введен в психологию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.Титчене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общившим развивавшиеся в философской традиции идеи о симпатии с теориями вчувствования Э.Клиффорда и Т.Липп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я вины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связа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осознанием факта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оступка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ред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бственных взглядов и убежд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Также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безответственным поступ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чиной могут стать поступки, которы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тивореч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моральным, этическим или религиозным норм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Фун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оции вины заключается в том, что он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тимулиру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еловека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исправить ситу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осстановить нормальный ход ве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ший способ противостоять переживанию вины - жить в ладу со своей сове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на играет ключевую роль в процессе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вития личной и социальной ответств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процессе становления сове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ереживания вины характерны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ысокая степень напряж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умеренная импульсив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снижение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еб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англ. вчувствование) – специфическая система отражения партнеров по взаимодейств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сихологической литератур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рактуется как способность входить в состояния другого, как </a:t>
            </a:r>
            <a:r>
              <a:rPr b="0" lang="ru-RU" sz="2800" spc="-1" strike="noStrike" u="sng">
                <a:solidFill>
                  <a:srgbClr val="a9432b"/>
                </a:solidFill>
                <a:uFillTx/>
                <a:latin typeface="Times New Roman"/>
              </a:rPr>
              <a:t>сопереживание и сочувствие</a:t>
            </a:r>
            <a:r>
              <a:rPr b="0" lang="ru-RU" sz="2800" spc="-1" strike="noStrike">
                <a:solidFill>
                  <a:srgbClr val="a9432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мпатии составля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эмоциональная отзывчивост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интуи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при этом значительную роль играет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зу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рациональное восприятие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шевленны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Необход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эмпатии возникает в тех случаях, когда надо выявить,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понять, предвосхити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 другого и затем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воздействова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него в нужном направле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1360" y="1571760"/>
            <a:ext cx="7615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личаю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эмоциональ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снованную на механизмах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и подражания реакциям другого человека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когни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базирующуюся н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интеллектуальных процессах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сравнение, аналогия и т. п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9432b"/>
                </a:solidFill>
                <a:latin typeface="Times New Roman"/>
              </a:rPr>
              <a:t>предикативную эмпат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проявляющуюся как способность человека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предсказывать реакции друг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конкретных ситуациях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8800" y="1856880"/>
            <a:ext cx="7758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ичь причины и следствия самопроявлений другого означает понять, почему, когда, для чего, с кем (чем)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делает, говорит, думает, воспринимает, запоминает, вспомина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чет подумать, сказать, сдела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яет свои интересы, потребности, способ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856880"/>
            <a:ext cx="7543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прогнозировать поведение другого означает понять, как, когда, почему, с какой целью о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елает, скажет, подумает по данному поводу; сможет реализовать свои мотивы, желания, потреб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т или не допустит определенные ошиб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1566720" y="-6480"/>
            <a:ext cx="709632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99840" y="1856880"/>
            <a:ext cx="7086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9432b"/>
                </a:solidFill>
                <a:latin typeface="Times New Roman"/>
              </a:rPr>
              <a:t>Сты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отрицательно окрашенное чувство, объектом которого является какой-либо поступок или качество субъек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 связан с </a:t>
            </a:r>
            <a:r>
              <a:rPr b="0" lang="ru-RU" sz="3200" spc="-1" strike="noStrike" u="sng">
                <a:solidFill>
                  <a:srgbClr val="a9432b"/>
                </a:solidFill>
                <a:uFillTx/>
                <a:latin typeface="Times New Roman"/>
              </a:rPr>
              <a:t>ощущением социальной неприемлем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о, за что стыд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3T10:33:18Z</dcterms:modified>
  <cp:revision>10</cp:revision>
  <dc:subject/>
  <dc:title>Эмоции эмпатии, стыда и вины как эмоции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c0d0000000000010250600207f5200358026400</vt:lpwstr>
  </property>
</Properties>
</file>