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DD0-516B-4E36-9E62-F0DD6FA6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6EC-DF27-4711-90E8-8B0285E7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7B4-2186-4084-939C-73D0CE89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9DD-818E-40DE-81A2-74615CF5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FFF-1D03-4402-98EB-BA386287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AC4-B3CB-4229-92F1-D7380EB5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FE3-F6A1-44AC-8EE0-2CD68559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B2E-2701-4033-B59F-03C03E5C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BD8-3A15-4DDA-B08B-E9DFDD6F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5CE-7638-4720-A7CD-C3D22CDF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054-B3C4-4A21-BD53-F69DE37A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4E6-C25D-4BCC-BF9C-C24A1EAC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5EAA-4EB5-43C6-B04A-7CC01A194D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762120"/>
            <a:ext cx="82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живая стыд, человек опускает или отворачивает голову, прячет взгляд, прикрывает глаза и заливается стыдливым румян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ишком откровенные,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интенсив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час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проя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ыда свидетельствуют о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социальном неблагополуч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диви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ящийся человек чувствует свою общую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стоятельность, некомпет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забывает слова, делает неверные движения, нередк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заик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ановится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уклюж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рашн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гримаснич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499760"/>
            <a:ext cx="81151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кажется себ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м, беспомощным, скованным, эмоционально расстроенным, глупым, никуда не год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опровождается временной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пособностью мыслить логично и эффектив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нередко и ощущением неудачи, пораж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ыженный человек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 в состоянии выразить слов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и пере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возможно лишь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а фоне эмоциональной связ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ругим человеком, причем с таким, чье мнение и чьи чувства имеют особую ц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избежать сты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твер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мож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т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ичи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жив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х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оборот -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которых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ослужи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ой сты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на из базовых эмоций. Связана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ответствием ожидания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Чем бли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человек, перед которым вы провинилис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тем сильне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Мим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провождающая переживание вины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оль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разитель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 по одному внешнему виду человека определить, чувствует он за собой вину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сылки развития эмоции в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ие общих моральны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ализация эти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ь к самокри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введен в психологию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Титчен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бщившим развивавшиеся в философской традиции идеи о симпатии с теориями вчувствования Э.Клиффорда и Т.Липп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я вины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вяз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осознанием факта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оступка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ед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ственных взглядов и убе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Также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безответственным поступ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ой могут стать поступки, котор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тивореч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моральным, этическим или религиозным норм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оции вины заключается в том, что он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тимулир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исправить ситу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осстановить нормальный ход ве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ший способ противостоять переживанию вины - жить в ладу со своей сове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 играет ключевую роль в процесс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вития личной и социальной ответ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процессе становления сове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живания вины характерны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сокая степень напряж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умеренная импульсив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нижение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англ. вчувствование) – специфическая система отражения партнеров по взаимодейств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сихологической литерату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актуется как способность входить в состояния другого, как </a:t>
            </a:r>
            <a:r>
              <a:rPr b="0" lang="ru-RU" sz="2800" spc="-1" strike="noStrike" u="sng">
                <a:solidFill>
                  <a:srgbClr val="a9432b"/>
                </a:solidFill>
                <a:uFillTx/>
                <a:latin typeface="Times New Roman"/>
              </a:rPr>
              <a:t>сопереживание и сочувствие</a:t>
            </a:r>
            <a:r>
              <a:rPr b="0" lang="ru-RU" sz="2800" spc="-1" strike="noStrike">
                <a:solidFill>
                  <a:srgbClr val="a9432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патии составля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ональная отзывчиво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инту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при этом значительную роль игра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у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циональное восприятие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шевленны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обход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мпатии возникает в тех случаях, когда надо выявит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онять, предвосхити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другого и затем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воздейств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него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1360" y="1571760"/>
            <a:ext cx="761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личаю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эмоциональ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снованную на механизмах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подражания реакциям другого человека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когни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базирующуюся н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интеллектуальных процессах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сравнение, аналогия и т. п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предика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проявляющуюся как способность челове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едсказывать реакции друг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конкретных ситуация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775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ичь причины и следствия самопроявлений другого означает понять, почему, когда, для чего, с кем (чем)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делает, говорит, думает, воспринимает, запоминает, вспомина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чет подумать, сказать, сдел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яет свои интересы, потребности, способ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огнозировать поведение другого означает понять, как, когда, почему, с какой целью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ет, скажет, подумает по данному поводу; сможет реализовать свои мотивы, желания, потреб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т или не допустит определенные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Сты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отрицательно окрашенное чувство, объектом которого является какой-либо поступок или качество субъек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вязан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ощущением социальной неприемлем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о, за что сты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3T10:33:18Z</dcterms:modified>
  <cp:revision>10</cp:revision>
  <dc:subject/>
  <dc:title>Эмоции эмпатии, стыда и вины как эмоции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0d0000000000010250600207f5200358026400</vt:lpwstr>
  </property>
</Properties>
</file>