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F7E-9C15-4897-BBEA-DDD8EE4B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962E-0CEA-4C25-8CC3-DE7CAD00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58CD-1587-47B2-AD92-E8EE3703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4F64-DF1F-4AD5-AD67-8445CD4C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2906-8166-4415-B2B0-A1FFF6FE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1EC6-EEEA-4A3A-ABCE-26C55126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044BD-F94E-4F9A-9860-6E0B8371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CEDE-33C9-4090-B271-7D345402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C3FC-5621-4CC0-9222-BC647D1D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8E48-D0D7-4584-8324-33CFFC32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02D8-111B-4E5A-B080-98128F1D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2687-088D-4407-A5BA-8E792B526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1036-1999-46B3-AC58-4BC49FBA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38C6B-B868-4FFD-B61C-53F21805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FF6C-7E99-49F2-8F3D-F8E48321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EFD5-D28B-440A-A2F4-09EF07F3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F518B-3A1A-49A2-8888-FDBEA7CC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38A43-C2BF-499D-8CA9-24F5D0ED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0A7BC-AAD4-425E-8480-D8BF6DA2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A5931-D9D9-4207-A3CD-37C4DA65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6EBB8-595A-44A3-B586-C3476AFF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BE547-4F6E-4534-9CBF-BEDBEAEC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FCEC-DC2F-4F1A-A45E-303E690E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74DC2-362E-4643-8E1A-BCF214E5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30C6C-B783-4CDF-9A3A-17BAF225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50A99-D70C-4416-BC59-42AB5A2B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E9978-0D66-4EDD-971F-CA9FEC92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11CF5-D906-4542-BCCD-6A25FF8B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5D67E-2D1E-4E80-926E-060645CA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3209-865C-4EF4-BA0B-3306D1BE1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A430A-0D44-430B-8BB1-A60FD389A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44E6C-21D9-43CF-AC27-2368F5AB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9607C-0CD1-4D2C-A2DF-6BF559A8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ADE-7419-49BD-8427-1D45186D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83EFA-A857-4A24-9EC7-BF987619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AAA35-2B6E-4B32-9DD1-BEAE2AC6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48D28-2056-4D4F-BA15-990713F6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89025-3123-4BF1-87F3-D4D453FD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06BD-D12E-4F87-A9DF-3B5E55E9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EE0DC-0926-4044-86E2-9E6C43A7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2F93-50DE-4A3E-AE6F-C529164C2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2ED71-D90B-4055-9C76-13D6E424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F9B74-5AED-4603-B1C3-8D8A07D0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4CCCE-B32E-4F1C-8435-37CDF8DC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2E7-9AE6-48CD-AA28-55C997C5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8D5F6-9D30-4EC9-833B-6FFFA806B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9C241-7DD9-4FF1-BDE9-B9D9BDC20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2019C-9C4C-43E5-ADFD-84A8EFB10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BD96D-9AFC-4C38-8FD0-69578DB6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DED72-CD05-4076-8D13-AD820DA3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64456-9874-4346-9148-68132E58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EB463-7169-47B4-BBEA-55EA678F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A045B-3AC4-407F-9BF1-6223FEC8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5522E-14FD-4B4D-9FD4-2D59EF3B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23D2E-3B59-4833-BF13-602BAD700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B373-A195-4E6F-8E94-EAAEC49C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022E8-CB2A-47E7-A9D9-C680DD9B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E09A0-9D19-46C6-81BD-F6C7783EB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42F72-E533-4568-94F7-FDEE5BF8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01870-F1FE-4FBB-97BC-9014153B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E4D06-222E-45A3-89C3-534D36FF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7F5BA-4816-4243-8799-D8F63439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EEA8A-5F34-40C2-A859-1961C9DB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82066-76D7-40D2-A1E3-34C6E11B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24E5A-7B49-4F85-BEE9-C80E4306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5E0271-FAB2-4E1E-BDDC-A51F4876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0F5-A45D-48EE-9EF6-DBE6C036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0A85A-7059-4B6A-B7AA-744E8F09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5BE79-88AE-49FC-9ECE-86B44098B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2BB52-68DC-40C3-ADDA-04814417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3DC58-D3E8-4DE3-8CB5-ADD04E7F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11E1E-5D82-4EC6-8C1F-A18C6937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F40073-ACA2-4119-BFC0-185D4772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AE027-0F16-4CE3-A384-BAF5FBB1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5E123-F209-41A8-B795-D33D2A45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92232-CE58-4A90-92BE-A5F1F05B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FF3B2-5777-47A0-99A7-D24EC196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658-AC43-476C-A459-6004B2D6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81CD1-0265-4731-BD21-C8ACA3AC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E58C9-7244-4683-883A-1B08055B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24EFA-A59F-41FB-897F-A0FBA917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8211C-63FD-432E-9399-725C6849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5A2AD-604B-4B22-A0D7-FFE011A0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298F-E75D-4C80-9EC4-563CDD8B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61.xml"/><Relationship Id="rId35" Type="http://schemas.openxmlformats.org/officeDocument/2006/relationships/slideLayout" Target="../slideLayouts/slideLayout62.xml"/><Relationship Id="rId36" Type="http://schemas.openxmlformats.org/officeDocument/2006/relationships/slideLayout" Target="../slideLayouts/slideLayout63.xml"/><Relationship Id="rId37" Type="http://schemas.openxmlformats.org/officeDocument/2006/relationships/slideLayout" Target="../slideLayouts/slideLayout64.xml"/><Relationship Id="rId38" Type="http://schemas.openxmlformats.org/officeDocument/2006/relationships/slideLayout" Target="../slideLayouts/slideLayout65.xml"/><Relationship Id="rId39" Type="http://schemas.openxmlformats.org/officeDocument/2006/relationships/slideLayout" Target="../slideLayouts/slideLayout66.xml"/><Relationship Id="rId40" Type="http://schemas.openxmlformats.org/officeDocument/2006/relationships/slideLayout" Target="../slideLayouts/slideLayout67.xml"/><Relationship Id="rId41" Type="http://schemas.openxmlformats.org/officeDocument/2006/relationships/slideLayout" Target="../slideLayouts/slideLayout68.xml"/><Relationship Id="rId42" Type="http://schemas.openxmlformats.org/officeDocument/2006/relationships/slideLayout" Target="../slideLayouts/slideLayout69.xml"/><Relationship Id="rId43" Type="http://schemas.openxmlformats.org/officeDocument/2006/relationships/slideLayout" Target="../slideLayouts/slideLayout70.xml"/><Relationship Id="rId44" Type="http://schemas.openxmlformats.org/officeDocument/2006/relationships/slideLayout" Target="../slideLayouts/slideLayout71.xml"/><Relationship Id="rId4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73.xml"/><Relationship Id="rId32" Type="http://schemas.openxmlformats.org/officeDocument/2006/relationships/slideLayout" Target="../slideLayouts/slideLayout74.xml"/><Relationship Id="rId33" Type="http://schemas.openxmlformats.org/officeDocument/2006/relationships/slideLayout" Target="../slideLayouts/slideLayout75.xml"/><Relationship Id="rId34" Type="http://schemas.openxmlformats.org/officeDocument/2006/relationships/slideLayout" Target="../slideLayouts/slideLayout76.xml"/><Relationship Id="rId35" Type="http://schemas.openxmlformats.org/officeDocument/2006/relationships/slideLayout" Target="../slideLayouts/slideLayout77.xml"/><Relationship Id="rId36" Type="http://schemas.openxmlformats.org/officeDocument/2006/relationships/slideLayout" Target="../slideLayouts/slideLayout78.xml"/><Relationship Id="rId37" Type="http://schemas.openxmlformats.org/officeDocument/2006/relationships/slideLayout" Target="../slideLayouts/slideLayout79.xml"/><Relationship Id="rId38" Type="http://schemas.openxmlformats.org/officeDocument/2006/relationships/slideLayout" Target="../slideLayouts/slideLayout80.xml"/><Relationship Id="rId39" Type="http://schemas.openxmlformats.org/officeDocument/2006/relationships/slideLayout" Target="../slideLayouts/slideLayout81.xml"/><Relationship Id="rId40" Type="http://schemas.openxmlformats.org/officeDocument/2006/relationships/slideLayout" Target="../slideLayouts/slideLayout82.xml"/><Relationship Id="rId41" Type="http://schemas.openxmlformats.org/officeDocument/2006/relationships/slideLayout" Target="../slideLayouts/slideLayout83.xml"/><Relationship Id="rId42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D1BC-AE52-4F68-9734-817780AD3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010E-7A45-4E7E-9AD9-BB46F56BC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9322-8A37-4470-A00A-8277629176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DF67-EE7F-41E2-B577-F77EB13B2EE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4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6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7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7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7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2A99-E7E5-4C5C-8686-76A19492C32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3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82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88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89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1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9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05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06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25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9E52-A2A8-4FAF-9F83-ABA189D46BA4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4"/>
    <p:sldLayoutId id="2147483715" r:id="rId35"/>
    <p:sldLayoutId id="2147483716" r:id="rId36"/>
    <p:sldLayoutId id="2147483717" r:id="rId37"/>
    <p:sldLayoutId id="2147483718" r:id="rId38"/>
    <p:sldLayoutId id="2147483719" r:id="rId39"/>
    <p:sldLayoutId id="2147483720" r:id="rId40"/>
    <p:sldLayoutId id="2147483721" r:id="rId41"/>
    <p:sldLayoutId id="2147483722" r:id="rId42"/>
    <p:sldLayoutId id="2147483723" r:id="rId43"/>
    <p:sldLayoutId id="2147483724" r:id="rId44"/>
    <p:sldLayoutId id="2147483725" r:id="rId4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78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7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9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01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02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9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0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1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2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3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4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5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6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7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8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9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0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21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19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ftr" idx="20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sldNum" idx="21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B76C-448C-4E07-BF78-DA788CA53253}" type="slidenum">
              <a:rPr b="0" lang="en-US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1"/>
    <p:sldLayoutId id="2147483728" r:id="rId32"/>
    <p:sldLayoutId id="2147483729" r:id="rId33"/>
    <p:sldLayoutId id="2147483730" r:id="rId34"/>
    <p:sldLayoutId id="2147483731" r:id="rId35"/>
    <p:sldLayoutId id="2147483732" r:id="rId36"/>
    <p:sldLayoutId id="2147483733" r:id="rId37"/>
    <p:sldLayoutId id="2147483734" r:id="rId38"/>
    <p:sldLayoutId id="2147483735" r:id="rId39"/>
    <p:sldLayoutId id="2147483736" r:id="rId40"/>
    <p:sldLayoutId id="2147483737" r:id="rId41"/>
    <p:sldLayoutId id="2147483738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нглия – родина парламентариз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547640" y="155736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Англия – родина парламента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203640" y="476280"/>
            <a:ext cx="2676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У "Майская гимназия"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6443640" y="6381720"/>
            <a:ext cx="2295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 Путятин С.Н.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2268360" y="260280"/>
            <a:ext cx="568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268360" y="26028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ори (консерваторы) отстаивали нерушимость королевских прав и существующих поряд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24000" y="537372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Виги (либералы) активно защищали права парламента и выступали за реформы в экономической и политической жизни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3492360" y="189000"/>
            <a:ext cx="504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Потерявшая поддержку большинства партия теряла право на власть, и правительство подавало в отставку.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Новое правительство формировалось из членов партии, получившей на выборах большинство мест в парлам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2627280" y="3141720"/>
            <a:ext cx="5545080" cy="260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1707 году парламент узаконил унию между Англией и Шотландие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осударство стало называться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еликобритани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125360"/>
            <a:ext cx="7696080" cy="43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династия правила в Англии накануне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ое событие считается началом революции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азовите противоборствующие стороны в гражданской войн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езультате какого события в Англии установилась парламентарная монархи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Проверь себя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стало главным итогом революции в политической сфер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ая партийная система сложилас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им способом в Англии формируется правительство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и почему изменилось название государства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d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98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898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263520" y="1052280"/>
            <a:ext cx="7386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2f1311"/>
                </a:solidFill>
                <a:uFillTx/>
                <a:latin typeface="Arial"/>
              </a:rPr>
              <a:t>Изучая данную тему, мы пришли к выводу о том, что Англия – родина парламентаризм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ccff"/>
                </a:solidFill>
                <a:latin typeface="Arial"/>
              </a:rPr>
              <a:t>Поскольку мы: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причины революц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о реформах Долгого парламента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поняли, что такое гражданская война и чем она закончилась в Англии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определили, что такое «реставрация» в политическом смысле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выяснили в чем смысл двухпартийной политической системы;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Arial"/>
              </a:rPr>
              <a:t>узнали как формируется правительство Великобритани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1403280" y="189000"/>
            <a:ext cx="4824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: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ы революции в Анг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417492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фликт королевской династии Стюартов с английским парламентом и пуританской церков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ка королем цеховых 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знокрадство и взяточничество чиновников (и короля в том числ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дажа монопол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нешняя политика Яков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321080" cy="537228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1187280" y="2205000"/>
            <a:ext cx="741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чало револю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32360" y="1125000"/>
            <a:ext cx="374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40 г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созыв парламента – начало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Реформы Долгого парла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мена чрезвычайных су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обода печа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лечение к суду королевских минист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ff"/>
                </a:solidFill>
                <a:uFillTx/>
                <a:latin typeface="Arial"/>
              </a:rPr>
              <a:t>Главн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он о том, что палата общин не может быть распущена по воле короля без ее собственно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42 г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начало войны между королем и парла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4680000" cy="56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4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4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Гражданская война между королем и парламен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4316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авалеры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»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-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сторонники коро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рупная землевладельческая зн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дворные чиновн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нгликанская церков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3164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Круглоголовые»- сторонники       парламен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печество, предпринимате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вое дворянств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ерме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месленные мастера и подмастерь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5280" y="371628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84360" y="3789360"/>
            <a:ext cx="799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79280" y="3500280"/>
            <a:ext cx="8785440" cy="21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14 июня 1645 года – битва при Нейзби – бегство короля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24 июня 1646 года – сдача Оксфорда – полная победа парла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Дальнейшие событ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395280" y="5157720"/>
          <a:ext cx="8569440" cy="1224000"/>
        </p:xfrm>
        <a:graphic>
          <a:graphicData uri="http://schemas.openxmlformats.org/drawingml/2006/table">
            <a:tbl>
              <a:tblPr/>
              <a:tblGrid>
                <a:gridCol w="4284720"/>
                <a:gridCol w="42847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Реформы парламен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Деятельность левеллеров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Казнь корол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Установление республик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одавление народных движений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00cc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Протекторат Кромвеля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4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осстановление монарх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837396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</a:rPr>
              <a:t>В 1660 году в Англии совершилась реставрация (восстановление) династии Стюартов. Король подписал документ, в котором признавал все привилегии нового дворянства и буржуазии, полученные ими в ходе револю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Осенью 1688 года произошел дворцовый переворот, названный «славной революцией», который положил конец борьбе между парламентом и коро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179280" y="3500280"/>
            <a:ext cx="871380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98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98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98" fill="hold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Парламент вручил новому королю Вильгельму </a:t>
            </a:r>
            <a:r>
              <a:rPr b="0" lang="en-US" sz="3200" spc="-1" strike="noStrike">
                <a:solidFill>
                  <a:srgbClr val="008080"/>
                </a:solidFill>
                <a:latin typeface="Footlight MT Light"/>
              </a:rPr>
              <a:t>III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 (Оранскому) </a:t>
            </a:r>
            <a:r>
              <a:rPr b="0" i="1" lang="ru-RU" sz="3200" spc="-1" strike="noStrike">
                <a:solidFill>
                  <a:srgbClr val="008080"/>
                </a:solidFill>
                <a:latin typeface="Footlight MT Light"/>
              </a:rPr>
              <a:t>«Декларацию прав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», в которой закреплялись права и обязанности парламента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законода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 и короля и его министров (</a:t>
            </a:r>
            <a:r>
              <a:rPr b="1" lang="ru-RU" sz="3200" spc="-1" strike="noStrike">
                <a:solidFill>
                  <a:srgbClr val="009900"/>
                </a:solidFill>
                <a:latin typeface="Footlight MT Light"/>
              </a:rPr>
              <a:t>исполнительной власти</a:t>
            </a:r>
            <a:r>
              <a:rPr b="0" lang="ru-RU" sz="3200" spc="-1" strike="noStrike">
                <a:solidFill>
                  <a:srgbClr val="008080"/>
                </a:solidFill>
                <a:latin typeface="Footlight MT Light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В Англии установилась </a:t>
            </a: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парламентарная монархия</a:t>
            </a:r>
            <a:r>
              <a:rPr b="0" lang="en-US" sz="3200" spc="-1" strike="noStrike">
                <a:solidFill>
                  <a:srgbClr val="cc00ff"/>
                </a:solidFill>
                <a:latin typeface="Arial"/>
              </a:rPr>
              <a:t> – такой порядок управления, при котором правительство несет ответственность перед парламентом, а не  коро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тановлени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палаты общин об объявлении себя верховной властью английского государ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января 1649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Извлече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ановлено, что общины Англии, заседающие в парламент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объявляют, что народ, ходящий под Богом, является источником всякой законной в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и также объявляют, что общины Англии, заседающие в парламенте, будучи избраны и представляя народ, являются высшей властью в государст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и также объявляют, что то, что постановлено или объявлено как закон общинами, заседающими в парламенте, имеет силу закона и обязательно для народа, хотя бы король или пэры не дали на это своего согла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768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768" fill="hold"/>
                                        <p:tgtEl>
                                          <p:spTgt spid="4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5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7" dur="768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333360"/>
            <a:ext cx="86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260280"/>
            <a:ext cx="82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5280" y="1890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Итоги и историческое значение английской буржуазной револю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8360" y="1844640"/>
            <a:ext cx="8136000" cy="44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глийская буржуазная революция уничтожила абсолют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Англии стал быстро развиваться капиталистический уклад в сельском хозяйстве, начался переворот в промышленном производстве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стране стало складываться правовое государство, гражданское обще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глийская революция, ее идеи республиканского устройства, народоправия, равенства всех перед законом оказали влияние на историю других европейских ст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539640" y="476280"/>
            <a:ext cx="828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VII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веке сложился такой порядок, когда король назначал министров из партии, имеющей в парламенте большинство. Таких партий было две: тори и ви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Чем они различали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5:00:01Z</dcterms:created>
  <dc:creator>Диденко Андрей Александрович</dc:creator>
  <dc:description/>
  <dc:language>en-US</dc:language>
  <cp:lastModifiedBy>MAMA</cp:lastModifiedBy>
  <dcterms:modified xsi:type="dcterms:W3CDTF">2009-11-23T13:10:17Z</dcterms:modified>
  <cp:revision>53</cp:revision>
  <dc:subject/>
  <dc:title>Слайд 1</dc:title>
</cp:coreProperties>
</file>