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D8B-8BD7-47E3-BB97-3E5A051A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42F-591A-4856-A282-A0084913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1ADA-ED0C-477C-BE2C-0E1ABAC3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A36-8607-40CC-860B-10C58EE8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F0D5-804E-4118-B8A7-023302EF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C131-CCD8-40EE-B155-E35A94AB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C83E-D84D-4EEC-BC7F-0ABA23A4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09CC-2431-4FB8-BCE3-41100D82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DC30-D102-470E-8E92-4CB2160B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B8AD-BF32-457C-88B9-296A5A3E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3150-6E60-48D9-ADAD-B18F27FA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D2F1-BE0D-4452-803B-4560E688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DDAD-1921-46D1-8C3D-9811C32A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141E-7CBF-476E-A368-24E9267C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8387-BC98-4ADC-8C8C-1FAACA60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EAC0-B93C-4545-8BBF-50641488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D798-5BED-43FD-81AC-F204B155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407C0-7B3A-4AFA-8CC4-135F44FB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8C909-DE00-4AB1-95FD-8088816F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D8F30-A55B-4660-99DD-531D5D5D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8F950-55AB-4D27-8A47-86DC477C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0C031-EE31-464B-8A83-D1065C98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A11E-03A8-4CDC-9DC9-22CFD1B2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38669-DEA9-49D6-A2B2-6D0FD234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E752D-516E-429B-9752-498D39E4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BFC41-111E-472D-883D-A4DB881B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68040-8D64-4E17-8137-29B10834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C2A49-D0E8-46C4-B674-F7C59B9D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458AC-929A-4F3E-9033-13E04B69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5CEDC-6386-43B1-A928-00EA4815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2A77E-E5CD-4AD5-88EF-EEE6E4E8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9D6C7-FC7D-43CD-BD76-C64B94C6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7FAD7-AB2E-4B7E-8744-F941C655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B22-3513-4087-B657-02052446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DC12D-098F-4322-898A-E6F29D48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ECA94-442F-4062-9F09-FDD1A728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2AB70-C2F3-45C5-A643-A75AA19D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086B0-820B-4A49-9AC6-1DB2BA00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B8DFC-98F5-4C19-B39B-B03BCD88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E441B-BC01-421E-AF76-A95A7940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603D9-967F-4435-B967-77C76136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60586-B9B9-47F8-9BF7-0EBCC5F8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C8218-8534-41FD-BD2D-7C543C3B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659FD-B5C1-4668-8C49-DD18A88C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F795-C746-4A79-861C-EA15DFC0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EEF63-0075-4423-9E84-0AA79BA7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B9AA5-9099-4E6B-B9D9-101983E1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DBE4A-309A-4FCC-AF1A-CE4EA994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5F81E-661F-4786-B59F-E22A586E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07EB5-42CC-4AAB-9AC9-9CD03F66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87719-8C85-4264-BAEA-DB76D065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CBC50-37F0-4728-9B20-5F65F836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4F45F-B664-4F45-B445-B1F0244D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5FBE1-B85D-40F7-8BE5-E06750C7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8B912-FEEA-43B6-98B6-8BD2853E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AEA-9902-4BA1-B320-1386C55B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D1BF0-CC84-4E72-B9DB-A225DCF5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55925-E890-4361-A1D6-31B752CD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AC355-49B0-47EA-9DF5-276D134C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B8A16-26EB-41B9-8853-C788BDFC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BBD7B-30A2-4088-B706-699F6F00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D0EE8-7E4F-4B46-9750-48066CDD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F4649-DC61-4BD2-9274-8F28A480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18BF8-3975-4D62-8545-F1BBF5A3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14D96-274E-46AD-B873-DD4A45BD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823B6-BE02-4D5F-98BF-31D77418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C6E-FE1D-44A1-82D0-3AD3AB17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66294-A9E6-4A92-B8E0-A8C849FD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0B5A7-0998-4360-84B3-2DE3A66F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3A5F7-FB10-456D-B900-4E543DAA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D034A-E7A7-4C10-9E35-09E0295C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1BC08-04FD-456A-8EE0-A230EF70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1153D-97DE-40FE-9540-A22CEC55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11C9E-1A55-4069-B86D-F06ED6BD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AA890-4834-442A-86A4-3BC0B2D3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044DC-2709-4DDB-87D6-597186A2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2462D-2612-4F98-A5A2-DFB7C01A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469-54B2-4B60-963C-D0FB77DD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B8A45-7D27-40EE-97F6-298FBB0B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C03E9-0300-46A6-BCFD-841D424A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52E0A-793C-4569-8052-351F4D9E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B95B2-1FE1-41D5-B44C-4D4CEED5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A83DC-5359-4ECF-BCBD-E1201D25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F75-10F8-4848-B7BB-75A9CBC8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73.xml"/><Relationship Id="rId32" Type="http://schemas.openxmlformats.org/officeDocument/2006/relationships/slideLayout" Target="../slideLayouts/slideLayout74.xml"/><Relationship Id="rId33" Type="http://schemas.openxmlformats.org/officeDocument/2006/relationships/slideLayout" Target="../slideLayouts/slideLayout75.xml"/><Relationship Id="rId34" Type="http://schemas.openxmlformats.org/officeDocument/2006/relationships/slideLayout" Target="../slideLayouts/slideLayout76.xml"/><Relationship Id="rId35" Type="http://schemas.openxmlformats.org/officeDocument/2006/relationships/slideLayout" Target="../slideLayouts/slideLayout77.xml"/><Relationship Id="rId36" Type="http://schemas.openxmlformats.org/officeDocument/2006/relationships/slideLayout" Target="../slideLayouts/slideLayout78.xml"/><Relationship Id="rId37" Type="http://schemas.openxmlformats.org/officeDocument/2006/relationships/slideLayout" Target="../slideLayouts/slideLayout79.xml"/><Relationship Id="rId38" Type="http://schemas.openxmlformats.org/officeDocument/2006/relationships/slideLayout" Target="../slideLayouts/slideLayout80.xml"/><Relationship Id="rId39" Type="http://schemas.openxmlformats.org/officeDocument/2006/relationships/slideLayout" Target="../slideLayouts/slideLayout81.xml"/><Relationship Id="rId40" Type="http://schemas.openxmlformats.org/officeDocument/2006/relationships/slideLayout" Target="../slideLayouts/slideLayout82.xml"/><Relationship Id="rId41" Type="http://schemas.openxmlformats.org/officeDocument/2006/relationships/slideLayout" Target="../slideLayouts/slideLayout83.xml"/><Relationship Id="rId4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600E-6516-47AF-BAE5-C4C3F9D92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9F1D-BF69-4122-8C36-0920FF2454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8738-6CE9-427B-BBA5-2D65A34E62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F1AD-0B02-456E-8680-572E0F92FEE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F750-82CC-43DC-9804-28705757662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3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B800-0902-4BC8-A573-B6FFC82A14C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982A-5E96-4608-B042-A74D000FA8BC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1"/>
    <p:sldLayoutId id="2147483728" r:id="rId32"/>
    <p:sldLayoutId id="2147483729" r:id="rId33"/>
    <p:sldLayoutId id="2147483730" r:id="rId34"/>
    <p:sldLayoutId id="2147483731" r:id="rId35"/>
    <p:sldLayoutId id="2147483732" r:id="rId36"/>
    <p:sldLayoutId id="2147483733" r:id="rId37"/>
    <p:sldLayoutId id="2147483734" r:id="rId38"/>
    <p:sldLayoutId id="2147483735" r:id="rId39"/>
    <p:sldLayoutId id="2147483736" r:id="rId40"/>
    <p:sldLayoutId id="2147483737" r:id="rId41"/>
    <p:sldLayoutId id="2147483738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нглия – родина парламентар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547640" y="1557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нглия – родина парламента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203640" y="476280"/>
            <a:ext cx="2676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У "Майская гимназия"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443640" y="6381720"/>
            <a:ext cx="2295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итель Путятин С.Н.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268360" y="260280"/>
            <a:ext cx="56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68360" y="26028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ри (консерваторы) отстаивали нерушимость королевских прав и существующих поряд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4000" y="537372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иги (либералы) активно защищали права парламента и выступали за реформы в экономической и политической жизни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492360" y="189000"/>
            <a:ext cx="50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Потерявшая поддержку большинства партия теряла право на власть, и правительство подавало в отставку.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овое правительство формировалось из членов партии, получившей на выборах большинство мест в парлам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627280" y="3141720"/>
            <a:ext cx="5545080" cy="26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1707 году парламент узаконил унию между Англией и Шотландие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осударство стало называтьс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еликобритан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династия правила в Англии накануне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ое событие считается началом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противоборствующие стороны в гражданской вой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результате какого события в Англии установилась парламентарная монарх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стало главным итогом революции в политической сфер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партийная система сложилас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им способом в Англии формируется правительств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и почему изменилось название государств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263520" y="1052280"/>
            <a:ext cx="7386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Изучая данную тему, мы пришли к выводу о том, что Англия – родина парламентаризм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Поскольку м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причины революц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о реформах Долгого парламент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оняли, что такое гражданская война и чем она закончилась в Англ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определили, что такое «реставрация» в политическом смысле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в чем смысл двухпартийной политической системы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как формируется правительство Великобритан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403280" y="189000"/>
            <a:ext cx="482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чины революции в Анг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41749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фликт королевской династии Стюартов с английским парламентом и пуританской церков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держка королем цеховых огранич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знокрадство и взяточничество чиновников (и короля в том числ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ажа монопол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яя политика Як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4321080" cy="5372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187280" y="220500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чало ре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32360" y="1125000"/>
            <a:ext cx="374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40 г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озыв парламента – начало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Реформы Долгого парламе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на чрезвычайных су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бода печа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лечение к суду королевских минист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Главн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он о том, что палата общин не может быть распущена по воле короля без ее собственно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42 г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начало войны между королем и парламе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4680000" cy="56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Гражданская война между королем и парламен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316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авалеры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»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торонники коро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пная землевладельческая зн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дворные чинов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гликанская церк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316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руглоголовые»- сторонники       парламен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ечество, предпринимат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вое дворян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ерм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месленные мастера и подмастер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5280" y="371628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4360" y="378936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9280" y="3500280"/>
            <a:ext cx="8785440" cy="21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4 июня 1645 года – битва при Нейзби – бегство короля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4 июня 1646 года – сдача Оксфорда – полная победа парл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Дальнейшие собы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395280" y="5157720"/>
          <a:ext cx="8569440" cy="1224000"/>
        </p:xfrm>
        <a:graphic>
          <a:graphicData uri="http://schemas.openxmlformats.org/drawingml/2006/table">
            <a:tbl>
              <a:tblPr/>
              <a:tblGrid>
                <a:gridCol w="4284720"/>
                <a:gridCol w="42847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еформы парламен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еятельность левеллер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Казнь корол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становление республик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одавление народных движе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ротекторат Кромвеля.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становление монарх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3739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В 1660 году в Англии совершилась реставрация (восстановление) династии Стюартов. Король подписал документ, в котором признавал все привилегии нового дворянства и буржуазии, полученные ими в ходе ре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Осенью 1688 года произошел дворцовый переворот, названный «славной революцией», который положил конец борьбе между парламентом и коро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871380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Парламент вручил новому королю Вильгельму </a:t>
            </a:r>
            <a:r>
              <a:rPr b="0" lang="en-US" sz="3200" spc="-1" strike="noStrike">
                <a:solidFill>
                  <a:srgbClr val="008080"/>
                </a:solidFill>
                <a:latin typeface="Footlight MT Light"/>
              </a:rPr>
              <a:t>III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 (Оранскому) </a:t>
            </a:r>
            <a:r>
              <a:rPr b="0" i="1" lang="ru-RU" sz="3200" spc="-1" strike="noStrike">
                <a:solidFill>
                  <a:srgbClr val="008080"/>
                </a:solidFill>
                <a:latin typeface="Footlight MT Light"/>
              </a:rPr>
              <a:t>«Декларацию прав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», в которой закреплялись права и обязанности парламента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законода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 и короля и его министров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исполни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В Англии установилась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парламентарная монархия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 – такой порядок управления, при котором правительство несет ответственность перед парламентом, а не  коро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алаты общин об объявлении себя верховной властью английского государ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января 164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Извлеч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ановлено, что общины Англии, заседающие в парламен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объявляют, что народ, ходящий под Богом, является источником всякой законной в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и также объявляют, что общины Англии, заседающие в парламенте, будучи избраны и представляя народ, являются высшей властью в государ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и также объявляют, что то, что постановлено или объявлено как закон общинами, заседающими в парламенте, имеет силу закона и обязательно для народа, хотя бы король или пэры не дали на это свое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68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68" fill="hold"/>
                                        <p:tgtEl>
                                          <p:spTgt spid="4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4000" y="33336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11280" y="26028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5280" y="189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тоги и историческое значение английской буржуазной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8360" y="1844640"/>
            <a:ext cx="8136000" cy="44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глийская буржуазная революция уничтожила абсолют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Англии стал быстро развиваться капиталистический уклад в сельском хозяйстве, начался переворот в промышленном производств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стране стало складываться правовое государство, гражданское общ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глийская революция, ее идеи республиканского устройства, народоправия, равенства всех перед законом оказали влияние на историю других европейских ст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539640" y="47628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VII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веке сложился такой порядок, когда король назначал министров из партии, имеющей в парламенте большинство. Таких партий было две: тори и ви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ем они различ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5:00:01Z</dcterms:created>
  <dc:creator>Диденко Андрей Александрович</dc:creator>
  <dc:description/>
  <dc:language>en-US</dc:language>
  <cp:lastModifiedBy>MAMA</cp:lastModifiedBy>
  <dcterms:modified xsi:type="dcterms:W3CDTF">2009-11-23T13:10:17Z</dcterms:modified>
  <cp:revision>53</cp:revision>
  <dc:subject/>
  <dc:title>Слайд 1</dc:title>
</cp:coreProperties>
</file>