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A287-DB55-4CBD-8EE2-3D8FB4CE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C11-4F27-4685-ADA9-74222B1B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E2F-FF94-4879-9AE9-0CE3D8C8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F5D-25C5-4B71-9EFE-BF5FF5DE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9FBD-0B64-455D-BD2F-2C50967F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64EA-0C04-4CE9-A218-D2E3F097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DAE3-E3C7-46AA-9360-E9F22A84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DC96-A5AD-43A9-8F78-347F3ADF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CCF8-8674-4624-9739-6B4C66B0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3F28-BA42-4A09-8BE9-685BC106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43AB-264D-4410-A0F3-1A88EBBF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6B57-5059-4C32-BC19-4BC5A3B5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470C-9C24-46D8-A512-91877CA3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C71F-0C40-4A04-BC82-45349DDC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B3EE-6C57-448C-9023-47011143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2BEB-F822-4A4E-B7DA-8404E18E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903D-5CD6-439F-B328-E1449D8BE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29C1-F818-46B2-BC9C-3A70C326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7DF81-5A6E-4183-826B-8C675B53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81C43-9DF7-4F60-A9EF-C3D6A06A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1F424-7D36-448E-BD66-DE9F5A78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B01F6-34AF-4DA6-96BA-FA2F0FB2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35B-90B4-4F15-A347-79FC661D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0330D-15B6-4819-AB16-9D544C86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48F42-24FC-4687-B354-FC4F1D37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A02DC-F385-48C5-891D-5D016365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E0383-D2A3-47BD-9194-E2EBA1C3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1EE3F-DE83-49E5-A670-6D32466B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B4201-4954-451D-B1FC-25122852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42D27-7979-4F90-BA33-F597B1CD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17134-3723-4673-9E80-791E2A75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A0ABA-158B-4E4A-9F3C-854943D0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DDB54-E48E-49DD-AACC-69E608D4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D2A0-5D6D-4D88-B984-4A17A8AD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DD255-D07F-4CBC-901F-3D3596F7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CE95D-3F41-4267-AA38-C34DCD2C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D517-4524-4219-A02D-7F56D004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42EB2-B570-475A-B9C1-4A10674E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93F90-F181-47FC-B0FF-FEA22A33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5F7E0-D5F1-4AB6-BF26-C8DDBA75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26FC6-FC94-4475-9CA6-905F874E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2B274-E474-4035-A490-B9FFC58D3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B5A99-47AC-428C-890B-C6EB153B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AB6A8-E4F9-4442-BCE6-31488F09F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6A5-8B2B-480D-905D-0DBF2193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AF188-718A-43A8-9AF8-5724581A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02E97-D028-45EE-880B-AC7E9E88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599BB-6782-4CD5-BB52-9F1588B7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3EC78-29D8-4D6B-8D8A-84513A54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77E84-5614-4E75-9027-1DCDDFB2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CD5A9-A48C-4B44-B160-41D43846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28D3C-F53F-4BC0-BD39-D2ADA043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D24B7-4C65-4249-BD19-5006B98C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AA131-3ED9-4954-8BBB-60AA1326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E04B6-03F5-44A4-A21A-A0FBC75E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6B2-DEAB-4DF1-B991-606A1ADF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23FF1-4530-4867-981B-47DAA235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45C80-3F03-4E1C-A2CD-DF06F005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5B91E-6239-41EB-A9DE-7417A179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FFC7A-F27D-4FC4-AF09-A15A1FB0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3353F-DB6A-4813-B602-68328AE4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53D9B-A445-4496-B547-FFDC7D40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75893-BB74-4ECB-8098-4257B6BF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7ECF5-B228-4B56-A562-9A1A006E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841C0-3025-4CB0-BB7C-005ED7C7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10634-603E-461A-B6C2-8275D382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A110-6A56-4F06-A7BD-E212771E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3526D-BE55-4125-B0DE-0138219B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3E82B-4A75-4A7A-9616-C1FBF2F1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3BAE1-3706-4185-86C1-E583F7E0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02849-3F66-4C64-B7D9-7B2728EB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67730-69EE-41E4-ABCC-A794B2FA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124E8-F6E1-4665-8E12-060C7CA8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B73FD-94CF-4335-B0BC-63CC4D6C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23D43-369C-45C7-AF36-A0194227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9CBFA-73E6-4C80-B97A-0D6B9378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4948E-EDA9-4DD0-A4F1-FA9CD1DE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939-0AEC-4918-BBAD-517C290D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12980-3D2A-410A-8C88-20D6E696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ADC85-F9F0-4D90-A539-2A96E8FC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B330E-8AE0-4F60-BB39-284CACFF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10CCC-7361-42DB-B80C-6F5D986F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38F54-32B5-45F1-AE82-79626A68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BFF-7456-4DDF-B3DB-FB6BCB0E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89BD-8085-4C6F-8862-F6A04DAF6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CEF0-138A-43DE-B7C6-82E4B6BB86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8F16-532A-427C-A1F1-5EA5BFAF4A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6ADE-B43D-4659-9B48-25D564EF20C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CFFF-A64E-452C-B2A1-B4D82AF3EF7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C4AB-6A60-4503-BE36-95BA2864A9DF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33B0-E9FA-479F-A916-042C3EE52B5B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глия – родина парламента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547640" y="1557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глия – родина парламент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03640" y="476280"/>
            <a:ext cx="2676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У "Майская гимназия"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443640" y="6381720"/>
            <a:ext cx="229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Путятин С.Н.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68360" y="260280"/>
            <a:ext cx="56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68360" y="26028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ри (консерваторы) отстаивали нерушимость королевских прав и существующих поря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4000" y="537372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иги (либералы) активно защищали права парламента и выступали за реформы в экономической и полит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492360" y="18900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терявшая поддержку большинства партия теряла право на власть, и правительство подавало в отставку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овое правительство формировалось из членов партии, получившей на выборах большинство мест в парлам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627280" y="3141720"/>
            <a:ext cx="554508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1707 году парламент узаконил унию между Англией и Шотланди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сударство стало называтьс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еликобрита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династия правила в Англии накануне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ое событие считается началом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противоборствующие стороны в гражданской вой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результате какого события в Англии установилась парламентарная монарх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стало главным итогом революции в политической сфер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партийная система сложилас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им способом в Англии формируется правитель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и почему изменилось название государ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Изучая данную тему, мы пришли к выводу о том, что Англия – родина парламентар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Поскольку 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причины революц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о реформах Долгого парламент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няли, что такое гражданская война и чем она закончилась в Англ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определили, что такое «реставрация» в политическом смысле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в чем смысл двухпартийной политической системы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как формируется правительство Великобритан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03280" y="189000"/>
            <a:ext cx="48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ы революции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1749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фликт королевской династии Стюартов с английским парламентом и пуританской церков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ка королем цеховых 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нокрадство и взяточничество чиновников (и короля в том чис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ажа монопо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яя политика Я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321080" cy="5372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187280" y="220500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о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32360" y="1125000"/>
            <a:ext cx="37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40 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озыв парламента – начало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Реформы Долгого парла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на чрезвычайных су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а печа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лечение к суду королевских минис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Главн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он о том, что палата общин не может быть распущена по воле короля без ее собственно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42 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ачало войны между королем и парла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68000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Гражданская война между королем и парла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авалеры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торонники коро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ая землевладельческая зн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дворные чинов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гликанская церк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316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руглоголовые»- сторонники       парламе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ечество, предпринима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ое дворян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р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месленные мастера и подмастер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3716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378936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3500280"/>
            <a:ext cx="878544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4 июня 1645 года – битва при Нейзби – бегство короля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4 июня 1646 года – сдача Оксфорда – полная победа парл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Дальнейшие собы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95280" y="5157720"/>
          <a:ext cx="8569440" cy="122400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еформы парламен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еятельность левеллер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Казнь корол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становление республик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давление народных движе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ротекторат Кромвеля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становление монар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3739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В 1660 году в Англии совершилась реставрация (восстановление) династии Стюартов. Король подписал документ, в котором признавал все привилегии нового дворянства и буржуазии, полученные ими в ходе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Осенью 1688 года произошел дворцовый переворот, названный «славной революцией», который положил конец борьбе между парламентом и ко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871380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Парламент вручил новому королю Вильгельму </a:t>
            </a:r>
            <a:r>
              <a:rPr b="0" lang="en-US" sz="3200" spc="-1" strike="noStrike">
                <a:solidFill>
                  <a:srgbClr val="008080"/>
                </a:solidFill>
                <a:latin typeface="Footlight MT Light"/>
              </a:rPr>
              <a:t>III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 (Оранскому) </a:t>
            </a:r>
            <a:r>
              <a:rPr b="0" i="1" lang="ru-RU" sz="3200" spc="-1" strike="noStrike">
                <a:solidFill>
                  <a:srgbClr val="008080"/>
                </a:solidFill>
                <a:latin typeface="Footlight MT Light"/>
              </a:rPr>
              <a:t>«Декларацию прав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», в которой закреплялись права и обязанности парламента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законода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 и короля и его министров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исполни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В Англии установилась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арламентарная монархия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 – такой порядок управления, при котором правительство несет ответственность перед парламентом, а не  кор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алаты общин об объявлении себя верховной властью английского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января 164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Извле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новлено, что общины Англии, заседающие в парлам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объявляют, что народ, ходящий под Богом, является источником всякой законной в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и также объявляют, что общины Англии, заседающие в парламенте, будучи избраны и представляя народ, являются высшей властью в государ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и также объявляют, что то, что постановлено или объявлено как закон общинами, заседающими в парламенте, имеет силу закона и обязательно для народа, хотя бы король или пэры не дали на это свое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68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68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333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26028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189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тоги и историческое значение английской буржуазной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8360" y="1844640"/>
            <a:ext cx="813600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глийская буржуазная революция уничтожила абсолют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Англии стал быстро развиваться капиталистический уклад в сельском хозяйстве, начался переворот в промышленном производств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тране стало складываться правовое государство, гражданское об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глийская революция, ее идеи республиканского устройства, народоправия, равенства всех перед законом оказали влияние на историю других европейски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39640" y="47628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еке сложился такой порядок, когда король назначал министров из партии, имеющей в парламенте большинство. Таких партий было две: тори и ви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ем они различ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00:01Z</dcterms:created>
  <dc:creator>Диденко Андрей Александрович</dc:creator>
  <dc:description/>
  <dc:language>en-US</dc:language>
  <cp:lastModifiedBy>MAMA</cp:lastModifiedBy>
  <dcterms:modified xsi:type="dcterms:W3CDTF">2009-11-23T13:10:17Z</dcterms:modified>
  <cp:revision>53</cp:revision>
  <dc:subject/>
  <dc:title>Слайд 1</dc:title>
</cp:coreProperties>
</file>