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17D-07B7-419E-8F7D-428400A6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212-5100-44E3-9B6B-66F453B4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D12-02EB-4A4B-B5A5-071BFC9C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159-24B0-4480-B2B7-DBFCEA33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A96E-DB2E-4192-A523-AC331439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89B0-E237-48C2-B0EA-56E01332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89ED-3471-43CE-B645-F28A3F70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B4C7-3606-415E-87A1-7EE5D984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685D-B5C1-42E5-B59F-6EB02104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3604-F25A-4730-9237-2B56B1A2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17B6-2EAC-4A44-B18B-7265EB6E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D885-5569-4AD6-ACBD-D998BD1E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21FA-9715-4EF1-B77E-A0E169E7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4E63-5CC3-4BB6-91A3-A2D9CDA8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D881-5AD2-40C0-B9A4-47AE6567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5F07-04BB-4303-86B7-33EC3C8C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AE1F-DDBB-40FE-BF14-0957FEBB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0BFA-6AE6-4545-B394-52AE745B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67537-E924-4368-9D15-145AF517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6115B-94AC-4986-84C2-C520F28F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DB1F-2F7E-4BF8-A5D9-7B9371F4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3FA9-B4EC-4403-B334-D904BA98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36B0-8CC9-4A7C-8CAE-9DDC1291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BF3D9-3A88-466D-B0D3-653FE9C9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B0CB0-842C-4738-8778-9687509D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ADD5-93E2-48B5-9EEE-A9E889AB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AD0B4-C01A-4F07-BD62-84C3EA62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6BCF3-0503-4DF0-BD9D-8BEC5CC6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7EF6-71CB-4DB2-B536-E87567E7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F774-BBC4-49EF-B454-D90A9473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40D65-0CBD-4CEA-BA86-5D71F511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88E9C-FD05-488C-B317-EB2A07CC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36EBB-D4D3-4EF0-814C-33353FC9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6E8-C862-4144-BAF8-DCE889C3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34FBF-7D08-4C80-A7E4-FE460E8B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4A0D5-F1A2-46D9-B030-DD14C2F4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4534B-4C97-47CD-BAB9-2F1D3FC6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67511-B784-41A6-B2B8-E9700726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DC9DC-22DD-4C00-A8EB-5F8FBCAC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ACEDB-DCDF-4005-BC33-0021EEB3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70B69-EA3B-4430-BB08-61C5AF6E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D9F80-C1B3-431E-9C76-6EFC1587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BB7DC-F1CB-4A67-938D-C8DD1D1C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499C6-2763-4CEB-82E1-42A9CA8C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6D0-DE82-456A-8F33-EFDF72BD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8ACE1-CF65-47B7-819C-2A811290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41B1C-2A8F-4B81-9E8E-EF05B1C6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E6AEB-A59D-47E5-8438-7CB022BA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F8658-E4CD-45F0-A7C5-A312E0BA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7D053-EECC-42C3-AA88-17D32609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C3332-E104-473A-9B21-BEE967A7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C2099-8D0F-4975-8949-E716621A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87F39-5179-4947-8D06-BA2D2EEB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217E3-20F7-4F22-9D72-E3A4F76C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04858-4085-4B64-90D1-FE2294B5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F869-363E-45F1-845E-6DF8035D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96F72-5ABB-4A28-83EC-4F1B6AC1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FB861-EC42-4485-89E3-32DF368D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28E5E-8B79-4BA4-AF24-FA251979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EE6BF-A038-46D8-B83D-3AB77A3F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BEDE9-5A9F-4CB4-872F-8A81B006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C6E00-4D94-4DC6-AB44-ECA7FA2F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47037-6729-444B-8DCA-A8C0DE81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33ABF-BD27-4933-8DEA-39D0AD65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D81E9-ADB9-467C-9375-F51A9975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BA130-7FEA-4FC6-9887-6233360A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B99-9605-4020-970D-BDD692EE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D6FC5-E577-4257-9A6A-543871BC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A4E42-5E01-48AF-8E41-EE397596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38586-F892-4D20-8B6F-B64B05F5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1862E-C88A-476E-8F43-3EFF61CF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B07F9-4E94-4F82-A71A-6F43D55C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4F9D0-8D8D-4283-B2A2-E9C0246A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D5CFF-2093-4A50-9EF3-ECCC8D27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5C39D-F5EA-418E-B4FB-6295848B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81DD6-B849-43D4-8098-80337CE6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D653B-3B1E-4222-823E-F64E0100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78F-4316-4713-8F5E-635C9CEB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5961C-3555-47AA-B114-E3E286CF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D99CA-E9C8-47F3-8CBF-E1B46CED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7484C-4E74-4F43-8FD2-62AECAE1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61516-16B3-42BF-B00D-2941E768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DC22C-D5BD-408B-974D-0B7FA6AB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429-086F-4496-B19C-7BAACF7F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65BC-59DD-4B18-87B1-54E041614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AB92-E41A-456E-A3BE-2FD70ECC15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CEB2-CF47-49F5-96DC-205D0709F2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3670-15CA-4C0B-916F-788697FF78D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E979-4C02-4DC6-961D-CE5E289AA0B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76F4-2D6D-4933-89BF-2BB2D83D402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B0DD-B2B0-40E0-A3B9-C22806BB763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глия – родина парламента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547640" y="1557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глия – родина парламент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03640" y="476280"/>
            <a:ext cx="2676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У "Майская гимназия"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443640" y="6381720"/>
            <a:ext cx="229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Путятин С.Н.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68360" y="260280"/>
            <a:ext cx="56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68360" y="26028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ри (консерваторы) отстаивали нерушимость королевских прав и существующих поря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4000" y="537372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иги (либералы) активно защищали права парламента и выступали за реформы в экономической и полит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492360" y="18900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терявшая поддержку большинства партия теряла право на власть, и правительство подавало в отставку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овое правительство формировалось из членов партии, получившей на выборах большинство мест в парлам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627280" y="3141720"/>
            <a:ext cx="554508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1707 году парламент узаконил унию между Англией и Шотланди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сударство стало называтьс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еликобрита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династия правила в Англии накануне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ое событие считается началом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противоборствующие стороны в гражданской вой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результате какого события в Англии установилась парламентарная монарх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стало главным итогом революции в политической сфер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партийная система сложилас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им способом в Англии формируется правитель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и почему изменилось название государ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Изучая данную тему, мы пришли к выводу о том, что Англия – родина парламентар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Поскольку 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причины революц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о реформах Долгого парламент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няли, что такое гражданская война и чем она закончилась в Англ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определили, что такое «реставрация» в политическом смысле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в чем смысл двухпартийной политической системы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как формируется правительство Великобритан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03280" y="189000"/>
            <a:ext cx="48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ы революции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1749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фликт королевской династии Стюартов с английским парламентом и пуританской церков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ка королем цеховых 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нокрадство и взяточничество чиновников (и короля в том чис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ажа монопо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яя политика Я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321080" cy="5372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187280" y="220500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о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32360" y="1125000"/>
            <a:ext cx="37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40 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озыв парламента – начало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Реформы Долгого парла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на чрезвычайных су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а печа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лечение к суду королевских минис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Главн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он о том, что палата общин не может быть распущена по воле короля без ее собственно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42 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ачало войны между королем и парла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68000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Гражданская война между королем и парла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авалеры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торонники коро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ая землевладельческая зн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дворные чинов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гликанская церк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316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руглоголовые»- сторонники       парламе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ечество, предпринима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ое дворян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р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месленные мастера и подмастер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3716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378936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3500280"/>
            <a:ext cx="878544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4 июня 1645 года – битва при Нейзби – бегство короля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4 июня 1646 года – сдача Оксфорда – полная победа парл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Дальнейшие собы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95280" y="5157720"/>
          <a:ext cx="8569440" cy="122400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еформы парламен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еятельность левеллер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Казнь корол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становление республик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давление народных движе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ротекторат Кромвеля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становление монар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3739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В 1660 году в Англии совершилась реставрация (восстановление) династии Стюартов. Король подписал документ, в котором признавал все привилегии нового дворянства и буржуазии, полученные ими в ходе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Осенью 1688 года произошел дворцовый переворот, названный «славной революцией», который положил конец борьбе между парламентом и ко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871380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Парламент вручил новому королю Вильгельму </a:t>
            </a:r>
            <a:r>
              <a:rPr b="0" lang="en-US" sz="3200" spc="-1" strike="noStrike">
                <a:solidFill>
                  <a:srgbClr val="008080"/>
                </a:solidFill>
                <a:latin typeface="Footlight MT Light"/>
              </a:rPr>
              <a:t>III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 (Оранскому) </a:t>
            </a:r>
            <a:r>
              <a:rPr b="0" i="1" lang="ru-RU" sz="3200" spc="-1" strike="noStrike">
                <a:solidFill>
                  <a:srgbClr val="008080"/>
                </a:solidFill>
                <a:latin typeface="Footlight MT Light"/>
              </a:rPr>
              <a:t>«Декларацию прав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», в которой закреплялись права и обязанности парламента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законода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 и короля и его министров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исполни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В Англии установилась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арламентарная монархия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 – такой порядок управления, при котором правительство несет ответственность перед парламентом, а не  кор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алаты общин об объявлении себя верховной властью английского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января 164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Извле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новлено, что общины Англии, заседающие в парлам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объявляют, что народ, ходящий под Богом, является источником всякой законной в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и также объявляют, что общины Англии, заседающие в парламенте, будучи избраны и представляя народ, являются высшей властью в государ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и также объявляют, что то, что постановлено или объявлено как закон общинами, заседающими в парламенте, имеет силу закона и обязательно для народа, хотя бы король или пэры не дали на это свое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68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68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333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26028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189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тоги и историческое значение английской буржуазной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8360" y="1844640"/>
            <a:ext cx="813600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глийская буржуазная революция уничтожила абсолют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Англии стал быстро развиваться капиталистический уклад в сельском хозяйстве, начался переворот в промышленном производств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тране стало складываться правовое государство, гражданское об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глийская революция, ее идеи республиканского устройства, народоправия, равенства всех перед законом оказали влияние на историю других европейски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39640" y="47628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еке сложился такой порядок, когда король назначал министров из партии, имеющей в парламенте большинство. Таких партий было две: тори и ви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ем они различ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00:01Z</dcterms:created>
  <dc:creator>Диденко Андрей Александрович</dc:creator>
  <dc:description/>
  <dc:language>en-US</dc:language>
  <cp:lastModifiedBy>MAMA</cp:lastModifiedBy>
  <dcterms:modified xsi:type="dcterms:W3CDTF">2009-11-23T13:10:17Z</dcterms:modified>
  <cp:revision>53</cp:revision>
  <dc:subject/>
  <dc:title>Слайд 1</dc:title>
</cp:coreProperties>
</file>