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E5BB-E071-4C92-990E-AD6559F4D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8B02-7071-4F6A-BAF0-2E0151179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5F69-43EE-4C17-91EB-DCE0BCF01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34C5-B947-4E93-9C54-A49B025C0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9EFC6-6546-4992-B170-DB95AB9C2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8AE19-D57B-4770-9F76-4130CCC45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3DCD4-2B5C-4022-9B89-A873EF1A9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946F0-538A-496F-9019-6E2112B97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918DB-9D96-4E4C-9B7B-9905EBEC2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DB068-0D47-4CD6-AD64-4398A5DED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52F06-5EB6-445C-8145-B67882545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7AFE-0919-4041-A2FC-781B32B39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EF3A9-11FB-4901-BD7E-A3FDBCD5E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47F54-35A2-4231-98BE-C8806C8DC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A940E-4EC3-4D2C-9F2F-4E44674F7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9EAA7-A5CF-429A-B541-45D6C0338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AAB4A-CD67-49CA-B7CB-08A6F2093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76B006-F3BC-4B97-9725-E907EB797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41DC8B-66C9-4650-AB55-9772EC770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07F9A2-4BAD-4EF9-B15D-049D5C5F6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174F54-DC8E-4C93-996D-1AD7EB3F5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ACA8E2-EFB6-4042-9793-5A7B10501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15BC-2851-4E68-978A-C42D6C21F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9BA577-650A-465A-93DD-B027C5E61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4CE201-8C0D-4EB9-83BA-D7760E603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E9F6D5-F441-4944-AB6C-387199C41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B91811-5BC5-4ADB-9F90-0951C111C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32F020-0DCB-441F-B9AC-91765FFBF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DE974C-6993-4BE7-9CE8-EEB30F66B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59E4AF-E8AC-4ACF-91EC-F55A91D37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A8D9C6-3651-403F-BE2E-A8BEE970B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5EC903-A992-429D-8412-35D1D3B11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528BB2-1175-4440-B755-1F2CB1447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DB09-E305-4654-8E35-9F5337F37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801D2D-FD9A-4DCE-BB3F-26F1BA12D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DE3E71-FAD4-4B22-8DC7-B52801C02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278C4B-99FB-4DBD-BB44-9BE903DBE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3500DE-B0BD-4B09-9F0D-BFB537BCE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3EC65E-C44C-4528-87BB-3CF425899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C88993-1A62-4CEF-9FD7-13C965297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BEF737-15C7-499B-8A89-D4587D22E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D599B1-F267-4DB9-8C91-9FD8E3760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0DCA08-0972-4177-B56C-23280AD83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540068-10B4-4F5D-950A-9716E9F52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60A7-8D38-4C59-8522-FE4FFC9E0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6B9279-1E88-4FD4-B865-DFC616332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8ED9B7-D13C-477A-B0CB-4C713D56F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84CE08-CF1B-4818-B1D8-546DC7393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00E559-543E-41DF-81FD-B40ED0E00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8D7BDA-0FEA-4925-B51B-B061234F5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DD0132-C6AD-4EB2-A41F-863D1A859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761977-A560-487D-8204-BFFE1335C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4A221B-703C-412F-AD75-074749638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5F39D3-0C88-4CCD-8062-50E9EB0B7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41744F-A9BD-4317-B2A3-35E41E4FD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EBD3-8AEF-47A3-839F-02C550930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7DF09F-FD82-46F8-A5BF-C0E7962DD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0D80E8-4412-4E8A-8719-647BE20D2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0A2CEF-F838-4964-A067-71334DCB6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7A6716-B4C7-4A07-B457-AECF14D3B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714B9C-FB50-4896-8FFC-B2BCC59E5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CBE50E-CEE4-4E16-9DE8-43766B0E7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0FF1FB-C253-4183-8D2B-45DC7AD98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84C869-3094-46EE-BB2C-78BEB6395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09DCDD-2B61-4860-BEB5-ED73F03FF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42C7F2-97D6-41E3-8DD2-66EC5A03D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D5E9-BAEE-465F-A221-81AEC0CCA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FC2B22-A56A-4E76-8A73-ACFD7C297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C56C6A-9ECA-43DB-8BA1-FC008B3D5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1E1702-FC5B-4575-99E8-A9EB8A8A7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386E45-718B-4007-A91B-9B94F39B5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F7E219-D400-43EE-9DFE-5A0EE9BB0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EE25EE-A826-4FB9-8997-28619AA2E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26AB5B-1EE6-471A-9C5D-EEBF3EC7D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3C63D1-5DC3-41B1-B071-626EC8CE9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C03EFE-5AEF-485F-8652-F9E3A626F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0BD67D-5451-4E31-B10B-E5DDFCF48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ABFD-C82B-44DA-BC7A-4D0D1BFCF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4C14AE-4B9F-40D8-93B1-138CB137D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25C896-A4FF-4FA0-94C0-7E7E587C6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FD98C5-7A5F-48CE-8E3B-BFCAC7E1F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F5AA43-D4C6-416B-BD73-2B2DB9B1A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856534-0705-42B3-8B76-239CAFE47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C203-1D73-4C84-971C-18C6018E5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61.xml"/><Relationship Id="rId35" Type="http://schemas.openxmlformats.org/officeDocument/2006/relationships/slideLayout" Target="../slideLayouts/slideLayout62.xml"/><Relationship Id="rId36" Type="http://schemas.openxmlformats.org/officeDocument/2006/relationships/slideLayout" Target="../slideLayouts/slideLayout63.xml"/><Relationship Id="rId37" Type="http://schemas.openxmlformats.org/officeDocument/2006/relationships/slideLayout" Target="../slideLayouts/slideLayout64.xml"/><Relationship Id="rId38" Type="http://schemas.openxmlformats.org/officeDocument/2006/relationships/slideLayout" Target="../slideLayouts/slideLayout65.xml"/><Relationship Id="rId39" Type="http://schemas.openxmlformats.org/officeDocument/2006/relationships/slideLayout" Target="../slideLayouts/slideLayout66.xml"/><Relationship Id="rId40" Type="http://schemas.openxmlformats.org/officeDocument/2006/relationships/slideLayout" Target="../slideLayouts/slideLayout67.xml"/><Relationship Id="rId41" Type="http://schemas.openxmlformats.org/officeDocument/2006/relationships/slideLayout" Target="../slideLayouts/slideLayout68.xml"/><Relationship Id="rId42" Type="http://schemas.openxmlformats.org/officeDocument/2006/relationships/slideLayout" Target="../slideLayouts/slideLayout69.xml"/><Relationship Id="rId43" Type="http://schemas.openxmlformats.org/officeDocument/2006/relationships/slideLayout" Target="../slideLayouts/slideLayout70.xml"/><Relationship Id="rId44" Type="http://schemas.openxmlformats.org/officeDocument/2006/relationships/slideLayout" Target="../slideLayouts/slideLayout71.xml"/><Relationship Id="rId4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73.xml"/><Relationship Id="rId32" Type="http://schemas.openxmlformats.org/officeDocument/2006/relationships/slideLayout" Target="../slideLayouts/slideLayout74.xml"/><Relationship Id="rId33" Type="http://schemas.openxmlformats.org/officeDocument/2006/relationships/slideLayout" Target="../slideLayouts/slideLayout75.xml"/><Relationship Id="rId34" Type="http://schemas.openxmlformats.org/officeDocument/2006/relationships/slideLayout" Target="../slideLayouts/slideLayout76.xml"/><Relationship Id="rId35" Type="http://schemas.openxmlformats.org/officeDocument/2006/relationships/slideLayout" Target="../slideLayouts/slideLayout77.xml"/><Relationship Id="rId36" Type="http://schemas.openxmlformats.org/officeDocument/2006/relationships/slideLayout" Target="../slideLayouts/slideLayout78.xml"/><Relationship Id="rId37" Type="http://schemas.openxmlformats.org/officeDocument/2006/relationships/slideLayout" Target="../slideLayouts/slideLayout79.xml"/><Relationship Id="rId38" Type="http://schemas.openxmlformats.org/officeDocument/2006/relationships/slideLayout" Target="../slideLayouts/slideLayout80.xml"/><Relationship Id="rId39" Type="http://schemas.openxmlformats.org/officeDocument/2006/relationships/slideLayout" Target="../slideLayouts/slideLayout81.xml"/><Relationship Id="rId40" Type="http://schemas.openxmlformats.org/officeDocument/2006/relationships/slideLayout" Target="../slideLayouts/slideLayout82.xml"/><Relationship Id="rId41" Type="http://schemas.openxmlformats.org/officeDocument/2006/relationships/slideLayout" Target="../slideLayouts/slideLayout83.xml"/><Relationship Id="rId42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4A9A0-91E6-4754-999D-3D868A77F0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42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02A94-D1B1-48AC-AC1E-4C0C05365AC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87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ftr" idx="8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82EF7-0F32-46DE-AC9F-C4CC4D5872B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C466A-6C0E-46A1-A7CF-B39316853B79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40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50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4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7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58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67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70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71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2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73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1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1B11A-ED9F-44B7-B262-8066F00F45F6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224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7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228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3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234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7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238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3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282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5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288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289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0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91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5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6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297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8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9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0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1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2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3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4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305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306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7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8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9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0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1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2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3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4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5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6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7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8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9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0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1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2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3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4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325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dt" idx="16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ftr" idx="17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sldNum" idx="18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ED3FB-D1AD-41E1-8237-80F85370D4BC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4"/>
    <p:sldLayoutId id="2147483715" r:id="rId35"/>
    <p:sldLayoutId id="2147483716" r:id="rId36"/>
    <p:sldLayoutId id="2147483717" r:id="rId37"/>
    <p:sldLayoutId id="2147483718" r:id="rId38"/>
    <p:sldLayoutId id="2147483719" r:id="rId39"/>
    <p:sldLayoutId id="2147483720" r:id="rId40"/>
    <p:sldLayoutId id="2147483721" r:id="rId41"/>
    <p:sldLayoutId id="2147483722" r:id="rId42"/>
    <p:sldLayoutId id="2147483723" r:id="rId43"/>
    <p:sldLayoutId id="2147483724" r:id="rId44"/>
    <p:sldLayoutId id="2147483725" r:id="rId4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7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378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1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382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383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384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385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6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87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393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5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6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7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8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9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0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401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402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3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4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5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6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7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8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9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0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1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2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3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4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5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6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7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8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9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0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21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dt" idx="19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ftr" idx="20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sldNum" idx="21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3BB04-A5DF-4CEB-AB8B-AA6B26164DF2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1"/>
    <p:sldLayoutId id="2147483728" r:id="rId32"/>
    <p:sldLayoutId id="2147483729" r:id="rId33"/>
    <p:sldLayoutId id="2147483730" r:id="rId34"/>
    <p:sldLayoutId id="2147483731" r:id="rId35"/>
    <p:sldLayoutId id="2147483732" r:id="rId36"/>
    <p:sldLayoutId id="2147483733" r:id="rId37"/>
    <p:sldLayoutId id="2147483734" r:id="rId38"/>
    <p:sldLayoutId id="2147483735" r:id="rId39"/>
    <p:sldLayoutId id="2147483736" r:id="rId40"/>
    <p:sldLayoutId id="2147483737" r:id="rId41"/>
    <p:sldLayoutId id="2147483738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6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964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Англия – родина парламентариз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5" name=""/>
          <p:cNvSpPr/>
          <p:nvPr/>
        </p:nvSpPr>
        <p:spPr>
          <a:xfrm>
            <a:off x="1547640" y="155736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Англия – родина парламентар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3203640" y="476280"/>
            <a:ext cx="2676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ff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МОУ "Майская гимназия"</a:t>
            </a:r>
            <a:endParaRPr b="0" lang="en-US" sz="1800" spc="1" strike="noStrike">
              <a:ln w="9360">
                <a:solidFill>
                  <a:srgbClr val="66ff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6443640" y="6381720"/>
            <a:ext cx="229572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ff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учитель Путятин С.Н.</a:t>
            </a:r>
            <a:endParaRPr b="0" lang="en-US" sz="1800" spc="1" strike="noStrike">
              <a:ln w="9360">
                <a:solidFill>
                  <a:srgbClr val="66ff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4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3" name=""/>
          <p:cNvSpPr/>
          <p:nvPr/>
        </p:nvSpPr>
        <p:spPr>
          <a:xfrm>
            <a:off x="2268360" y="260280"/>
            <a:ext cx="568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2268360" y="260280"/>
            <a:ext cx="5543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Тори (консерваторы) отстаивали нерушимость королевских прав и существующих поряд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324000" y="5373720"/>
            <a:ext cx="5688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Виги (либералы) активно защищали права парламента и выступали за реформы в экономической и политической жизни стра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9" name=""/>
          <p:cNvSpPr/>
          <p:nvPr/>
        </p:nvSpPr>
        <p:spPr>
          <a:xfrm>
            <a:off x="3492360" y="189000"/>
            <a:ext cx="5040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Потерявшая поддержку большинства партия теряла право на власть, и правительство подавало в отставку.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Новое правительство формировалось из членов партии, получившей на выборах большинство мест в парламен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2627280" y="3141720"/>
            <a:ext cx="5545080" cy="260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В 1707 году парламент узаконил унию между Англией и Шотландией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Государство стало называться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Великобритани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Проверь себя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7696080" cy="43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Какая династия правила в Англии накануне революции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Какое событие считается началом революции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Назовите противоборствующие стороны в гражданской войне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В результате какого события в Англии установилась парламентарная монархия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omb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Проверь себя!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85800" y="980640"/>
            <a:ext cx="769608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Что стало главным итогом революции в политической сфере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Какая партийная система сложилась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Каким способом в Англии формируется правительство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Как и почему изменилось название государства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ipe dir="d"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898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898" fill="hold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898" fill="hold"/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898" fill="hold"/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898" fill="hold"/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263520" y="1052280"/>
            <a:ext cx="7386480" cy="50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2f1311"/>
                </a:solidFill>
                <a:uFillTx/>
                <a:latin typeface="Arial"/>
              </a:rPr>
              <a:t>Изучая данную тему, мы пришли к выводу о том, что Англия – родина парламентаризма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ccff"/>
                </a:solidFill>
                <a:latin typeface="Arial"/>
              </a:rPr>
              <a:t>Поскольку мы: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выяснили причины революции;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узнали о реформах Долгого парламента;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поняли, что такое гражданская война и чем она закончилась в Англии;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определили, что такое «реставрация» в политическом смысле;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выяснили в чем смысл двухпартийной политической системы;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узнали как формируется правительство Великобритании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1403280" y="189000"/>
            <a:ext cx="482436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Выводы: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ичины революции в Англ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68000" y="1125360"/>
            <a:ext cx="417492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нфликт королевской династии Стюартов с английским парламентом и пуританской церковью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ддержка королем цеховых ограничен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знокрадство и взяточничество чиновников (и короля в том числе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дажа монопол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нешняя политика Яков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0" name="" descr=""/>
          <p:cNvPicPr/>
          <p:nvPr/>
        </p:nvPicPr>
        <p:blipFill>
          <a:blip r:embed="rId2"/>
          <a:stretch/>
        </p:blipFill>
        <p:spPr>
          <a:xfrm>
            <a:off x="4572000" y="1125360"/>
            <a:ext cx="4321080" cy="5372280"/>
          </a:xfrm>
          <a:prstGeom prst="rect">
            <a:avLst/>
          </a:prstGeom>
          <a:ln w="0">
            <a:noFill/>
          </a:ln>
        </p:spPr>
      </p:pic>
      <p:sp>
        <p:nvSpPr>
          <p:cNvPr id="481" name=""/>
          <p:cNvSpPr/>
          <p:nvPr/>
        </p:nvSpPr>
        <p:spPr>
          <a:xfrm>
            <a:off x="1187280" y="2205000"/>
            <a:ext cx="741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" dur="1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4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4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4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Начало револю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932360" y="1125000"/>
            <a:ext cx="374328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640 го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созыв парламента – начало револю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ff"/>
                </a:solidFill>
                <a:latin typeface="Arial"/>
              </a:rPr>
              <a:t>Реформы Долгого парламент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мена чрезвычайных суд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вобода печа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ивлечение к суду королевских министр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ff"/>
                </a:solidFill>
                <a:uFillTx/>
                <a:latin typeface="Arial"/>
              </a:rPr>
              <a:t>Главно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Закон о том, что палата общин не может быть распущена по воле короля без ее собственного соглас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642 го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начало войны между королем и парламент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4" name="" descr=""/>
          <p:cNvPicPr/>
          <p:nvPr/>
        </p:nvPicPr>
        <p:blipFill>
          <a:blip r:embed="rId2"/>
          <a:stretch/>
        </p:blipFill>
        <p:spPr>
          <a:xfrm>
            <a:off x="179280" y="1052640"/>
            <a:ext cx="4680000" cy="561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4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4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4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4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4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4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4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4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4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4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4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4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4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4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4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4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4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4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4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4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Гражданская война между королем и парламент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79280" y="1125000"/>
            <a:ext cx="431640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«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Кавалеры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»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-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сторонники корол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рупная землевладельческая знат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идворные чиновник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нгликанская церков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3164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Круглоголовые»- сторонники       парламент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упечество, предпринимател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овое дворянство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фермер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емесленные мастера и подмастерь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395280" y="3716280"/>
            <a:ext cx="8137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684360" y="3789360"/>
            <a:ext cx="799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179280" y="3500280"/>
            <a:ext cx="8785440" cy="216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14 июня 1645 года – битва при Нейзби – бегство короля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24 июня 1646 года – сдача Оксфорда – полная победа парламен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Дальнейшие событ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395280" y="5157720"/>
          <a:ext cx="8569440" cy="1224000"/>
        </p:xfrm>
        <a:graphic>
          <a:graphicData uri="http://schemas.openxmlformats.org/drawingml/2006/table">
            <a:tbl>
              <a:tblPr/>
              <a:tblGrid>
                <a:gridCol w="4284720"/>
                <a:gridCol w="4284720"/>
              </a:tblGrid>
              <a:tr h="12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0000cc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Реформы парламента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cc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Деятельность левеллеров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buClr>
                          <a:srgbClr val="0000cc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Казнь короля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0000cc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Установление республики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cc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Подавление народных движений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cc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Протекторат Кромвеля.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0" dur="1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4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4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4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4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4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4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4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4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4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4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4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4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4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4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4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4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4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4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4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4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4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осстановление монарх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323640" y="907920"/>
            <a:ext cx="8373960" cy="30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cc"/>
                </a:solidFill>
                <a:latin typeface="Arial"/>
              </a:rPr>
              <a:t>В 1660 году в Англии совершилась реставрация (восстановление) династии Стюартов. Король подписал документ, в котором признавал все привилегии нового дворянства и буржуазии, полученные ими в ходе револю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Осенью 1688 года произошел дворцовый переворот, названный «славной революцией», который положил конец борьбе между парламентом и корол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" descr=""/>
          <p:cNvPicPr/>
          <p:nvPr/>
        </p:nvPicPr>
        <p:blipFill>
          <a:blip r:embed="rId2"/>
          <a:stretch/>
        </p:blipFill>
        <p:spPr>
          <a:xfrm>
            <a:off x="179280" y="3500280"/>
            <a:ext cx="8713800" cy="3168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898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898" fill="hold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898" fill="hold"/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9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80"/>
                </a:solidFill>
                <a:latin typeface="Footlight MT Light"/>
              </a:rPr>
              <a:t>Парламент вручил новому королю Вильгельму </a:t>
            </a:r>
            <a:r>
              <a:rPr b="0" lang="en-US" sz="3200" spc="-1" strike="noStrike">
                <a:solidFill>
                  <a:srgbClr val="008080"/>
                </a:solidFill>
                <a:latin typeface="Footlight MT Light"/>
              </a:rPr>
              <a:t>III</a:t>
            </a:r>
            <a:r>
              <a:rPr b="0" lang="ru-RU" sz="3200" spc="-1" strike="noStrike">
                <a:solidFill>
                  <a:srgbClr val="008080"/>
                </a:solidFill>
                <a:latin typeface="Footlight MT Light"/>
              </a:rPr>
              <a:t> (Оранскому) </a:t>
            </a:r>
            <a:r>
              <a:rPr b="0" i="1" lang="ru-RU" sz="3200" spc="-1" strike="noStrike">
                <a:solidFill>
                  <a:srgbClr val="008080"/>
                </a:solidFill>
                <a:latin typeface="Footlight MT Light"/>
              </a:rPr>
              <a:t>«Декларацию прав</a:t>
            </a:r>
            <a:r>
              <a:rPr b="0" lang="ru-RU" sz="3200" spc="-1" strike="noStrike">
                <a:solidFill>
                  <a:srgbClr val="008080"/>
                </a:solidFill>
                <a:latin typeface="Footlight MT Light"/>
              </a:rPr>
              <a:t>», в которой закреплялись права и обязанности парламента (</a:t>
            </a:r>
            <a:r>
              <a:rPr b="1" lang="ru-RU" sz="3200" spc="-1" strike="noStrike">
                <a:solidFill>
                  <a:srgbClr val="009900"/>
                </a:solidFill>
                <a:latin typeface="Footlight MT Light"/>
              </a:rPr>
              <a:t>законодательной власти</a:t>
            </a:r>
            <a:r>
              <a:rPr b="0" lang="ru-RU" sz="3200" spc="-1" strike="noStrike">
                <a:solidFill>
                  <a:srgbClr val="008080"/>
                </a:solidFill>
                <a:latin typeface="Footlight MT Light"/>
              </a:rPr>
              <a:t>) и короля и его министров (</a:t>
            </a:r>
            <a:r>
              <a:rPr b="1" lang="ru-RU" sz="3200" spc="-1" strike="noStrike">
                <a:solidFill>
                  <a:srgbClr val="009900"/>
                </a:solidFill>
                <a:latin typeface="Footlight MT Light"/>
              </a:rPr>
              <a:t>исполнительной власти</a:t>
            </a:r>
            <a:r>
              <a:rPr b="0" lang="ru-RU" sz="3200" spc="-1" strike="noStrike">
                <a:solidFill>
                  <a:srgbClr val="008080"/>
                </a:solidFill>
                <a:latin typeface="Footlight MT Light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3357720"/>
            <a:ext cx="822960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ff"/>
                </a:solidFill>
                <a:latin typeface="Arial"/>
              </a:rPr>
              <a:t>В Англии установилась </a:t>
            </a:r>
            <a:r>
              <a:rPr b="1" lang="en-US" sz="3200" spc="-1" strike="noStrike">
                <a:solidFill>
                  <a:srgbClr val="cc00ff"/>
                </a:solidFill>
                <a:latin typeface="Arial"/>
              </a:rPr>
              <a:t>парламентарная монархия</a:t>
            </a:r>
            <a:r>
              <a:rPr b="0" lang="en-US" sz="3200" spc="-1" strike="noStrike">
                <a:solidFill>
                  <a:srgbClr val="cc00ff"/>
                </a:solidFill>
                <a:latin typeface="Arial"/>
              </a:rPr>
              <a:t> – такой порядок управления, при котором правительство несет ответственность перед парламентом, а не  корол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остановление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палаты общин об объявлении себя верховной властью английского государст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 января 1649 г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Извлечени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становлено, что общины Англии, заседающие в парламент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объявляют, что народ, ходящий под Богом, является источником всякой законной вла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и также объявляют, что общины Англии, заседающие в парламенте, будучи избраны и представляя народ, являются высшей властью в государств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и также объявляют, что то, что постановлено или объявлено как закон общинами, заседающими в парламенте, имеет силу закона и обязательно для народа, хотя бы король или пэры не дали на это своего соглас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768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3" dur="768" fill="hold"/>
                                        <p:tgtEl>
                                          <p:spTgt spid="49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5" dur="768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7" dur="768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4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4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4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4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4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4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4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4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4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2" name=""/>
          <p:cNvSpPr/>
          <p:nvPr/>
        </p:nvSpPr>
        <p:spPr>
          <a:xfrm>
            <a:off x="324000" y="333360"/>
            <a:ext cx="864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11280" y="260280"/>
            <a:ext cx="820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395280" y="189000"/>
            <a:ext cx="82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Итоги и историческое значение английской буржуазной револю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468360" y="1844640"/>
            <a:ext cx="8136000" cy="441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нглийская буржуазная революция уничтожила абсолютиз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 Англии стал быстро развиваться капиталистический уклад в сельском хозяйстве, начался переворот в промышленном производстве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 стране стало складываться правовое государство, гражданское общест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Английская революция, ее идеи республиканского устройства, народоправия, равенства всех перед законом оказали влияние на историю других европейских стра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9" name=""/>
          <p:cNvSpPr/>
          <p:nvPr/>
        </p:nvSpPr>
        <p:spPr>
          <a:xfrm>
            <a:off x="539640" y="476280"/>
            <a:ext cx="82803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XVIII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веке сложился такой порядок, когда король назначал министров из партии, имеющей в парламенте большинство. Таких партий было две: тори и виг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Чем они различалис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3T15:00:01Z</dcterms:created>
  <dc:creator>Диденко Андрей Александрович</dc:creator>
  <dc:description/>
  <dc:language>en-US</dc:language>
  <cp:lastModifiedBy>MAMA</cp:lastModifiedBy>
  <dcterms:modified xsi:type="dcterms:W3CDTF">2009-11-23T13:10:17Z</dcterms:modified>
  <cp:revision>53</cp:revision>
  <dc:subject/>
  <dc:title>Слайд 1</dc:title>
</cp:coreProperties>
</file>