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3A5-11D7-4A58-B371-EE79C3F2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126-0525-4F29-B4F9-21C7CF6F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B3D-855D-49F1-8C40-8D28262A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ECE-5354-407E-8478-D14DB322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D979-8A04-48D9-A761-9263D9D1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F21E-2293-4803-8C5E-8DD0E567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237A-0369-442B-8453-44E8015A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0BB4-6127-48BA-892A-E353F9B0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0885-D6B8-4BB7-9CFE-5874F6A6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1894-1B7C-42D8-B394-93D27F3C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295A-0D8B-4A56-B504-34338679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B1C-5053-4F65-9F8B-89AD708E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E0CD-3638-41C3-B3DB-DCCAF9CE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0639-89BE-4755-AE8E-27EB1C55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F990-6254-4C4A-8467-6D8D0320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F6D5-21D4-4810-9FDE-1F9406FC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26EB-435C-42A9-8066-7E1D2AED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D84-9AD5-49C5-88A5-D2E00108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AF6-F9AD-4365-966B-037A0827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3A9-73C2-433D-98B3-A7FC24CB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848-CE8B-415D-9874-9997C0B1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929-15FA-4D31-B3AA-C2E21250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6D3-6D39-4B9C-BF24-5878884C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8AFF-99B6-4DC2-B9F6-B0632278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6699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0FAA-9B0E-435A-8B4B-2A2982C40F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6699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3287-291E-4781-996E-0B03E9DB80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32000" y="1844640"/>
            <a:ext cx="629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Днём независимости Росси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2360520" cy="233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2173320" cy="163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324240" cy="3809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580000" y="4365720"/>
            <a:ext cx="1419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50920" y="620640"/>
            <a:ext cx="4476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Независим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824280" y="3103560"/>
            <a:ext cx="1495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351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836640"/>
            <a:ext cx="6147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Вас обласкает Космос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3047760" cy="362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443640" y="4005360"/>
            <a:ext cx="1333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луг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255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2173320" cy="274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476360" y="692280"/>
            <a:ext cx="520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зоркостью надел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9280" y="4365720"/>
            <a:ext cx="981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ё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286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202896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403280" y="692280"/>
            <a:ext cx="448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древне-русский лого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64000" y="1916280"/>
            <a:ext cx="4238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жизни вас хран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80000" y="422100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зда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7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87280" y="836640"/>
            <a:ext cx="492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будете вы богат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619720" cy="2095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859280" y="407664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юм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898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476440" cy="2948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258920" y="765000"/>
            <a:ext cx="60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логом пусть будет ваш труд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6720" y="3860640"/>
            <a:ext cx="9050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ул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38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2920" y="836640"/>
            <a:ext cx="586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пусть золотые звёз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241128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851280" y="2060640"/>
            <a:ext cx="424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свои края позову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32360" y="458136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гада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458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24000" y="836640"/>
            <a:ext cx="3838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будет, б р а т ц ы -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59280" y="1916280"/>
            <a:ext cx="3933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о л ь н и ц а !!!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666880" cy="3133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076720" y="4149720"/>
            <a:ext cx="1895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горо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552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116000" y="1052640"/>
            <a:ext cx="714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, разумеется , место под Солнце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35640" y="4581360"/>
            <a:ext cx="2666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ладивост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2249280" cy="229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968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7:10:55Z</dcterms:created>
  <dc:creator>Света</dc:creator>
  <dc:description/>
  <dc:language>en-US</dc:language>
  <cp:lastModifiedBy>Света</cp:lastModifiedBy>
  <dcterms:modified xsi:type="dcterms:W3CDTF">2011-09-14T12:56:47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c0000000000010250600207f5200358026400</vt:lpwstr>
  </property>
</Properties>
</file>