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gif" ContentType="image/gif"/>
  <Override PartName="/ppt/media/image6.png" ContentType="image/png"/>
  <Override PartName="/ppt/media/image1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7.png" ContentType="image/png"/>
  <Override PartName="/ppt/media/image8.jpeg" ContentType="image/jpeg"/>
  <Override PartName="/ppt/media/image9.png" ContentType="image/pn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1FDB-C70E-45B4-BC8C-834CC99B0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2BF3-C519-49F5-96D0-58288038A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72BF-8FF6-4A14-B75A-E4A2995EB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7BE0-784B-4015-AB1F-23F175ED3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465BE-DB04-4101-906A-D5E861955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223CC-37F0-4D0D-A3D8-3997686BF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877E6-4D45-411C-BC53-6FA456F5F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52031-CD1D-4329-A34A-AE21B65AF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0A673-D196-499C-A93A-7214BEA3C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94BBA-9CBE-4123-B261-1747D7A1E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1B9E6-D87D-4DA4-A436-81F20A044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C8D2-783B-46E6-B210-33A540617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8B4BD-75F5-4A40-8402-E7B7C0550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A3803-D642-4B67-9D77-6B93AEA6E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F7D0E-45F0-41E9-AD68-04932955B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71297-E058-4069-B205-9F719545D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7C93A-603C-4605-AD8A-14363948A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4546-25E0-4ABF-9E77-598C52A19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37F1-F4DC-450D-87BD-AD901823E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9780-C799-4C3D-9725-61887925B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5CA5-FFBC-4BAF-A12D-B6498E7C2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2660-2DBB-43FE-86C3-DAA132A1B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8603-4DE1-4E7A-80C7-A8BF6504E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4641-5802-4BEA-931E-1FF459A91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6699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66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33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3399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33cc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4E3E1-A1E7-4123-BAE3-C5BFD2881E9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6699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23F10-A36F-424B-8903-09DC304C453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ccff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1332000" y="1844640"/>
            <a:ext cx="6296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 Днём независимости России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5219640" y="2852640"/>
            <a:ext cx="2360520" cy="23306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684360" y="549360"/>
            <a:ext cx="2173320" cy="16318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826920" y="2060640"/>
            <a:ext cx="3324240" cy="38098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 txBox="1"/>
          <p:nvPr/>
        </p:nvSpPr>
        <p:spPr>
          <a:xfrm>
            <a:off x="5580000" y="4365720"/>
            <a:ext cx="141912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Россия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2050920" y="620640"/>
            <a:ext cx="44769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Будьте Независимы!!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 txBox="1"/>
          <p:nvPr/>
        </p:nvSpPr>
        <p:spPr>
          <a:xfrm>
            <a:off x="3824280" y="3103560"/>
            <a:ext cx="149544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Москва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143516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1042920" y="836640"/>
            <a:ext cx="6147000" cy="100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усть Вас обласкает Космос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332000" y="2205000"/>
            <a:ext cx="3047760" cy="36273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6443640" y="4005360"/>
            <a:ext cx="13334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алуг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02553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76360" y="2708280"/>
            <a:ext cx="2173320" cy="27496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1476360" y="692280"/>
            <a:ext cx="52005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усть зоркостью наделит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859280" y="4365720"/>
            <a:ext cx="98100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Орёл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62863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042920" y="2781360"/>
            <a:ext cx="2028960" cy="25718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1403280" y="692280"/>
            <a:ext cx="44863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усть древне-русский логос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564000" y="1916280"/>
            <a:ext cx="4238640" cy="128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о жизни вас хранит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780000" y="4221000"/>
            <a:ext cx="17049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уздаль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3475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1187280" y="836640"/>
            <a:ext cx="49244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усть будете вы богаты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187280" y="2708280"/>
            <a:ext cx="2619720" cy="20955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>
            <a:off x="4859280" y="4076640"/>
            <a:ext cx="160020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Тюмень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88988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71640" y="2492280"/>
            <a:ext cx="2476440" cy="29480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 txBox="1"/>
          <p:nvPr/>
        </p:nvSpPr>
        <p:spPr>
          <a:xfrm>
            <a:off x="1258920" y="765000"/>
            <a:ext cx="60958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Залогом пусть будет ваш труд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076720" y="3860640"/>
            <a:ext cx="90504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Тула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253800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1042920" y="836640"/>
            <a:ext cx="58676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И пусть золотые звёзды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116000" y="2492280"/>
            <a:ext cx="2411280" cy="30225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 txBox="1"/>
          <p:nvPr/>
        </p:nvSpPr>
        <p:spPr>
          <a:xfrm>
            <a:off x="3851280" y="2060640"/>
            <a:ext cx="42480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 свои края позовут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932360" y="4581360"/>
            <a:ext cx="17049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Магадан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34586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2124000" y="836640"/>
            <a:ext cx="38386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И будет, б р а т ц ы -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59280" y="1916280"/>
            <a:ext cx="3933720" cy="17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 о л ь н и ц а !!!</a:t>
            </a:r>
            <a:endParaRPr b="0" lang="en-US" sz="4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68360" y="2708280"/>
            <a:ext cx="2666880" cy="3133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 txBox="1"/>
          <p:nvPr/>
        </p:nvSpPr>
        <p:spPr>
          <a:xfrm>
            <a:off x="5076720" y="4149720"/>
            <a:ext cx="18957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Новгород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235520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116000" y="1052640"/>
            <a:ext cx="71438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И , разумеется , место под Солнцем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435640" y="4581360"/>
            <a:ext cx="266688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Владивосток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692360" y="2708280"/>
            <a:ext cx="2249280" cy="22953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69685" fill="hold"/>
                                        <p:tgtEl>
                                          <p:spTgt spid="1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0T07:10:55Z</dcterms:created>
  <dc:creator>Света</dc:creator>
  <dc:description/>
  <dc:language>en-US</dc:language>
  <cp:lastModifiedBy>Света</cp:lastModifiedBy>
  <dcterms:modified xsi:type="dcterms:W3CDTF">2011-09-14T12:56:47Z</dcterms:modified>
  <cp:revision>3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60c0000000000010250600207f5200358026400</vt:lpwstr>
  </property>
</Properties>
</file>