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gif" ContentType="image/gif"/>
  <Override PartName="/ppt/media/image6.png" ContentType="image/pn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7E67-81AE-4089-AEA0-E1F4C3FF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E0E0-8F6B-4883-AEFE-1F78510E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4FBF-C734-4A4B-8D95-E99C8ECC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4B8B-A731-4F3F-BFC3-C937B01A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427C-DA6A-4CB2-9E0E-48C9B4A0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6A95-FAA1-4F09-B76D-A0DF9AEB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ED00-BC1A-45DD-BBBE-258B2A07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8621-1A95-4823-BF54-37E9D030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2063-DC4B-4AC3-B052-394D2024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3EE7-15E7-45E9-8467-6F04A894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CA72-4253-419A-B4F3-DF7DCA50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4ED-EEF9-43A3-836D-803F4C90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6367-0C1C-4B9E-B871-D20361E2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AFC0-3DF0-4332-9AD7-57ED9BC4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BE29-EFDE-48F2-B19C-5C57E739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47BF-7734-402C-8B0B-0C12409E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CE7D-18F0-42F5-A7A4-00E55FC6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2A80-1944-4C7A-B66D-B2547720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D360-E264-4786-9599-BF3C5427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14A5-A4CE-45EB-956E-7328B848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144-1DB5-4AA4-B644-22A55040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8CE6-D883-462A-9A0D-2C1B9750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AB7A-9EB7-457F-AF5F-DDC124D2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0DD0-F50E-46F8-A58D-3244ECBA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6699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3399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9B7F-6001-439D-B3DF-00043014F2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6699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3C59-C565-4C02-9E49-AF3B1D0561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cc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332000" y="1844640"/>
            <a:ext cx="6296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 Днём независимости Росси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19640" y="2852640"/>
            <a:ext cx="2360520" cy="2330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2173320" cy="1631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3324240" cy="3809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5580000" y="4365720"/>
            <a:ext cx="1419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сс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050920" y="620640"/>
            <a:ext cx="4476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Независимы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3824280" y="3103560"/>
            <a:ext cx="14954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скв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43516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920" y="836640"/>
            <a:ext cx="61470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Вас обласкает Космос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3047760" cy="3627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443640" y="4005360"/>
            <a:ext cx="1333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луг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255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2173320" cy="2749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476360" y="692280"/>
            <a:ext cx="5200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зоркостью надели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59280" y="4365720"/>
            <a:ext cx="9810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рё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6286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2028960" cy="2571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403280" y="692280"/>
            <a:ext cx="4486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древне-русский лого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64000" y="1916280"/>
            <a:ext cx="423864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жизни вас храни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780000" y="4221000"/>
            <a:ext cx="1704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уздал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475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87280" y="836640"/>
            <a:ext cx="4924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усть будете вы богат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2619720" cy="2095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859280" y="4076640"/>
            <a:ext cx="1600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юмен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8898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2476440" cy="2948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258920" y="765000"/>
            <a:ext cx="6095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логом пусть будет ваш труд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6720" y="3860640"/>
            <a:ext cx="9050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ул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538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42920" y="836640"/>
            <a:ext cx="5867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пусть золотые звёз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2411280" cy="3022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851280" y="2060640"/>
            <a:ext cx="424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свои края позовут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32360" y="4581360"/>
            <a:ext cx="1704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гадан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34586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124000" y="836640"/>
            <a:ext cx="38386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будет, б р а т ц ы -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59280" y="1916280"/>
            <a:ext cx="39337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о л ь н и ц а !!!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2666880" cy="3133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076720" y="4149720"/>
            <a:ext cx="18957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овгоро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3552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116000" y="1052640"/>
            <a:ext cx="7143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, разумеется , место под Солнце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35640" y="4581360"/>
            <a:ext cx="2666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ладивосто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2249280" cy="2295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968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7:10:55Z</dcterms:created>
  <dc:creator>Света</dc:creator>
  <dc:description/>
  <dc:language>en-US</dc:language>
  <cp:lastModifiedBy>Света</cp:lastModifiedBy>
  <dcterms:modified xsi:type="dcterms:W3CDTF">2011-09-14T12:56:47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c0000000000010250600207f5200358026400</vt:lpwstr>
  </property>
</Properties>
</file>