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62B88-D775-41BB-B5B5-5C36576B36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A4717-FF4B-4810-B6E9-51DA9720D1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CF0E-A486-4E64-B50D-39F7F0B4D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2967-DF25-47BD-9F72-70C771A41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4B4C-3D47-4C5E-A8AB-8286A8B8C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0DF4-F411-4828-989B-8F6535166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B840-25D3-4158-844B-C19D470F0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F6E8-7583-4D34-85CC-DE9CCE364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8A98-60EA-4250-8B47-863F4F611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803D-2B4F-4822-B47A-565C874FE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836B-82AD-42A5-892A-FC5FA04C0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D115-2CDD-44BF-AFA4-92214858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210D-4D1F-45AC-8858-A30D9963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1EF4-27E4-4B4B-9192-4909CE25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3C8D5-57E0-47F8-9425-516A598D44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6ea92d"/>
                </a:solidFill>
                <a:latin typeface="Arial"/>
              </a:rPr>
              <a:t>Загрязнение окружающей сред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Истощение природных ресурс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аботка полезных ископаемых до степени нерентабельности дальнейшей разработ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вышение темпов и объемов добычи над способностью естественного возобновления возобновляемых ресурс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переруб леса, перелов рыбы, перевыпас скота и сбой пастбищ, несоблюдение агротехнических мероприятий при обработке почвы и истощение их плодородия, загрязнение водотоков и водоемов промышленными отходами так, что их невозможно практически использовать, загрязнение воздуха в крупных городах и т. д. И. п. р. бывает и естественным. Например, быстрое размножение ондатры привело в некоторых районах к истреблению ее кормов и гибели зверька; размножение норки — к исчезновению некоторых видов рыб — ее пищи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развитием и прогрессом общества нарастает использование природных ресурсов, поэтому возникает проблема предотвращения этого процесс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Охрана прир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4"/>
          <p:cNvPicPr/>
          <p:nvPr/>
        </p:nvPicPr>
        <p:blipFill>
          <a:blip r:embed="rId1"/>
          <a:stretch/>
        </p:blipFill>
        <p:spPr>
          <a:xfrm>
            <a:off x="228600" y="1371600"/>
            <a:ext cx="3429000" cy="38862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6"/>
          <p:cNvSpPr/>
          <p:nvPr/>
        </p:nvSpPr>
        <p:spPr>
          <a:xfrm>
            <a:off x="228600" y="571464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computerschool.ru/gallery/page3.ht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4038480" y="1409760"/>
            <a:ext cx="4724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а форма — реакция на разрушительную деятельность человека в окружающей среде. В отличие от потребления, это осознанная форма общественной и государственной деятельности, направленная на сохранение и воспроизводство природных ресурсов. Будучи вторичной формой взаимодействия общества и природы, охрана природы возникает и совершенствуется по мере роста потребления и использования природной среды. Охрана появляется и совершенствуется там, где возникает угроза уничтожения природной среды, где возникает и развивается потребление приро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Рациональное использование природных ресур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онятие «рационального» вкладывается не только экономическое, но и экологическое содержание. Иначе говоря, рациональное — это экономное, бережное использование источников природного сырья, природных ресурсов с учетом требований охраны окружающей среды. Поэтому нельзя считать рациональным такое бережное, экономное, эффективное использование природных ресурсов, которое оставляет глубокий отрицательный след на состоянии окружающей сре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ередине XX в. (50—60-е гг.) проблема рационального использования природных ресурсов как форма охраны природы перерастае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 защиту, оздоровление окружающей человека среды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отличие от предшествующих форм, где непосредственным объектом охраны являлись природные объекты и их ресурсы, здесь защита окружающей природной среды выдвигает в качестве непосредственного объекта охраны —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человека, его жизнь, его здоровье, его генетическое будущ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Рациональное использование природных ресурс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6"/>
          <p:cNvPicPr/>
          <p:nvPr/>
        </p:nvPicPr>
        <p:blipFill>
          <a:blip r:embed="rId1"/>
          <a:stretch/>
        </p:blipFill>
        <p:spPr>
          <a:xfrm>
            <a:off x="304920" y="1143000"/>
            <a:ext cx="3200400" cy="46022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7"/>
          <p:cNvSpPr/>
          <p:nvPr/>
        </p:nvSpPr>
        <p:spPr>
          <a:xfrm>
            <a:off x="0" y="586692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berdsk-city.ru/provedyon-monitoring-zagryazneniya-okruzhayushhej-sredy-berdska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3886200" y="1507680"/>
            <a:ext cx="48006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ередине XX в. (50—60-е гг.) проблема рационального использования природных ресурсов как форма охраны природы перерастае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 защиту, оздоровление окружающей человека среды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отличие от предшествующих форм, где непосредственным объектом охраны являлись природные объекты и их ресурсы, здесь защита окружающей природной среды выдвигает в качестве непосредственного объекта охраны —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человека, его жизнь, его здоровье, его генетическое будущ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Необходим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чистка вредных выбросов( например, с помощью фильтро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очистных сооружений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ранение самих причин загрязнения, что требует разработки малоотходных, а в перспективе и безотходных технологий производства, которые позволяли бы комплексно использовать исходное сырье и утилизировать максимум вредных для биосферы вещест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дение в учебных заведениях экологического воспитания, формирующем уважение к прир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Заключ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итоге можно сказать, что проблема охраны окружающей природной среды во всех ее трех формах — консервативной, рационального использования природных ресурсов и оздоровления окружающей человека среды — из региональной постепенно превращается в национальную, а затем и международную проблему, решение которой зависит от совместных усилий всего международного сообщества. Для глобального решения проблемы необходимо обеспечить взаимодействие международной охраны окружающей среды, связанной с выполнением международных обязательств и договоров, и национальной и региональной охраны прир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рязнение природной среды вредными для человека отходами, истощение природных ресурсов и угроза разрушения экологических связей в природе неуклонно приводит к мировому кризис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Список литератур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ковиев В.Н. Экологическое право. К., 1998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ешученко Ю.С. Правовые проблемы экологии. Киев, 1989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тров В.В. Экологическое право России, М., 1997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bestreferat.ru/referat-62209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66"/>
                </a:solidFill>
                <a:latin typeface="Arial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Цел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казать актуальность пробл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Задач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яснить основные источники загрязнения окружающей сре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ти решения проблемы загрязнения окружающей среды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Введ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ружающая природная среда служит условием и средством жизни человека, территории, на которой он проживает, пространственным пределом осуществляемой государственной власти, местом для размещения объектов промышленности, сельского хозяйства и других объектов культурно-бытового назнач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овек воздействует на естественную среду своего обитания не только потребляя ее ресурсы, но и изменяя природную среду, приспосабливая ее для решения своих практических, хозяйственных задач. В силу этого человеческая деятельность оказывает существенное влияние на окружающую среду, подвергая ее изменениям, которые затем влияют и на самого челове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Формы взаимодействия человека с окружающей средо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ономическа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это потребление природы человеком, использование природы для удовлетворения человеком своих материальных и духовных потребност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ологическа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 это охрана окружающей природной среды с целью сохранения человека как биологического и социального организма и его естественной среды обит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циональное использование природных ресурсов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понятие «рационального» вкладывается не только экономическое, но и экологическое содержание. Иначе говоря, рациональное — это экономное, бережное использование источников природного сырья, природных ресурсов с учетом требований охраны окружающей сре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Негативная деятельность человека по отношению к природной среде проявляется объективно в трех взаимосвязанных формах</a:t>
            </a: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грязнение окружающей природной сре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ощение природных ресур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рушение природной сре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Загрязн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рязнение окружающей среды подразделяется на несколько вид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ылев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азов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имическое(в том числе загрязнение почвы химикатам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оматическ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пловое (изменение температуры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многие друг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чником загрязнения окружающей природной среды выступает хозяйственная деятельность человека (промышленность, сельское хозяйство, транспорт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Из всех видов загрязнения можно выделить основны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600200"/>
          <a:ext cx="8229600" cy="40384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857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ТИПЫ ЗАГРЯЗНЕ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ическое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епловое, шумовое, электромагнитно, световое, радиоактивное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мическое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яжелые металлы, пестициды, пластмассы и др. химические вещества)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ческое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биогенное, микробиологическое, генетическое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ормационное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информационный шум, ложная информация, факторы беспокойств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380880" y="304920"/>
          <a:ext cx="8229600" cy="57909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126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Загрязнение окружающей сред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источники загрязн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вредные вещества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тмосфе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мышле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анспор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пловые электростан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сиды углерода, серы, азота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ческие соединения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мышленная пыль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дросфе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чные воды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ечки нефти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тотранспор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яжелые металлы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ть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тепродукт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осфе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ходы промышленности и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льского хозяйства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быточное использование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брений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стмассы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ина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яжелые металл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Загрязнению подвергаются атмосфера (воздушная среда), гидросфера (водная среда) и литосфера (твердая поверхность) Зем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5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8"/>
          <p:cNvSpPr/>
          <p:nvPr/>
        </p:nvSpPr>
        <p:spPr>
          <a:xfrm>
            <a:off x="2057400" y="6168240"/>
            <a:ext cx="507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news-zwezd.ru/pages-view-341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рубин Сергей Александрович</cp:lastModifiedBy>
  <dcterms:modified xsi:type="dcterms:W3CDTF">2012-09-05T10:35:44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