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11BB-F38C-4E45-B26B-44507F5CAA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71F1-864D-42F0-A38B-115BFEE335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393D-D7D4-4316-926F-DDA5EE30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7FA3-C32C-4F84-84BE-61828660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EBC0-9765-4E09-898C-A0196116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5962-16E5-441C-BCEF-997EF11A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989-E894-4EBD-97AE-4391FA22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C7F-0921-4DC6-BA57-DC06DED9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1C3B-3A63-4955-867A-6EDEDFAD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AFEB-56FF-43F6-A7D4-CE46B077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37C-8AB9-47A2-9D13-CA8D9087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0C58-370B-4356-9740-D295FE79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1AD4-4925-4BD0-BDF3-3E0C7FF4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9170-0823-4086-AD0F-713827D2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5CF5-4EDC-4CBE-818B-711D187540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ea92d"/>
                </a:solidFill>
                <a:latin typeface="Arial"/>
              </a:rPr>
              <a:t>Загрязнение окружающей сред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стощение природных ресурс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ботка полезных ископаемых до степени нерентабельности дальнейшей разрабо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ышение темпов и объемов добычи над способностью естественного возобновления возобновляемых ресур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ереруб леса, перелов рыбы, перевыпас скота и сбой пастбищ, несоблюдение агротехнических мероприятий при обработке почвы и истощение их плодородия, загрязнение водотоков и водоемов промышленными отходами так, что их невозможно практически использовать, загрязнение воздуха в крупных городах и т. д. И. п. р. бывает и естественным. Например, быстрое размножение ондатры привело в некоторых районах к истреблению ее кормов и гибели зверька; размножение норки — к исчезновению некоторых видов рыб — ее пищ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развитием и прогрессом общества нарастает использование природных ресурсов, поэтому возникает проблема предотвращения этого процес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Охрана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4"/>
          <p:cNvPicPr/>
          <p:nvPr/>
        </p:nvPicPr>
        <p:blipFill>
          <a:blip r:embed="rId1"/>
          <a:stretch/>
        </p:blipFill>
        <p:spPr>
          <a:xfrm>
            <a:off x="228600" y="13716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228600" y="57146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computerschool.ru/gallery/page3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038480" y="1409760"/>
            <a:ext cx="4724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форма — реакция на разрушительную деятельность человека в окружающей среде. В отличие от потребления, это осознанная форма общественной и государственной деятельности, направленная на сохранение и воспроизводство природных ресурсов. Будучи вторичной формой взаимодействия общества и природы, охрана природы возникает и совершенствуется по мере роста потребления и использования природной среды. Охрана появляется и совершенствуется там, где возникает угроза уничтожения природной среды, где возникает и развивается потребление прир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ациональное использование природ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нятие «рационального» вкладывается не только экономическое, но и экологическое содержание. Иначе говоря, рациональное — это экономное, бережное использование источников природного сырья, природных ресурсов с учетом требований охраны окружающей среды. Поэтому нельзя считать рациональным такое бережное, экономное, эффективное использование природных ресурсов, которое оставляет глубокий отрицательный след на состоянии окруж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редине XX в. (50—60-е гг.) проблема рационального использования природных ресурсов как форма охраны природы перераста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защиту, оздоровление окружающей человека сред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отличие от предшествующих форм, где непосредственным объектом охраны являлись природные объекты и их ресурсы, здесь защита окружающей природной среды выдвигает в качестве непосредственного объекта охраны —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еловека, его жизнь, его здоровье, его генетическое буду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ациональное использование природных ресур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6"/>
          <p:cNvPicPr/>
          <p:nvPr/>
        </p:nvPicPr>
        <p:blipFill>
          <a:blip r:embed="rId1"/>
          <a:stretch/>
        </p:blipFill>
        <p:spPr>
          <a:xfrm>
            <a:off x="304920" y="1143000"/>
            <a:ext cx="3200400" cy="4602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0" y="5866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erdsk-city.ru/provedyon-monitoring-zagryazneniya-okruzhayushhej-sredy-berdska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3886200" y="1507680"/>
            <a:ext cx="4800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редине XX в. (50—60-е гг.) проблема рационального использования природных ресурсов как форма охраны природы перераста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защиту, оздоровление окружающей человека сред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тличие от предшествующих форм, где непосредственным объектом охраны являлись природные объекты и их ресурсы, здесь защита окружающей природной среды выдвигает в качестве непосредственного объекта охраны —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еловека, его жизнь, его здоровье, его генетическое будущ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Необходим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истка вредных выбросов( например, с помощью фильтр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чистных сооружени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анение самих причин загрязнения, что требует разработки малоотходных, а в перспективе и безотходных технологий производства, которые позволяли бы комплексно использовать исходное сырье и утилизировать максимум вредных для биосферы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в учебных заведениях экологического воспитания, формирующем уважение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Заклю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тоге можно сказать, что проблема охраны окружающей природной среды во всех ее трех формах — консервативной, рационального использования природных ресурсов и оздоровления окружающей человека среды — из региональной постепенно превращается в национальную, а затем и международную проблему, решение которой зависит от совместных усилий всего международного сообщества. Для глобального решения проблемы необходимо обеспечить взаимодействие международной охраны окружающей среды, связанной с выполнением международных обязательств и договоров, и национальной и региональной охраны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природной среды вредными для человека отходами, истощение природных ресурсов и угроза разрушения экологических связей в природе неуклонно приводит к мировому кризи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виев В.Н. Экологическое право. К., 199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шученко Ю.С. Правовые проблемы экологии. Киев, 1989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ров В.В. Экологическое право России, М., 1997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bestreferat.ru/referat-6220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ть актуальность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 основные источники загрязнения окружающей ср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ти решения проблемы загрязнения окружающей среды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вед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ающая природная среда служит условием и средством жизни человека, территории, на которой он проживает, пространственным пределом осуществляемой государственной власти, местом для размещения объектов промышленности, сельского хозяйства и других объектов культурно-бытового назна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воздействует на естественную среду своего обитания не только потребляя ее ресурсы, но и изменяя природную среду, приспосабливая ее для решения своих практических, хозяйственных задач. В силу этого человеческая деятельность оказывает существенное влияние на окружающую среду, подвергая ее изменениям, которые затем влияют и на самого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Формы взаимодействия человека с окружающей средо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отребление природы человеком, использование природы для удовлетворения человеком своих материальных и духовных потреб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это охрана окружающей природной среды с целью сохранения человека как биологического и социального организма и его естественной среды обит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циональное использование природных ресурс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онятие «рационального» вкладывается не только экономическое, но и экологическое содержание. Иначе говоря, рациональное — это экономное, бережное использование источников природного сырья, природных ресурсов с учетом требований охраны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гативная деятельность человека по отношению к природной среде проявляется объективно в трех взаимосвязанных формах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щение природны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ушение природ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Загрязн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среды подразделяется на несколько ви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ыле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о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(в том числе загрязнение почвы химикат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омат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ловое (изменение температур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многие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ом загрязнения окружающей природной среды выступает хозяйственная деятельность человека (промышленность, сельское хозяйство, транспор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з всех видов загрязнения можно выделить основны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038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57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ТИПЫ ЗАГРЯЗН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епловое, шумовое, электромагнитно, световое, радиоактивно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яжелые металлы, пестициды, пластмассы и др. химические вещества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иогенное, микробиологическое, генетическо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информационный шум, ложная информация, факторы беспокойст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304920"/>
          <a:ext cx="8229600" cy="5790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12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грязнение окружающей сред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источники загряз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вредные вещества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м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овые электроста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иды углерода, серы, азот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ческие соединения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ая пыл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чные вод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ечки нефти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транспор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металл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ь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епродук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ходы промышленности и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кого хозяйств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ыточное использование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брений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стмасс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ин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металл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Загрязнению подвергаются атмосфера (воздушная среда), гидросфера (водная среда) и литосфера (твердая поверхность)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2057400" y="6168240"/>
            <a:ext cx="50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news-zwezd.ru/pages-view-341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рубин Сергей Александрович</cp:lastModifiedBy>
  <dcterms:modified xsi:type="dcterms:W3CDTF">2012-09-05T10:35:4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