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2709-4405-4FAC-B7C4-A7AD3AC3B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333E-876F-421A-AF10-7D18834D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7807-280E-4BFF-A818-2941EFF4E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B79F-FE55-4F19-9BD3-356AD7420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4BBC-7C4E-4FAE-96C4-362958073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E08B-39D0-480B-B4AB-D2275E86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F6CB-3A34-46D5-B01D-14014380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0EBB-93C8-4359-93CB-6473D8EE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CE47-A27C-486A-A635-1C2694BD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5C700-27B9-4432-BCE5-F8C60BC7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3143-F656-4027-8936-2635964F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F9B8-7B25-4EA0-B0F1-B9E8B68F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B883-0F26-4E7C-B655-EA24172C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0849-9746-4BFA-9523-E4B98B5C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E093-49CC-4827-B55A-398B6476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58C2-5982-4232-AE22-D57121626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5BCD1-51A2-4F9A-BC39-A0FDC50DE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B802-0C01-4241-87A2-DBC5E0F0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C7A3-57C2-4A7D-86E4-041D0652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0859-285B-487E-B3C2-A9DDD846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7A47-0AAA-4AC7-93F7-5FBD3CEE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FF89-7F0D-4D18-A4ED-24A9AADC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D35A-24B4-48EF-A499-B5D3D591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5DF2-A61E-4F0B-B2A0-AF55B14A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1" name="Rectangle 8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10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11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13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14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6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Rectangle 17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Line 19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Line 20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Line 21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Line 22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Line 23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Line 24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Line 25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Line 26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Line 27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Line 28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Line 29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2720" y="626724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7875-A532-4FE7-B61D-2806785D9009}" type="slidenum"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67" name="Rectangle 3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Rectangle 4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Rectangle 5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Rectangle 6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Rectangle 7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Rectangle 8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Rectangle 9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Rectangle 10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Rectangle 11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Rectangle 12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Rectangle 13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Line 17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Line 18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Line 19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Line 20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Line 22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Line 23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Line 24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Line 25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Line 26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272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480A-6E6F-49FB-8502-FC61044C53CB}" type="slidenum"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4"/>
          <p:cNvSpPr txBox="1"/>
          <p:nvPr/>
        </p:nvSpPr>
        <p:spPr>
          <a:xfrm>
            <a:off x="642960" y="3786120"/>
            <a:ext cx="7929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00b05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Дарвинский заповедник</a:t>
            </a:r>
            <a:endParaRPr b="1" lang="en-US" sz="1800" spc="1" strike="noStrike">
              <a:ln w="9360">
                <a:solidFill>
                  <a:srgbClr val="00cc99"/>
                </a:solidFill>
                <a:miter/>
              </a:ln>
              <a:solidFill>
                <a:srgbClr val="00b05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3" name="Picture 5" descr="ДАРВИНСКИЙ заповедник - эмблема"/>
          <p:cNvPicPr/>
          <p:nvPr/>
        </p:nvPicPr>
        <p:blipFill>
          <a:blip r:embed="rId1"/>
          <a:stretch/>
        </p:blipFill>
        <p:spPr>
          <a:xfrm>
            <a:off x="2857680" y="357120"/>
            <a:ext cx="3097080" cy="2973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9"/>
          <p:cNvSpPr/>
          <p:nvPr/>
        </p:nvSpPr>
        <p:spPr>
          <a:xfrm>
            <a:off x="642960" y="2014560"/>
            <a:ext cx="8072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Рыбинском водохранилище в районе заповедника сейчас отмечено 28 видов рыб, относящихся к 6 отрядам и 10 семействам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ряд карпообразных, представлен 14 видами семейства, и 2 видами семейства вьюновы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ряд окунеобразных представлен 4 видами семейства окуневы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ряд лососеобразных, два подвида семейства корюшковых, семейство сиговых, семейство щукообразны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ряд сомообразных представляет один вид – со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WordArt 23"/>
          <p:cNvSpPr txBox="1"/>
          <p:nvPr/>
        </p:nvSpPr>
        <p:spPr>
          <a:xfrm>
            <a:off x="2500200" y="285840"/>
            <a:ext cx="4000680" cy="14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1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ыб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9680" y="285840"/>
            <a:ext cx="828684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Gothic"/>
              </a:rPr>
              <a:t>Дарвинский государственный природный биосферный заповедник </a:t>
            </a:r>
            <a:br>
              <a:rPr sz="3600"/>
            </a:b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00040" y="1714680"/>
            <a:ext cx="84549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Century Gothic"/>
              </a:rPr>
              <a:t>  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Число зарегистрированных видов:</a:t>
            </a:r>
            <a:endParaRPr b="0" lang="en-US" sz="36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грибы - 125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лишайники - 66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мхи - 149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лауновидные - 4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апортниковидные - 21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голосеменные - 4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окрытосеменные - 569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рыбы - 28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земноводные - 7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ресмыкающиеся - 5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тицы - 238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млекопитающие - 37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214200" y="736920"/>
            <a:ext cx="892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рвинский государственный природный заповедник создан по Решению Совета Народных Комиссаров 18 июля 1945 г.  Площадь заповедника 112673 га, площадь охранной зоны 27028 га. В ноябре 2002 года Дарвинский заповедник получил статус международного биосферного резервата. Дарвинский заповедник расположен на побережье Рыбинского водохранилища, на стыке Вологодской, Ярославской и Тверской областей. Он занимает самую оконечность полуострова, глубоко вдающегося с северо-запада на юго-восток в акваторию Рыбинского водохранилища. Создан в целях сохранения уникальной природы Молого-Шекснинского междуречья и изучения влияния Рыбинского водохранилища на все элементы природного комплекс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0" y="3357720"/>
            <a:ext cx="721512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80"/>
                </a:solidFill>
                <a:latin typeface="Century Gothic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500040" y="1019520"/>
            <a:ext cx="8215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ительность заповедника. Более 80% территории заповедника занято болотами и заболоченными лесами. составляет от 10 до 17 тыс. лет.Преобладают сфагновые верховые болота. Флора их бедна. Древесный ярус образует сосна разных экологических форм. В траявяно-кустарничковом ярусе обычны кассандра, подбел, багульник болотный, голубика, клюква, пушица, морошка, шейхцерия, осока топяная, изредка встречаются водяника, росянка. В моховом покрове господствуют сфагновые мхи. Низинных и переходных болот в заповеднике немного.Леса в заповеднике приурочены к наиболее дренируемым участкам: берегам рек и прибрежным участкам водохранилища, вершинам древних материковых дюн и песчаным гривам среди болот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WordArt 5"/>
          <p:cNvSpPr txBox="1"/>
          <p:nvPr/>
        </p:nvSpPr>
        <p:spPr>
          <a:xfrm>
            <a:off x="1428840" y="714240"/>
            <a:ext cx="6715080" cy="857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Растительность: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1" descr="ДАРВИНСКИЙ заповедник"/>
          <p:cNvPicPr/>
          <p:nvPr/>
        </p:nvPicPr>
        <p:blipFill>
          <a:blip r:embed="rId1"/>
          <a:stretch/>
        </p:blipFill>
        <p:spPr>
          <a:xfrm>
            <a:off x="127080" y="252360"/>
            <a:ext cx="8939160" cy="64533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3"/>
          <p:cNvSpPr/>
          <p:nvPr/>
        </p:nvSpPr>
        <p:spPr>
          <a:xfrm>
            <a:off x="3333600" y="2286000"/>
            <a:ext cx="2476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3335400" y="2239920"/>
            <a:ext cx="18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3997440" y="2276640"/>
            <a:ext cx="18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ДАРВИНСКИЙ заповедник - подорлик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ДАРВИНСКИЙ заповедник - бобр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72360" y="-4335840"/>
            <a:ext cx="4316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147" name="Picture 4" descr="ДАРВИНСКИЙ заповедник - скопа"/>
          <p:cNvPicPr/>
          <p:nvPr/>
        </p:nvPicPr>
        <p:blipFill>
          <a:blip r:embed="rId1"/>
          <a:stretch/>
        </p:blipFill>
        <p:spPr>
          <a:xfrm>
            <a:off x="0" y="0"/>
            <a:ext cx="3635280" cy="328464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6"/>
          <p:cNvSpPr/>
          <p:nvPr/>
        </p:nvSpPr>
        <p:spPr>
          <a:xfrm>
            <a:off x="3708360" y="1176480"/>
            <a:ext cx="50785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заповеднике обитают как типичные таежные виды - бурый медведь, рябчик, глухарь, кукша, так и широко распространенные - лось, кабан, обыкновенная полевка, тетерев, серый журавл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лекопитающие. В заповеднике обитает 37 видов млекопитающих из 6 отрядов и 16 семейств. Парнокопытные представлены двумя видами - это лось и кабан. Из хищников обычны медведь и волк. Немногочисленна, но регулярно встречается рысь. Три вида хищников-норников лисица, енотовидная собака и барсук, приспособились к существованию среди низменной заболоченной территории. Реже встречаются лесная куница, норка, черный хорь, выдр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7" descr="ДАРВИНСКИЙ заповедник - кабан"/>
          <p:cNvPicPr/>
          <p:nvPr/>
        </p:nvPicPr>
        <p:blipFill>
          <a:blip r:embed="rId2"/>
          <a:stretch/>
        </p:blipFill>
        <p:spPr>
          <a:xfrm>
            <a:off x="0" y="3429000"/>
            <a:ext cx="3635280" cy="3429000"/>
          </a:xfrm>
          <a:prstGeom prst="rect">
            <a:avLst/>
          </a:prstGeom>
          <a:ln w="0">
            <a:noFill/>
          </a:ln>
        </p:spPr>
      </p:pic>
      <p:sp>
        <p:nvSpPr>
          <p:cNvPr id="150" name="WordArt 9"/>
          <p:cNvSpPr txBox="1"/>
          <p:nvPr/>
        </p:nvSpPr>
        <p:spPr>
          <a:xfrm>
            <a:off x="3786120" y="285840"/>
            <a:ext cx="481968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ивотный мир</a:t>
            </a:r>
            <a:endParaRPr b="1" lang="en-US" sz="1800" spc="1" strike="noStrike">
              <a:ln w="0">
                <a:noFill/>
              </a:ln>
              <a:solidFill>
                <a:srgbClr val="33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0">
                <a:noFill/>
              </a:ln>
              <a:solidFill>
                <a:srgbClr val="33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9"/>
          <p:cNvSpPr/>
          <p:nvPr/>
        </p:nvSpPr>
        <p:spPr>
          <a:xfrm>
            <a:off x="2928960" y="1290960"/>
            <a:ext cx="5857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ой численности достигают здесь водоплавающие птицы, в первую очередь кряква, свиязь, хохлатая чернеть, гоголь. Реже встречаются на гнездовье шилохвость, широконоска, большой крохаль и луток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голенастых птиц в заповеднике встречаются серая цапля и большая выпь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айковых птиц наиболее обычна сизая чайка. Значительно реже встречаются озерная и малая чайки, немногочисленна серебристая чайк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10" descr="ДАРВИНСКИЙ заповедник - орлан"/>
          <p:cNvPicPr/>
          <p:nvPr/>
        </p:nvPicPr>
        <p:blipFill>
          <a:blip r:embed="rId1"/>
          <a:stretch/>
        </p:blipFill>
        <p:spPr>
          <a:xfrm>
            <a:off x="0" y="3645000"/>
            <a:ext cx="2771640" cy="3213000"/>
          </a:xfrm>
          <a:prstGeom prst="rect">
            <a:avLst/>
          </a:prstGeom>
          <a:ln w="0">
            <a:noFill/>
          </a:ln>
        </p:spPr>
      </p:pic>
      <p:sp>
        <p:nvSpPr>
          <p:cNvPr id="153" name="WordArt 16"/>
          <p:cNvSpPr txBox="1"/>
          <p:nvPr/>
        </p:nvSpPr>
        <p:spPr>
          <a:xfrm>
            <a:off x="3286080" y="428760"/>
            <a:ext cx="4929120" cy="83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тиц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4" name="Picture 17" descr="ДАРВИНСКИЙ заповедник - скопа"/>
          <p:cNvPicPr/>
          <p:nvPr/>
        </p:nvPicPr>
        <p:blipFill>
          <a:blip r:embed="rId2"/>
          <a:stretch/>
        </p:blipFill>
        <p:spPr>
          <a:xfrm>
            <a:off x="0" y="0"/>
            <a:ext cx="2771640" cy="3284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10:13:44Z</dcterms:created>
  <dc:creator>Max</dc:creator>
  <dc:description/>
  <dc:language>en-US</dc:language>
  <cp:lastModifiedBy>Трубин Сергей Александрович</cp:lastModifiedBy>
  <dcterms:modified xsi:type="dcterms:W3CDTF">2012-09-05T10:16:06Z</dcterms:modified>
  <cp:revision>17</cp:revision>
  <dc:subject/>
  <dc:title>Слайд 1</dc:title>
</cp:coreProperties>
</file>