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1AC-2A77-44BD-8080-A70DC3D9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2E05-48D7-4508-979E-8CF13AE4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C1D2-FAE7-4906-A0A2-D0D7354C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C851-B0CF-4287-BE52-A97DC936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67EC-6FAC-4975-9E8C-4C4B1B4E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0D62-0962-4DC8-B23C-8334B9F3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6879-6047-4CEF-A913-9AE69875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3042-6D2D-42E3-AB84-15673987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F950-1C07-446B-8D8E-D20CBF5C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BA3C-E8D2-4078-AD2D-BA0ED138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2D0C-F633-411D-BC97-2A1E6F95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0A2A-5B04-4128-8F0D-1CC9E978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6502-7422-4FE0-83F5-8446A96D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C2A9-4E88-4B12-9F50-6D108DC0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C06D-ADF9-4418-BD7D-42F456C2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C888-B867-48AB-B3CC-3A93B4F8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8516-9EBC-45AC-97B7-181424B3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92E-5A62-47BE-8A44-69798247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DE39-2636-4505-BB7E-C28EE77E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A4FC-03A8-464F-A67D-041DC6CA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2F2F-0ECE-460E-B6C9-643C35AC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EF31-080E-4243-B421-7EBDBD6B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9EB1-56FC-4F25-A3E9-E20F66E7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1C4F-7CF6-49E7-BD39-AC7E3862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7AD7-61B6-4A2E-8D0D-8135D2473DC1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F7F9-A59E-4DCA-92FF-7171CC8264E2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642960" y="3786120"/>
            <a:ext cx="7929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00b05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арвинский заповедник</a:t>
            </a:r>
            <a:endParaRPr b="1" lang="en-US" sz="1800" spc="1" strike="noStrike">
              <a:ln w="9360">
                <a:solidFill>
                  <a:srgbClr val="00cc99"/>
                </a:solidFill>
                <a:miter/>
              </a:ln>
              <a:solidFill>
                <a:srgbClr val="00b05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Picture 5" descr="ДАРВИНСКИЙ заповедник - эмблема"/>
          <p:cNvPicPr/>
          <p:nvPr/>
        </p:nvPicPr>
        <p:blipFill>
          <a:blip r:embed="rId1"/>
          <a:stretch/>
        </p:blipFill>
        <p:spPr>
          <a:xfrm>
            <a:off x="2857680" y="357120"/>
            <a:ext cx="3097080" cy="297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642960" y="2014560"/>
            <a:ext cx="807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Рыбинском водохранилище в районе заповедника сейчас отмечено 28 видов рыб, относящихся к 6 отрядам и 10 семействам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карпообразных, представлен 14 видами семейства, и 2 видами семейства вьюнов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окунеобразных представлен 4 видами семейства окунев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лососеобразных, два подвида семейства корюшковых, семейство сиговых, семейство щукообразн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сомообразных представляет один вид – с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WordArt 23"/>
          <p:cNvSpPr txBox="1"/>
          <p:nvPr/>
        </p:nvSpPr>
        <p:spPr>
          <a:xfrm>
            <a:off x="2500200" y="285840"/>
            <a:ext cx="400068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ыб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2868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Gothic"/>
              </a:rPr>
              <a:t>Дарвинский государственный природный биосферный заповедник </a:t>
            </a:r>
            <a:br>
              <a:rPr sz="3600"/>
            </a:b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1714680"/>
            <a:ext cx="8454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  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исло зарегистрированных видов: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рибы - 125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ишайники - 66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хи - 14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лауновидные - 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портниковидные - 21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олосеменные - 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окрытосеменные - 56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ыбы - 28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емноводные - 7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ресмыкающиеся - 5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тицы - 238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лекопитающие - 37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214200" y="736920"/>
            <a:ext cx="89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винский государственный природный заповедник создан по Решению Совета Народных Комиссаров 18 июля 1945 г.  Площадь заповедника 112673 га, площадь охранной зоны 27028 га. В ноябре 2002 года Дарвинский заповедник получил статус международного биосферного резервата. Дарвинский заповедник расположен на побережье Рыбинского водохранилища, на стыке Вологодской, Ярославской и Тверской областей. Он занимает самую оконечность полуострова, глубоко вдающегося с северо-запада на юго-восток в акваторию Рыбинского водохранилища. Создан в целях сохранения уникальной природы Молого-Шекснинского междуречья и изучения влияния Рыбинского водохранилища на все элементы природного комплекс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3357720"/>
            <a:ext cx="72151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500040" y="1019520"/>
            <a:ext cx="82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ость заповедника. Более 80% территории заповедника занято болотами и заболоченными лесами. составляет от 10 до 17 тыс. лет.Преобладают сфагновые верховые болота. Флора их бедна. Древесный ярус образует сосна разных экологических форм. В траявяно-кустарничковом ярусе обычны кассандра, подбел, багульник болотный, голубика, клюква, пушица, морошка, шейхцерия, осока топяная, изредка встречаются водяника, росянка. В моховом покрове господствуют сфагновые мхи. Низинных и переходных болот в заповеднике немного.Леса в заповеднике приурочены к наиболее дренируемым участкам: берегам рек и прибрежным участкам водохранилища, вершинам древних материковых дюн и песчаным гривам среди боло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1428840" y="714240"/>
            <a:ext cx="6715080" cy="857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Растительность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1" descr="ДАРВИНСКИЙ заповедник"/>
          <p:cNvPicPr/>
          <p:nvPr/>
        </p:nvPicPr>
        <p:blipFill>
          <a:blip r:embed="rId1"/>
          <a:stretch/>
        </p:blipFill>
        <p:spPr>
          <a:xfrm>
            <a:off x="127080" y="252360"/>
            <a:ext cx="8939160" cy="6453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3333600" y="2286000"/>
            <a:ext cx="247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3335400" y="2239920"/>
            <a:ext cx="1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3997440" y="2276640"/>
            <a:ext cx="1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ДАРВИНСКИЙ заповедник - подорлик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ДАРВИНСКИЙ заповедник - бобр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72360" y="-4335840"/>
            <a:ext cx="431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47" name="Picture 4" descr="ДАРВИНСКИЙ заповедник - скопа"/>
          <p:cNvPicPr/>
          <p:nvPr/>
        </p:nvPicPr>
        <p:blipFill>
          <a:blip r:embed="rId1"/>
          <a:stretch/>
        </p:blipFill>
        <p:spPr>
          <a:xfrm>
            <a:off x="0" y="0"/>
            <a:ext cx="3635280" cy="32846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3708360" y="1176480"/>
            <a:ext cx="5078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заповеднике обитают как типичные таежные виды - бурый медведь, рябчик, глухарь, кукша, так и широко распространенные - лось, кабан, обыкновенная полевка, тетерев, серый журавл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лекопитающие. В заповеднике обитает 37 видов млекопитающих из 6 отрядов и 16 семейств. Парнокопытные представлены двумя видами - это лось и кабан. Из хищников обычны медведь и волк. Немногочисленна, но регулярно встречается рысь. Три вида хищников-норников лисица, енотовидная собака и барсук, приспособились к существованию среди низменной заболоченной территории. Реже встречаются лесная куница, норка, черный хорь, выд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7" descr="ДАРВИНСКИЙ заповедник - кабан"/>
          <p:cNvPicPr/>
          <p:nvPr/>
        </p:nvPicPr>
        <p:blipFill>
          <a:blip r:embed="rId2"/>
          <a:stretch/>
        </p:blipFill>
        <p:spPr>
          <a:xfrm>
            <a:off x="0" y="3429000"/>
            <a:ext cx="3635280" cy="3429000"/>
          </a:xfrm>
          <a:prstGeom prst="rect">
            <a:avLst/>
          </a:prstGeom>
          <a:ln w="0">
            <a:noFill/>
          </a:ln>
        </p:spPr>
      </p:pic>
      <p:sp>
        <p:nvSpPr>
          <p:cNvPr id="150" name="WordArt 9"/>
          <p:cNvSpPr txBox="1"/>
          <p:nvPr/>
        </p:nvSpPr>
        <p:spPr>
          <a:xfrm>
            <a:off x="3786120" y="285840"/>
            <a:ext cx="481968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ивотный мир</a:t>
            </a:r>
            <a:endParaRPr b="1" lang="en-US" sz="1800" spc="1" strike="noStrike">
              <a:ln w="0">
                <a:noFill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2928960" y="1290960"/>
            <a:ext cx="5857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й численности достигают здесь водоплавающие птицы, в первую очередь кряква, свиязь, хохлатая чернеть, гоголь. Реже встречаются на гнездовье шилохвость, широконоска, большой крохаль и луток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голенастых птиц в заповеднике встречаются серая цапля и большая выпь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айковых птиц наиболее обычна сизая чайка. Значительно реже встречаются озерная и малая чайки, немногочисленна серебристая чайк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10" descr="ДАРВИНСКИЙ заповедник - орлан"/>
          <p:cNvPicPr/>
          <p:nvPr/>
        </p:nvPicPr>
        <p:blipFill>
          <a:blip r:embed="rId1"/>
          <a:stretch/>
        </p:blipFill>
        <p:spPr>
          <a:xfrm>
            <a:off x="0" y="3645000"/>
            <a:ext cx="2771640" cy="32130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16"/>
          <p:cNvSpPr txBox="1"/>
          <p:nvPr/>
        </p:nvSpPr>
        <p:spPr>
          <a:xfrm>
            <a:off x="3286080" y="428760"/>
            <a:ext cx="492912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т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Picture 17" descr="ДАРВИНСКИЙ заповедник - скопа"/>
          <p:cNvPicPr/>
          <p:nvPr/>
        </p:nvPicPr>
        <p:blipFill>
          <a:blip r:embed="rId2"/>
          <a:stretch/>
        </p:blipFill>
        <p:spPr>
          <a:xfrm>
            <a:off x="0" y="0"/>
            <a:ext cx="2771640" cy="328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0:13:44Z</dcterms:created>
  <dc:creator>Max</dc:creator>
  <dc:description/>
  <dc:language>en-US</dc:language>
  <cp:lastModifiedBy>Трубин Сергей Александрович</cp:lastModifiedBy>
  <dcterms:modified xsi:type="dcterms:W3CDTF">2012-09-05T10:16:06Z</dcterms:modified>
  <cp:revision>17</cp:revision>
  <dc:subject/>
  <dc:title>Слайд 1</dc:title>
</cp:coreProperties>
</file>