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02F-651A-4A78-B5FE-98EE0221C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6CD6-A7B7-4352-AEE3-B415F3469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2A1D-91D1-4CAC-B2A9-FA2AFD33D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2B42-629D-43B3-9F42-E7384CD9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339BF-B3CF-4138-A309-1A31CB830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E7F12-B5C5-4741-B40C-302CA18E8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2DF6-29EA-49E9-A3AB-BAA181B24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6D34-DA76-492C-A817-C5FEFEA96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97E6-87EA-4630-AABC-3AFD971F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851A-B185-4CE5-A660-CD1D89C59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B4F98-A21D-4852-BC8B-E5D11A8D5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B9BF-8DBF-481E-A106-282EFAD3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05024-A144-4339-8365-E932F982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F7FA-C207-4DEF-A995-E80BF20A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08F6-6FC9-4A37-997E-E5C1211FB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4491-FEF6-459D-A4EF-72615082D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24BA-FDB7-4B8F-8887-13ECE1BE5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12D3-BEBD-4D20-9016-119EE346F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192-2DC3-429D-BA06-ED9894F50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FBB-A012-4A90-AD5B-AB021E9C7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338A-3B50-4651-A6E2-BF1D9889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A1B-D7E5-4E20-AD1D-C0293686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2070-C479-4BB3-80CC-D2ECEC5E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5CB0-F3E4-4FA6-B945-1B376895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1" name="Rectangle 8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14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5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6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Rectangle 17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Rectangle 18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Line 19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Line 20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Line 21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Line 22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Line 23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Line 24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Line 25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Line 26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Line 27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Line 28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Line 29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Line 30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Line 31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6724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51BD-161B-499F-A4C3-C75BCED7E7AC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0" y="-360"/>
            <a:ext cx="9144000" cy="6858360"/>
            <a:chOff x="0" y="-360"/>
            <a:chExt cx="9144000" cy="6858360"/>
          </a:xfrm>
        </p:grpSpPr>
        <p:sp>
          <p:nvSpPr>
            <p:cNvPr id="67" name="Rectangle 3"/>
            <p:cNvSpPr/>
            <p:nvPr/>
          </p:nvSpPr>
          <p:spPr>
            <a:xfrm>
              <a:off x="3124080" y="6705720"/>
              <a:ext cx="6019920" cy="152280"/>
            </a:xfrm>
            <a:prstGeom prst="rect">
              <a:avLst/>
            </a:prstGeom>
            <a:gradFill rotWithShape="0">
              <a:gsLst>
                <a:gs pos="0">
                  <a:srgbClr val="ebd7ff"/>
                </a:gs>
                <a:gs pos="100000">
                  <a:srgbClr val="0099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c1e7ce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0" y="525780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410080"/>
              <a:ext cx="457200" cy="14479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solidFill>
              <a:srgbClr val="cac9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457200" y="304920"/>
              <a:ext cx="533520" cy="761760"/>
            </a:xfrm>
            <a:prstGeom prst="rect">
              <a:avLst/>
            </a:prstGeom>
            <a:solidFill>
              <a:srgbClr val="99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0" y="1066680"/>
              <a:ext cx="457200" cy="4191120"/>
            </a:xfrm>
            <a:prstGeom prst="rect">
              <a:avLst/>
            </a:prstGeom>
            <a:gradFill rotWithShape="0">
              <a:gsLst>
                <a:gs pos="0">
                  <a:srgbClr val="c1ae8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304920"/>
              <a:ext cx="457200" cy="761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0" y="0"/>
              <a:ext cx="990720" cy="30492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990720" y="0"/>
              <a:ext cx="47242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57200" y="304560"/>
              <a:ext cx="0" cy="6553080"/>
            </a:xfrm>
            <a:prstGeom prst="line">
              <a:avLst/>
            </a:prstGeom>
            <a:ln w="763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7200" y="6705720"/>
              <a:ext cx="8686800" cy="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57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4640" y="457200"/>
              <a:ext cx="342900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990720" y="0"/>
              <a:ext cx="0" cy="10666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0" y="1066680"/>
              <a:ext cx="99072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66880" y="6248160"/>
              <a:ext cx="0" cy="60948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66880" y="6248520"/>
              <a:ext cx="6477120" cy="0"/>
            </a:xfrm>
            <a:prstGeom prst="line">
              <a:avLst/>
            </a:prstGeom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572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64000"/>
            <a:ext cx="289584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64000"/>
            <a:ext cx="21337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48B0-494C-4582-929B-095F3ECDF143}" type="slidenum">
              <a:rPr b="0" lang="ru-RU" sz="10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4"/>
          <p:cNvSpPr txBox="1"/>
          <p:nvPr/>
        </p:nvSpPr>
        <p:spPr>
          <a:xfrm>
            <a:off x="642960" y="3786120"/>
            <a:ext cx="7929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00b05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Дарвинский заповедник</a:t>
            </a:r>
            <a:endParaRPr b="1" lang="en-US" sz="1800" spc="1" strike="noStrike">
              <a:ln w="9360">
                <a:solidFill>
                  <a:srgbClr val="00cc99"/>
                </a:solidFill>
                <a:miter/>
              </a:ln>
              <a:solidFill>
                <a:srgbClr val="00b05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3" name="Picture 5" descr="ДАРВИНСКИЙ заповедник - эмблема"/>
          <p:cNvPicPr/>
          <p:nvPr/>
        </p:nvPicPr>
        <p:blipFill>
          <a:blip r:embed="rId1"/>
          <a:stretch/>
        </p:blipFill>
        <p:spPr>
          <a:xfrm>
            <a:off x="2857680" y="357120"/>
            <a:ext cx="3097080" cy="2973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9"/>
          <p:cNvSpPr/>
          <p:nvPr/>
        </p:nvSpPr>
        <p:spPr>
          <a:xfrm>
            <a:off x="642960" y="2014560"/>
            <a:ext cx="8072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Рыбинском водохранилище в районе заповедника сейчас отмечено 28 видов рыб, относящихся к 6 отрядам и 10 семействам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карпообразных, представлен 14 видами семейства, и 2 видами семейства вьюно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окунеобразных представлен 4 видами семейства окунев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лососеобразных, два подвида семейства корюшковых, семейство сиговых, семейство щукообразны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ряд сомообразных представляет один вид – с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WordArt 23"/>
          <p:cNvSpPr txBox="1"/>
          <p:nvPr/>
        </p:nvSpPr>
        <p:spPr>
          <a:xfrm>
            <a:off x="2500200" y="285840"/>
            <a:ext cx="4000680" cy="142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1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ыб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ll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99680" y="285840"/>
            <a:ext cx="828684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Gothic"/>
              </a:rPr>
              <a:t>Дарвинский государственный природный биосферный заповедник </a:t>
            </a:r>
            <a:br>
              <a:rPr sz="3600"/>
            </a:br>
            <a:endParaRPr b="0" lang="en-US" sz="32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00040" y="1714680"/>
            <a:ext cx="84549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8080"/>
                </a:solidFill>
                <a:latin typeface="Century Gothic"/>
              </a:rPr>
              <a:t>  </a:t>
            </a:r>
            <a:r>
              <a:rPr b="1" lang="ru-RU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Число зарегистрированных видов:</a:t>
            </a:r>
            <a:endParaRPr b="0" lang="en-US" sz="3600" spc="-1" strike="noStrike">
              <a:solidFill>
                <a:srgbClr val="808080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рибы - 12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лишайники - 66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хи - 14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лауновид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апортниковидные - 21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голосеменные - 4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окрытосеменные - 569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рыбы - 2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емноводные - 7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ресмыкающиеся - 5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птицы - 238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млекопитающие - 37</a:t>
            </a:r>
            <a:endParaRPr b="0" lang="en-US" sz="2400" spc="-1" strike="noStrike">
              <a:solidFill>
                <a:srgbClr val="80808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214200" y="736920"/>
            <a:ext cx="892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рвинский государственный природный заповедник создан по Решению Совета Народных Комиссаров 18 июля 1945 г.  Площадь заповедника 112673 га, площадь охранной зоны 27028 га. В ноябре 2002 года Дарвинский заповедник получил статус международного биосферного резервата. Дарвинский заповедник расположен на побережье Рыбинского водохранилища, на стыке Вологодской, Ярославской и Тверской областей. Он занимает самую оконечность полуострова, глубоко вдающегося с северо-запада на юго-восток в акваторию Рыбинского водохранилища. Создан в целях сохранения уникальной природы Молого-Шекснинского междуречья и изучения влияния Рыбинского водохранилища на все элементы природного комплекс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0" y="3357720"/>
            <a:ext cx="721512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8080"/>
                </a:solidFill>
                <a:latin typeface="Century Gothic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808080"/>
              </a:solidFill>
              <a:latin typeface="Century Gothic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500040" y="1019520"/>
            <a:ext cx="82152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ительность заповедника. Более 80% территории заповедника занято болотами и заболоченными лесами. составляет от 10 до 17 тыс. лет.Преобладают сфагновые верховые болота. Флора их бедна. Древесный ярус образует сосна разных экологических форм. В траявяно-кустарничковом ярусе обычны кассандра, подбел, багульник болотный, голубика, клюква, пушица, морошка, шейхцерия, осока топяная, изредка встречаются водяника, росянка. В моховом покрове господствуют сфагновые мхи. Низинных и переходных болот в заповеднике немного.Леса в заповеднике приурочены к наиболее дренируемым участкам: берегам рек и прибрежным участкам водохранилища, вершинам древних материковых дюн и песчаным гривам среди боло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1428840" y="714240"/>
            <a:ext cx="6715080" cy="8575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астительность: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1" descr="ДАРВИНСКИЙ заповедник"/>
          <p:cNvPicPr/>
          <p:nvPr/>
        </p:nvPicPr>
        <p:blipFill>
          <a:blip r:embed="rId1"/>
          <a:stretch/>
        </p:blipFill>
        <p:spPr>
          <a:xfrm>
            <a:off x="127080" y="252360"/>
            <a:ext cx="8939160" cy="64533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3333600" y="2286000"/>
            <a:ext cx="247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335400" y="223992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3997440" y="2276640"/>
            <a:ext cx="18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ДАРВИНСКИЙ заповедник - подорлик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ДАРВИНСКИЙ заповедник - бобр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72360" y="-4335840"/>
            <a:ext cx="43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808080"/>
              </a:solidFill>
              <a:latin typeface="Century Gothic"/>
            </a:endParaRPr>
          </a:p>
        </p:txBody>
      </p:sp>
      <p:pic>
        <p:nvPicPr>
          <p:cNvPr id="147" name="Picture 4" descr="ДАРВИНСКИЙ заповедник - скопа"/>
          <p:cNvPicPr/>
          <p:nvPr/>
        </p:nvPicPr>
        <p:blipFill>
          <a:blip r:embed="rId1"/>
          <a:stretch/>
        </p:blipFill>
        <p:spPr>
          <a:xfrm>
            <a:off x="0" y="0"/>
            <a:ext cx="3635280" cy="3284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6"/>
          <p:cNvSpPr/>
          <p:nvPr/>
        </p:nvSpPr>
        <p:spPr>
          <a:xfrm>
            <a:off x="3708360" y="1176480"/>
            <a:ext cx="50785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заповеднике обитают как типичные таежные виды - бурый медведь, рябчик, глухарь, кукша, так и широко распространенные - лось, кабан, обыкновенная полевка, тетерев, серый журавл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лекопитающие. В заповеднике обитает 37 видов млекопитающих из 6 отрядов и 16 семейств. Парнокопытные представлены двумя видами - это лось и кабан. Из хищников обычны медведь и волк. Немногочисленна, но регулярно встречается рысь. Три вида хищников-норников лисица, енотовидная собака и барсук, приспособились к существованию среди низменной заболоченной территории. Реже встречаются лесная куница, норка, черный хорь, выд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7" descr="ДАРВИНСКИЙ заповедник - кабан"/>
          <p:cNvPicPr/>
          <p:nvPr/>
        </p:nvPicPr>
        <p:blipFill>
          <a:blip r:embed="rId2"/>
          <a:stretch/>
        </p:blipFill>
        <p:spPr>
          <a:xfrm>
            <a:off x="0" y="3429000"/>
            <a:ext cx="363528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WordArt 9"/>
          <p:cNvSpPr txBox="1"/>
          <p:nvPr/>
        </p:nvSpPr>
        <p:spPr>
          <a:xfrm>
            <a:off x="3786120" y="285840"/>
            <a:ext cx="4819680" cy="13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ивотный мир</a:t>
            </a: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9"/>
          <p:cNvSpPr/>
          <p:nvPr/>
        </p:nvSpPr>
        <p:spPr>
          <a:xfrm>
            <a:off x="2928960" y="1290960"/>
            <a:ext cx="5857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ой численности достигают здесь водоплавающие птицы, в первую очередь кряква, свиязь, хохлатая чернеть, гоголь. Реже встречаются на гнездовье шилохвость, широконоска, большой крохаль и луток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голенастых птиц в заповеднике встречаются серая цапля и большая вып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айковых птиц наиболее обычна сизая чайка. Значительно реже встречаются озерная и малая чайки, немногочисленна серебристая чайк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10" descr="ДАРВИНСКИЙ заповедник - орлан"/>
          <p:cNvPicPr/>
          <p:nvPr/>
        </p:nvPicPr>
        <p:blipFill>
          <a:blip r:embed="rId1"/>
          <a:stretch/>
        </p:blipFill>
        <p:spPr>
          <a:xfrm>
            <a:off x="0" y="3645000"/>
            <a:ext cx="2771640" cy="3213000"/>
          </a:xfrm>
          <a:prstGeom prst="rect">
            <a:avLst/>
          </a:prstGeom>
          <a:ln w="0">
            <a:noFill/>
          </a:ln>
        </p:spPr>
      </p:pic>
      <p:sp>
        <p:nvSpPr>
          <p:cNvPr id="153" name="WordArt 16"/>
          <p:cNvSpPr txBox="1"/>
          <p:nvPr/>
        </p:nvSpPr>
        <p:spPr>
          <a:xfrm>
            <a:off x="3286080" y="428760"/>
            <a:ext cx="49291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4" name="Picture 17" descr="ДАРВИНСКИЙ заповедник - скопа"/>
          <p:cNvPicPr/>
          <p:nvPr/>
        </p:nvPicPr>
        <p:blipFill>
          <a:blip r:embed="rId2"/>
          <a:stretch/>
        </p:blipFill>
        <p:spPr>
          <a:xfrm>
            <a:off x="0" y="0"/>
            <a:ext cx="2771640" cy="3284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0:13:44Z</dcterms:created>
  <dc:creator>Max</dc:creator>
  <dc:description/>
  <dc:language>en-US</dc:language>
  <cp:lastModifiedBy>Трубин Сергей Александрович</cp:lastModifiedBy>
  <dcterms:modified xsi:type="dcterms:W3CDTF">2012-09-05T10:16:06Z</dcterms:modified>
  <cp:revision>17</cp:revision>
  <dc:subject/>
  <dc:title>Слайд 1</dc:title>
</cp:coreProperties>
</file>