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7D8-C1A9-4C71-B2B5-4D646102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91A-7267-4DF6-A3C6-CB830FD4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F73-2DF5-4C29-A4C3-255FC962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5AF-F84E-4389-928C-79B4D263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375A-1DE2-4F7E-B969-D00A8280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BDA3-9327-4438-B6C5-0617ADDF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25C6-177D-456A-B10D-9CFF8003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C270-3514-43E6-B0A1-9A936942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FFF1-C378-4E34-B0A1-017963D4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16E1-AD49-408B-8C6C-7B6C74B3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F242-3FE4-460B-8A0D-301C04DE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EEB-328E-44F1-A7A8-6D9B78B6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3C91-253F-43F6-84EA-1F4ABA6F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EFDC-4C79-49BF-80A2-5000EB7B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087E-7E38-4CDB-8DCF-BBB14C6B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88E8-94B9-4480-BD6F-ADBADDA5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CA8F-A82F-4604-9358-9DBC7D5E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B7E-A37B-47F7-AE27-7F2BFDBE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907-1FB0-4A1F-BFC4-E1A4FDDD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3E0-D17D-47B0-8511-296BF6E0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8865-0140-43D1-9A88-52833937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E5C-8AA7-4DFA-A629-96F75694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5940-C1BB-4275-86CA-7D9F66D8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B81-F633-4B3A-9057-950BA950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6080-75D7-4F09-B6C1-831CA92EC0F8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99FD-E79C-430B-B5E2-99089C015F9E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42960" y="3786120"/>
            <a:ext cx="7929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арвинский заповедник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ДАРВИНСКИЙ заповедник - эмблема"/>
          <p:cNvPicPr/>
          <p:nvPr/>
        </p:nvPicPr>
        <p:blipFill>
          <a:blip r:embed="rId1"/>
          <a:stretch/>
        </p:blipFill>
        <p:spPr>
          <a:xfrm>
            <a:off x="2857680" y="357120"/>
            <a:ext cx="3097080" cy="297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42960" y="201456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ыбинском водохранилище в районе заповедника сейчас отмечено 28 видов рыб, относящихся к 6 отрядам и 10 семейства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карпообразных, представлен 14 видами семейства, и 2 видами семейства вьюно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окунеобразных представлен 4 видами семейства окуне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лососеобразных, два подвида семейства корюшковых, семейство сиговых, семейство щукообраз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сомообразных представляет один вид – с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23"/>
          <p:cNvSpPr txBox="1"/>
          <p:nvPr/>
        </p:nvSpPr>
        <p:spPr>
          <a:xfrm>
            <a:off x="2500200" y="285840"/>
            <a:ext cx="40006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ыб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286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арвинский государственный природный биосферный заповедник </a:t>
            </a:r>
            <a:br>
              <a:rPr sz="3600"/>
            </a:b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14680"/>
            <a:ext cx="845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  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 зарегистрированных видов: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рибы - 12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шайники - 66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хи - 14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лауновид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портниковидные - 2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олосемен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крытосеменные - 56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ыбы - 2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емноводные - 7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есмыкающиеся - 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тицы - 23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лекопитающие - 37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214200" y="73692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винский государственный природный заповедник создан по Решению Совета Народных Комиссаров 18 июля 1945 г.  Площадь заповедника 112673 га, площадь охранной зоны 27028 га. В ноябре 2002 года Дарвинский заповедник получил статус международного биосферного резервата. Дарвинский заповедник расположен на побережье Рыбинского водохранилища, на стыке Вологодской, Ярославской и Тверской областей. Он занимает самую оконечность полуострова, глубоко вдающегося с северо-запада на юго-восток в акваторию Рыбинского водохранилища. Создан в целях сохранения уникальной природы Молого-Шекснинского междуречья и изучения влияния Рыбинского водохранилища на все элементы природного комплекс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3357720"/>
            <a:ext cx="7215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00040" y="101952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ость заповедника. Более 80% территории заповедника занято болотами и заболоченными лесами. составляет от 10 до 17 тыс. лет.Преобладают сфагновые верховые болота. Флора их бедна. Древесный ярус образует сосна разных экологических форм. В траявяно-кустарничковом ярусе обычны кассандра, подбел, багульник болотный, голубика, клюква, пушица, морошка, шейхцерия, осока топяная, изредка встречаются водяника, росянка. В моховом покрове господствуют сфагновые мхи. Низинных и переходных болот в заповеднике немного.Леса в заповеднике приурочены к наиболее дренируемым участкам: берегам рек и прибрежным участкам водохранилища, вершинам древних материковых дюн и песчаным гривам среди боло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1428840" y="714240"/>
            <a:ext cx="671508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астительност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ДАРВИНСКИЙ заповедник"/>
          <p:cNvPicPr/>
          <p:nvPr/>
        </p:nvPicPr>
        <p:blipFill>
          <a:blip r:embed="rId1"/>
          <a:stretch/>
        </p:blipFill>
        <p:spPr>
          <a:xfrm>
            <a:off x="127080" y="252360"/>
            <a:ext cx="8939160" cy="6453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3333600" y="2286000"/>
            <a:ext cx="24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335400" y="223992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997440" y="227664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ДАРВИНСКИЙ заповедник - подорлик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ДАРВИНСКИЙ заповедник - бобр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72360" y="-4335840"/>
            <a:ext cx="43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7" name="Picture 4" descr="ДАРВИНСКИЙ заповедник - скопа"/>
          <p:cNvPicPr/>
          <p:nvPr/>
        </p:nvPicPr>
        <p:blipFill>
          <a:blip r:embed="rId1"/>
          <a:stretch/>
        </p:blipFill>
        <p:spPr>
          <a:xfrm>
            <a:off x="0" y="0"/>
            <a:ext cx="3635280" cy="3284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708360" y="1176480"/>
            <a:ext cx="5078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поведнике обитают как типичные таежные виды - бурый медведь, рябчик, глухарь, кукша, так и широко распространенные - лось, кабан, обыкновенная полевка, тетерев, серый журавл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лекопитающие. В заповеднике обитает 37 видов млекопитающих из 6 отрядов и 16 семейств. Парнокопытные представлены двумя видами - это лось и кабан. Из хищников обычны медведь и волк. Немногочисленна, но регулярно встречается рысь. Три вида хищников-норников лисица, енотовидная собака и барсук, приспособились к существованию среди низменной заболоченной территории. Реже встречаются лесная куница, норка, черный хорь, выд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ДАРВИНСКИЙ заповедник - кабан"/>
          <p:cNvPicPr/>
          <p:nvPr/>
        </p:nvPicPr>
        <p:blipFill>
          <a:blip r:embed="rId2"/>
          <a:stretch/>
        </p:blipFill>
        <p:spPr>
          <a:xfrm>
            <a:off x="0" y="342900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"/>
          <p:cNvSpPr txBox="1"/>
          <p:nvPr/>
        </p:nvSpPr>
        <p:spPr>
          <a:xfrm>
            <a:off x="3786120" y="285840"/>
            <a:ext cx="48196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й мир</a:t>
            </a: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2928960" y="1290960"/>
            <a:ext cx="5857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численности достигают здесь водоплавающие птицы, в первую очередь кряква, свиязь, хохлатая чернеть, гоголь. Реже встречаются на гнездовье шилохвость, широконоска, большой крохаль и луто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ленастых птиц в заповеднике встречаются серая цапля и большая вып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айковых птиц наиболее обычна сизая чайка. Значительно реже встречаются озерная и малая чайки, немногочисленна серебристая чай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0" descr="ДАРВИНСКИЙ заповедник - орлан"/>
          <p:cNvPicPr/>
          <p:nvPr/>
        </p:nvPicPr>
        <p:blipFill>
          <a:blip r:embed="rId1"/>
          <a:stretch/>
        </p:blipFill>
        <p:spPr>
          <a:xfrm>
            <a:off x="0" y="3645000"/>
            <a:ext cx="2771640" cy="3213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6"/>
          <p:cNvSpPr txBox="1"/>
          <p:nvPr/>
        </p:nvSpPr>
        <p:spPr>
          <a:xfrm>
            <a:off x="3286080" y="428760"/>
            <a:ext cx="49291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17" descr="ДАРВИНСКИЙ заповедник - скопа"/>
          <p:cNvPicPr/>
          <p:nvPr/>
        </p:nvPicPr>
        <p:blipFill>
          <a:blip r:embed="rId2"/>
          <a:stretch/>
        </p:blipFill>
        <p:spPr>
          <a:xfrm>
            <a:off x="0" y="0"/>
            <a:ext cx="2771640" cy="328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0:13:44Z</dcterms:created>
  <dc:creator>Max</dc:creator>
  <dc:description/>
  <dc:language>en-US</dc:language>
  <cp:lastModifiedBy>Трубин Сергей Александрович</cp:lastModifiedBy>
  <dcterms:modified xsi:type="dcterms:W3CDTF">2012-09-05T10:16:06Z</dcterms:modified>
  <cp:revision>17</cp:revision>
  <dc:subject/>
  <dc:title>Слайд 1</dc:title>
</cp:coreProperties>
</file>