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A4F3-4AE7-4279-B861-677869A6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F429-9BFA-4C27-8F6B-B8148CCA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7C79-A0C7-49F0-B57F-3E393185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5CC0-A2CD-420B-AB20-11A92F2B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A0F8-4750-488F-8058-D4CE9F07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8978-F419-4B84-9E23-4FCB28BE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F13B-35D9-4FAB-B82E-74B192DA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9239-16ED-4BAE-AA58-B91B3EDE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7F3B-1BD4-4647-8A01-08B5EF74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5298-E53C-449C-B08E-A3A74E6B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3DFF-BB8E-4D5F-A8EE-875A40A8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AA82-F881-49BA-99F0-B6F11335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DE1C-ABAD-4A8C-8608-25F174E6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4644-A537-4CB8-8009-AFA9EC4F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D85B-8416-4E77-A879-3D6F5DE9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A21B-6F03-4097-B74F-BDDEC7DA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6E43-5CE8-4596-907F-88DCBCCB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D89C-5756-4E83-B84F-DACD94CA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C264-3510-43EB-906C-87252958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8BDF-295D-42BC-A9C1-AE385BD6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9C22-18C0-4439-8A07-C1E62D78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413B-7908-47D9-B921-88EBD218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C6A1-F1AC-40B2-A7DD-8A511BA1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EA90-3365-4FB6-B8B4-A29A06EC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41FA-C62D-4FA7-9183-DC3256BC5FA4}" type="slidenum">
              <a:rPr b="0" lang="en-US" sz="1200" spc="-1" strike="noStrike">
                <a:solidFill>
                  <a:srgbClr val="42424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4236-A9C6-41DE-B5DF-D4A69CE2AC64}" type="slidenum">
              <a:rPr b="0" lang="en-US" sz="1200" spc="-1" strike="noStrike">
                <a:solidFill>
                  <a:srgbClr val="42424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nxombm.files.wordpress.com/2011/04/cohdra100_1413.jpg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hite-power.tut.su/public/image/other/comp.png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oto.krasnoturinsk.ru/cpg/albums/userpics/15014/1.png" TargetMode="External"/><Relationship Id="rId3" Type="http://schemas.openxmlformats.org/officeDocument/2006/relationships/hyperlink" Target="http://foto.krasnoturinsk.ru/cpg/albums/userpics/15014/1.png" TargetMode="External"/><Relationship Id="rId4" Type="http://schemas.openxmlformats.org/officeDocument/2006/relationships/hyperlink" Target="http://foto.krasnoturinsk.ru/cpg/albums/userpics/15014/1.png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618840" y="33336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WordArt 24"/>
          <p:cNvSpPr txBox="1"/>
          <p:nvPr/>
        </p:nvSpPr>
        <p:spPr>
          <a:xfrm>
            <a:off x="539640" y="1197000"/>
            <a:ext cx="799308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Работа с объектами 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текстового документа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</p:txBody>
      </p:sp>
      <p:sp>
        <p:nvSpPr>
          <p:cNvPr id="97" name="AutoShape 13">
            <a:hlinkClick r:id="rId2"/>
          </p:cNvPr>
          <p:cNvSpPr/>
          <p:nvPr/>
        </p:nvSpPr>
        <p:spPr>
          <a:xfrm>
            <a:off x="169920" y="285840"/>
            <a:ext cx="50767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C:\Users\wp12.ПЛ№3\Desktop\istock_000004257988small.jpg"/>
          <p:cNvPicPr/>
          <p:nvPr/>
        </p:nvPicPr>
        <p:blipFill>
          <a:blip r:embed="rId3"/>
          <a:stretch/>
        </p:blipFill>
        <p:spPr>
          <a:xfrm>
            <a:off x="684360" y="2349360"/>
            <a:ext cx="396072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C:\Users\wp12.ПЛ№3\Desktop\1.jpg"/>
          <p:cNvPicPr/>
          <p:nvPr/>
        </p:nvPicPr>
        <p:blipFill>
          <a:blip r:embed="rId4"/>
          <a:stretch/>
        </p:blipFill>
        <p:spPr>
          <a:xfrm>
            <a:off x="1835280" y="4653000"/>
            <a:ext cx="2952720" cy="1923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C:\Users\wp12.ПЛ№3\Desktop\x_249b2dfd.jpg"/>
          <p:cNvPicPr/>
          <p:nvPr/>
        </p:nvPicPr>
        <p:blipFill>
          <a:blip r:embed="rId5"/>
          <a:stretch/>
        </p:blipFill>
        <p:spPr>
          <a:xfrm>
            <a:off x="3419640" y="2781360"/>
            <a:ext cx="5184720" cy="3565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4786200" y="21600"/>
            <a:ext cx="435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зентацию подготовил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подаватель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информатики и ИКТ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ОГБОУ НПО ПЛ № 3 г. Иваново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Меркулова Татьяна Дмитриевна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0"/>
          <p:cNvSpPr/>
          <p:nvPr/>
        </p:nvSpPr>
        <p:spPr>
          <a:xfrm>
            <a:off x="1432080" y="476280"/>
            <a:ext cx="670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иповые действи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д выделенными объек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1558800" y="2879640"/>
            <a:ext cx="230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3"/>
          <p:cNvSpPr/>
          <p:nvPr/>
        </p:nvSpPr>
        <p:spPr>
          <a:xfrm>
            <a:off x="539640" y="2735280"/>
            <a:ext cx="260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Уда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38"/>
          <p:cNvSpPr/>
          <p:nvPr/>
        </p:nvSpPr>
        <p:spPr>
          <a:xfrm>
            <a:off x="684360" y="4076640"/>
            <a:ext cx="30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Вырез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43"/>
          <p:cNvSpPr/>
          <p:nvPr/>
        </p:nvSpPr>
        <p:spPr>
          <a:xfrm>
            <a:off x="2340000" y="5661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В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44"/>
          <p:cNvSpPr/>
          <p:nvPr/>
        </p:nvSpPr>
        <p:spPr>
          <a:xfrm>
            <a:off x="4932360" y="4076640"/>
            <a:ext cx="351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Перемещение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(в текущем документе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45"/>
          <p:cNvSpPr/>
          <p:nvPr/>
        </p:nvSpPr>
        <p:spPr>
          <a:xfrm>
            <a:off x="6588000" y="2781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Заме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Line 46"/>
          <p:cNvSpPr/>
          <p:nvPr/>
        </p:nvSpPr>
        <p:spPr>
          <a:xfrm flipH="1">
            <a:off x="1834920" y="1628640"/>
            <a:ext cx="1368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47"/>
          <p:cNvSpPr/>
          <p:nvPr/>
        </p:nvSpPr>
        <p:spPr>
          <a:xfrm flipH="1">
            <a:off x="2916360" y="1773360"/>
            <a:ext cx="1008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48"/>
          <p:cNvSpPr/>
          <p:nvPr/>
        </p:nvSpPr>
        <p:spPr>
          <a:xfrm flipH="1">
            <a:off x="3851280" y="1773360"/>
            <a:ext cx="720720" cy="40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49"/>
          <p:cNvSpPr/>
          <p:nvPr/>
        </p:nvSpPr>
        <p:spPr>
          <a:xfrm>
            <a:off x="5867280" y="1557360"/>
            <a:ext cx="172908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50"/>
          <p:cNvSpPr/>
          <p:nvPr/>
        </p:nvSpPr>
        <p:spPr>
          <a:xfrm>
            <a:off x="5003640" y="1700280"/>
            <a:ext cx="1224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0"/>
          <p:cNvSpPr/>
          <p:nvPr/>
        </p:nvSpPr>
        <p:spPr>
          <a:xfrm>
            <a:off x="539640" y="18900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Форматирование докумен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24000" y="732960"/>
            <a:ext cx="856908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Форматировани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— это любые операции по приданию документу такого вида, который он будет иметь на бумаге (оформление внешнего вида документа или его фрагментов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50920" y="2349360"/>
            <a:ext cx="8642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ременные редакторы текстов «умеют» автоматически разбивать текст на страницы и нумеровать их. Они «следят» за размером полей и регулируют расстояние между строками, предлагают на выбор различные варианты шриф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ми параметрами форматирования простого текста являютс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(гарнитура) шрифта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ертание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ер (кегль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вет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подчеркива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10" descr="C:\Users\wp12.ПЛ№3\Desktop\NABOR_TEKSTA_LYuBOJ_SLOZhNOSTI.jpg"/>
          <p:cNvPicPr/>
          <p:nvPr/>
        </p:nvPicPr>
        <p:blipFill>
          <a:blip r:embed="rId2"/>
          <a:stretch/>
        </p:blipFill>
        <p:spPr>
          <a:xfrm>
            <a:off x="5867280" y="4437000"/>
            <a:ext cx="2881440" cy="1909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428760" y="4714920"/>
            <a:ext cx="82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ормальный шрифт ничем не выделяетс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лужирный шрифт темнее, он хорошо замете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Курсивный шрифт имеет накло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14200" y="500040"/>
            <a:ext cx="8713800" cy="411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полный набор букв алфавита с общим стилем начерта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иль изображения букв называется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гарнитурой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Начерт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дополнительные средства выделения шрифта на печати, например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одчеркивание, курсив, полужирный шриф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Размер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а, или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егль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его высота, измеряемая от нижнего края самой низкой буквы (например, «р» или «у») до верхнего края самой высокой буквы (например, «б»). Размер шрифта измеряется в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унктах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5"/>
          <p:cNvSpPr/>
          <p:nvPr/>
        </p:nvSpPr>
        <p:spPr>
          <a:xfrm>
            <a:off x="3203640" y="981000"/>
            <a:ext cx="59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текстовом редакторе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здать компьютерный текстовый документ, на базе профессиональной информации в соответствии с планом, изученным ране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извести форматирование документа в соответствии со следующими требованиям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Выделить основные моменты в тексте с помощью изменения размера шрифта, его начертания, цвета шриф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Более крупно напечатать заголов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Во второй части и в таблице использовать маркированный список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23"/>
          <p:cNvSpPr/>
          <p:nvPr/>
        </p:nvSpPr>
        <p:spPr>
          <a:xfrm>
            <a:off x="250920" y="11592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Практическое задан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6" descr="Картинка 80 из 61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071720"/>
            <a:ext cx="3643200" cy="2665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676800" y="47628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Итоги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250920" y="1268280"/>
            <a:ext cx="91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Мы рассмотрели, в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каком порядке чаще всего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 создается текстовый документ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Дали определения процессов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создания, 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 редактирования и форматирования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Продолжили совершенствовать навыки работы 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 с текстом на компьютер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250920" y="3860640"/>
            <a:ext cx="70578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ведите примеры использования тестовой информации в вашей профессиональной деятельности. Какие части этой информации можно выделить различными приемами форматирован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9" descr="book11"/>
          <p:cNvPicPr/>
          <p:nvPr/>
        </p:nvPicPr>
        <p:blipFill>
          <a:blip r:embed="rId2"/>
          <a:stretch/>
        </p:blipFill>
        <p:spPr>
          <a:xfrm>
            <a:off x="6786720" y="3571920"/>
            <a:ext cx="1979280" cy="1839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4"/>
          <p:cNvSpPr/>
          <p:nvPr/>
        </p:nvSpPr>
        <p:spPr>
          <a:xfrm>
            <a:off x="468360" y="836640"/>
            <a:ext cx="81439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4814d"/>
                </a:solidFill>
                <a:latin typeface="Verdana"/>
              </a:rPr>
              <a:t>При создании презентации и подготовке урока были использованы следующие материалы и литература</a:t>
            </a:r>
            <a:r>
              <a:rPr b="0" lang="ru-RU" sz="1600" spc="-1" strike="noStrike">
                <a:solidFill>
                  <a:srgbClr val="84814d"/>
                </a:solidFill>
                <a:latin typeface="Verdana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гринович Д. Н., «Информатика и информационные технологии», -М.: «Бином», 2006. -511 с.: и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гринович Н., Босова Л., Михайлова Н. «Практикум по информатике и информационным технологиям» М.: Бином, 2002. -214 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елепаева А.Х. «Поурочные разработки по информатике. Пособие для 10-11 кл. средней школы» -М.: «Вако», 2008. -352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елепаева А.Х. «Поурочные разработки по информатике. Пособие для 8-9 кл. средней школы» -М.: «Вако», 2007. -327 с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лат Е.С. «Новые педагогические и информационные технологии в системе образования»: Учебное пособие для вузов и системы повышения квалификации, издание 2-е дополненное и переработанное. -М.: Академия –2000. -192 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исунки: 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3"/>
              </a:rPr>
              <a:t>foto.krasnoturinsk.ru/cpg/albums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forum.forum.detsad-kitty.ru/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films3gp.ru/uploads/posts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http://redcat7.narod.ru/indexphoto.html;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http://www.telpics.ru/images.php;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http://www.beluys.com/clipart.htm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324000" y="4724280"/>
            <a:ext cx="27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0920" y="530532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Рассмотреть, в каком порядке чаще всего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создается текстовый документ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Дать определения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процессов создания, редактирования и форматирования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0" y="83664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Можете ли вы полностью ответить на следующие вопро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ете ли вы, что такое текс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каких основных объектов он состои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ли ли вы ранее с текстовым редактор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Microsoft Word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ете ли вы, в каком порядке чаще все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создается текстовый докумен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жете ли вы дать определения процессо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создания, редактирования и форматирования документ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58480" y="11592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WordArt 24"/>
          <p:cNvSpPr txBox="1"/>
          <p:nvPr/>
        </p:nvSpPr>
        <p:spPr>
          <a:xfrm>
            <a:off x="3780000" y="189000"/>
            <a:ext cx="44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Работа с объектами 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текстового документа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</p:txBody>
      </p:sp>
    </p:spTree>
  </p:cSld>
  <p:transition spd="slow">
    <p:cover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250920" y="11592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СХЕМА – ПОВТ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428"/>
          <p:cNvSpPr/>
          <p:nvPr/>
        </p:nvSpPr>
        <p:spPr>
          <a:xfrm>
            <a:off x="324000" y="692280"/>
            <a:ext cx="84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аполните СХЕМУ 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КЛАССИФИКАЦИИ  ОБЪЕКТОВ  ТЕКСТ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428"/>
          <p:cNvSpPr/>
          <p:nvPr/>
        </p:nvSpPr>
        <p:spPr>
          <a:xfrm>
            <a:off x="324000" y="5516640"/>
            <a:ext cx="45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айте определения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сех объектов текста пропущенных на схе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Group 40"/>
          <p:cNvGrpSpPr/>
          <p:nvPr/>
        </p:nvGrpSpPr>
        <p:grpSpPr>
          <a:xfrm>
            <a:off x="395280" y="1557360"/>
            <a:ext cx="8562960" cy="5030640"/>
            <a:chOff x="395280" y="1557360"/>
            <a:chExt cx="8562960" cy="5030640"/>
          </a:xfrm>
        </p:grpSpPr>
        <p:sp>
          <p:nvSpPr>
            <p:cNvPr id="111" name="Text Box 42"/>
            <p:cNvSpPr/>
            <p:nvPr/>
          </p:nvSpPr>
          <p:spPr>
            <a:xfrm>
              <a:off x="1143000" y="1557360"/>
              <a:ext cx="6400800" cy="453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 ТЕКСТОВОГО ДОКУМЕН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Text Box 43"/>
            <p:cNvSpPr/>
            <p:nvPr/>
          </p:nvSpPr>
          <p:spPr>
            <a:xfrm>
              <a:off x="395280" y="2421000"/>
              <a:ext cx="3522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>
              <a:off x="5219640" y="2421000"/>
              <a:ext cx="3738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ВНЕДРЕННЫЕ ОБЪЕКТ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Line 45"/>
            <p:cNvSpPr/>
            <p:nvPr/>
          </p:nvSpPr>
          <p:spPr>
            <a:xfrm>
              <a:off x="1476360" y="2276640"/>
              <a:ext cx="561672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Line 46"/>
            <p:cNvSpPr/>
            <p:nvPr/>
          </p:nvSpPr>
          <p:spPr>
            <a:xfrm>
              <a:off x="1476360" y="2276640"/>
              <a:ext cx="1260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47"/>
            <p:cNvSpPr/>
            <p:nvPr/>
          </p:nvSpPr>
          <p:spPr>
            <a:xfrm>
              <a:off x="7093080" y="229392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Line 48"/>
            <p:cNvSpPr/>
            <p:nvPr/>
          </p:nvSpPr>
          <p:spPr>
            <a:xfrm>
              <a:off x="1476360" y="3284640"/>
              <a:ext cx="20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Line 49"/>
            <p:cNvSpPr/>
            <p:nvPr/>
          </p:nvSpPr>
          <p:spPr>
            <a:xfrm>
              <a:off x="5724360" y="3573360"/>
              <a:ext cx="0" cy="28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Text Box 50"/>
            <p:cNvSpPr/>
            <p:nvPr/>
          </p:nvSpPr>
          <p:spPr>
            <a:xfrm>
              <a:off x="3492360" y="3068640"/>
              <a:ext cx="3171960" cy="530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ТЕКС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Line 51"/>
            <p:cNvSpPr/>
            <p:nvPr/>
          </p:nvSpPr>
          <p:spPr>
            <a:xfrm>
              <a:off x="5724360" y="4869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Line 52"/>
            <p:cNvSpPr/>
            <p:nvPr/>
          </p:nvSpPr>
          <p:spPr>
            <a:xfrm>
              <a:off x="5724360" y="4365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Line 53"/>
            <p:cNvSpPr/>
            <p:nvPr/>
          </p:nvSpPr>
          <p:spPr>
            <a:xfrm>
              <a:off x="5724360" y="386064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Text Box 54"/>
            <p:cNvSpPr/>
            <p:nvPr/>
          </p:nvSpPr>
          <p:spPr>
            <a:xfrm>
              <a:off x="6372360" y="3716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Text Box 55"/>
            <p:cNvSpPr/>
            <p:nvPr/>
          </p:nvSpPr>
          <p:spPr>
            <a:xfrm>
              <a:off x="6372360" y="4724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Text Box 56"/>
            <p:cNvSpPr/>
            <p:nvPr/>
          </p:nvSpPr>
          <p:spPr>
            <a:xfrm>
              <a:off x="6372360" y="422100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57"/>
            <p:cNvSpPr/>
            <p:nvPr/>
          </p:nvSpPr>
          <p:spPr>
            <a:xfrm>
              <a:off x="1476360" y="2997360"/>
              <a:ext cx="0" cy="19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Line 58"/>
            <p:cNvSpPr/>
            <p:nvPr/>
          </p:nvSpPr>
          <p:spPr>
            <a:xfrm>
              <a:off x="1476360" y="494172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Line 59"/>
            <p:cNvSpPr/>
            <p:nvPr/>
          </p:nvSpPr>
          <p:spPr>
            <a:xfrm>
              <a:off x="1476360" y="443700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Line 60"/>
            <p:cNvSpPr/>
            <p:nvPr/>
          </p:nvSpPr>
          <p:spPr>
            <a:xfrm>
              <a:off x="1476360" y="386064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Text Box 61"/>
            <p:cNvSpPr/>
            <p:nvPr/>
          </p:nvSpPr>
          <p:spPr>
            <a:xfrm>
              <a:off x="1835280" y="3716280"/>
              <a:ext cx="317160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Text Box 62"/>
            <p:cNvSpPr/>
            <p:nvPr/>
          </p:nvSpPr>
          <p:spPr>
            <a:xfrm>
              <a:off x="1865160" y="4653000"/>
              <a:ext cx="3354480" cy="720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ВТОМАТИЧЕСКИ СОЗДАВАЕМЫЕ ПОЛ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Text Box 63"/>
            <p:cNvSpPr/>
            <p:nvPr/>
          </p:nvSpPr>
          <p:spPr>
            <a:xfrm>
              <a:off x="1835280" y="4149720"/>
              <a:ext cx="3457440" cy="358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ВЕКТОРНЫЙ РИСУН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Line 64"/>
            <p:cNvSpPr/>
            <p:nvPr/>
          </p:nvSpPr>
          <p:spPr>
            <a:xfrm>
              <a:off x="4356000" y="2060640"/>
              <a:ext cx="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66"/>
            <p:cNvSpPr/>
            <p:nvPr/>
          </p:nvSpPr>
          <p:spPr>
            <a:xfrm>
              <a:off x="5724360" y="5877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Text Box 67"/>
            <p:cNvSpPr/>
            <p:nvPr/>
          </p:nvSpPr>
          <p:spPr>
            <a:xfrm>
              <a:off x="6372360" y="573408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69"/>
            <p:cNvSpPr/>
            <p:nvPr/>
          </p:nvSpPr>
          <p:spPr>
            <a:xfrm>
              <a:off x="5724360" y="5373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Text Box 70"/>
            <p:cNvSpPr/>
            <p:nvPr/>
          </p:nvSpPr>
          <p:spPr>
            <a:xfrm>
              <a:off x="6372360" y="5229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72"/>
            <p:cNvSpPr/>
            <p:nvPr/>
          </p:nvSpPr>
          <p:spPr>
            <a:xfrm>
              <a:off x="5724360" y="6381720"/>
              <a:ext cx="63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Text Box 73"/>
            <p:cNvSpPr/>
            <p:nvPr/>
          </p:nvSpPr>
          <p:spPr>
            <a:xfrm>
              <a:off x="6372360" y="6237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" name="Group 41"/>
          <p:cNvGrpSpPr/>
          <p:nvPr/>
        </p:nvGrpSpPr>
        <p:grpSpPr>
          <a:xfrm>
            <a:off x="395280" y="1557360"/>
            <a:ext cx="8562960" cy="5030640"/>
            <a:chOff x="395280" y="1557360"/>
            <a:chExt cx="8562960" cy="5030640"/>
          </a:xfrm>
        </p:grpSpPr>
        <p:sp>
          <p:nvSpPr>
            <p:cNvPr id="141" name="Text Box 42"/>
            <p:cNvSpPr/>
            <p:nvPr/>
          </p:nvSpPr>
          <p:spPr>
            <a:xfrm>
              <a:off x="1143000" y="1557360"/>
              <a:ext cx="6400800" cy="453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 ТЕКСТОВОГО ДОКУМЕН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Text Box 43"/>
            <p:cNvSpPr/>
            <p:nvPr/>
          </p:nvSpPr>
          <p:spPr>
            <a:xfrm>
              <a:off x="395280" y="2421000"/>
              <a:ext cx="3522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СРЕД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44"/>
            <p:cNvSpPr/>
            <p:nvPr/>
          </p:nvSpPr>
          <p:spPr>
            <a:xfrm>
              <a:off x="5219640" y="2421000"/>
              <a:ext cx="3738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ВНЕДРЕННЫЕ ОБЪЕКТ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45"/>
            <p:cNvSpPr/>
            <p:nvPr/>
          </p:nvSpPr>
          <p:spPr>
            <a:xfrm>
              <a:off x="1476360" y="2276640"/>
              <a:ext cx="561672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46"/>
            <p:cNvSpPr/>
            <p:nvPr/>
          </p:nvSpPr>
          <p:spPr>
            <a:xfrm>
              <a:off x="1476360" y="2276640"/>
              <a:ext cx="1260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47"/>
            <p:cNvSpPr/>
            <p:nvPr/>
          </p:nvSpPr>
          <p:spPr>
            <a:xfrm>
              <a:off x="7093080" y="229392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48"/>
            <p:cNvSpPr/>
            <p:nvPr/>
          </p:nvSpPr>
          <p:spPr>
            <a:xfrm>
              <a:off x="1476360" y="3284640"/>
              <a:ext cx="20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49"/>
            <p:cNvSpPr/>
            <p:nvPr/>
          </p:nvSpPr>
          <p:spPr>
            <a:xfrm>
              <a:off x="5724360" y="3573360"/>
              <a:ext cx="0" cy="28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Text Box 50"/>
            <p:cNvSpPr/>
            <p:nvPr/>
          </p:nvSpPr>
          <p:spPr>
            <a:xfrm>
              <a:off x="3492360" y="3068640"/>
              <a:ext cx="3171960" cy="530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ТЕКС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Line 51"/>
            <p:cNvSpPr/>
            <p:nvPr/>
          </p:nvSpPr>
          <p:spPr>
            <a:xfrm>
              <a:off x="5724360" y="4869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52"/>
            <p:cNvSpPr/>
            <p:nvPr/>
          </p:nvSpPr>
          <p:spPr>
            <a:xfrm>
              <a:off x="5724360" y="4365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53"/>
            <p:cNvSpPr/>
            <p:nvPr/>
          </p:nvSpPr>
          <p:spPr>
            <a:xfrm>
              <a:off x="5724360" y="386064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Text Box 54"/>
            <p:cNvSpPr/>
            <p:nvPr/>
          </p:nvSpPr>
          <p:spPr>
            <a:xfrm>
              <a:off x="6372360" y="3716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ИМВОЛ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Text Box 55"/>
            <p:cNvSpPr/>
            <p:nvPr/>
          </p:nvSpPr>
          <p:spPr>
            <a:xfrm>
              <a:off x="6372360" y="4724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ТРО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Text Box 56"/>
            <p:cNvSpPr/>
            <p:nvPr/>
          </p:nvSpPr>
          <p:spPr>
            <a:xfrm>
              <a:off x="6372360" y="422100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ЛОВ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57"/>
            <p:cNvSpPr/>
            <p:nvPr/>
          </p:nvSpPr>
          <p:spPr>
            <a:xfrm>
              <a:off x="1476360" y="2997360"/>
              <a:ext cx="0" cy="19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58"/>
            <p:cNvSpPr/>
            <p:nvPr/>
          </p:nvSpPr>
          <p:spPr>
            <a:xfrm>
              <a:off x="1476360" y="494172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Line 59"/>
            <p:cNvSpPr/>
            <p:nvPr/>
          </p:nvSpPr>
          <p:spPr>
            <a:xfrm>
              <a:off x="1476360" y="443700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60"/>
            <p:cNvSpPr/>
            <p:nvPr/>
          </p:nvSpPr>
          <p:spPr>
            <a:xfrm>
              <a:off x="1476360" y="386064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61"/>
            <p:cNvSpPr/>
            <p:nvPr/>
          </p:nvSpPr>
          <p:spPr>
            <a:xfrm>
              <a:off x="1835280" y="3716280"/>
              <a:ext cx="317160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ТАБЛИЦ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62"/>
            <p:cNvSpPr/>
            <p:nvPr/>
          </p:nvSpPr>
          <p:spPr>
            <a:xfrm>
              <a:off x="1865160" y="4653000"/>
              <a:ext cx="3354480" cy="720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ВТОМАТИЧЕСКИ СОЗДАВАЕМЫЕ ПОЛ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Text Box 63"/>
            <p:cNvSpPr/>
            <p:nvPr/>
          </p:nvSpPr>
          <p:spPr>
            <a:xfrm>
              <a:off x="1835280" y="4149720"/>
              <a:ext cx="3457440" cy="358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ВЕКТОРНЫЙ РИСУН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Line 64"/>
            <p:cNvSpPr/>
            <p:nvPr/>
          </p:nvSpPr>
          <p:spPr>
            <a:xfrm>
              <a:off x="4356000" y="2060640"/>
              <a:ext cx="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Line 66"/>
            <p:cNvSpPr/>
            <p:nvPr/>
          </p:nvSpPr>
          <p:spPr>
            <a:xfrm>
              <a:off x="5724360" y="5877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Text Box 67"/>
            <p:cNvSpPr/>
            <p:nvPr/>
          </p:nvSpPr>
          <p:spPr>
            <a:xfrm>
              <a:off x="6372360" y="573408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ФРАГМЕНТ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Line 69"/>
            <p:cNvSpPr/>
            <p:nvPr/>
          </p:nvSpPr>
          <p:spPr>
            <a:xfrm>
              <a:off x="5724360" y="5373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Text Box 70"/>
            <p:cNvSpPr/>
            <p:nvPr/>
          </p:nvSpPr>
          <p:spPr>
            <a:xfrm>
              <a:off x="6372360" y="5229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БЗАЦ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5724360" y="6381720"/>
              <a:ext cx="63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Text Box 73"/>
            <p:cNvSpPr/>
            <p:nvPr/>
          </p:nvSpPr>
          <p:spPr>
            <a:xfrm>
              <a:off x="6372360" y="6237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ПИС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cover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222840" y="0"/>
            <a:ext cx="70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Эталон ответа к определениям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Box 40"/>
          <p:cNvSpPr/>
          <p:nvPr/>
        </p:nvSpPr>
        <p:spPr>
          <a:xfrm>
            <a:off x="179280" y="558720"/>
            <a:ext cx="896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имвол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наименьшая неделимая единица текс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лово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произвольная последовательность символов (букв, цифр и др.), ограниченная с двух сторон служебными символами (пробел,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ятая,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бки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трок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произвольная последовательность символов между левой и правой границами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Абзац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произвольная последовательность символов, завершенная нажатием клавиши «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»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Фрагмент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некоторое количество рядом стоящих символов, которые можно рассматривать как единое целое. Фрагментом может быть отдельное слово, строка, абзац, страница и даже весь вводимый тек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писо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совокупность абзацев, которые содержат перечисления и оформлены в виде пунк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Рисунок 64" descr="http://doma10.ucoz.ru/images1.jpeg"/>
          <p:cNvPicPr/>
          <p:nvPr/>
        </p:nvPicPr>
        <p:blipFill>
          <a:blip r:embed="rId2"/>
          <a:stretch/>
        </p:blipFill>
        <p:spPr>
          <a:xfrm>
            <a:off x="8101080" y="5373720"/>
            <a:ext cx="865080" cy="741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6"/>
          <p:cNvSpPr/>
          <p:nvPr/>
        </p:nvSpPr>
        <p:spPr>
          <a:xfrm>
            <a:off x="250920" y="1700280"/>
            <a:ext cx="65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сональный компьютер широко используется для подготовки к печати различного рода документов: отчетов, ведомостей, рецептов, писем, статей, книг и т. д. Компьютер позволяет видеть на экране текст, модифицировать его, исправлять ошиб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ое достоинство обработки текстов на компьютере – это легкость ввода, изменения, копирования и размножения информ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24000" y="260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Работа с объектами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кстового докумен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042920" y="5227560"/>
            <a:ext cx="712944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Подготовка документ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на компьютере состоит из таких этапов, как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набор, редактирование и форматиров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8" descr="C:\Users\wp12.ПЛ№3\Desktop\aspire_e-171006.jpg"/>
          <p:cNvPicPr/>
          <p:nvPr/>
        </p:nvPicPr>
        <p:blipFill>
          <a:blip r:embed="rId2"/>
          <a:srcRect l="0" t="0" r="0" b="11678"/>
          <a:stretch/>
        </p:blipFill>
        <p:spPr>
          <a:xfrm>
            <a:off x="0" y="260280"/>
            <a:ext cx="1870200" cy="1413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C:\Users\wp12.ПЛ№3\Desktop\0_29927_6d5e852c_-1-L.jpg"/>
          <p:cNvPicPr/>
          <p:nvPr/>
        </p:nvPicPr>
        <p:blipFill>
          <a:blip r:embed="rId3"/>
          <a:stretch/>
        </p:blipFill>
        <p:spPr>
          <a:xfrm>
            <a:off x="7358040" y="2928960"/>
            <a:ext cx="1522440" cy="19033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ruka.jpg"/>
          <p:cNvPicPr/>
          <p:nvPr/>
        </p:nvPicPr>
        <p:blipFill>
          <a:blip r:embed="rId4"/>
          <a:stretch/>
        </p:blipFill>
        <p:spPr>
          <a:xfrm>
            <a:off x="7358040" y="1000080"/>
            <a:ext cx="1544760" cy="1933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11"/>
          <p:cNvSpPr/>
          <p:nvPr/>
        </p:nvSpPr>
        <p:spPr>
          <a:xfrm flipH="1" flipV="1">
            <a:off x="180720" y="619920"/>
            <a:ext cx="2806560" cy="33116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684360" y="1052640"/>
            <a:ext cx="1079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55640" y="1195560"/>
            <a:ext cx="90360" cy="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6"/>
          <p:cNvSpPr/>
          <p:nvPr/>
        </p:nvSpPr>
        <p:spPr>
          <a:xfrm flipH="1" flipV="1">
            <a:off x="971280" y="1773360"/>
            <a:ext cx="187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7"/>
          <p:cNvSpPr/>
          <p:nvPr/>
        </p:nvSpPr>
        <p:spPr>
          <a:xfrm flipH="1" flipV="1">
            <a:off x="828360" y="1267920"/>
            <a:ext cx="19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9"/>
          <p:cNvSpPr/>
          <p:nvPr/>
        </p:nvSpPr>
        <p:spPr>
          <a:xfrm flipH="1" flipV="1">
            <a:off x="1907640" y="105228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1800" y="1920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4356000" y="476280"/>
            <a:ext cx="4608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работе с системами обработки текстов экран компьютера служит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к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через которое человек видит тек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ек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добно представлять себе в виде длинного и широкого свитка, расположенног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за окном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урсо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казывает на то место в тексте, в котором можно набирать, удалять или изменять символ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2771640" y="1268280"/>
            <a:ext cx="158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екс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урс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к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324000" y="5084640"/>
            <a:ext cx="828036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Microsoft Wor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это приложени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ndow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предназначенное для просмотра, </a:t>
            </a:r>
            <a:r>
              <a:rPr b="1" lang="ru-RU" sz="2400" spc="-1" strike="noStrike">
                <a:solidFill>
                  <a:srgbClr val="990000"/>
                </a:solidFill>
                <a:latin typeface="Verdana"/>
              </a:rPr>
              <a:t>создания, редактирования, форматирова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печати текстовых докум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539640" y="1890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Набор (создание) текс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79280" y="3571560"/>
            <a:ext cx="669780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йлы, создаваемые в среде текстового процессора Microsoft Word, называю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текстовыми документам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664000" y="5073480"/>
            <a:ext cx="64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оме того, создание текстового документа может осуществляться посредством ввода информации через устройство оптического считывания —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кане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9" descr="C:\Users\wp12.ПЛ№3\Desktop\2.jpg"/>
          <p:cNvPicPr/>
          <p:nvPr/>
        </p:nvPicPr>
        <p:blipFill>
          <a:blip r:embed="rId2"/>
          <a:stretch/>
        </p:blipFill>
        <p:spPr>
          <a:xfrm>
            <a:off x="7115040" y="3284640"/>
            <a:ext cx="1849680" cy="1569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C:\Users\wp12.ПЛ№3\Desktop\1.jpg"/>
          <p:cNvPicPr/>
          <p:nvPr/>
        </p:nvPicPr>
        <p:blipFill>
          <a:blip r:embed="rId3"/>
          <a:srcRect l="0" t="4712" r="0" b="0"/>
          <a:stretch/>
        </p:blipFill>
        <p:spPr>
          <a:xfrm>
            <a:off x="0" y="5157720"/>
            <a:ext cx="2697120" cy="17002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250920" y="83664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бор (ввод) текс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осуществляется с помощью клавиатур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ль бумаги при этом играет экран компьютера. Место для ввода очередного символа текста указывается на экране с помощью мерцающего прямоугольника —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урсор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наборе текста на компьютере человек не следит за концом строки: как только тот достигается, курсор автоматически переходит на начало следующей стро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0"/>
          <p:cNvSpPr/>
          <p:nvPr/>
        </p:nvSpPr>
        <p:spPr>
          <a:xfrm>
            <a:off x="539640" y="18900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Редактирование докумен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324000" y="5083200"/>
            <a:ext cx="568800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Редактировани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— это процесс внесения изменений в докумен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10" descr="C:\Users\wp12.ПЛ№3\Desktop\vy7bl4hs71yoh4s84_thumb.png"/>
          <p:cNvPicPr/>
          <p:nvPr/>
        </p:nvPicPr>
        <p:blipFill>
          <a:blip r:embed="rId2"/>
          <a:stretch/>
        </p:blipFill>
        <p:spPr>
          <a:xfrm>
            <a:off x="6227640" y="41608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395280" y="134136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дактирование — следующий этап подготовки документа на компьютере. При редактировании текста мы просматриваем его, чтобы убедиться, что всё правильно, исправляем обнаруженные ошибки (например, в правописании) и вносим необходимые измен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 операции, связанные с внесением изменений в документ, исправлением в нем ошибок, объединяются в общее понятие — редактиров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611280" y="2852640"/>
            <a:ext cx="799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деление объекта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жде чем осуществлять какие-либо действия над объектом в документе, его необходимо выделить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отображении выделенных объектов на экране обычно либо цвет объекта изменяется на противоположный, либо показывается внешняя граница объек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ычно объекты в приложении выделяются щелчком (двойным щелчком) левой кнопки мыш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611280" y="732960"/>
            <a:ext cx="763272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Основное правило редактиро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 Выделить объек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 Выполнить команду или действия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по редактирован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8:52:37Z</dcterms:created>
  <dc:creator>admin</dc:creator>
  <dc:description/>
  <dc:language>en-US</dc:language>
  <cp:lastModifiedBy>user1</cp:lastModifiedBy>
  <dcterms:modified xsi:type="dcterms:W3CDTF">2012-10-14T04:15:56Z</dcterms:modified>
  <cp:revision>1004</cp:revision>
  <dc:subject/>
  <dc:title>Слайд 1</dc:title>
</cp:coreProperties>
</file>