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79C-8590-464B-A5F0-DC22743D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459-9BC7-4CF6-9CDE-4F2C59E6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CB6-AC1A-48EA-9644-2C89C7CC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0FD-B6C1-48D4-B171-797211E0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78A1-8AFC-46CD-82D7-8FCA1DD8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5064-7E04-4C9C-B1E6-1A34A599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C5E2-22EF-40BD-A653-3D5F0947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2937-3200-4C56-85E5-D94942CB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B9DE-139E-4C8F-82A3-8AF16368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6058-8B6B-4D87-8659-DC4A573C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64D8-D350-4832-B77A-F30761EB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8E1-D57C-4529-85F6-5E68BFCF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034F-D9C5-46FA-B0AC-8AE56F7E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176A-4972-4701-ABBB-B74BC2FD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A0EF-265A-4D7C-B379-9D41CBE8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A61A-A8EA-4395-BA40-1C49A556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F6A3-A758-45E3-A713-2C60DA95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5E0F-BE68-412F-A529-6800825D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B40-009A-4191-98F4-F6DD5EF6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3FE-47BB-49E7-ABF4-4C826F78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B70-0982-4051-B12F-1365EA0E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12E-6F07-4FBE-B059-51A2D992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71C-F8FD-4034-9D4B-184F188D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5F8-1192-47F4-B662-EEBF0144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BFB6-1CF9-4921-9A36-22CB13094187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80CD-71DC-4119-8A94-6662B6BA4FE8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xombm.files.wordpress.com/2011/04/cohdra100_1413.jpg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te-power.tut.su/public/image/other/comp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krasnoturinsk.ru/cpg/albums/userpics/15014/1.png" TargetMode="External"/><Relationship Id="rId3" Type="http://schemas.openxmlformats.org/officeDocument/2006/relationships/hyperlink" Target="http://foto.krasnoturinsk.ru/cpg/albums/userpics/15014/1.png" TargetMode="External"/><Relationship Id="rId4" Type="http://schemas.openxmlformats.org/officeDocument/2006/relationships/hyperlink" Target="http://foto.krasnoturinsk.ru/cpg/albums/userpics/15014/1.pn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539640" y="1197000"/>
            <a:ext cx="79930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  <p:sp>
        <p:nvSpPr>
          <p:cNvPr id="97" name="AutoShape 13">
            <a:hlinkClick r:id="rId2"/>
          </p:cNvPr>
          <p:cNvSpPr/>
          <p:nvPr/>
        </p:nvSpPr>
        <p:spPr>
          <a:xfrm>
            <a:off x="169920" y="285840"/>
            <a:ext cx="5076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:\Users\wp12.ПЛ№3\Desktop\istock_000004257988small.jpg"/>
          <p:cNvPicPr/>
          <p:nvPr/>
        </p:nvPicPr>
        <p:blipFill>
          <a:blip r:embed="rId3"/>
          <a:stretch/>
        </p:blipFill>
        <p:spPr>
          <a:xfrm>
            <a:off x="684360" y="234936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Users\wp12.ПЛ№3\Desktop\1.jpg"/>
          <p:cNvPicPr/>
          <p:nvPr/>
        </p:nvPicPr>
        <p:blipFill>
          <a:blip r:embed="rId4"/>
          <a:stretch/>
        </p:blipFill>
        <p:spPr>
          <a:xfrm>
            <a:off x="1835280" y="4653000"/>
            <a:ext cx="2952720" cy="19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C:\Users\wp12.ПЛ№3\Desktop\x_249b2dfd.jpg"/>
          <p:cNvPicPr/>
          <p:nvPr/>
        </p:nvPicPr>
        <p:blipFill>
          <a:blip r:embed="rId5"/>
          <a:stretch/>
        </p:blipFill>
        <p:spPr>
          <a:xfrm>
            <a:off x="3419640" y="2781360"/>
            <a:ext cx="5184720" cy="356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4786200" y="2160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0"/>
          <p:cNvSpPr/>
          <p:nvPr/>
        </p:nvSpPr>
        <p:spPr>
          <a:xfrm>
            <a:off x="1432080" y="476280"/>
            <a:ext cx="67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овые действ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 выделенны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558800" y="287964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539640" y="273528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Уда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684360" y="407664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ырез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234000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932360" y="4076640"/>
            <a:ext cx="351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Перемещение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(в текущем документ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588000" y="27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834920" y="1628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47"/>
          <p:cNvSpPr/>
          <p:nvPr/>
        </p:nvSpPr>
        <p:spPr>
          <a:xfrm flipH="1">
            <a:off x="2916360" y="1773360"/>
            <a:ext cx="1008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48"/>
          <p:cNvSpPr/>
          <p:nvPr/>
        </p:nvSpPr>
        <p:spPr>
          <a:xfrm flipH="1">
            <a:off x="3851280" y="1773360"/>
            <a:ext cx="72072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5867280" y="1557360"/>
            <a:ext cx="172908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5003640" y="170028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Форма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4000" y="732960"/>
            <a:ext cx="856908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Форма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любые операции по приданию документу такого вида, который он будет иметь на бумаге (оформление внешнего вида документа или его фрагмент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0920" y="2349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едакторы текстов «умеют» автоматически разбивать текст на страницы и нумеровать их. Они «следят» за размером полей и регулируют расстояние между строками, предлагают на выбор различные варианты шриф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и параметрами форматирования простого текста являю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(гарнитура) шриф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ертан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(кегль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подчерки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" descr="C:\Users\wp12.ПЛ№3\Desktop\NABOR_TEKSTA_LYuBOJ_SLOZhNOSTI.jpg"/>
          <p:cNvPicPr/>
          <p:nvPr/>
        </p:nvPicPr>
        <p:blipFill>
          <a:blip r:embed="rId2"/>
          <a:stretch/>
        </p:blipFill>
        <p:spPr>
          <a:xfrm>
            <a:off x="5867280" y="4437000"/>
            <a:ext cx="288144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428760" y="471492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рмальный шрифт ничем не выделя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жирный шрифт темнее, он хорошо заме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урсивный шрифт имеет накл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14200" y="500040"/>
            <a:ext cx="8713800" cy="411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полный набор букв алфавита с общим стилем начерт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иль изображения букв называе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рнитуро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черт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дополнительные средства выделения шрифта на печати, например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, курсив, полужирный шриф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азм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, ил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егль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его высота, измеряемая от нижнего края самой низкой буквы (например, «р» или «у») до верхнего края самой высокой буквы (например, «б»). Размер шрифта измеряется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унктах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"/>
          <p:cNvSpPr/>
          <p:nvPr/>
        </p:nvSpPr>
        <p:spPr>
          <a:xfrm>
            <a:off x="3203640" y="98100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ь компьютерный текстовый документ, на базе профессиональной информации в соответствии с планом, изученным ра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звести форматирование документа в соответствии со следующими требования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делить основные моменты в тексте с помощью изменения размера шрифта, его начертания, цвета шриф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Более крупно напечатать загол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о второй части и в таблице использовать маркированный списо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250920" y="1159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Практическое 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Картинка 80 из 6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0920" y="126828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Мы рассмотрели, в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создается текстовый документ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Дали определения процессов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создания, 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редактирования и форматирования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с тек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3860640"/>
            <a:ext cx="70578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едите примеры использования тестовой информации в вашей профессиональной деятельности. Какие части этой информации можно выделить различными приемами форматиров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9" descr="book11"/>
          <p:cNvPicPr/>
          <p:nvPr/>
        </p:nvPicPr>
        <p:blipFill>
          <a:blip r:embed="rId2"/>
          <a:stretch/>
        </p:blipFill>
        <p:spPr>
          <a:xfrm>
            <a:off x="6786720" y="3571920"/>
            <a:ext cx="19792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468360" y="836640"/>
            <a:ext cx="81439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8-9 кл. средней школы» -М.: «Вако», 2007. -327 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ат Е.С. «Новые педагогические и информационные технологии в системе образования»: Учебное пособие для вузов и системы повышения квалификации, издание 2-е дополненное и переработанное. -М.: Академия –2000. -192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3"/>
              </a:rPr>
              <a:t>foto.krasnoturinsk.ru/cpg/albums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orum.forum.detsad-kitty.ru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ilms3gp.ru/uploads/pos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http://redcat7.narod.ru/indexphoto.html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telpics.ru/images.php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beluys.com/clipart.htm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24000" y="472428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53053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ассмотреть, в 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оздается текстовый документ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ать определения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процессов создания, редактирования и форматирования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836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что такое тек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каких основных объектов он состои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ли ли вы ранее с текстовым редактор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Microsoft Wor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в каком порядке чаще вс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ется текстовый доку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ете ли вы дать определения проце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ния, редактирования и форматирования докумен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3780000" y="18900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СХЕМА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28"/>
          <p:cNvSpPr/>
          <p:nvPr/>
        </p:nvSpPr>
        <p:spPr>
          <a:xfrm>
            <a:off x="324000" y="69228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олните СХЕМУ 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ЛАССИФИКАЦИИ  ОБЪЕКТОВ  ТЕК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28"/>
          <p:cNvSpPr/>
          <p:nvPr/>
        </p:nvSpPr>
        <p:spPr>
          <a:xfrm>
            <a:off x="324000" y="551664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йте определ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объектов текста пропущенных на схе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0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1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4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СРЕД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ИМВОЛ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ТРО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ЛОВ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ТАБЛИЦ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РАГМЕНТ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БЗА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ПИС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2840" y="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Эталон ответа к определения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40"/>
          <p:cNvSpPr/>
          <p:nvPr/>
        </p:nvSpPr>
        <p:spPr>
          <a:xfrm>
            <a:off x="179280" y="5587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мво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наименьшая неделимая единица тек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(букв, цифр и др.), ограниченная с двух сторон служебными символами (пробел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ятая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бк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о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между левой и правой границами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бза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произвольная последовательность символов, завершенная нажатием клавиши 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Фрагмент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некоторое количество рядом стоящих символов, которые можно рассматривать как единое целое. Фрагментом может быть отдельное слово, строка, абзац, страница и даже весь вводимый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пис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совокупность абзацев, которые содержат перечисления и оформлены в виде пун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Рисунок 64" descr="http://doma10.ucoz.ru/images1.jpeg"/>
          <p:cNvPicPr/>
          <p:nvPr/>
        </p:nvPicPr>
        <p:blipFill>
          <a:blip r:embed="rId2"/>
          <a:stretch/>
        </p:blipFill>
        <p:spPr>
          <a:xfrm>
            <a:off x="8101080" y="5373720"/>
            <a:ext cx="865080" cy="74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250920" y="170028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широко используется для подготовки к печати различного рода документов: отчетов, ведомостей, рецептов, писем, статей, книг и т. д. Компьютер позволяет видеть на экране текст, модифицировать его, исправлять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е достоинство обработки текстов на компьютере – это легкость ввода, изменения, копирования и размножения информ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абота с объектами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кстового доку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042920" y="5227560"/>
            <a:ext cx="71294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Подготовка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на компьютере состоит из таких этапов, как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абор, редактирование и форма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C:\Users\wp12.ПЛ№3\Desktop\aspire_e-171006.jpg"/>
          <p:cNvPicPr/>
          <p:nvPr/>
        </p:nvPicPr>
        <p:blipFill>
          <a:blip r:embed="rId2"/>
          <a:srcRect l="0" t="0" r="0" b="11678"/>
          <a:stretch/>
        </p:blipFill>
        <p:spPr>
          <a:xfrm>
            <a:off x="0" y="260280"/>
            <a:ext cx="1870200" cy="141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wp12.ПЛ№3\Desktop\0_29927_6d5e852c_-1-L.jpg"/>
          <p:cNvPicPr/>
          <p:nvPr/>
        </p:nvPicPr>
        <p:blipFill>
          <a:blip r:embed="rId3"/>
          <a:stretch/>
        </p:blipFill>
        <p:spPr>
          <a:xfrm>
            <a:off x="7358040" y="2928960"/>
            <a:ext cx="1522440" cy="1903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ruka.jpg"/>
          <p:cNvPicPr/>
          <p:nvPr/>
        </p:nvPicPr>
        <p:blipFill>
          <a:blip r:embed="rId4"/>
          <a:stretch/>
        </p:blipFill>
        <p:spPr>
          <a:xfrm>
            <a:off x="7358040" y="1000080"/>
            <a:ext cx="154476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1"/>
          <p:cNvSpPr/>
          <p:nvPr/>
        </p:nvSpPr>
        <p:spPr>
          <a:xfrm flipH="1" flipV="1">
            <a:off x="180720" y="619920"/>
            <a:ext cx="2806560" cy="3311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684360" y="1052640"/>
            <a:ext cx="1079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55640" y="1195560"/>
            <a:ext cx="9036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971280" y="177336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828360" y="126792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H="1" flipV="1">
            <a:off x="1907640" y="105228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800" y="1920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356000" y="476280"/>
            <a:ext cx="4608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работе с системами обработки текстов экран компьютера служи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через которое человек видит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добно представлять себе в виде длинного и широкого свитка, расположе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за окно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азывает на то место в тексте, в котором можно набирать, удалять или изменять симв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771640" y="1268280"/>
            <a:ext cx="15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рс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24000" y="5084640"/>
            <a:ext cx="828036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едназначенное для просмотра, </a:t>
            </a: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оздания, редактирования, форма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печати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39640" y="1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Набор (создание) тек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3571560"/>
            <a:ext cx="66978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йлы, создаваемые в среде текстового процессора Microsoft Word,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екстовыми документ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664000" y="507348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создание текстового документа может осуществляться посредством ввода информации через устройство оптического считывания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не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9" descr="C:\Users\wp12.ПЛ№3\Desktop\2.jpg"/>
          <p:cNvPicPr/>
          <p:nvPr/>
        </p:nvPicPr>
        <p:blipFill>
          <a:blip r:embed="rId2"/>
          <a:stretch/>
        </p:blipFill>
        <p:spPr>
          <a:xfrm>
            <a:off x="7115040" y="3284640"/>
            <a:ext cx="1849680" cy="156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C:\Users\wp12.ПЛ№3\Desktop\1.jpg"/>
          <p:cNvPicPr/>
          <p:nvPr/>
        </p:nvPicPr>
        <p:blipFill>
          <a:blip r:embed="rId3"/>
          <a:srcRect l="0" t="4712" r="0" b="0"/>
          <a:stretch/>
        </p:blipFill>
        <p:spPr>
          <a:xfrm>
            <a:off x="0" y="5157720"/>
            <a:ext cx="2697120" cy="17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50920" y="836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бор (ввод) тек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уществляется с помощью клави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ль бумаги при этом играет экран компьютера. Место для ввода очередного символа текста указывается на экране с помощью мерцающего прямоугольника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аборе текста на компьютере человек не следит за концом строки: как только тот достигается, курсор автоматически переходит на начало следующей стро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едак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5083200"/>
            <a:ext cx="5688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Реда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процесс внесения изменений в доку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C:\Users\wp12.ПЛ№3\Desktop\vy7bl4hs71yoh4s84_thumb.png"/>
          <p:cNvPicPr/>
          <p:nvPr/>
        </p:nvPicPr>
        <p:blipFill>
          <a:blip r:embed="rId2"/>
          <a:stretch/>
        </p:blipFill>
        <p:spPr>
          <a:xfrm>
            <a:off x="6227640" y="41608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1341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актирование — следующий этап подготовки документа на компьютере. При редактировании текста мы просматриваем его, чтобы убедиться, что всё правильно, исправляем обнаруженные ошибки (например, в правописании) и вносим необходимые изме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операции, связанные с внесением изменений в документ, исправлением в нем ошибок, объединяются в общее понятие — редак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85264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деление объект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чем осуществлять какие-либо действия над объектом в документе, его необходимо выдели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тображении выделенных объектов на экране обычно либо цвет объекта изменяется на противоположный, либо показывается внешняя граница объек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чно объекты в приложении выделяются щелчком (двойным щелчком) левой кнопки мыш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732960"/>
            <a:ext cx="763272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ое правило редактир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Выделить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Выполнить команду или действ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по редактир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user1</cp:lastModifiedBy>
  <dcterms:modified xsi:type="dcterms:W3CDTF">2012-10-14T04:15:56Z</dcterms:modified>
  <cp:revision>1004</cp:revision>
  <dc:subject/>
  <dc:title>Слайд 1</dc:title>
</cp:coreProperties>
</file>