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5ED-476E-460D-9205-B7A61DCB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8FD-4C87-4877-BCD1-C3E93084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84B-A69D-4EF0-A988-1C8162B3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40DB-D58B-4479-802A-57B327BED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E97E-45C3-4975-AD18-1E4FFAE5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5885-02ED-418F-974A-EEC8C33F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D960-9EE7-4159-A9CD-D2B1068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0C7-05BC-408F-927A-F2FD8F7F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DFD7-AD97-4DC8-B8FB-ECD6A5C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6F2A-710B-4B90-9A28-D0799F7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EC5-A3EF-45EB-803B-191F324C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C55-DDF7-4415-9223-87FF956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17EE-E06C-41DD-9100-2CB42986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56E-2018-4360-9200-CF54F3DD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1534-B048-449E-AB21-5965A71E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1CEB-FA96-4EF7-A7E7-F3AAA781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BFC6-3303-4FF8-A3A1-87AB18DE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374-E005-488A-A8B4-1A60553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324-E7DE-49F0-BD58-FE5D956E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E0B8-746E-48BC-A2B2-FC90129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207-780E-4A7A-835B-3617A7E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1B5-8796-43E1-B223-391B627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E79-441F-4AF6-85B1-E6D0A64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28C-8FDD-4776-81F4-ED64945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6478-A016-4F16-9466-B13B5A149BBC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0879a">
                  <a:alpha val="45098"/>
                </a:srgbClr>
              </a:gs>
              <a:gs pos="100000">
                <a:srgbClr val="d2dd5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a3ab4d">
                  <a:alpha val="45098"/>
                </a:srgbClr>
              </a:gs>
              <a:gs pos="100000">
                <a:srgbClr val="83a2b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2da7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b8c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2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ada7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B90-6EEB-4054-848E-9F63C410FBE7}" type="slidenum">
              <a:rPr b="0" lang="en-US" sz="1200" spc="-1" strike="noStrike">
                <a:solidFill>
                  <a:srgbClr val="42424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nxombm.files.wordpress.com/2011/04/cohdra100_1413.jpg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hite-power.tut.su/public/image/other/comp.png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.krasnoturinsk.ru/cpg/albums/userpics/15014/1.png" TargetMode="External"/><Relationship Id="rId3" Type="http://schemas.openxmlformats.org/officeDocument/2006/relationships/hyperlink" Target="http://foto.krasnoturinsk.ru/cpg/albums/userpics/15014/1.png" TargetMode="External"/><Relationship Id="rId4" Type="http://schemas.openxmlformats.org/officeDocument/2006/relationships/hyperlink" Target="http://foto.krasnoturinsk.ru/cpg/albums/userpics/15014/1.png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WordArt 24"/>
          <p:cNvSpPr txBox="1"/>
          <p:nvPr/>
        </p:nvSpPr>
        <p:spPr>
          <a:xfrm>
            <a:off x="539640" y="1197000"/>
            <a:ext cx="799308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  <p:sp>
        <p:nvSpPr>
          <p:cNvPr id="97" name="AutoShape 13">
            <a:hlinkClick r:id="rId2"/>
          </p:cNvPr>
          <p:cNvSpPr/>
          <p:nvPr/>
        </p:nvSpPr>
        <p:spPr>
          <a:xfrm>
            <a:off x="169920" y="285840"/>
            <a:ext cx="5076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:\Users\wp12.ПЛ№3\Desktop\istock_000004257988small.jpg"/>
          <p:cNvPicPr/>
          <p:nvPr/>
        </p:nvPicPr>
        <p:blipFill>
          <a:blip r:embed="rId3"/>
          <a:stretch/>
        </p:blipFill>
        <p:spPr>
          <a:xfrm>
            <a:off x="684360" y="2349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C:\Users\wp12.ПЛ№3\Desktop\1.jpg"/>
          <p:cNvPicPr/>
          <p:nvPr/>
        </p:nvPicPr>
        <p:blipFill>
          <a:blip r:embed="rId4"/>
          <a:stretch/>
        </p:blipFill>
        <p:spPr>
          <a:xfrm>
            <a:off x="1835280" y="4653000"/>
            <a:ext cx="2952720" cy="1923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C:\Users\wp12.ПЛ№3\Desktop\x_249b2dfd.jpg"/>
          <p:cNvPicPr/>
          <p:nvPr/>
        </p:nvPicPr>
        <p:blipFill>
          <a:blip r:embed="rId5"/>
          <a:stretch/>
        </p:blipFill>
        <p:spPr>
          <a:xfrm>
            <a:off x="3419640" y="2781360"/>
            <a:ext cx="5184720" cy="3565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0"/>
          <p:cNvSpPr/>
          <p:nvPr/>
        </p:nvSpPr>
        <p:spPr>
          <a:xfrm>
            <a:off x="4786200" y="2160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0"/>
          <p:cNvSpPr/>
          <p:nvPr/>
        </p:nvSpPr>
        <p:spPr>
          <a:xfrm>
            <a:off x="1432080" y="476280"/>
            <a:ext cx="67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овые действ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 выделенными объек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1558800" y="2879640"/>
            <a:ext cx="230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3"/>
          <p:cNvSpPr/>
          <p:nvPr/>
        </p:nvSpPr>
        <p:spPr>
          <a:xfrm>
            <a:off x="539640" y="2735280"/>
            <a:ext cx="260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Уда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84360" y="407664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ырез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234000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В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932360" y="4076640"/>
            <a:ext cx="351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Перемещение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(в текущем документе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6588000" y="278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За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Line 46"/>
          <p:cNvSpPr/>
          <p:nvPr/>
        </p:nvSpPr>
        <p:spPr>
          <a:xfrm flipH="1">
            <a:off x="1834920" y="1628640"/>
            <a:ext cx="136836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47"/>
          <p:cNvSpPr/>
          <p:nvPr/>
        </p:nvSpPr>
        <p:spPr>
          <a:xfrm flipH="1">
            <a:off x="2916360" y="1773360"/>
            <a:ext cx="1008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48"/>
          <p:cNvSpPr/>
          <p:nvPr/>
        </p:nvSpPr>
        <p:spPr>
          <a:xfrm flipH="1">
            <a:off x="3851280" y="1773360"/>
            <a:ext cx="720720" cy="40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49"/>
          <p:cNvSpPr/>
          <p:nvPr/>
        </p:nvSpPr>
        <p:spPr>
          <a:xfrm>
            <a:off x="5867280" y="1557360"/>
            <a:ext cx="172908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50"/>
          <p:cNvSpPr/>
          <p:nvPr/>
        </p:nvSpPr>
        <p:spPr>
          <a:xfrm>
            <a:off x="5003640" y="170028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Форма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24000" y="732960"/>
            <a:ext cx="856908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любые операции по приданию документу такого вида, который он будет иметь на бумаге (оформление внешнего вида документа или его фрагментов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50920" y="2349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едакторы текстов «умеют» автоматически разбивать текст на страницы и нумеровать их. Они «следят» за размером полей и регулируют расстояние между строками, предлагают на выбор различные варианты шриф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ми параметрами форматирования простого текста являютс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(гарнитура) шрифта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чертание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мер (кегль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подчеркив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10" descr="C:\Users\wp12.ПЛ№3\Desktop\NABOR_TEKSTA_LYuBOJ_SLOZhNOSTI.jpg"/>
          <p:cNvPicPr/>
          <p:nvPr/>
        </p:nvPicPr>
        <p:blipFill>
          <a:blip r:embed="rId2"/>
          <a:stretch/>
        </p:blipFill>
        <p:spPr>
          <a:xfrm>
            <a:off x="5867280" y="4437000"/>
            <a:ext cx="2881440" cy="19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428760" y="4714920"/>
            <a:ext cx="820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ормальный шрифт ничем не выделяетс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лужирный шрифт темнее, он хорошо заме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Курсивный шрифт имеет накло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214200" y="500040"/>
            <a:ext cx="8713800" cy="411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полный набор букв алфавита с общим стилем начерта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иль изображения букв называется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гарнитуро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Начерт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дополнительные средства выделения шрифта на печати, например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одчеркивание, курсив, полужирный шриф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Разм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шрифта, или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кегль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его высота, измеряемая от нижнего края самой низкой буквы (например, «р» или «у») до верхнего края самой высокой буквы (например, «б»). Размер шрифта измеряется в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пунктах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5"/>
          <p:cNvSpPr/>
          <p:nvPr/>
        </p:nvSpPr>
        <p:spPr>
          <a:xfrm>
            <a:off x="3203640" y="981000"/>
            <a:ext cx="594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текстовом редактор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ь компьютерный текстовый документ, на базе профессиональной информации в соответствии с планом, изученным ран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звести форматирование документа в соответствии со следующими требования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делить основные моменты в тексте с помощью изменения размера шрифта, его начертания, цвета шриф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Более крупно напечатать заголов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о второй части и в таблице использовать маркированный список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250920" y="1159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Практическое 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6" descr="Картинка 80 из 61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50920" y="1268280"/>
            <a:ext cx="91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Мы рассмотрели, в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создается текстовый документ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Дали определения процессов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создания, 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  редактирования и форматирования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  с тек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50920" y="3860640"/>
            <a:ext cx="70578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ведите примеры использования тестовой информации в вашей профессиональной деятельности. Какие части этой информации можно выделить различными приемами форматирован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9" descr="book11"/>
          <p:cNvPicPr/>
          <p:nvPr/>
        </p:nvPicPr>
        <p:blipFill>
          <a:blip r:embed="rId2"/>
          <a:stretch/>
        </p:blipFill>
        <p:spPr>
          <a:xfrm>
            <a:off x="6786720" y="3571920"/>
            <a:ext cx="1979280" cy="1839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4"/>
          <p:cNvSpPr/>
          <p:nvPr/>
        </p:nvSpPr>
        <p:spPr>
          <a:xfrm>
            <a:off x="468360" y="836640"/>
            <a:ext cx="81439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8-9 кл. средней школы» -М.: «Вако», 2007. -327 с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лат Е.С. «Новые педагогические и информационные технологии в системе образования»: Учебное пособие для вузов и системы повышения квалификации, издание 2-е дополненное и переработанное. -М.: Академия –2000. -192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3"/>
              </a:rPr>
              <a:t>foto.krasnoturinsk.ru/cpg/albums</a:t>
            </a:r>
            <a:r>
              <a:rPr b="0" lang="en-US" sz="1600" spc="-1" strike="noStrike" u="sng">
                <a:solidFill>
                  <a:srgbClr val="b292ca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orum.forum.detsad-kitty.ru/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films3gp.ru/uploads/posts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http://redcat7.narod.ru/indexphoto.html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telpics.ru/images.php;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ttp://www.beluys.com/clipart.htm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24000" y="472428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530532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Рассмотреть, в каком порядке чаще всего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создается текстовый документ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Дать определения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процессов создания, редактирования и форматирования</a:t>
            </a:r>
            <a:r>
              <a:rPr b="0" lang="en-US" sz="2400" spc="-1" strike="noStrike">
                <a:solidFill>
                  <a:srgbClr val="800000"/>
                </a:solidFill>
                <a:latin typeface="Tahoma"/>
              </a:rPr>
              <a:t>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8366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что такое текс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 каких основных объектов он состои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ли ли вы ранее с текстовым редактор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Microsoft Wor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ете ли вы, в каком порядке чаще всег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ется текстовый документ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8200" indent="-32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жете ли вы дать определения процесс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создания, редактирования и форматирования документа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24"/>
          <p:cNvSpPr txBox="1"/>
          <p:nvPr/>
        </p:nvSpPr>
        <p:spPr>
          <a:xfrm>
            <a:off x="3780000" y="18900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Работа с объектами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92929"/>
                </a:solidFill>
                <a:latin typeface="Arial"/>
              </a:rPr>
              <a:t>текстового документа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92929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СХЕМА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428"/>
          <p:cNvSpPr/>
          <p:nvPr/>
        </p:nvSpPr>
        <p:spPr>
          <a:xfrm>
            <a:off x="324000" y="692280"/>
            <a:ext cx="846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Заполните СХЕМУ 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КЛАССИФИКАЦИИ  ОБЪЕКТОВ  ТЕКСТ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28"/>
          <p:cNvSpPr/>
          <p:nvPr/>
        </p:nvSpPr>
        <p:spPr>
          <a:xfrm>
            <a:off x="324000" y="5516640"/>
            <a:ext cx="45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айте определ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сех объектов текста пропущенных на схе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Group 40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1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41"/>
          <p:cNvGrpSpPr/>
          <p:nvPr/>
        </p:nvGrpSpPr>
        <p:grpSpPr>
          <a:xfrm>
            <a:off x="395280" y="1557360"/>
            <a:ext cx="8562960" cy="5030640"/>
            <a:chOff x="395280" y="1557360"/>
            <a:chExt cx="8562960" cy="5030640"/>
          </a:xfrm>
        </p:grpSpPr>
        <p:sp>
          <p:nvSpPr>
            <p:cNvPr id="141" name="Text Box 42"/>
            <p:cNvSpPr/>
            <p:nvPr/>
          </p:nvSpPr>
          <p:spPr>
            <a:xfrm>
              <a:off x="1143000" y="1557360"/>
              <a:ext cx="6400800" cy="453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 ТЕКСТОВОГО ДОКУМЕН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Text Box 43"/>
            <p:cNvSpPr/>
            <p:nvPr/>
          </p:nvSpPr>
          <p:spPr>
            <a:xfrm>
              <a:off x="395280" y="2421000"/>
              <a:ext cx="3522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СРЕД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5219640" y="2421000"/>
              <a:ext cx="3738600" cy="541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ВНЕДРЕННЫЕ ОБЪЕКТЫ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1476360" y="2276640"/>
              <a:ext cx="561672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1476360" y="2276640"/>
              <a:ext cx="12600" cy="12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47"/>
            <p:cNvSpPr/>
            <p:nvPr/>
          </p:nvSpPr>
          <p:spPr>
            <a:xfrm>
              <a:off x="7093080" y="2293920"/>
              <a:ext cx="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48"/>
            <p:cNvSpPr/>
            <p:nvPr/>
          </p:nvSpPr>
          <p:spPr>
            <a:xfrm>
              <a:off x="1476360" y="328464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49"/>
            <p:cNvSpPr/>
            <p:nvPr/>
          </p:nvSpPr>
          <p:spPr>
            <a:xfrm>
              <a:off x="5724360" y="3573360"/>
              <a:ext cx="0" cy="280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50"/>
            <p:cNvSpPr/>
            <p:nvPr/>
          </p:nvSpPr>
          <p:spPr>
            <a:xfrm>
              <a:off x="3492360" y="3068640"/>
              <a:ext cx="3171960" cy="530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ОБЪЕКТЫ ТЕКС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5724360" y="4869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52"/>
            <p:cNvSpPr/>
            <p:nvPr/>
          </p:nvSpPr>
          <p:spPr>
            <a:xfrm>
              <a:off x="5724360" y="4365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3"/>
            <p:cNvSpPr/>
            <p:nvPr/>
          </p:nvSpPr>
          <p:spPr>
            <a:xfrm>
              <a:off x="5724360" y="386064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6372360" y="3716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ИМВОЛ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55"/>
            <p:cNvSpPr/>
            <p:nvPr/>
          </p:nvSpPr>
          <p:spPr>
            <a:xfrm>
              <a:off x="6372360" y="472428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ТРО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56"/>
            <p:cNvSpPr/>
            <p:nvPr/>
          </p:nvSpPr>
          <p:spPr>
            <a:xfrm>
              <a:off x="6372360" y="4221000"/>
              <a:ext cx="2425680" cy="351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ЛОВ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57"/>
            <p:cNvSpPr/>
            <p:nvPr/>
          </p:nvSpPr>
          <p:spPr>
            <a:xfrm>
              <a:off x="1476360" y="2997360"/>
              <a:ext cx="0" cy="19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58"/>
            <p:cNvSpPr/>
            <p:nvPr/>
          </p:nvSpPr>
          <p:spPr>
            <a:xfrm>
              <a:off x="1476360" y="494172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59"/>
            <p:cNvSpPr/>
            <p:nvPr/>
          </p:nvSpPr>
          <p:spPr>
            <a:xfrm>
              <a:off x="1476360" y="443700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60"/>
            <p:cNvSpPr/>
            <p:nvPr/>
          </p:nvSpPr>
          <p:spPr>
            <a:xfrm>
              <a:off x="1476360" y="3860640"/>
              <a:ext cx="372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61"/>
            <p:cNvSpPr/>
            <p:nvPr/>
          </p:nvSpPr>
          <p:spPr>
            <a:xfrm>
              <a:off x="1835280" y="3716280"/>
              <a:ext cx="317160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ТАБЛИЦ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1865160" y="4653000"/>
              <a:ext cx="3354480" cy="720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ВТОМАТИЧЕСКИ СОЗДАВАЕМЫЕ ПОЛ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1835280" y="4149720"/>
              <a:ext cx="345744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ВЕКТОРНЫЙ РИСУН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64"/>
            <p:cNvSpPr/>
            <p:nvPr/>
          </p:nvSpPr>
          <p:spPr>
            <a:xfrm>
              <a:off x="4356000" y="2060640"/>
              <a:ext cx="0" cy="23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66"/>
            <p:cNvSpPr/>
            <p:nvPr/>
          </p:nvSpPr>
          <p:spPr>
            <a:xfrm>
              <a:off x="5724360" y="587700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Text Box 67"/>
            <p:cNvSpPr/>
            <p:nvPr/>
          </p:nvSpPr>
          <p:spPr>
            <a:xfrm>
              <a:off x="6372360" y="573408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ФРАГМЕНТ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69"/>
            <p:cNvSpPr/>
            <p:nvPr/>
          </p:nvSpPr>
          <p:spPr>
            <a:xfrm>
              <a:off x="5724360" y="5373720"/>
              <a:ext cx="64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70"/>
            <p:cNvSpPr/>
            <p:nvPr/>
          </p:nvSpPr>
          <p:spPr>
            <a:xfrm>
              <a:off x="6372360" y="5229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АБЗАЦ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5724360" y="6381720"/>
              <a:ext cx="63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73"/>
            <p:cNvSpPr/>
            <p:nvPr/>
          </p:nvSpPr>
          <p:spPr>
            <a:xfrm>
              <a:off x="6372360" y="6237360"/>
              <a:ext cx="242568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СПИСО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22840" y="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Эталон ответа к определения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Box 40"/>
          <p:cNvSpPr/>
          <p:nvPr/>
        </p:nvSpPr>
        <p:spPr>
          <a:xfrm>
            <a:off x="179280" y="558720"/>
            <a:ext cx="896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имво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наименьшая неделимая единица тек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лово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(букв, цифр и др.), ограниченная с двух сторон служебными символами (пробел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ятая,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бк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трок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произвольная последовательность символов между левой и правой границами докумен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Абзац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произвольная последовательность символов, завершенная нажатием клавиши «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»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Фрагмент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— это некоторое количество рядом стоящих символов, которые можно рассматривать как единое целое. Фрагментом может быть отдельное слово, строка, абзац, страница и даже весь вводимый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Списо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это совокупность абзацев, которые содержат перечисления и оформлены в виде пунк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Рисунок 64" descr="http://doma10.ucoz.ru/images1.jpeg"/>
          <p:cNvPicPr/>
          <p:nvPr/>
        </p:nvPicPr>
        <p:blipFill>
          <a:blip r:embed="rId2"/>
          <a:stretch/>
        </p:blipFill>
        <p:spPr>
          <a:xfrm>
            <a:off x="8101080" y="5373720"/>
            <a:ext cx="865080" cy="741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250920" y="170028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сональный компьютер широко используется для подготовки к печати различного рода документов: отчетов, ведомостей, рецептов, писем, статей, книг и т. д. Компьютер позволяет видеть на экране текст, модифицировать его, исправлять ошиб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ое достоинство обработки текстов на компьютере – это легкость ввода, изменения, копирования и размножения информ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абота с объектами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текстового докумен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042920" y="5227560"/>
            <a:ext cx="71294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Verdana"/>
              </a:rPr>
              <a:t>Подготовка докумен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на компьютере состоит из таких этапов, как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набор, редактирование и форма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8" descr="C:\Users\wp12.ПЛ№3\Desktop\aspire_e-171006.jpg"/>
          <p:cNvPicPr/>
          <p:nvPr/>
        </p:nvPicPr>
        <p:blipFill>
          <a:blip r:embed="rId2"/>
          <a:srcRect l="0" t="0" r="0" b="11678"/>
          <a:stretch/>
        </p:blipFill>
        <p:spPr>
          <a:xfrm>
            <a:off x="0" y="260280"/>
            <a:ext cx="1870200" cy="141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Users\wp12.ПЛ№3\Desktop\0_29927_6d5e852c_-1-L.jpg"/>
          <p:cNvPicPr/>
          <p:nvPr/>
        </p:nvPicPr>
        <p:blipFill>
          <a:blip r:embed="rId3"/>
          <a:stretch/>
        </p:blipFill>
        <p:spPr>
          <a:xfrm>
            <a:off x="7358040" y="2928960"/>
            <a:ext cx="1522440" cy="19033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8" descr="ruka.jpg"/>
          <p:cNvPicPr/>
          <p:nvPr/>
        </p:nvPicPr>
        <p:blipFill>
          <a:blip r:embed="rId4"/>
          <a:stretch/>
        </p:blipFill>
        <p:spPr>
          <a:xfrm>
            <a:off x="7358040" y="1000080"/>
            <a:ext cx="1544760" cy="193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1"/>
          <p:cNvSpPr/>
          <p:nvPr/>
        </p:nvSpPr>
        <p:spPr>
          <a:xfrm flipH="1" flipV="1">
            <a:off x="180720" y="619920"/>
            <a:ext cx="2806560" cy="3311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684360" y="1052640"/>
            <a:ext cx="1079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55640" y="1195560"/>
            <a:ext cx="90360" cy="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971280" y="1773360"/>
            <a:ext cx="187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7"/>
          <p:cNvSpPr/>
          <p:nvPr/>
        </p:nvSpPr>
        <p:spPr>
          <a:xfrm flipH="1" flipV="1">
            <a:off x="828360" y="1267920"/>
            <a:ext cx="194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9"/>
          <p:cNvSpPr/>
          <p:nvPr/>
        </p:nvSpPr>
        <p:spPr>
          <a:xfrm flipH="1" flipV="1">
            <a:off x="1907640" y="105228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1800" y="19206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4356000" y="476280"/>
            <a:ext cx="460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работе с системами обработки текстов экран компьютера служит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к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через которое человек видит текс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добно представлять себе в виде длинного и широкого свитка, расположе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за окно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казывает на то место в тексте, в котором можно набирать, удалять или изменять симво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771640" y="1268280"/>
            <a:ext cx="15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урс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24000" y="5084640"/>
            <a:ext cx="828036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Microsoft Wor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приложени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ndow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предназначенное для просмотра, </a:t>
            </a: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создания, редактирования, форматирова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печати текстовых док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39640" y="1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Набор (создание) тек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79280" y="3571560"/>
            <a:ext cx="669780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йлы, создаваемые в среде текстового процессора Microsoft Word, называ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текстовыми документам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64000" y="5073480"/>
            <a:ext cx="64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роме того, создание текстового документа может осуществляться посредством ввода информации через устройство оптического считывания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канер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9" descr="C:\Users\wp12.ПЛ№3\Desktop\2.jpg"/>
          <p:cNvPicPr/>
          <p:nvPr/>
        </p:nvPicPr>
        <p:blipFill>
          <a:blip r:embed="rId2"/>
          <a:stretch/>
        </p:blipFill>
        <p:spPr>
          <a:xfrm>
            <a:off x="7115040" y="3284640"/>
            <a:ext cx="1849680" cy="1569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C:\Users\wp12.ПЛ№3\Desktop\1.jpg"/>
          <p:cNvPicPr/>
          <p:nvPr/>
        </p:nvPicPr>
        <p:blipFill>
          <a:blip r:embed="rId3"/>
          <a:srcRect l="0" t="4712" r="0" b="0"/>
          <a:stretch/>
        </p:blipFill>
        <p:spPr>
          <a:xfrm>
            <a:off x="0" y="5157720"/>
            <a:ext cx="2697120" cy="1700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250920" y="836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бор (ввод) текс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существляется с помощью клавиатур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ль бумаги при этом играет экран компьютера. Место для ввода очередного символа текста указывается на экране с помощью мерцающего прямоугольника —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урсор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наборе текста на компьютере человек не следит за концом строки: как только тот достигается, курсор автоматически переходит на начало следующей стро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Редактирование докумен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324000" y="5083200"/>
            <a:ext cx="5688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— это процесс внесения изменений в докумен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C:\Users\wp12.ПЛ№3\Desktop\vy7bl4hs71yoh4s84_thumb.png"/>
          <p:cNvPicPr/>
          <p:nvPr/>
        </p:nvPicPr>
        <p:blipFill>
          <a:blip r:embed="rId2"/>
          <a:stretch/>
        </p:blipFill>
        <p:spPr>
          <a:xfrm>
            <a:off x="6227640" y="41608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95280" y="134136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дактирование — следующий этап подготовки документа на компьютере. При редактировании текста мы просматриваем его, чтобы убедиться, что всё правильно, исправляем обнаруженные ошибки (например, в правописании) и вносим необходимые измен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се операции, связанные с внесением изменений в документ, исправлением в нем ошибок, объединяются в общее понятие — редактиров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5"/>
          <p:cNvSpPr/>
          <p:nvPr/>
        </p:nvSpPr>
        <p:spPr>
          <a:xfrm>
            <a:off x="611280" y="285264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деление объекта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ежде чем осуществлять какие-либо действия над объектом в документе, его необходимо выделит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 отображении выделенных объектов на экране обычно либо цвет объекта изменяется на противоположный, либо показывается внешняя граница объек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ычно объекты в приложении выделяются щелчком (двойным щелчком) левой кнопки мыш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11280" y="732960"/>
            <a:ext cx="763272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Основное правило редактир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 Выделить объе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 Выполнить команду или действия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по редактирован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user1</cp:lastModifiedBy>
  <dcterms:modified xsi:type="dcterms:W3CDTF">2012-10-14T04:15:56Z</dcterms:modified>
  <cp:revision>1004</cp:revision>
  <dc:subject/>
  <dc:title>Слайд 1</dc:title>
</cp:coreProperties>
</file>