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2960-1942-40AA-A776-77E43EA9E2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8170-A5D5-4DBF-B250-4B13759FC9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E81-0387-4EF5-A494-AB519487AD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1709-213C-4F50-978D-4D0A879DEE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B7BC-19EC-47E1-8B50-E1DEE1400E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E81A-74B4-4DBB-A8C0-A8F1515726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097C-FE08-4A21-A298-5AA1D7CCF1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1293-E48B-4ED5-8BC4-1A8F55AEC9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2540-DCC8-4E5B-BE12-E115C0D2D7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4D1E-76B1-4286-A2D1-C2E0BEECAA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CD92-55F8-47AA-B9FF-8F52FF16E5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F86D-3646-4C6D-853C-CC06B613BD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BEC5-D5FB-49C0-9A92-A7A1577881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34D-24BB-4FE0-8868-0CAD9C9A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DDA-6602-4E14-958C-EF9EC7E5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BB3-567D-468E-BE93-59BC29F4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530-F767-4BFA-A92C-5F437A96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6A83-3AEE-4BD6-9E77-4F3427F5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4382-5FB3-4BF4-B145-5F500CD5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3A9C-A232-494A-914D-FB4AACC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F675-6EFB-4E37-8962-2DB0968D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F21E-FCFE-4640-8A5D-877E1035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28FF-80AF-44D3-A73E-22FD0494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1EDD-AD95-4896-AEE5-F7DC2CAD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494-C572-4758-8188-56953F53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7283-835B-478F-84B0-78DB3F4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3358-8EC6-49D6-B19A-260988AA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D182-A97D-4716-BB0A-0EA2CBAF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6FAD-A17D-44C5-AB2B-E1CC157F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C05A-3A01-4594-88A0-717E5B6A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1A4FE-0B86-4B6D-8B28-35D29DEB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6673-3B01-42A9-8CB5-E00F192C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AAC44-79D9-4A50-A641-2C61CF36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C308C-933E-4200-88E6-EB6AF58B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261DE-8928-44D0-BDFC-32CE2704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A0B-C0E0-4624-B3D0-5889EF9D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C154-1FF1-44D2-B68B-FA9AA4DA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72543-B32A-4619-8ADA-6396F5D8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147B4-75D5-47D2-AC90-6A91867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635BC-835D-49B7-942F-27231F89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80EE-156E-4C75-8820-BA763254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989F-68EA-4348-BDA1-9CF68213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E5928-7464-4529-8905-2F637DCA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4EA09-8CCA-4F51-A727-F1CD992D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4A2C-8107-41C8-8726-57FCF359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26697-803D-4589-A71A-8B8B5059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433-F3C1-43C2-BB7B-679D7D75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E319F-C541-4C3C-AFF9-6CEC5F0B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4110A-BF1D-49C6-B0AA-9616731F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3ABE-D35C-4747-A218-4E4CA79B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F0CE7-6690-4623-BDFF-2416C752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ABC3C-18A8-4C3A-A362-263BF94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8C058-6F57-4A4E-B255-75E7186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FB368-7175-4470-B35C-C41B95A2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E8616-B9F8-4E24-92A7-594E72FB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DF321-7AFD-4211-A7C9-3335B1AF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A250F-3522-4547-AC20-5E5B3AC4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807-425E-4960-9C91-A4FE3A53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3D35C-39BF-446A-8D1A-A9251C0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37269-2FF6-4218-BDFD-283ECED9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D065C-BCA3-4D9B-B551-9BDA3576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63287-5498-433C-81EF-FF6E06AB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EB903-EF4E-4405-9D90-A7C982BC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7518-EB0D-4BAE-8ABA-8B9FFF4D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7551A-0D99-432D-B6A7-43E81350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0281C-D655-46DA-81B2-0D6999D0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21E1F-940C-444E-9D59-7050373B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04DF0-7C73-442B-9CF5-61FB4CE4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A30-2633-4BB3-9D46-2C164D3F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96595-BD40-41D9-914C-668E6198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2EFB-16F4-42D1-A7B1-03754EB2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EF3DE-C7BB-408B-965C-D0C89865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380F9-7B08-43D1-BB33-147C51DB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A9D0E-3836-4D2A-A583-A3986C35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DD771-5AA0-45A2-8226-7CA43FC6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602FF-C7CD-4088-9B93-482F54B1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7B728-0EE2-4711-AA8E-C3D2CDF5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6B595-25EA-43CE-81CB-ACE21036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F7C81-B595-4DD4-A09B-B27323C2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216-6EFE-4140-9035-58B54758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23E02-3724-474C-A47B-D306E390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57524-FBAF-4891-BD08-94332D24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A17FA-92BB-4782-AEC7-1D4813EA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D65D4-828B-4950-BC5A-1964E6B9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0C01-9B98-4942-9A9A-E2CA4E9E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0EA87-18DB-47AC-981F-CCCD0BAD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54F4B-7E8D-4135-A5B7-760524AD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F6D77-8645-455F-8E09-9427DEB7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1596A-BDB3-4113-951C-678713E9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E20AD-4293-4580-9FFD-A75EA30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A50-A458-4EF7-A51F-BA2708B4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DEC86-9558-4B30-941C-C4919AFE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4D6FA-3D48-45CB-985F-C533E930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0AF2D-C306-4B57-B786-DCE3483D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ACA64-3B48-4B4A-8CAB-01464D34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8CEA5-B529-4774-AE9D-B42A4760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D2D-05D0-4A53-B07B-B58C67F8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2296-0364-4913-9B12-C377565320D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9149-29F3-4506-9C7F-383277E232F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60A4-BAB6-4936-9E09-849FD24BC46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35E5-FB45-4E70-8FF5-3DF3B19C76A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A15F-1621-4166-BAAE-52CAF9A1B60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1B28-1389-4C8D-883B-317C2EB082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1ED5-7D49-4344-88D1-EA8CA84D881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2DA6-96D5-4A7A-8DFD-1DF948E738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52BE-903A-4F6D-BBFB-44D0EB4CEEC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54D9-32AE-4AE5-B2E1-B494B8A86CF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C7CA-BF46-4277-AFF6-CC49DFEE533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2330-C22F-47CB-AAC1-428A2F2C28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1854-F350-4F8B-9FBB-B58793833C2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1687-59D1-408F-957B-0A69790791A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School101\Desktop\вирусы\i.jpeg"/>
          <p:cNvPicPr/>
          <p:nvPr/>
        </p:nvPicPr>
        <p:blipFill>
          <a:blip r:embed="rId2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222.jpeg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995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590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ГБОУ СПО «АМТ» преподаватель Струкова Елена Алексеевна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171360" y="2205000"/>
            <a:ext cx="8972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ы безопасности информации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 виды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Picture 10" descr="2"/>
          <p:cNvPicPr/>
          <p:nvPr/>
        </p:nvPicPr>
        <p:blipFill>
          <a:blip r:embed="rId9"/>
          <a:stretch/>
        </p:blipFill>
        <p:spPr>
          <a:xfrm>
            <a:off x="7291440" y="0"/>
            <a:ext cx="185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1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69228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03280" y="2420640"/>
            <a:ext cx="7499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7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549360"/>
            <a:ext cx="60004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267920"/>
            <a:ext cx="7667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497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404640"/>
            <a:ext cx="81010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47628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179280" y="27082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1.jpeg"/>
          <p:cNvPicPr/>
          <p:nvPr/>
        </p:nvPicPr>
        <p:blipFill>
          <a:blip r:embed="rId4"/>
          <a:stretch/>
        </p:blipFill>
        <p:spPr>
          <a:xfrm>
            <a:off x="179280" y="4941720"/>
            <a:ext cx="776520" cy="827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F:\2.jpeg"/>
          <p:cNvPicPr/>
          <p:nvPr/>
        </p:nvPicPr>
        <p:blipFill>
          <a:blip r:embed="rId5"/>
          <a:stretch/>
        </p:blipFill>
        <p:spPr>
          <a:xfrm>
            <a:off x="179280" y="3716280"/>
            <a:ext cx="908280" cy="9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F:\3.jpeg"/>
          <p:cNvPicPr/>
          <p:nvPr/>
        </p:nvPicPr>
        <p:blipFill>
          <a:blip r:embed="rId6"/>
          <a:stretch/>
        </p:blipFill>
        <p:spPr>
          <a:xfrm>
            <a:off x="0" y="155736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28800" y="14292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щеобразов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нать основы электронных коммуника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ы угроз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спит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коммуникативных свойств лич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толерант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сетев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и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познавательного интере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навыков общения в се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оворить об угрозах информационно-технического характера, можно выделить такие элементы как кража информации, вредоносное ПО, хакерские атаки, СПАМ, халатность сотрудников, аппаратные и программные сбои, финансовое мошенничество, кража обору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гласно статистике применительно к этим угрозам, можно привести следующие данные (по результатам исследований, проведённых в России компанией InfoWath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информации – 64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доносное ПО – 6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керские атаки – 48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ам – 4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латность сотрудников – 4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аратные и программные сбои – 21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оборудования – 6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нансовое мошенничество – 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видно, из приведенных данных, наиболее распространены кража информации и вредоносное П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99640" y="105228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-457200"/>
            <a:ext cx="4973760" cy="2054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46160"/>
            <a:ext cx="65912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57120" y="691920"/>
            <a:ext cx="87868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файлообменные (P2P) и IRC-сети, LAN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5"/>
          <p:cNvSpPr/>
          <p:nvPr/>
        </p:nvSpPr>
        <p:spPr>
          <a:xfrm>
            <a:off x="684360" y="40194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IRC-сообщениях, файл в каталоге обмена P2P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539640" y="3645000"/>
            <a:ext cx="1397160" cy="113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/>
  <dc:description/>
  <dc:language>en-US</dc:language>
  <cp:lastModifiedBy>КарМаН</cp:lastModifiedBy>
  <dcterms:modified xsi:type="dcterms:W3CDTF">2012-07-06T13:10:13Z</dcterms:modified>
  <cp:revision>28</cp:revision>
  <dc:subject/>
  <dc:title>Слайд 1</dc:title>
</cp:coreProperties>
</file>