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9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E255-B31D-400B-A889-97B8A09369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428B-746B-430C-8EB0-045CC26A61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3057-12F1-4660-90F3-54EFE1376B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5193-8E61-47F9-9D88-A85074F083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3F0C-A463-443E-9380-E43E1BD95A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91E9-0D07-407A-9841-1583B0BE2E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E30C-DCE2-4F45-95A8-066516F88E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DA3A-32CB-4790-885C-CCFC0F670D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6727-9335-4698-AA07-14F03605C9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3A6C-DF53-4A2A-805A-DA48B0AB22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2659-A89A-4375-AFB2-830AB3D807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BE14-48EA-4B30-AD72-2518108466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D4C2-2A11-4889-BD92-2528D3A643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053-FB3E-4970-A4CC-17F35B1B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579-0A4A-4106-AA8D-F1AC3D1A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10C-7586-463B-8F9C-AD69690A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92F-4891-4ACE-9D58-3AA4E2AD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E854-8799-4CA7-9048-F6F3C023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4420-B67A-4D4C-AF10-DB93A150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5CF0-5503-48E3-A2E4-A0285697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E103-819F-4CEA-8949-815B2C6A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8C81-9193-40B5-AC6D-61BECBE5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65DA-838A-4240-8E49-E0CC8312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9500-6B65-4BBA-8CD2-DEF7D496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849-1636-4034-8BA7-0BC99DA0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3C11-50A7-4ED0-9474-45B02F83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64B5-0415-4F73-9996-79C4DFDB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24A8-3087-4D24-85DC-4B87B6C5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31E7-0891-4F66-B91D-82B8DA64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5D7B-4016-48A2-BE01-B8B0E641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EB7B-DBFF-4556-B7B9-2109F0F1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F2E9-A5F8-4076-84E7-6E14819E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D87C5-A868-4DF5-8ED2-963621A3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4AD2-4449-48E8-ABB2-EBAC0902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9AED-AE85-4F41-9C5C-8A8B4A7C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B40-30FD-45E1-8529-8ECA550A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716D6-A147-40CE-B2DE-597A6455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3963-5D93-4706-9383-4A1CDAF6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5C777-79EE-4451-99E5-CB9133B2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0771-B898-4EA8-A98D-74C9A2B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17E3-EFEA-47C7-8C0C-3BF88C92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97F8-421A-478F-B111-FE135E39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EEF6-A0C0-4B5C-9A0C-9E28DF05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7020-92B6-4F7C-8116-3364B0F4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3704D-1716-459A-AACF-98609CD0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D425-78BD-4AD9-91E5-BF4B9236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B81-5D19-4C40-9CBF-7317A986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E559-1E84-4CEE-ACDB-E7FE402C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8D1C-E98C-428C-9297-7763B12D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23059-03C1-4515-A797-F382FE48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34574-9682-44D4-ADFB-2434AAB9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38170-D3F1-4C5F-A882-83EC720F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F1E84-E425-476B-83BA-6637F735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2CC57-AD71-46F0-B46E-92FD07ED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AE385-5735-4E9D-8748-D84ECC0E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2F6DC-E74D-4396-ADC6-25200C51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EFB8-3680-44BD-AAA7-0210CDE5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FA0-8E74-4366-B857-FAC02FCF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E9263-C16A-4091-A6A0-1BEF4A71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FA1AE-EC57-4F71-B68C-2EE8647A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E1BEF-5542-409B-BC3D-52B20E36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16262-3CCC-4862-A33B-D6C20615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FE6D1-3FC7-4AC0-9085-3BF4C90C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FFE0D-E770-432A-ACAB-A31A5149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E196C-6D89-4048-94AD-630095C7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C6690-DCC2-417D-AC02-94A2D465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80AB7-5F3F-4CE3-A932-6FBB7E30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2FE12-7BAA-4084-B89A-AEC77B12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458-AAE4-444B-B140-D451140B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A6DCC-364C-4AFC-A38B-8ABDF9C5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D614A-8A32-466B-AF57-AE9A2AA4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9FBC6-9FBF-4140-80C7-9F0B8800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F03E3-E9A6-4EC4-AE31-61FE3170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F7679-337D-49A7-8424-3E2B3C33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5CBA8-0AEF-4EDD-A6A3-364A93A3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2CE28-AA53-4211-B541-00974AA0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551BB-9C0F-4631-B647-8B86EA9F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3C52E-45E7-4D9C-AD68-4C698BC8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418EF-E81D-491B-AD26-99256035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CAD-26AF-4EFA-94A7-DEEA8A4A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6FB69-30C5-4EEE-B82F-E772630C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CCB5B-82A5-454F-A041-F8CC03F9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6D2FC-CDC0-4D28-BCDA-1AF12883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9AC12-2911-4125-B80F-CDCE9366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70ED7-4F9C-415E-8030-15590603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6214D-C043-4AC4-88E6-364C7847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98DE3-C7F5-4EE9-B822-E96BD1BE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AB905-EE48-4DBB-8A99-A05D9366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33DA8-E631-4CEF-8CDC-FF931941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67A66-483C-4A47-9629-BB57D938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EF3-E556-4D00-83CF-C9603B06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18A9F-257A-4882-81A0-FEBFB142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08282-243C-4324-A1FC-8EEC372D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FA42D-F650-496B-ABC2-0E29297B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A4E4D-6672-467D-8BE5-6D0AB7D0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1FBC0-F977-40CA-A62C-DA15A8BD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F11-7C53-4344-9ACF-C1BFA05D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17C5-1FDC-45D4-AC21-3EABD9F36E0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0AD5-852F-464B-A02A-477929A5A5C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65C5-9701-49AF-B6F4-8B5E0B206D3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04B9-E952-4DE8-9997-4F357A31E93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96D1-76D5-4AC1-AC02-BED654B53AA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1BE3-FEF5-460E-BF64-8C5D0983ED2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2558-222F-45CE-9FDE-33083706F49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4D2C-A6B4-4FDD-AB9D-28B8659BD7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0A3A-CA8E-4617-B792-99A42E75A9E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1599-9F82-40A1-ABC9-BD2F47629BA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3150-3125-4800-9228-0FFE9B39517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EB66-D5DE-4367-AD7A-280A8E3B94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04F0-850A-4B5D-AC6D-F8073354856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5A91-9BD3-41C1-A379-DDEF93CA4EE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Users\School101\Desktop\вирусы\i.jpeg"/>
          <p:cNvPicPr/>
          <p:nvPr/>
        </p:nvPicPr>
        <p:blipFill>
          <a:blip r:embed="rId2"/>
          <a:stretch/>
        </p:blipFill>
        <p:spPr>
          <a:xfrm>
            <a:off x="1000080" y="4168800"/>
            <a:ext cx="2184480" cy="2689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School101\Desktop\вирусы\222.jpeg"/>
          <p:cNvPicPr/>
          <p:nvPr/>
        </p:nvPicPr>
        <p:blipFill>
          <a:blip r:embed="rId3"/>
          <a:stretch/>
        </p:blipFill>
        <p:spPr>
          <a:xfrm>
            <a:off x="2843280" y="189000"/>
            <a:ext cx="1363680" cy="1995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5905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ГБОУ СПО «АМТ» преподаватель Струкова Елена Алексеевна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171360" y="2205000"/>
            <a:ext cx="8972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ы безопасности информации,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х виды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9" name="Picture 10" descr="2"/>
          <p:cNvPicPr/>
          <p:nvPr/>
        </p:nvPicPr>
        <p:blipFill>
          <a:blip r:embed="rId9"/>
          <a:stretch/>
        </p:blipFill>
        <p:spPr>
          <a:xfrm>
            <a:off x="7291440" y="0"/>
            <a:ext cx="185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1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00000" y="69228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 - скрипты и апплет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 хотя основные функции доступа к содержимому вашего диска здесь отключены, некоторые мелкие неприятности это может доставить. Кстати, в последнее время создатели некоторых сайтов (как правило, из разряда «только для взрослых») освоили любопытный вариант скриптов (на базе JavaScript), способных при открытии такой Web-страницы не только «прописать» адрес данного сайта в качестве «домашнего» (естественно, не спрашивая у посетителя разрешения), но и внести его непосредственно в системный реестр Windows в качестве «базового»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Троянские кони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 модули, присоединяемые к каким-либо нормальным программам, распространяемым по сети, или «забрасываемые» в ваш компьютер несанкционированным способом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Цель «троянского коня» - воровать ценную информацию (пароли доступа, номера кредитных карточек и т. п.) и передавать ее тому, кто этого «коня» запустил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чтовые вирус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Чаще всего заражение начинается с получения неизвестно от кого письма, содержащего исполняемую программу-«зародыш» . Когда ничего не подозревающий пользователь запустит такую программу на исполнение, содержащийся в ней вирус «прописывается» в системе и, обращаясь к содержимому адресной книги, начинает тайком от вас рассылать всем абонентам свои копии-зародыши в качестве вложений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3" descr="C:\Users\School101\Desktop\вирусы\8.jpeg"/>
          <p:cNvPicPr/>
          <p:nvPr/>
        </p:nvPicPr>
        <p:blipFill>
          <a:blip r:embed="rId2"/>
          <a:stretch/>
        </p:blipFill>
        <p:spPr>
          <a:xfrm>
            <a:off x="7531200" y="2928960"/>
            <a:ext cx="1612800" cy="1784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School101\Desktop\вирусы\283527_3.jpg"/>
          <p:cNvPicPr/>
          <p:nvPr/>
        </p:nvPicPr>
        <p:blipFill>
          <a:blip r:embed="rId3"/>
          <a:stretch/>
        </p:blipFill>
        <p:spPr>
          <a:xfrm>
            <a:off x="6694560" y="1143000"/>
            <a:ext cx="2449440" cy="1663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School101\Desktop\вирусы\10203.gif"/>
          <p:cNvPicPr/>
          <p:nvPr/>
        </p:nvPicPr>
        <p:blipFill>
          <a:blip r:embed="rId4"/>
          <a:stretch/>
        </p:blipFill>
        <p:spPr>
          <a:xfrm>
            <a:off x="6500880" y="4708440"/>
            <a:ext cx="16603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Вирусы делятся также на резидентные и нерезидент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03280" y="2420640"/>
            <a:ext cx="7499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ые при получении управления загружаются в память и могут действовать, в отличие от нерезидентных, не только во время работы зараженного файл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7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ополнительные типы вирус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549360"/>
            <a:ext cx="60004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898c3"/>
                </a:solidFill>
                <a:uFillTx/>
                <a:latin typeface="Corbel"/>
              </a:rPr>
              <a:t>Зомб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омби (Zombie) - это программа-вирус, которая после проникновения в компьютер, подключенный к сети Интернет управляется извне и используется злоумышленниками для организации атак на другие компьютеры. Зараженные таким образом компьютеры-зомби могут объединяться в сети, через которые рассылается огромное количество нежелательных сообщений электронной почты, а также распространяются вирусы и другие вредоносные программ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School101\Desktop\вирусы\33.jpeg"/>
          <p:cNvPicPr/>
          <p:nvPr/>
        </p:nvPicPr>
        <p:blipFill>
          <a:blip r:embed="rId2"/>
          <a:stretch/>
        </p:blipFill>
        <p:spPr>
          <a:xfrm>
            <a:off x="7072200" y="114300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School101\Desktop\вирусы\imgload.gif"/>
          <p:cNvPicPr/>
          <p:nvPr/>
        </p:nvPicPr>
        <p:blipFill>
          <a:blip r:embed="rId3"/>
          <a:stretch/>
        </p:blipFill>
        <p:spPr>
          <a:xfrm>
            <a:off x="6858000" y="3429000"/>
            <a:ext cx="20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35728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Шпионские програм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Шпионская программа (Spyware) - это программный продукт, установленный или проникший на компьютер без согласия его владельца,  с целью получения практически полного доступа к компьютеру, сбора и отслеживания личной или конфиденциальной информации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и программы, как правило, проникают на компьютер при помощи сетевых червей, троянских программ или под видом рекламы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й из разновидностей шпионских программ являются :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ишинг (Phishing)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о почтовая рассылка имеющая своей целью получение конфиденциальной финансовой информации. Такое письмо, как правило, содержит ссылку на сайт, являющейся точной копией интернет-банка или другого финансового учреждени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арминг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замаскированная форма фишинга, заключающаяся в том, что при попытке зайти на официальный сайт интернет банка или коммерческой организации,  пользователь автоматически перенаправляется на ложный сайт, который очень трудно отличить от официального сай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ой целью злоумышленников, использующих Фарминг, является завладение личной финансовой информацией пользователя.  Отличие заключается только в том, что вместо электронной почты мошенники используют более изощренные методы направления пользователя на фальшивый сай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C:\Users\School101\Desktop\вирусы\sla.jpg"/>
          <p:cNvPicPr/>
          <p:nvPr/>
        </p:nvPicPr>
        <p:blipFill>
          <a:blip r:embed="rId2"/>
          <a:stretch/>
        </p:blipFill>
        <p:spPr>
          <a:xfrm>
            <a:off x="0" y="2357280"/>
            <a:ext cx="2217600" cy="1857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School101\Desktop\вирусы\333.jpeg"/>
          <p:cNvPicPr/>
          <p:nvPr/>
        </p:nvPicPr>
        <p:blipFill>
          <a:blip r:embed="rId3"/>
          <a:stretch/>
        </p:blipFill>
        <p:spPr>
          <a:xfrm>
            <a:off x="571680" y="285840"/>
            <a:ext cx="1589040" cy="1479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School101\Desktop\вирусы\555.jpeg"/>
          <p:cNvPicPr/>
          <p:nvPr/>
        </p:nvPicPr>
        <p:blipFill>
          <a:blip r:embed="rId4"/>
          <a:stretch/>
        </p:blipFill>
        <p:spPr>
          <a:xfrm>
            <a:off x="642960" y="4643280"/>
            <a:ext cx="15937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Хакерские утилиты и прочие вредоносные программ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1267920"/>
            <a:ext cx="7667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К данной категории относятся: 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утилиты автоматизации создания вирусов, червей и троянских программ (конструктор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ные библиотеки, разработанные для создания вредоносного ПО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хакерские утилиты скрытия кода зараженных файлов от антивирусной проверки (шифровальщики файлов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«злые шутки», затрудняющие работу с компьютером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ы, сообщающие пользователю заведомо ложную информацию о своих действиях в системе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чие программы, тем или иным способом намеренно наносящие прямой или косвенный ущерб данному или удалённым компьютерам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C:\Users\School101\Desktop\вирусы\computer_virus.gif"/>
          <p:cNvPicPr/>
          <p:nvPr/>
        </p:nvPicPr>
        <p:blipFill>
          <a:blip r:embed="rId2"/>
          <a:stretch/>
        </p:blipFill>
        <p:spPr>
          <a:xfrm>
            <a:off x="6978600" y="3357720"/>
            <a:ext cx="2165400" cy="257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Users\School101\Desktop\вирусы\4.jpeg"/>
          <p:cNvPicPr/>
          <p:nvPr/>
        </p:nvPicPr>
        <p:blipFill>
          <a:blip r:embed="rId3"/>
          <a:stretch/>
        </p:blipFill>
        <p:spPr>
          <a:xfrm>
            <a:off x="7358040" y="1500120"/>
            <a:ext cx="1500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497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Каналы распростран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404640"/>
            <a:ext cx="81010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Дискет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амый распространённый канал заражения в 1980-90 годы. Сейчас практически отсутствует из-за появления более распространённых и эффективных каналов и отсутствия флоппи-дисковод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Флеш-накопители (флешк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настоящее время USB-флешки заменяют дискеты и повторяют их судьбу — большое количество вирусов распространяется через съёмные накопители, включая цифровые фотоаппараты, цифровые видеокамеры, цифровые плееры (MP3-плееры), сотовые телефон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Электронная почт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ейчас один из основных каналов распространения вирусов. 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Системы обмена мгновенными сообщениям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Веб-страниц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озможно также заражение через страницы Интернет ввиду наличия на страницах всемирной паутины различного «активного» содержимого: скриптов, ActiveX-компоненты, Java-апплет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Интернет и локальные сети (черв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Черви — вид вирусов, которые проникают на компьютер-жертву без участия пользователя. Черви используют так называемые «дыры» (уязвимости) в программном обеспечении операционных систем, чтобы проникнуть на компьютер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3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0" y="476280"/>
            <a:ext cx="1460520" cy="976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School101\Desktop\вирусы\55.jpeg"/>
          <p:cNvPicPr/>
          <p:nvPr/>
        </p:nvPicPr>
        <p:blipFill>
          <a:blip r:embed="rId3"/>
          <a:stretch/>
        </p:blipFill>
        <p:spPr>
          <a:xfrm>
            <a:off x="179280" y="27082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F:\1.jpeg"/>
          <p:cNvPicPr/>
          <p:nvPr/>
        </p:nvPicPr>
        <p:blipFill>
          <a:blip r:embed="rId4"/>
          <a:stretch/>
        </p:blipFill>
        <p:spPr>
          <a:xfrm>
            <a:off x="179280" y="4941720"/>
            <a:ext cx="776520" cy="827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F:\2.jpeg"/>
          <p:cNvPicPr/>
          <p:nvPr/>
        </p:nvPicPr>
        <p:blipFill>
          <a:blip r:embed="rId5"/>
          <a:stretch/>
        </p:blipFill>
        <p:spPr>
          <a:xfrm>
            <a:off x="179280" y="3716280"/>
            <a:ext cx="908280" cy="90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F:\3.jpeg"/>
          <p:cNvPicPr/>
          <p:nvPr/>
        </p:nvPicPr>
        <p:blipFill>
          <a:blip r:embed="rId6"/>
          <a:stretch/>
        </p:blipFill>
        <p:spPr>
          <a:xfrm>
            <a:off x="0" y="1557360"/>
            <a:ext cx="11955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28800" y="14292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щеобразов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знать основы электронных коммуникац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ы угроз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спит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коммуникативных свойств лич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толерант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сетевой эти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и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познавательного интере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навыков общения в се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оворить об угрозах информационно-технического характера, можно выделить такие элементы как кража информации, вредоносное ПО, хакерские атаки, СПАМ, халатность сотрудников, аппаратные и программные сбои, финансовое мошенничество, кража оборудова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434960" y="0"/>
            <a:ext cx="749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гласно статистике применительно к этим угрозам, можно привести следующие данные (по результатам исследований, проведённых в России компанией InfoWath)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информации – 64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редоносное ПО – 6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керские атаки – 48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ам – 4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латность сотрудников – 4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ппаратные и программные сбои – 21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оборудования – 6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нансовое мошенничество – 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видно, из приведенных данных, наиболее распространены кража информации и вредоносное П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99640" y="1052280"/>
            <a:ext cx="4429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компьютерным вирусом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нято понимать программы или элементы программ, несанкционированно проникшие в компьютер с целью нанесения вреда, отличительной особенностью которых является способность самотиражиров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3852720" y="-457200"/>
            <a:ext cx="4973760" cy="2054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School101\Desktop\вирусы\66.jpeg"/>
          <p:cNvPicPr/>
          <p:nvPr/>
        </p:nvPicPr>
        <p:blipFill>
          <a:blip r:embed="rId3"/>
          <a:stretch/>
        </p:blipFill>
        <p:spPr>
          <a:xfrm>
            <a:off x="6000840" y="207180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се вирусы можно объединить в следующие основные группы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447560"/>
            <a:ext cx="7934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инфицируют загрузочные секторы жестких дисков и дискет, помещая в нем команды запуска на исполнение самого вируса, который находится где-то в другом месте компьюте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заражают исполняемые файлы (с расширением .com, .exe, .sys), путем дописывания своей основной части («тела») в конец заражаемой программы, «головы» - в его начало. Вирус, находящийся в памяти, заражает все любой запущенный после этого исполняемый фай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о-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пособны поражать как код загрузочных секторов, так и код фай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6907320" y="5362560"/>
            <a:ext cx="2236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85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46160"/>
            <a:ext cx="65912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Макро-вирусы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ражает файлы документов, например текстовые документы. После загрузки заражённого документа постоянно находится в оперативной памяти до закрытия документ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«Червь»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это программа, которая тиражируется на жестком диске, в памяти компьютера и распространяется по сети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обенностью червей, отличающих их от других вирусов, является то, что они не несут в себе ни какой вредоносной нагрузки, кроме саморазмножения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целью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которого является замусоривание памяти, и как следствие, затормаживание работы операционной системы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Users\School101\Desktop\вирусы\44.jpeg"/>
          <p:cNvPicPr/>
          <p:nvPr/>
        </p:nvPicPr>
        <p:blipFill>
          <a:blip r:embed="rId2"/>
          <a:stretch/>
        </p:blipFill>
        <p:spPr>
          <a:xfrm>
            <a:off x="7215120" y="4143240"/>
            <a:ext cx="1782720" cy="1333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School101\Desktop\вирусы\9.jpeg"/>
          <p:cNvPicPr/>
          <p:nvPr/>
        </p:nvPicPr>
        <p:blipFill>
          <a:blip r:embed="rId3"/>
          <a:stretch/>
        </p:blipFill>
        <p:spPr>
          <a:xfrm>
            <a:off x="7000920" y="1643040"/>
            <a:ext cx="1790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57120" y="691920"/>
            <a:ext cx="87868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данной категории относятся программы, распространяющие свои копии по локальным и/или глобальным сетям с целью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роникновения на удаленные компьютер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запуска своей копии на удаленном компьютер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дальнейшего распространения на другие компьютеры в се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ля своего распространения сетевые черви используют разнообразные компьютерные и мобильные сети: электронную почту, системы обмена мгновенными сообщениями, файлообменные (P2P) и IRC-сети, LAN, сети обмена данными между мобильными устройствами (телефонами, карманными компьютерами) и т. д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-195120"/>
            <a:ext cx="6108840" cy="181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chool101\Desktop\вирусы\003.jpg"/>
          <p:cNvPicPr/>
          <p:nvPr/>
        </p:nvPicPr>
        <p:blipFill>
          <a:blip r:embed="rId3"/>
          <a:stretch/>
        </p:blipFill>
        <p:spPr>
          <a:xfrm>
            <a:off x="6286680" y="3981600"/>
            <a:ext cx="2857320" cy="2876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5"/>
          <p:cNvSpPr/>
          <p:nvPr/>
        </p:nvSpPr>
        <p:spPr>
          <a:xfrm>
            <a:off x="684360" y="401940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инство известных червей распространяется в виде файлов: вложение в электронное письмо, ссылка на зараженный файл на каком-либо веб- или FTP-ресурсе в ICQ- и IRC-сообщениях, файл в каталоге обмена P2P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которые черви (так называемые «бесфайловые» или «пакетные» черви) распространяются в виде сетевых пакетов, проникают непосредственно в память компьютера и активизируют свой код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 дополнение к этой классификации отметим еще несколько отличительных особенностей, характеризующих некоторые файлово  -загрузочные вирусы.</a:t>
            </a:r>
            <a:br>
              <a:rPr sz="24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856880" y="928800"/>
            <a:ext cx="72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лиморфизм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Большинство вирусов, созданных в прежние годы, при саморазмножении никак не изменяются, так что «потомки» являются абсолютно точной копией «прародителя», что и позволяет легко их обнаруживать по характерной для каждого последовательности байт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Стелс» - технология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т термин появился по аналогии с названием технологии разработки американского бомбардировщика, невидимого на экране радара. Стелс-вирус, находясь в памяти компьютера, перехватывает почти все векторы прерываний . В результате при попытке контроля длины зараженного файла ДОС выдает старую, «правильную» длину вместо истинной, а при просмотре коды вируса исключаются им из рассмотре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акая программа добавляется к какой-либо полезной программе и «дремлет» в ней до определенного часа. Когда же показания системного счетчика времени данного компьютера станут равными установленному программистом значению часов, минут и секунд (или превысят их), производится какое-либо разрушающее действие, например, форматирование винчестера. Это один из распространенных вариантов мести обиженных программистов своему руководств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рограммы-вандал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амый простой способ напакостить всем и вся. Пишется программа-разрушитель (например, все тот же форматировщик винчестера), ей дается название, такое же, как у другой, полезной программы, и она размещается в качестве «обновленной версии». Ничего не подозревающий пользователь обрадовано «скачивает» ее на свой компьютер и запускает, а в результате - лишается всей информации на жестком диск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F:\c6a9757012955e883d2ad9f8b8e300ed.jpg"/>
          <p:cNvPicPr/>
          <p:nvPr/>
        </p:nvPicPr>
        <p:blipFill>
          <a:blip r:embed="rId2"/>
          <a:stretch/>
        </p:blipFill>
        <p:spPr>
          <a:xfrm>
            <a:off x="0" y="192888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School101\Desktop\вирусы\11.jpeg"/>
          <p:cNvPicPr/>
          <p:nvPr/>
        </p:nvPicPr>
        <p:blipFill>
          <a:blip r:embed="rId3"/>
          <a:stretch/>
        </p:blipFill>
        <p:spPr>
          <a:xfrm>
            <a:off x="539640" y="3645000"/>
            <a:ext cx="1397160" cy="1130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:\i.jpeg"/>
          <p:cNvPicPr/>
          <p:nvPr/>
        </p:nvPicPr>
        <p:blipFill>
          <a:blip r:embed="rId4"/>
          <a:stretch/>
        </p:blipFill>
        <p:spPr>
          <a:xfrm>
            <a:off x="258840" y="5159520"/>
            <a:ext cx="1670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17:49Z</dcterms:created>
  <dc:creator/>
  <dc:description/>
  <dc:language>en-US</dc:language>
  <cp:lastModifiedBy>КарМаН</cp:lastModifiedBy>
  <dcterms:modified xsi:type="dcterms:W3CDTF">2012-07-06T13:10:13Z</dcterms:modified>
  <cp:revision>28</cp:revision>
  <dc:subject/>
  <dc:title>Слайд 1</dc:title>
</cp:coreProperties>
</file>