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png" ContentType="image/png"/>
  <Override PartName="/ppt/media/image5.jpeg" ContentType="image/jpeg"/>
  <Override PartName="/ppt/media/image32.jpeg" ContentType="image/jpeg"/>
  <Override PartName="/ppt/media/image26.jpeg" ContentType="image/jpeg"/>
  <Override PartName="/ppt/media/image29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C4F3-1556-4CEB-B80D-B918D07646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B5B9-F56B-4B88-8167-97EA68868C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7CE-791F-41FE-9B28-985481189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91A3-2432-43DB-8296-1C97B0CBE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032C-794A-4614-A281-895FA6968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B1D-BFD5-48AC-B5C6-F960BB81BA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B62-52F8-45E7-AD99-326EC0B069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0D76-016F-4F20-A017-DF07FE318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E767-E063-4289-9858-FFCBC8423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787C-6C2D-4E08-8281-9856E05B0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BF2E-BA38-43D6-83A5-A7EF51C794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FBA4-061A-4244-98E7-0C2C77EEA5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рулина Анастасия Влади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CDFF-6BFF-45DA-8164-48E225D110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54D-1498-47DE-9AD4-F2FC76A7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763-2BE4-466F-9F26-4A85C91C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94A-094A-4628-8549-0AC4E91F0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EA7-DF6A-4D59-824C-A1910843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B6BF-B3C5-4248-BD1F-CE985D33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D212-205A-4B96-A093-9DF5650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EC2A-7BB4-4F27-83FA-A24C1426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BA3-142E-46A3-BF97-C73F050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73B6-496D-4287-89D6-96CD2A85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5EBD-8EDF-4F63-A53A-1F2B552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D1E7-4D7C-4D3F-AB6E-E6601BE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E21-4AD5-48F5-B183-2F5DCB11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9C9-D74B-48C0-8D9B-F8F527B1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618D-DC25-4C7E-B213-B8EB467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7681-CFF5-433F-9743-68F27929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F897-2BD8-43D8-8395-F2830D3A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FCC8-77F2-49A4-993D-6A802B10D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33E3A-2CE9-4F0C-AE0F-1D8D1BD0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61E2-08CE-4B0A-89DC-8E8F5AD2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9C40-E12F-4D13-800F-B5FBF5C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2100F-141D-4D5F-B7DA-04A7EF3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43F0-4D65-4E3E-87C6-2A45C683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020E-C79D-43C9-8C96-201833FD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3FD0-D999-42A1-A9B0-09C5845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E0348-79BA-44DE-91E7-285F6555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EED2-4569-4AF5-A9C3-C9BF290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0B257-8E03-4825-8558-3ACF71D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EE212-4745-4AD9-A21E-CD2508E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729F-BA70-4C63-9CCE-5DABB7C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55C8-8794-4CA4-BC35-566EEC5E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AC09-9C6C-41F2-BEC7-BBFB9EB0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6087-0A20-4F02-BC31-3FE778B5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AAA8-4D1B-4D35-8185-32B965F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D64-E5F1-4AF3-BDF6-2C4F05C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39AD-07A1-4046-B57F-2F54CBE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FA3F3-87C2-4D35-B192-9A266C20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8293-6214-4FE6-AD1D-BAA70B6A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C976-F19B-450E-95DA-07A2D7A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B882-682A-4477-8D3C-7F83747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DEE6-B2F4-4D07-92E6-8DEF8C0E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D8541-5FFF-4002-91E6-100EA89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8C5C-01B0-4EFA-A9A2-9503E518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C064-B966-4882-A210-2AE17FC2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22777-011F-427E-8F91-0C6388D6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ED9-A609-4E08-AAB3-1DADAD5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423B3-1211-4535-AD35-8366E97A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46971-1104-44DF-B6C9-2CDC5110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FBF3-0BD7-4A8A-B381-910BA9AF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0818-BD3C-4415-87E6-778647A9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D69FD-2A1D-4D93-8904-FD2799E2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B974-AEA5-4841-9CCD-0244E9BA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A183-97C3-45C6-85D6-030F173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0AB3-2245-49BF-B063-339C4652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32620-671D-46EC-9EA5-B51ACC78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6F26B-4C64-4AC8-B0B9-84A2DD94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F4A-93C4-4C7E-A45C-2A09B569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A506-8CAC-4493-917B-016FDD79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35C6F-3807-4068-BA05-4B353016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7D03B-DCEA-4120-AF3A-3B532D7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19169-BA72-4D19-9B75-2532AF0F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5CCA5-1516-4DA0-8A77-22CA652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91AA-5840-4F39-999D-31469D8E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6D668-E4BB-47EE-86E1-1B55A521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4CCCE-0F3F-4E54-A093-7B5F0614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583C-C64E-41EF-8021-1AEFA02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1AEEE-071C-41D2-AD10-A44D8CD4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57-118B-40D1-837B-86328BEE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EB68-37DC-4174-9EDC-51132847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F65DF-2142-415F-AA60-3CE9F4A5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B3D56-5155-485F-A982-B4BD25AD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1D40A-6536-4DB1-BAD6-81CA968D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9169D-EF82-463B-832F-CF1B006C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0C148-577D-45AA-8329-872BEB65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53312-72B1-4DF9-ADF8-970638E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3FA6-B19A-42CD-821E-10498D98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089B-4854-4A38-95A1-88FED0E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3025-575C-46EE-A0C5-FEF24B4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D91-929E-49CD-9F0B-79A20210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A7AFE-A77B-40B7-B5E7-5613ECE6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663A-7126-4A56-A150-4053F204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64BC-4E15-4CF7-9794-42D378FB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A17B-BEAE-467B-98CD-4AEA0D1E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9CE43-0AFF-47B1-8EEB-F05DA696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643-0AF9-4282-8C99-1467F7C6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F49B-360F-4F8F-A29B-73BD5416D7D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4D53-45BD-492C-BE1D-6B7C7BD628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FC9A-CCF4-4EA1-9792-0A95BA11BA5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644-599F-4DAB-88DA-491DA3F5EBC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696-F767-4AAE-9865-535247D6D6D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25A-26E3-448A-AF0F-E01E5BDDFDE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7CDD-2465-47AB-9251-B263D2C1B49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18BC-2EDF-4A33-80D1-8523836F646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F4EA-CBB9-49CD-8016-0840A49D093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A3EF-B05A-4150-8633-820782DBD25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6B96-8B45-40B5-966F-5314B6C5A9BF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F7E8-F346-4E3E-9099-EED5E54352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A976-62AB-42DD-8BDA-E41CE5C1F9B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5494-D741-4F3A-9F75-61CE002113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C:\Users\School101\Desktop\вирусы\i.jpeg"/>
          <p:cNvPicPr/>
          <p:nvPr/>
        </p:nvPicPr>
        <p:blipFill>
          <a:blip r:embed="rId2"/>
          <a:stretch/>
        </p:blipFill>
        <p:spPr>
          <a:xfrm>
            <a:off x="1000080" y="4168800"/>
            <a:ext cx="2184480" cy="2689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Users\School101\Desktop\вирусы\222.jpeg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99548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59280" y="4723920"/>
            <a:ext cx="590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"/>
              </a:rPr>
              <a:t>ГБОУ СПО «АМТ» преподаватель Струкова Елена Алексеевна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WordArt 9"/>
          <p:cNvSpPr txBox="1"/>
          <p:nvPr/>
        </p:nvSpPr>
        <p:spPr>
          <a:xfrm>
            <a:off x="171360" y="2205000"/>
            <a:ext cx="8972640" cy="24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ы безопасности информации,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х виды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Picture 10" descr="2"/>
          <p:cNvPicPr/>
          <p:nvPr/>
        </p:nvPicPr>
        <p:blipFill>
          <a:blip r:embed="rId9"/>
          <a:stretch/>
        </p:blipFill>
        <p:spPr>
          <a:xfrm>
            <a:off x="7291440" y="0"/>
            <a:ext cx="18525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7128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00000" y="692280"/>
            <a:ext cx="5500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 - скрипты и апплет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И хотя основные функции доступа к содержимому вашего диска здесь отключены, некоторые мелкие неприятности это может доставить. Кстати, в последнее время создатели некоторых сайтов (как правило, из разряда «только для взрослых») освоили любопытный вариант скриптов (на базе JavaScript), способных при открытии такой Web-страницы не только «прописать» адрес данного сайта в качестве «домашнего» (естественно, не спрашивая у посетителя разрешения), но и внести его непосредственно в системный реестр Windows в качестве «базового»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Троянские кони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 модули, присоединяемые к каким-либо нормальным программам, распространяемым по сети, или «забрасываемые» в ваш компьютер несанкционированным способом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Цель «троянского коня» - воровать ценную информацию (пароли доступа, номера кредитных карточек и т. п.) и передавать ее тому, кто этого «коня» запустил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чтовые вирус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Чаще всего заражение начинается с получения неизвестно от кого письма, содержащего исполняемую программу-«зародыш» . Когда ничего не подозревающий пользователь запустит такую программу на исполнение, содержащийся в ней вирус «прописывается» в системе и, обращаясь к содержимому адресной книги, начинает тайком от вас рассылать всем абонентам свои копии-зародыши в качестве вложений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3" descr="C:\Users\School101\Desktop\вирусы\8.jpeg"/>
          <p:cNvPicPr/>
          <p:nvPr/>
        </p:nvPicPr>
        <p:blipFill>
          <a:blip r:embed="rId2"/>
          <a:stretch/>
        </p:blipFill>
        <p:spPr>
          <a:xfrm>
            <a:off x="7531200" y="2928960"/>
            <a:ext cx="1612800" cy="1784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School101\Desktop\вирусы\283527_3.jpg"/>
          <p:cNvPicPr/>
          <p:nvPr/>
        </p:nvPicPr>
        <p:blipFill>
          <a:blip r:embed="rId3"/>
          <a:stretch/>
        </p:blipFill>
        <p:spPr>
          <a:xfrm>
            <a:off x="6694560" y="1143000"/>
            <a:ext cx="2449440" cy="1663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School101\Desktop\вирусы\10203.gif"/>
          <p:cNvPicPr/>
          <p:nvPr/>
        </p:nvPicPr>
        <p:blipFill>
          <a:blip r:embed="rId4"/>
          <a:stretch/>
        </p:blipFill>
        <p:spPr>
          <a:xfrm>
            <a:off x="6500880" y="4708440"/>
            <a:ext cx="16603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572314"/>
                </a:solidFill>
                <a:uFillTx/>
                <a:latin typeface="Corbel"/>
              </a:rPr>
              <a:t>Вирусы делятся также на резидентные и нерезидентные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03280" y="2420640"/>
            <a:ext cx="7499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ервые при получении управления загружаются в память и могут действовать, в отличие от нерезидентных, не только во время работы зараженного файла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97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Дополнительные типы вирусов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928800" y="549360"/>
            <a:ext cx="6000480" cy="60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898c3"/>
                </a:solidFill>
                <a:uFillTx/>
                <a:latin typeface="Corbel"/>
              </a:rPr>
              <a:t>Зомби 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Зомби (Zombie) - это программа-вирус, которая после проникновения в компьютер, подключенный к сети Интернет управляется извне и используется злоумышленниками для организации атак на другие компьютеры. Зараженные таким образом компьютеры-зомби могут объединяться в сети, через которые рассылается огромное количество нежелательных сообщений электронной почты, а также распространяются вирусы и другие вредоносные программы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2" descr="C:\Users\School101\Desktop\вирусы\33.jpeg"/>
          <p:cNvPicPr/>
          <p:nvPr/>
        </p:nvPicPr>
        <p:blipFill>
          <a:blip r:embed="rId2"/>
          <a:stretch/>
        </p:blipFill>
        <p:spPr>
          <a:xfrm>
            <a:off x="7072200" y="1143000"/>
            <a:ext cx="1214640" cy="17352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3" descr="C:\Users\School101\Desktop\вирусы\imgload.gif"/>
          <p:cNvPicPr/>
          <p:nvPr/>
        </p:nvPicPr>
        <p:blipFill>
          <a:blip r:embed="rId3"/>
          <a:stretch/>
        </p:blipFill>
        <p:spPr>
          <a:xfrm>
            <a:off x="6858000" y="3429000"/>
            <a:ext cx="2009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57280" y="0"/>
            <a:ext cx="6786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Шпионские программ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Шпионская программа (Spyware) - это программный продукт, установленный или проникший на компьютер без согласия его владельца,  с целью получения практически полного доступа к компьютеру, сбора и отслеживания личной или конфиденциальной информации.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и программы, как правило, проникают на компьютер при помощи сетевых червей, троянских программ или под видом рекламы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й из разновидностей шпионских программ являются : 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ишинг (Phishing) 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это почтовая рассылка имеющая своей целью получение конфиденциальной финансовой информации. Такое письмо, как правило, содержит ссылку на сайт, являющейся точной копией интернет-банка или другого финансового учреждения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800" spc="-1" strike="noStrike" u="sng">
                <a:solidFill>
                  <a:srgbClr val="8898c3"/>
                </a:solidFill>
                <a:uFillTx/>
                <a:latin typeface="Corbel"/>
              </a:rPr>
              <a:t>Фарминг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то замаскированная форма фишинга, заключающаяся в том, что при попытке зайти на официальный сайт интернет банка или коммерческой организации,  пользователь автоматически перенаправляется на ложный сайт, который очень трудно отличить от официального сайта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сновной целью злоумышленников, использующих Фарминг, является завладение личной финансовой информацией пользователя.  Отличие заключается только в том, что вместо электронной почты мошенники используют более изощренные методы направления пользователя на фальшивый сай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2" descr="C:\Users\School101\Desktop\вирусы\sla.jpg"/>
          <p:cNvPicPr/>
          <p:nvPr/>
        </p:nvPicPr>
        <p:blipFill>
          <a:blip r:embed="rId2"/>
          <a:stretch/>
        </p:blipFill>
        <p:spPr>
          <a:xfrm>
            <a:off x="0" y="2357280"/>
            <a:ext cx="2217600" cy="1857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School101\Desktop\вирусы\333.jpeg"/>
          <p:cNvPicPr/>
          <p:nvPr/>
        </p:nvPicPr>
        <p:blipFill>
          <a:blip r:embed="rId3"/>
          <a:stretch/>
        </p:blipFill>
        <p:spPr>
          <a:xfrm>
            <a:off x="571680" y="285840"/>
            <a:ext cx="1589040" cy="14796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C:\Users\School101\Desktop\вирусы\555.jpeg"/>
          <p:cNvPicPr/>
          <p:nvPr/>
        </p:nvPicPr>
        <p:blipFill>
          <a:blip r:embed="rId4"/>
          <a:stretch/>
        </p:blipFill>
        <p:spPr>
          <a:xfrm>
            <a:off x="642960" y="4643280"/>
            <a:ext cx="159372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Хакерские утилиты и прочие вредоносные программы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1267920"/>
            <a:ext cx="7667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К данной категории относятся: 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утилиты автоматизации создания вирусов, червей и троянских программ (конструкторы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ные библиотеки, разработанные для создания вредоносного ПО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хакерские утилиты скрытия кода зараженных файлов от антивирусной проверки (шифровальщики файлов)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«злые шутки», затрудняющие работу с компьютером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граммы, сообщающие пользователю заведомо ложную информацию о своих действиях в системе;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прочие программы, тем или иным способом намеренно наносящие прямой или косвенный ущерб данному или удалённым компьютерам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9" name="Picture 2" descr="C:\Users\School101\Desktop\вирусы\computer_virus.gif"/>
          <p:cNvPicPr/>
          <p:nvPr/>
        </p:nvPicPr>
        <p:blipFill>
          <a:blip r:embed="rId2"/>
          <a:stretch/>
        </p:blipFill>
        <p:spPr>
          <a:xfrm>
            <a:off x="6978600" y="3357720"/>
            <a:ext cx="2165400" cy="25714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C:\Users\School101\Desktop\вирусы\4.jpeg"/>
          <p:cNvPicPr/>
          <p:nvPr/>
        </p:nvPicPr>
        <p:blipFill>
          <a:blip r:embed="rId3"/>
          <a:stretch/>
        </p:blipFill>
        <p:spPr>
          <a:xfrm>
            <a:off x="7358040" y="1500120"/>
            <a:ext cx="150012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497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572314"/>
                </a:solidFill>
                <a:uFillTx/>
                <a:latin typeface="Corbel"/>
              </a:rPr>
              <a:t>Каналы распростране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404640"/>
            <a:ext cx="810108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Дискет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амый распространённый канал заражения в 1980-90 годы. Сейчас практически отсутствует из-за появления более распространённых и эффективных каналов и отсутствия флоппи-дисководов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Флеш-накопители (флешк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 настоящее время USB-флешки заменяют дискеты и повторяют их судьбу — большое количество вирусов распространяется через съёмные накопители, включая цифровые фотоаппараты, цифровые видеокамеры, цифровые плееры (MP3-плееры), сотовые телефоны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Электронная почта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Сейчас один из основных каналов распространения вирусов. Обычно вирусы в письмах электронной почты маскируются под безобидные вложения: картинки, документы, музыку, ссылки на сайты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Системы обмена мгновенными сообщениями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Так же распространена рассылка ссылок на якобы фото, музыку либо программы, в действительности являющиеся вирусами, по ICQ и через другие программы мгновенного обмена сообщениями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Веб-страницы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Возможно также заражение через страницы Интернет ввиду наличия на страницах всемирной паутины различного «активного» содержимого: скриптов, ActiveX-компоненты, Java-апплетов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rbel"/>
              </a:rPr>
              <a:t>Интернет и локальные сети (черви)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Черви — вид вирусов, которые проникают на компьютер-жертву без участия пользователя. Черви используют так называемые «дыры» (уязвимости) в программном обеспечении операционных систем, чтобы проникнуть на компьютер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Picture 3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0" y="476280"/>
            <a:ext cx="1460520" cy="976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C:\Users\School101\Desktop\вирусы\55.jpeg"/>
          <p:cNvPicPr/>
          <p:nvPr/>
        </p:nvPicPr>
        <p:blipFill>
          <a:blip r:embed="rId3"/>
          <a:stretch/>
        </p:blipFill>
        <p:spPr>
          <a:xfrm>
            <a:off x="179280" y="2708280"/>
            <a:ext cx="928800" cy="838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1.jpeg"/>
          <p:cNvPicPr/>
          <p:nvPr/>
        </p:nvPicPr>
        <p:blipFill>
          <a:blip r:embed="rId4"/>
          <a:stretch/>
        </p:blipFill>
        <p:spPr>
          <a:xfrm>
            <a:off x="179280" y="4941720"/>
            <a:ext cx="776520" cy="8272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F:\2.jpeg"/>
          <p:cNvPicPr/>
          <p:nvPr/>
        </p:nvPicPr>
        <p:blipFill>
          <a:blip r:embed="rId5"/>
          <a:stretch/>
        </p:blipFill>
        <p:spPr>
          <a:xfrm>
            <a:off x="179280" y="3716280"/>
            <a:ext cx="908280" cy="9082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F:\3.jpeg"/>
          <p:cNvPicPr/>
          <p:nvPr/>
        </p:nvPicPr>
        <p:blipFill>
          <a:blip r:embed="rId6"/>
          <a:stretch/>
        </p:blipFill>
        <p:spPr>
          <a:xfrm>
            <a:off x="0" y="1557360"/>
            <a:ext cx="11955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928800" y="142920"/>
            <a:ext cx="82152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бщеобразов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знать основы электронных коммуникаций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ипы угроз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спитательны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коммуникативных свойств лич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толерантност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спитание сетевой этик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вивающие цели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ормирование познавательного интерес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навыков общения в се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434960" y="260280"/>
            <a:ext cx="749952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сли говорить об угрозах информационно-технического характера, можно выделить такие элементы как кража информации, вредоносное ПО, хакерские атаки, СПАМ, халатность сотрудников, аппаратные и программные сбои, финансовое мошенничество, кража оборудовани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434960" y="0"/>
            <a:ext cx="7499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гласно статистике применительно к этим угрозам, можно привести следующие данные (по результатам исследований, проведённых в России компанией InfoWath)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информации – 64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редоносное ПО – 6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керские атаки – 48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пам – 4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Халатность сотрудников – 43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Аппаратные и программные сбои – 21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ража оборудования – 6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инансовое мошенничество – 5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Как видно, из приведенных данных, наиболее распространены кража информации и вредоносное ПО. 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99640" y="1052280"/>
            <a:ext cx="442908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д </a:t>
            </a: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компьютерным вирусом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нято понимать программы или элементы программ, несанкционированно проникшие в компьютер с целью нанесения вреда, отличительной особенностью которых является способность самотиражирования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Прямоугольник 4" descr=""/>
          <p:cNvPicPr/>
          <p:nvPr/>
        </p:nvPicPr>
        <p:blipFill>
          <a:blip r:embed="rId2"/>
          <a:stretch/>
        </p:blipFill>
        <p:spPr>
          <a:xfrm>
            <a:off x="3852720" y="-457200"/>
            <a:ext cx="4973760" cy="2054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School101\Desktop\вирусы\66.jpeg"/>
          <p:cNvPicPr/>
          <p:nvPr/>
        </p:nvPicPr>
        <p:blipFill>
          <a:blip r:embed="rId3"/>
          <a:stretch/>
        </p:blipFill>
        <p:spPr>
          <a:xfrm>
            <a:off x="6000840" y="207180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72314"/>
                </a:solidFill>
                <a:latin typeface="Corbel"/>
              </a:rPr>
              <a:t>Все вирусы можно объединить в следующие основные группы: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000080" y="1447560"/>
            <a:ext cx="79344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инфицируют загрузочные секторы жестких дисков и дискет, помещая в нем команды запуска на исполнение самого вируса, который находится где-то в другом месте компьюте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— заражают исполняемые файлы (с расширением .com, .exe, .sys), путем дописывания своей основной части («тела») в конец заражаемой программы, «головы» - в его начало. Вирус, находящийся в памяти, заражает все любой запущенный после этого исполняемый фай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Загрузочно-файловые вирусы </a:t>
            </a:r>
            <a:r>
              <a:rPr b="1" i="1" lang="ru-RU" sz="2200" spc="-1" strike="noStrike">
                <a:solidFill>
                  <a:srgbClr val="000000"/>
                </a:solidFill>
                <a:latin typeface="Corbel"/>
              </a:rPr>
              <a:t>способны поражать как код загрузочных секторов, так и код файлов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898c3"/>
                </a:solidFill>
                <a:latin typeface="Corbel"/>
              </a:rPr>
              <a:t>Сетевые вирус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C:\Program Files\Microsoft Office\CLIPART\PUB60COR\PH02746G.GIF"/>
          <p:cNvPicPr/>
          <p:nvPr/>
        </p:nvPicPr>
        <p:blipFill>
          <a:blip r:embed="rId2"/>
          <a:stretch/>
        </p:blipFill>
        <p:spPr>
          <a:xfrm>
            <a:off x="6907320" y="5362560"/>
            <a:ext cx="22366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85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898c3"/>
                </a:solidFill>
                <a:latin typeface="Corbel"/>
              </a:rPr>
              <a:t>Загрузочные вирусы (boot – вирусы)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0560" y="1046160"/>
            <a:ext cx="65912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Макро-вирусы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Заражает файлы документов, например текстовые документы. После загрузки заражённого документа постоянно находится в оперативной памяти до закрытия документа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orbel"/>
              </a:rPr>
              <a:t>«Червь».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это программа, которая тиражируется на жестком диске, в памяти компьютера и распространяется по сети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собенностью червей, отличающих их от других вирусов, является то, что они не несут в себе ни какой вредоносной нагрузки, кроме саморазмножения,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orbel"/>
              </a:rPr>
              <a:t>целью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 которого является замусоривание памяти, и как следствие, затормаживание работы операционной системы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2" descr="C:\Users\School101\Desktop\вирусы\44.jpeg"/>
          <p:cNvPicPr/>
          <p:nvPr/>
        </p:nvPicPr>
        <p:blipFill>
          <a:blip r:embed="rId2"/>
          <a:stretch/>
        </p:blipFill>
        <p:spPr>
          <a:xfrm>
            <a:off x="7215120" y="4143240"/>
            <a:ext cx="1782720" cy="1333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3" descr="C:\Users\School101\Desktop\вирусы\9.jpeg"/>
          <p:cNvPicPr/>
          <p:nvPr/>
        </p:nvPicPr>
        <p:blipFill>
          <a:blip r:embed="rId3"/>
          <a:stretch/>
        </p:blipFill>
        <p:spPr>
          <a:xfrm>
            <a:off x="7000920" y="1643040"/>
            <a:ext cx="17906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57120" y="691920"/>
            <a:ext cx="878688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К данной категории относятся программы, распространяющие свои копии по локальным и/или глобальным сетям с целью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проникновения на удаленные компьютеры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запуска своей копии на удаленном компьютере;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rbel"/>
              </a:rPr>
              <a:t>дальнейшего распространения на другие компьютеры в сет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ля своего распространения сетевые черви используют разнообразные компьютерные и мобильные сети: электронную почту, системы обмена мгновенными сообщениями, файлообменные (P2P) и IRC-сети, LAN, сети обмена данными между мобильными устройствами (телефонами, карманными компьютерами) и т. д.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-195120"/>
            <a:ext cx="6108840" cy="1811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C:\Users\School101\Desktop\вирусы\003.jpg"/>
          <p:cNvPicPr/>
          <p:nvPr/>
        </p:nvPicPr>
        <p:blipFill>
          <a:blip r:embed="rId3"/>
          <a:stretch/>
        </p:blipFill>
        <p:spPr>
          <a:xfrm>
            <a:off x="6286680" y="3981600"/>
            <a:ext cx="2857320" cy="2876400"/>
          </a:xfrm>
          <a:prstGeom prst="rect">
            <a:avLst/>
          </a:prstGeom>
          <a:ln w="0">
            <a:noFill/>
          </a:ln>
        </p:spPr>
      </p:pic>
      <p:sp>
        <p:nvSpPr>
          <p:cNvPr id="346" name="TextBox 5"/>
          <p:cNvSpPr/>
          <p:nvPr/>
        </p:nvSpPr>
        <p:spPr>
          <a:xfrm>
            <a:off x="684360" y="4019400"/>
            <a:ext cx="5715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инство известных червей распространяется в виде файлов: вложение в электронное письмо, ссылка на зараженный файл на каком-либо веб- или FTP-ресурсе в ICQ- и IRC-сообщениях, файл в каталоге обмена P2P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которые черви (так называемые «бесфайловые» или «пакетные» черви) распространяются в виде сетевых пакетов, проникают непосредственно в память компьютера и активизируют свой код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72314"/>
                </a:solidFill>
                <a:latin typeface="Corbel"/>
              </a:rPr>
              <a:t>В дополнение к этой классификации отметим еще несколько отличительных особенностей, характеризующих некоторые файлово  -загрузочные вирусы.</a:t>
            </a:r>
            <a:br>
              <a:rPr sz="24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856880" y="928800"/>
            <a:ext cx="72867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олиморфизм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Большинство вирусов, созданных в прежние годы, при саморазмножении никак не изменяются, так что «потомки» являются абсолютно точной копией «прародителя», что и позволяет легко их обнаруживать по характерной для каждого последовательности байт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Стелс» - технология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Этот термин появился по аналогии с названием технологии разработки американского бомбардировщика, невидимого на экране радара. Стелс-вирус, находясь в памяти компьютера, перехватывает почти все векторы прерываний . В результате при попытке контроля длины зараженного файла ДОС выдает старую, «правильную» длину вместо истинной, а при просмотре коды вируса исключаются им из рассмотре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«Логические бомбы».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Такая программа добавляется к какой-либо полезной программе и «дремлет» в ней до определенного часа. Когда же показания системного счетчика времени данного компьютера станут равными установленному программистом значению часов, минут и секунд (или превысят их), производится какое-либо разрушающее действие, например, форматирование винчестера. Это один из распространенных вариантов мести обиженных программистов своему руководству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rbel"/>
              </a:rPr>
              <a:t>Программы-вандалы</a:t>
            </a: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rbel"/>
              </a:rPr>
              <a:t>Самый простой способ напакостить всем и вся. Пишется программа-разрушитель (например, все тот же форматировщик винчестера), ей дается название, такое же, как у другой, полезной программы, и она размещается в качестве «обновленной версии». Ничего не подозревающий пользователь обрадовано «скачивает» ее на свой компьютер и запускает, а в результате - лишается всей информации на жестком диск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r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3" descr="F:\c6a9757012955e883d2ad9f8b8e300ed.jpg"/>
          <p:cNvPicPr/>
          <p:nvPr/>
        </p:nvPicPr>
        <p:blipFill>
          <a:blip r:embed="rId2"/>
          <a:stretch/>
        </p:blipFill>
        <p:spPr>
          <a:xfrm>
            <a:off x="0" y="1928880"/>
            <a:ext cx="1776240" cy="17762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C:\Users\School101\Desktop\вирусы\11.jpeg"/>
          <p:cNvPicPr/>
          <p:nvPr/>
        </p:nvPicPr>
        <p:blipFill>
          <a:blip r:embed="rId3"/>
          <a:stretch/>
        </p:blipFill>
        <p:spPr>
          <a:xfrm>
            <a:off x="539640" y="3645000"/>
            <a:ext cx="1397160" cy="1130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:\i.jpeg"/>
          <p:cNvPicPr/>
          <p:nvPr/>
        </p:nvPicPr>
        <p:blipFill>
          <a:blip r:embed="rId4"/>
          <a:stretch/>
        </p:blipFill>
        <p:spPr>
          <a:xfrm>
            <a:off x="258840" y="5159520"/>
            <a:ext cx="16700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6:17:49Z</dcterms:created>
  <dc:creator/>
  <dc:description/>
  <dc:language>en-US</dc:language>
  <cp:lastModifiedBy>КарМаН</cp:lastModifiedBy>
  <dcterms:modified xsi:type="dcterms:W3CDTF">2012-07-06T13:10:13Z</dcterms:modified>
  <cp:revision>28</cp:revision>
  <dc:subject/>
  <dc:title>Слайд 1</dc:title>
</cp:coreProperties>
</file>