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4.jpeg" ContentType="image/jpeg"/>
  <Override PartName="/ppt/media/image21.png" ContentType="image/png"/>
  <Override PartName="/ppt/media/image5.jpeg" ContentType="image/jpeg"/>
  <Override PartName="/ppt/media/image32.jpeg" ContentType="image/jpeg"/>
  <Override PartName="/ppt/media/image26.jpeg" ContentType="image/jpeg"/>
  <Override PartName="/ppt/media/image29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19.jpeg" ContentType="image/jpeg"/>
  <Override PartName="/ppt/media/image11.png" ContentType="image/pn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13.jpeg" ContentType="image/jpeg"/>
  <Override PartName="/ppt/media/image23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17.jpeg" ContentType="image/jpeg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18.jpeg" ContentType="image/jpeg"/>
  <Override PartName="/ppt/media/image20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йрулина Анастасия Владиславов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05257-C85D-4511-A195-09580A5720F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522C8-5FF8-46A3-8BD2-39E267F33DD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Нижний колонтитул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йрулина Анастасия Владислав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Нижний колонтитул 3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йрулина Анастасия Владислав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Номер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4928F-AF47-4737-926A-BB0533C1FBF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Нижний колонтитул 3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йрулина Анастасия Владислав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Номер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38002-ACCC-44E0-9194-F5E5D9B8D59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Нижний колонтитул 3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йрулина Анастасия Владислав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Номер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BAAE4-0CDF-4D56-BCE1-375267CAFCF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Нижний колонтитул 3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йрулина Анастасия Владислав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Номер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E4763-C55F-4A3E-A3D8-E6217F6FEA4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Нижний колонтитул 3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йрулина Анастасия Владислав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Номер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6C751-A191-4D5D-92CF-E1B686A73EE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Нижний колонтитул 3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йрулина Анастасия Владислав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Номер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9AA6D-1103-47F3-A9AF-BFB53481CCD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Нижний колонтитул 3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йрулина Анастасия Владислав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Номер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C6C26-3199-47CD-AE9E-7893A22ED78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Нижний колонтитул 3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йрулина Анастасия Владислав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Номер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C780D-4B65-480A-A567-1DB007DFA18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Нижний колонтитул 3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йрулина Анастасия Владислав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Номер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E6223-3509-433D-9EED-04E9F666877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Нижний колонтитул 3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йрулина Анастасия Владислав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Номер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7F717-338A-419E-8EBB-9D8C8E9DBA2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Нижний колонтитул 3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йрулина Анастасия Владислав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Номер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3F8F2-D8F7-45DB-8CCE-9112B3706E1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0543-5C57-48BF-9E71-9B00302F2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3DE6-91D0-4B38-B965-7D2E1DF56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9FCC-9D40-4DD1-82CC-796F1F8DD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7CCD-9CD9-4276-8518-215A254D6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DAEE8-011B-4F07-B448-9D47BC369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1E159-08D7-4B03-B0BC-CAE94950D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B1BB7-64B2-4F50-A440-3ECABA61F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757A7-75CB-4FF3-AF2D-AD245B49E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F6A37-E7A1-49F0-AFCB-560374C20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23FEE-C0AA-4F8E-A673-5DF8C1A06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8C9D6-1E87-4922-B868-D8534CACF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5F21-62C6-452C-A82E-EF5E689ED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CF06A-403F-402D-98B0-F73C3A16C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14D8C-215C-4F17-9643-980263E6D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CDB6B-DB11-46C4-A983-E494548B2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1DF54-6DAC-4771-8C37-26CA31666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7A3F3-CE5C-4BCC-8EAD-1F215F394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158E0B-5451-469B-80BE-F55C10CFA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4DC8EB-CAEC-4953-9679-3A08FC4A2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C00F6B-A7A9-4BB8-8856-A5074CF65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0DA603-E94B-4CBA-838B-543061BF1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68300E-2DC2-4D9C-A7AA-87ED427E8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C098-F064-4D1B-90A2-426EF5BF1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03BF72-7606-483B-9065-71F77C26B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ACAF9F-77CC-4928-B851-5E483179F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84AE14-8FEF-4BA7-B913-28EE54CD4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22A404-1A3F-4C55-B168-D632AEDF7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12DA74-7981-411D-BF05-449B1D6F6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07AA69-0918-485B-AB1A-9086B75F4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134B14-53A4-4D46-93FD-CAF82A2FA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37D180-8117-4281-8A29-4B11E864C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F35743-36FB-426C-AA86-DC86E5926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6CF19E-4ABC-4BEC-8582-EADB5AC26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4186-F21B-4D6D-941B-29C838A87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5C7106-49E8-4038-9EA3-94DCC0F3A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4B6A44-B16A-42F0-AF47-90C96DD98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CE780F-0513-4C1E-BBE0-BBED3A502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264E5E-4DBC-463D-86B7-E2C205660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57D333-3CEB-46E3-928C-6E44D6B1A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24C4C4-1BC6-4D15-A618-2B2DA123E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539C90-4459-42F1-8875-A279E285A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3D8462-CF4B-4E4A-A37E-A784F94D6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083725-F527-4E6C-B7EB-2C3528713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A86F80-35AF-40F7-AB82-213CD4C7B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FB0E-29E2-4A5B-B780-DAECBB877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DF8DC7-7FA3-4275-BF62-58DF68874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50F6B7-7C5B-433E-A50E-38A51BCFE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0D9A34-5B36-4C21-AD99-4EE105F7D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C2C7A5-1225-4674-9087-026F55E6C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1D6DE1-168A-47B6-A2C8-652AC1531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5861A4-A9D6-4018-B129-9192306C4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CBF3F3-125B-4466-A901-408CA09AA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5C5F7D-6806-4030-BAA6-B39F456F5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939EAC-5C4A-44D6-861A-C5C958973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32D03B-6FF8-4AD3-A289-1DF8CD9A5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FE6D-7F17-45B6-BC13-E61C416BD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14A615-1BBB-4D87-B764-97EEF83C0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4697AE-FF4B-4029-8831-78109DAA7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B3DB84-8B89-4C04-B4A0-CE1E01E16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329C26-4955-44DF-BF4E-89614FC0B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373F7F-4A1C-47E3-A6F2-10BE5A29A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673E99-9758-45E5-9AC4-E02F17EB4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2A8950-03DF-4C72-9062-71D095501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F4678C-2CF0-43BF-820A-9220B0328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AE8CBF-5617-4BE4-8209-EB424775F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8C065D-2E3A-4B0F-A24E-9F7AD2B00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EFA6-33BD-4170-AEC9-8963E7FB6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5205DB-6BCF-400C-8EE4-7F5AA09BA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8A0264-BC10-4F48-98AB-D87E3AAFE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618F02-B0A4-4B42-84DB-E25C875AC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014B48-F19A-4A41-AD3A-C65999D5A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FCF8E8-360F-4104-8DC3-C283A31E7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BBFC4A-D19C-4315-8E0C-C6A84836B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EF9DF5-4377-4A96-B837-8E286A15B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71A141-6CED-4437-8B2A-901CCA823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4E33AD-30D0-4958-A105-CA80A5A85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A4F4D2-DB56-41F7-A18D-9FC189910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3105-FF38-4612-B188-7615149F9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7E98C9-089C-431A-8F9C-A5814FA95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8346DC-1BD3-4F1D-95BE-E750EE059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7570CD-DB69-44F2-98A3-18A975E4F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A5EA0F-AEE0-41E8-9A73-DD946B07E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F12B0F-AD13-4EA8-A78B-2A1A36FB3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2EE0-07C2-45C5-9687-6EECB4C0C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CD4F0-B824-4C0E-8027-67A8520AFD93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B2BF2-FFA2-4F51-8E1B-A3C7CE1DF460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B1A09-B916-4BCF-A9D2-D8CF853B5501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A09B9-792C-4213-B190-0670521D5738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73C03-8B86-433C-9234-D4C3FC469B4D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B6B1D-71A4-4E0F-9D0B-F165690E883E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85368-D513-4911-BCA5-A2D4C081A70F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55BB5-9B1B-4AE5-AECA-E9782574BC02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06638-7FD9-4E0C-A589-DDDED2ABC90A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5E3F1-43B4-4A10-9E06-C80550AD48C0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B8CC9-A416-4ECA-934B-D07DE1B1F973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7618A-A97B-4C36-AFBB-52EE7CBF06E1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23817-B45C-4239-8F02-D486B5B0E192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317DB-526A-40DB-84A8-EA96FFD8821F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3.xml"/><Relationship Id="rId11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2" descr="C:\Users\School101\Desktop\вирусы\i.jpeg"/>
          <p:cNvPicPr/>
          <p:nvPr/>
        </p:nvPicPr>
        <p:blipFill>
          <a:blip r:embed="rId2"/>
          <a:stretch/>
        </p:blipFill>
        <p:spPr>
          <a:xfrm>
            <a:off x="1000080" y="4168800"/>
            <a:ext cx="2184480" cy="268920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2" descr="C:\Users\School101\Desktop\вирусы\222.jpeg"/>
          <p:cNvPicPr/>
          <p:nvPr/>
        </p:nvPicPr>
        <p:blipFill>
          <a:blip r:embed="rId3"/>
          <a:stretch/>
        </p:blipFill>
        <p:spPr>
          <a:xfrm>
            <a:off x="2843280" y="189000"/>
            <a:ext cx="1363680" cy="1995480"/>
          </a:xfrm>
          <a:prstGeom prst="rect">
            <a:avLst/>
          </a:prstGeom>
          <a:ln w="0">
            <a:noFill/>
          </a:ln>
        </p:spPr>
      </p:pic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059280" y="4723920"/>
            <a:ext cx="590544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72314"/>
                </a:solidFill>
                <a:latin typeface="Arial"/>
              </a:rPr>
              <a:t>ГБОУ СПО «АМТ» преподаватель Струкова Елена Алексеевна</a:t>
            </a:r>
            <a:br>
              <a:rPr sz="2400"/>
            </a:b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8" name="WordArt 9"/>
          <p:cNvSpPr txBox="1"/>
          <p:nvPr/>
        </p:nvSpPr>
        <p:spPr>
          <a:xfrm>
            <a:off x="171360" y="2205000"/>
            <a:ext cx="8972640" cy="244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Угрозы безопасности информации,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х виды.</a:t>
            </a:r>
            <a:endParaRPr b="0" lang="en-US" sz="1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29" name="Picture 10" descr="2"/>
          <p:cNvPicPr/>
          <p:nvPr/>
        </p:nvPicPr>
        <p:blipFill>
          <a:blip r:embed="rId9"/>
          <a:stretch/>
        </p:blipFill>
        <p:spPr>
          <a:xfrm>
            <a:off x="7291440" y="0"/>
            <a:ext cx="1852560" cy="24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547640" y="188640"/>
            <a:ext cx="71280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898c3"/>
                </a:solidFill>
                <a:latin typeface="Corbel"/>
              </a:rPr>
              <a:t>Сетевые вирусы. 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900000" y="692280"/>
            <a:ext cx="550080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 u="sng">
                <a:solidFill>
                  <a:srgbClr val="000000"/>
                </a:solidFill>
                <a:uFillTx/>
                <a:latin typeface="Corbel"/>
              </a:rPr>
              <a:t>«Логические бомбы» - скрипты и апплеты</a:t>
            </a: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. 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И хотя основные функции доступа к содержимому вашего диска здесь отключены, некоторые мелкие неприятности это может доставить. Кстати, в последнее время создатели некоторых сайтов (как правило, из разряда «только для взрослых») освоили любопытный вариант скриптов (на базе JavaScript), способных при открытии такой Web-страницы не только «прописать» адрес данного сайта в качестве «домашнего» (естественно, не спрашивая у посетителя разрешения), но и внести его непосредственно в системный реестр Windows в качестве «базового».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 u="sng">
                <a:solidFill>
                  <a:srgbClr val="000000"/>
                </a:solidFill>
                <a:uFillTx/>
                <a:latin typeface="Corbel"/>
              </a:rPr>
              <a:t>«Троянские кони».</a:t>
            </a: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Это модули, присоединяемые к каким-либо нормальным программам, распространяемым по сети, или «забрасываемые» в ваш компьютер несанкционированным способом.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Цель «троянского коня» - воровать ценную информацию (пароли доступа, номера кредитных карточек и т. п.) и передавать ее тому, кто этого «коня» запустил. 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 u="sng">
                <a:solidFill>
                  <a:srgbClr val="000000"/>
                </a:solidFill>
                <a:uFillTx/>
                <a:latin typeface="Corbel"/>
              </a:rPr>
              <a:t>Почтовые вирусы</a:t>
            </a: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. 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Чаще всего заражение начинается с получения неизвестно от кого письма, содержащего исполняемую программу-«зародыш» . Когда ничего не подозревающий пользователь запустит такую программу на исполнение, содержащийся в ней вирус «прописывается» в системе и, обращаясь к содержимому адресной книги, начинает тайком от вас рассылать всем абонентам свои копии-зародыши в качестве вложений. 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4" name="Picture 3" descr="C:\Users\School101\Desktop\вирусы\8.jpeg"/>
          <p:cNvPicPr/>
          <p:nvPr/>
        </p:nvPicPr>
        <p:blipFill>
          <a:blip r:embed="rId2"/>
          <a:stretch/>
        </p:blipFill>
        <p:spPr>
          <a:xfrm>
            <a:off x="7531200" y="2928960"/>
            <a:ext cx="1612800" cy="178416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4" descr="C:\Users\School101\Desktop\вирусы\283527_3.jpg"/>
          <p:cNvPicPr/>
          <p:nvPr/>
        </p:nvPicPr>
        <p:blipFill>
          <a:blip r:embed="rId3"/>
          <a:stretch/>
        </p:blipFill>
        <p:spPr>
          <a:xfrm>
            <a:off x="6694560" y="1143000"/>
            <a:ext cx="2449440" cy="166356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2" descr="C:\Users\School101\Desktop\вирусы\10203.gif"/>
          <p:cNvPicPr/>
          <p:nvPr/>
        </p:nvPicPr>
        <p:blipFill>
          <a:blip r:embed="rId4"/>
          <a:stretch/>
        </p:blipFill>
        <p:spPr>
          <a:xfrm>
            <a:off x="6500880" y="4708440"/>
            <a:ext cx="1660320" cy="21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071360" y="2743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900" spc="-1" strike="noStrike" u="sng">
                <a:solidFill>
                  <a:srgbClr val="572314"/>
                </a:solidFill>
                <a:uFillTx/>
                <a:latin typeface="Corbel"/>
              </a:rPr>
              <a:t>Вирусы делятся также на резидентные и нерезидентные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1403280" y="2420640"/>
            <a:ext cx="749952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—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ервые при получении управления загружаются в память и могут действовать, в отличие от нерезидентных, не только во время работы зараженного файла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49772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Дополнительные типы вирусов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928800" y="549360"/>
            <a:ext cx="6000480" cy="602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8898c3"/>
                </a:solidFill>
                <a:uFillTx/>
                <a:latin typeface="Corbel"/>
              </a:rPr>
              <a:t>Зомби 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Зомби (Zombie) - это программа-вирус, которая после проникновения в компьютер, подключенный к сети Интернет управляется извне и используется злоумышленниками для организации атак на другие компьютеры. Зараженные таким образом компьютеры-зомби могут объединяться в сети, через которые рассылается огромное количество нежелательных сообщений электронной почты, а также распространяются вирусы и другие вредоносные программы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1" name="Picture 2" descr="C:\Users\School101\Desktop\вирусы\33.jpeg"/>
          <p:cNvPicPr/>
          <p:nvPr/>
        </p:nvPicPr>
        <p:blipFill>
          <a:blip r:embed="rId2"/>
          <a:stretch/>
        </p:blipFill>
        <p:spPr>
          <a:xfrm>
            <a:off x="7072200" y="1143000"/>
            <a:ext cx="1214640" cy="173520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3" descr="C:\Users\School101\Desktop\вирусы\imgload.gif"/>
          <p:cNvPicPr/>
          <p:nvPr/>
        </p:nvPicPr>
        <p:blipFill>
          <a:blip r:embed="rId3"/>
          <a:stretch/>
        </p:blipFill>
        <p:spPr>
          <a:xfrm>
            <a:off x="6858000" y="3429000"/>
            <a:ext cx="20098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2357280" y="0"/>
            <a:ext cx="67867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8898c3"/>
                </a:solidFill>
                <a:uFillTx/>
                <a:latin typeface="Corbel"/>
              </a:rPr>
              <a:t>Шпионские программы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Шпионская программа (Spyware) - это программный продукт, установленный или проникший на компьютер без согласия его владельца,  с целью получения практически полного доступа к компьютеру, сбора и отслеживания личной или конфиденциальной информации. 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Эти программы, как правило, проникают на компьютер при помощи сетевых червей, троянских программ или под видом рекламы  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Одной из разновидностей шпионских программ являются : 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8898c3"/>
                </a:solidFill>
                <a:uFillTx/>
                <a:latin typeface="Corbel"/>
              </a:rPr>
              <a:t>Фишинг (Phishing) </a:t>
            </a: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- 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это почтовая рассылка имеющая своей целью получение конфиденциальной финансовой информации. Такое письмо, как правило, содержит ссылку на сайт, являющейся точной копией интернет-банка или другого финансового учреждения.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i="1" lang="ru-RU" sz="2800" spc="-1" strike="noStrike" u="sng">
                <a:solidFill>
                  <a:srgbClr val="8898c3"/>
                </a:solidFill>
                <a:uFillTx/>
                <a:latin typeface="Corbel"/>
              </a:rPr>
              <a:t>Фарминг</a:t>
            </a: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 –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это замаскированная форма фишинга, заключающаяся в том, что при попытке зайти на официальный сайт интернет банка или коммерческой организации,  пользователь автоматически перенаправляется на ложный сайт, который очень трудно отличить от официального сайта.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основной целью злоумышленников, использующих Фарминг, является завладение личной финансовой информацией пользователя.  Отличие заключается только в том, что вместо электронной почты мошенники используют более изощренные методы направления пользователя на фальшивый сайт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 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4" name="Picture 2" descr="C:\Users\School101\Desktop\вирусы\sla.jpg"/>
          <p:cNvPicPr/>
          <p:nvPr/>
        </p:nvPicPr>
        <p:blipFill>
          <a:blip r:embed="rId2"/>
          <a:stretch/>
        </p:blipFill>
        <p:spPr>
          <a:xfrm>
            <a:off x="0" y="2357280"/>
            <a:ext cx="2217600" cy="185760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3" descr="C:\Users\School101\Desktop\вирусы\333.jpeg"/>
          <p:cNvPicPr/>
          <p:nvPr/>
        </p:nvPicPr>
        <p:blipFill>
          <a:blip r:embed="rId3"/>
          <a:stretch/>
        </p:blipFill>
        <p:spPr>
          <a:xfrm>
            <a:off x="571680" y="285840"/>
            <a:ext cx="1589040" cy="147960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4" descr="C:\Users\School101\Desktop\вирусы\555.jpeg"/>
          <p:cNvPicPr/>
          <p:nvPr/>
        </p:nvPicPr>
        <p:blipFill>
          <a:blip r:embed="rId4"/>
          <a:stretch/>
        </p:blipFill>
        <p:spPr>
          <a:xfrm>
            <a:off x="642960" y="4643280"/>
            <a:ext cx="1593720" cy="15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4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3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3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3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3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3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3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3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3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714240" y="274320"/>
            <a:ext cx="822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900" spc="-1" strike="noStrike" u="sng">
                <a:solidFill>
                  <a:srgbClr val="572314"/>
                </a:solidFill>
                <a:uFillTx/>
                <a:latin typeface="Corbel"/>
              </a:rPr>
              <a:t>Хакерские утилиты и прочие вредоносные программы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-360" y="1267920"/>
            <a:ext cx="766764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rbel"/>
              </a:rPr>
              <a:t>К данной категории относятся: 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rbel"/>
              </a:rPr>
              <a:t>утилиты автоматизации создания вирусов, червей и троянских программ (конструкторы); 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rbel"/>
              </a:rPr>
              <a:t>программные библиотеки, разработанные для создания вредоносного ПО; 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rbel"/>
              </a:rPr>
              <a:t>хакерские утилиты скрытия кода зараженных файлов от антивирусной проверки (шифровальщики файлов); 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rbel"/>
              </a:rPr>
              <a:t>«злые шутки», затрудняющие работу с компьютером; 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rbel"/>
              </a:rPr>
              <a:t>программы, сообщающие пользователю заведомо ложную информацию о своих действиях в системе; 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rbel"/>
              </a:rPr>
              <a:t>прочие программы, тем или иным способом намеренно наносящие прямой или косвенный ущерб данному или удалённым компьютерам.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9" name="Picture 2" descr="C:\Users\School101\Desktop\вирусы\computer_virus.gif"/>
          <p:cNvPicPr/>
          <p:nvPr/>
        </p:nvPicPr>
        <p:blipFill>
          <a:blip r:embed="rId2"/>
          <a:stretch/>
        </p:blipFill>
        <p:spPr>
          <a:xfrm>
            <a:off x="6978600" y="3357720"/>
            <a:ext cx="2165400" cy="257148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3" descr="C:\Users\School101\Desktop\вирусы\4.jpeg"/>
          <p:cNvPicPr/>
          <p:nvPr/>
        </p:nvPicPr>
        <p:blipFill>
          <a:blip r:embed="rId3"/>
          <a:stretch/>
        </p:blipFill>
        <p:spPr>
          <a:xfrm>
            <a:off x="7358040" y="1500120"/>
            <a:ext cx="1500120" cy="15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500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500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500"/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500"/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7" dur="500"/>
                                        <p:tgtEl>
                                          <p:spTgt spid="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3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3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3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3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500"/>
                                        <p:tgtEl>
                                          <p:spTgt spid="3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6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49772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900" spc="-1" strike="noStrike" u="sng">
                <a:solidFill>
                  <a:srgbClr val="572314"/>
                </a:solidFill>
                <a:uFillTx/>
                <a:latin typeface="Corbel"/>
              </a:rPr>
              <a:t>Каналы распространения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1042560" y="404640"/>
            <a:ext cx="8101080" cy="616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000000"/>
                </a:solidFill>
                <a:uFillTx/>
                <a:latin typeface="Corbel"/>
              </a:rPr>
              <a:t>Дискеты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Самый распространённый канал заражения в 1980-90 годы. Сейчас практически отсутствует из-за появления более распространённых и эффективных каналов и отсутствия флоппи-дисководов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000000"/>
                </a:solidFill>
                <a:uFillTx/>
                <a:latin typeface="Corbel"/>
              </a:rPr>
              <a:t>Флеш-накопители (флешки)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В настоящее время USB-флешки заменяют дискеты и повторяют их судьбу — большое количество вирусов распространяется через съёмные накопители, включая цифровые фотоаппараты, цифровые видеокамеры, цифровые плееры (MP3-плееры), сотовые телефоны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000000"/>
                </a:solidFill>
                <a:uFillTx/>
                <a:latin typeface="Corbel"/>
              </a:rPr>
              <a:t>Электронная почта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Сейчас один из основных каналов распространения вирусов. Обычно вирусы в письмах электронной почты маскируются под безобидные вложения: картинки, документы, музыку, ссылки на сайты.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000000"/>
                </a:solidFill>
                <a:uFillTx/>
                <a:latin typeface="Corbel"/>
              </a:rPr>
              <a:t>Системы обмена мгновенными сообщениями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Так же распространена рассылка ссылок на якобы фото, музыку либо программы, в действительности являющиеся вирусами, по ICQ и через другие программы мгновенного обмена сообщениями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000000"/>
                </a:solidFill>
                <a:uFillTx/>
                <a:latin typeface="Corbel"/>
              </a:rPr>
              <a:t>Веб-страницы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Возможно также заражение через страницы Интернет ввиду наличия на страницах всемирной паутины различного «активного» содержимого: скриптов, ActiveX-компоненты, Java-апплетов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000000"/>
                </a:solidFill>
                <a:uFillTx/>
                <a:latin typeface="Corbel"/>
              </a:rPr>
              <a:t>Интернет и локальные сети (черви)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Черви — вид вирусов, которые проникают на компьютер-жертву без участия пользователя. Черви используют так называемые «дыры» (уязвимости) в программном обеспечении операционных систем, чтобы проникнуть на компьютер.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73" name="Picture 3" descr="C:\Program Files\Microsoft Office\CLIPART\PUB60COR\PH02746G.GIF"/>
          <p:cNvPicPr/>
          <p:nvPr/>
        </p:nvPicPr>
        <p:blipFill>
          <a:blip r:embed="rId2"/>
          <a:stretch/>
        </p:blipFill>
        <p:spPr>
          <a:xfrm>
            <a:off x="0" y="476280"/>
            <a:ext cx="1460520" cy="97632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4" descr="C:\Users\School101\Desktop\вирусы\55.jpeg"/>
          <p:cNvPicPr/>
          <p:nvPr/>
        </p:nvPicPr>
        <p:blipFill>
          <a:blip r:embed="rId3"/>
          <a:stretch/>
        </p:blipFill>
        <p:spPr>
          <a:xfrm>
            <a:off x="179280" y="2708280"/>
            <a:ext cx="928800" cy="83808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5" descr="F:\1.jpeg"/>
          <p:cNvPicPr/>
          <p:nvPr/>
        </p:nvPicPr>
        <p:blipFill>
          <a:blip r:embed="rId4"/>
          <a:stretch/>
        </p:blipFill>
        <p:spPr>
          <a:xfrm>
            <a:off x="179280" y="4941720"/>
            <a:ext cx="776520" cy="82728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6" descr="F:\2.jpeg"/>
          <p:cNvPicPr/>
          <p:nvPr/>
        </p:nvPicPr>
        <p:blipFill>
          <a:blip r:embed="rId5"/>
          <a:stretch/>
        </p:blipFill>
        <p:spPr>
          <a:xfrm>
            <a:off x="179280" y="3716280"/>
            <a:ext cx="908280" cy="90828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7" descr="F:\3.jpeg"/>
          <p:cNvPicPr/>
          <p:nvPr/>
        </p:nvPicPr>
        <p:blipFill>
          <a:blip r:embed="rId6"/>
          <a:stretch/>
        </p:blipFill>
        <p:spPr>
          <a:xfrm>
            <a:off x="0" y="1557360"/>
            <a:ext cx="1195560" cy="8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2" dur="5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4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1" dur="500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6" dur="500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3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3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3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3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2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3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3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9" dur="500"/>
                                        <p:tgtEl>
                                          <p:spTgt spid="3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3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3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4" dur="500"/>
                                        <p:tgtEl>
                                          <p:spTgt spid="3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1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3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3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8" dur="500"/>
                                        <p:tgtEl>
                                          <p:spTgt spid="3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3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3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3" dur="500"/>
                                        <p:tgtEl>
                                          <p:spTgt spid="3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3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3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8" dur="500"/>
                                        <p:tgtEl>
                                          <p:spTgt spid="3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3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3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3" dur="500"/>
                                        <p:tgtEl>
                                          <p:spTgt spid="3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0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/>
          </p:nvPr>
        </p:nvSpPr>
        <p:spPr>
          <a:xfrm>
            <a:off x="928800" y="142920"/>
            <a:ext cx="82152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Общеобразовательные цели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- знать основы электронных коммуникаций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Типы угроз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1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Воспитательные цели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оспитание коммуникативных свойств личности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оспитание толерантности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оспитание сетевой этики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1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Развивающие цели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Формирование познавательного интереса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Развитие навыков общения в сети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1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1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/>
          </p:nvPr>
        </p:nvSpPr>
        <p:spPr>
          <a:xfrm>
            <a:off x="1434960" y="260280"/>
            <a:ext cx="7499520" cy="598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Если говорить об угрозах информационно-технического характера, можно выделить такие элементы как кража информации, вредоносное ПО, хакерские атаки, СПАМ, халатность сотрудников, аппаратные и программные сбои, финансовое мошенничество, кража оборудования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/>
          </p:nvPr>
        </p:nvSpPr>
        <p:spPr>
          <a:xfrm>
            <a:off x="1434960" y="0"/>
            <a:ext cx="74995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Согласно статистике применительно к этим угрозам, можно привести следующие данные (по результатам исследований, проведённых в России компанией InfoWath)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Кража информации – 64%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Вредоносное ПО – 60%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Хакерские атаки – 48%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Спам – 45%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Халатность сотрудников – 43%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Аппаратные и программные сбои – 21%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Кража оборудования – 6%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Финансовое мошенничество – 5%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Как видно, из приведенных данных, наиболее распространены кража информации и вредоносное ПО. 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899640" y="1052280"/>
            <a:ext cx="4429080" cy="52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Под </a:t>
            </a:r>
            <a:r>
              <a:rPr b="1" i="1" lang="ru-RU" sz="3000" spc="-1" strike="noStrike">
                <a:solidFill>
                  <a:srgbClr val="000000"/>
                </a:solidFill>
                <a:latin typeface="Corbel"/>
              </a:rPr>
              <a:t>компьютерным вирусом 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принято понимать программы или элементы программ, несанкционированно проникшие в компьютер с целью нанесения вреда, отличительной особенностью которых является способность самотиражирования.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4" name="Прямоугольник 4" descr=""/>
          <p:cNvPicPr/>
          <p:nvPr/>
        </p:nvPicPr>
        <p:blipFill>
          <a:blip r:embed="rId2"/>
          <a:stretch/>
        </p:blipFill>
        <p:spPr>
          <a:xfrm>
            <a:off x="3852720" y="-457200"/>
            <a:ext cx="4973760" cy="205416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3" descr="C:\Users\School101\Desktop\вирусы\66.jpeg"/>
          <p:cNvPicPr/>
          <p:nvPr/>
        </p:nvPicPr>
        <p:blipFill>
          <a:blip r:embed="rId3"/>
          <a:stretch/>
        </p:blipFill>
        <p:spPr>
          <a:xfrm>
            <a:off x="6000840" y="2071800"/>
            <a:ext cx="2714400" cy="27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0" y="476280"/>
            <a:ext cx="9144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572314"/>
                </a:solidFill>
                <a:latin typeface="Corbel"/>
              </a:rPr>
              <a:t>Все вирусы можно объединить в следующие основные группы:</a:t>
            </a:r>
            <a:br>
              <a:rPr sz="3900"/>
            </a:b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000080" y="1447560"/>
            <a:ext cx="7934400" cy="51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898c3"/>
                </a:solidFill>
                <a:latin typeface="Corbel"/>
              </a:rPr>
              <a:t>Загрузочные вирусы (boot – вирусы) </a:t>
            </a:r>
            <a:r>
              <a:rPr b="1" i="1" lang="ru-RU" sz="2200" spc="-1" strike="noStrike">
                <a:solidFill>
                  <a:srgbClr val="000000"/>
                </a:solidFill>
                <a:latin typeface="Corbel"/>
              </a:rPr>
              <a:t>— инфицируют загрузочные секторы жестких дисков и дискет, помещая в нем команды запуска на исполнение самого вируса, который находится где-то в другом месте компьютера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898c3"/>
                </a:solidFill>
                <a:latin typeface="Corbel"/>
              </a:rPr>
              <a:t>Файловые вирусы </a:t>
            </a:r>
            <a:r>
              <a:rPr b="1" i="1" lang="ru-RU" sz="2200" spc="-1" strike="noStrike">
                <a:solidFill>
                  <a:srgbClr val="000000"/>
                </a:solidFill>
                <a:latin typeface="Corbel"/>
              </a:rPr>
              <a:t>— заражают исполняемые файлы (с расширением .com, .exe, .sys), путем дописывания своей основной части («тела») в конец заражаемой программы, «головы» - в его начало. Вирус, находящийся в памяти, заражает все любой запущенный после этого исполняемый файл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898c3"/>
                </a:solidFill>
                <a:latin typeface="Corbel"/>
              </a:rPr>
              <a:t>Загрузочно-файловые вирусы </a:t>
            </a:r>
            <a:r>
              <a:rPr b="1" i="1" lang="ru-RU" sz="2200" spc="-1" strike="noStrike">
                <a:solidFill>
                  <a:srgbClr val="000000"/>
                </a:solidFill>
                <a:latin typeface="Corbel"/>
              </a:rPr>
              <a:t>способны поражать как код загрузочных секторов, так и код файлов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898c3"/>
                </a:solidFill>
                <a:latin typeface="Corbel"/>
              </a:rPr>
              <a:t>Сетевые вирусы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8" name="Picture 2" descr="C:\Program Files\Microsoft Office\CLIPART\PUB60COR\PH02746G.GIF"/>
          <p:cNvPicPr/>
          <p:nvPr/>
        </p:nvPicPr>
        <p:blipFill>
          <a:blip r:embed="rId2"/>
          <a:stretch/>
        </p:blipFill>
        <p:spPr>
          <a:xfrm>
            <a:off x="6907320" y="5362560"/>
            <a:ext cx="2236680" cy="14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8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8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8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8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66640" y="-360"/>
            <a:ext cx="8577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898c3"/>
                </a:solidFill>
                <a:latin typeface="Corbel"/>
              </a:rPr>
              <a:t>Загрузочные вирусы (boot – вирусы)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250560" y="1046160"/>
            <a:ext cx="6591240" cy="58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Corbel"/>
              </a:rPr>
              <a:t>Макро-вирусы.</a:t>
            </a: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Заражает файлы документов, например текстовые документы. После загрузки заражённого документа постоянно находится в оперативной памяти до закрытия документа.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Corbel"/>
              </a:rPr>
              <a:t>«Червь».</a:t>
            </a: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это программа, которая тиражируется на жестком диске, в памяти компьютера и распространяется по сети. 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Особенностью червей, отличающих их от других вирусов, является то, что они не несут в себе ни какой вредоносной нагрузки, кроме саморазмножения, </a:t>
            </a:r>
            <a:r>
              <a:rPr b="0" lang="ru-RU" sz="2500" spc="-1" strike="noStrike" u="sng">
                <a:solidFill>
                  <a:srgbClr val="000000"/>
                </a:solidFill>
                <a:uFillTx/>
                <a:latin typeface="Corbel"/>
              </a:rPr>
              <a:t>целью</a:t>
            </a: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 которого является замусоривание памяти, и как следствие, затормаживание работы операционной системы. 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1" name="Picture 2" descr="C:\Users\School101\Desktop\вирусы\44.jpeg"/>
          <p:cNvPicPr/>
          <p:nvPr/>
        </p:nvPicPr>
        <p:blipFill>
          <a:blip r:embed="rId2"/>
          <a:stretch/>
        </p:blipFill>
        <p:spPr>
          <a:xfrm>
            <a:off x="7215120" y="4143240"/>
            <a:ext cx="1782720" cy="133380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3" descr="C:\Users\School101\Desktop\вирусы\9.jpeg"/>
          <p:cNvPicPr/>
          <p:nvPr/>
        </p:nvPicPr>
        <p:blipFill>
          <a:blip r:embed="rId3"/>
          <a:stretch/>
        </p:blipFill>
        <p:spPr>
          <a:xfrm>
            <a:off x="7000920" y="1643040"/>
            <a:ext cx="179064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357120" y="691920"/>
            <a:ext cx="8786880" cy="31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К данной категории относятся программы, распространяющие свои копии по локальным и/или глобальным сетям с целью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rbel"/>
              </a:rPr>
              <a:t>проникновения на удаленные компьютеры;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rbel"/>
              </a:rPr>
              <a:t>запуска своей копии на удаленном компьютере;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rbel"/>
              </a:rPr>
              <a:t>дальнейшего распространения на другие компьютеры в сети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Для своего распространения сетевые черви используют разнообразные компьютерные и мобильные сети: электронную почту, системы обмена мгновенными сообщениями, файлообменные (P2P) и IRC-сети, LAN, сети обмена данными между мобильными устройствами (телефонами, карманными компьютерами) и т. д. 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4" name="Прямоугольник 3" descr=""/>
          <p:cNvPicPr/>
          <p:nvPr/>
        </p:nvPicPr>
        <p:blipFill>
          <a:blip r:embed="rId2"/>
          <a:stretch/>
        </p:blipFill>
        <p:spPr>
          <a:xfrm>
            <a:off x="1438200" y="-195120"/>
            <a:ext cx="6108840" cy="181116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2" descr="C:\Users\School101\Desktop\вирусы\003.jpg"/>
          <p:cNvPicPr/>
          <p:nvPr/>
        </p:nvPicPr>
        <p:blipFill>
          <a:blip r:embed="rId3"/>
          <a:stretch/>
        </p:blipFill>
        <p:spPr>
          <a:xfrm>
            <a:off x="6286680" y="3981600"/>
            <a:ext cx="2857320" cy="2876400"/>
          </a:xfrm>
          <a:prstGeom prst="rect">
            <a:avLst/>
          </a:prstGeom>
          <a:ln w="0">
            <a:noFill/>
          </a:ln>
        </p:spPr>
      </p:pic>
      <p:sp>
        <p:nvSpPr>
          <p:cNvPr id="346" name="TextBox 5"/>
          <p:cNvSpPr/>
          <p:nvPr/>
        </p:nvSpPr>
        <p:spPr>
          <a:xfrm>
            <a:off x="684360" y="4019400"/>
            <a:ext cx="5715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Большинство известных червей распространяется в виде файлов: вложение в электронное письмо, ссылка на зараженный файл на каком-либо веб- или FTP-ресурсе в ICQ- и IRC-сообщениях, файл в каталоге обмена P2P и т. 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Некоторые черви (так называемые «бесфайловые» или «пакетные» черви) распространяются в виде сетевых пакетов, проникают непосредственно в память компьютера и активизируют свой код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572314"/>
                </a:solidFill>
                <a:latin typeface="Corbel"/>
              </a:rPr>
              <a:t>В дополнение к этой классификации отметим еще несколько отличительных особенностей, характеризующих некоторые файлово  -загрузочные вирусы.</a:t>
            </a:r>
            <a:br>
              <a:rPr sz="2400"/>
            </a:br>
            <a:endParaRPr b="0" lang="en-US" sz="2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1856880" y="928800"/>
            <a:ext cx="728676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 u="sng">
                <a:solidFill>
                  <a:srgbClr val="000000"/>
                </a:solidFill>
                <a:uFillTx/>
                <a:latin typeface="Corbel"/>
              </a:rPr>
              <a:t>Полиморфизм</a:t>
            </a: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. 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Большинство вирусов, созданных в прежние годы, при саморазмножении никак не изменяются, так что «потомки» являются абсолютно точной копией «прародителя», что и позволяет легко их обнаруживать по характерной для каждого последовательности байтов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 u="sng">
                <a:solidFill>
                  <a:srgbClr val="000000"/>
                </a:solidFill>
                <a:uFillTx/>
                <a:latin typeface="Corbel"/>
              </a:rPr>
              <a:t>«Стелс» - технология</a:t>
            </a: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. 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Этот термин появился по аналогии с названием технологии разработки американского бомбардировщика, невидимого на экране радара. Стелс-вирус, находясь в памяти компьютера, перехватывает почти все векторы прерываний . В результате при попытке контроля длины зараженного файла ДОС выдает старую, «правильную» длину вместо истинной, а при просмотре коды вируса исключаются им из рассмотрения.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 u="sng">
                <a:solidFill>
                  <a:srgbClr val="000000"/>
                </a:solidFill>
                <a:uFillTx/>
                <a:latin typeface="Corbel"/>
              </a:rPr>
              <a:t>«Логические бомбы».</a:t>
            </a: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Такая программа добавляется к какой-либо полезной программе и «дремлет» в ней до определенного часа. Когда же показания системного счетчика времени данного компьютера станут равными установленному программистом значению часов, минут и секунд (или превысят их), производится какое-либо разрушающее действие, например, форматирование винчестера. Это один из распространенных вариантов мести обиженных программистов своему руководству.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 u="sng">
                <a:solidFill>
                  <a:srgbClr val="000000"/>
                </a:solidFill>
                <a:uFillTx/>
                <a:latin typeface="Corbel"/>
              </a:rPr>
              <a:t>Программы-вандалы</a:t>
            </a: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. 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Самый простой способ напакостить всем и вся. Пишется программа-разрушитель (например, все тот же форматировщик винчестера), ей дается название, такое же, как у другой, полезной программы, и она размещается в качестве «обновленной версии». Ничего не подозревающий пользователь обрадовано «скачивает» ее на свой компьютер и запускает, а в результате - лишается всей информации на жестком диске. 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 algn="r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9" name="Picture 3" descr="F:\c6a9757012955e883d2ad9f8b8e300ed.jpg"/>
          <p:cNvPicPr/>
          <p:nvPr/>
        </p:nvPicPr>
        <p:blipFill>
          <a:blip r:embed="rId2"/>
          <a:stretch/>
        </p:blipFill>
        <p:spPr>
          <a:xfrm>
            <a:off x="0" y="1928880"/>
            <a:ext cx="1776240" cy="177624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2" descr="C:\Users\School101\Desktop\вирусы\11.jpeg"/>
          <p:cNvPicPr/>
          <p:nvPr/>
        </p:nvPicPr>
        <p:blipFill>
          <a:blip r:embed="rId3"/>
          <a:stretch/>
        </p:blipFill>
        <p:spPr>
          <a:xfrm>
            <a:off x="539640" y="3645000"/>
            <a:ext cx="1397160" cy="113004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4" descr="F:\i.jpeg"/>
          <p:cNvPicPr/>
          <p:nvPr/>
        </p:nvPicPr>
        <p:blipFill>
          <a:blip r:embed="rId4"/>
          <a:stretch/>
        </p:blipFill>
        <p:spPr>
          <a:xfrm>
            <a:off x="258840" y="5159520"/>
            <a:ext cx="1670040" cy="12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6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1" dur="500"/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3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9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3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3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3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3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3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3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6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6T06:17:49Z</dcterms:created>
  <dc:creator/>
  <dc:description/>
  <dc:language>en-US</dc:language>
  <cp:lastModifiedBy>КарМаН</cp:lastModifiedBy>
  <dcterms:modified xsi:type="dcterms:W3CDTF">2012-07-06T13:10:13Z</dcterms:modified>
  <cp:revision>28</cp:revision>
  <dc:subject/>
  <dc:title>Слайд 1</dc:title>
</cp:coreProperties>
</file>