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E480-78FA-4546-A11A-4A1FC899FF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1457-B23D-4380-90C7-27F16EB529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DF31-BDA1-4807-9DE2-3349C908AA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029D-CCAC-49B9-BF92-DEFEE37D01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FB4F-F61C-4B77-AA10-B077D942F4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E533-1F5A-4CCD-8F47-5702E40F78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5E1D-A20A-4CD0-A317-15EE4321B5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93E4-545F-4B85-A870-D185FC3AFD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C255-D789-4665-84A6-E5E3A481CA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99E0-9590-4480-8F2C-60104E1CB1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212D-57CD-4F3D-B6D9-6A42C491CA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0A76-8CC6-4DC5-9651-5B35571686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A66A-DAC2-4945-B92D-6385FC7092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535-DEA7-42F5-8714-35C6D39A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76E-0774-493B-AF5A-49688531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421-22E9-41E4-9D52-7F65BEE8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7A6-0768-49BB-97A1-C7D40813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BAAC-A838-4D45-ABAB-6145B66C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796E-1DD4-4995-AA48-DD9A652B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64A1-6173-4EE7-9932-C94E894F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270D-F01B-4C0D-899B-37956C00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3B55-B1C0-4A43-8AE0-DECBA44D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7340-5F9E-48D8-8C33-2A1C3D87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BCC8-ED64-4887-A364-53FB544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B0F-24E3-4A03-A4C9-1A81891B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34CC-4582-427C-A544-A624A3C9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6A3F-20A8-4134-9C79-D6787F6C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241B-0143-4D7F-8B3A-519DCD3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1438-2E45-41E7-AA53-FD32EF2C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70DF-CE0E-406A-9FC9-22BDB6D5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F8C3E-1280-421A-BDD3-6B881F9F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67A9-DAB4-4162-9BE8-4D150AF1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6B9E-2299-4C3C-B3A9-D14EEF83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32D1-9BCD-4BE9-AC6B-4E048740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8731-B192-432E-A32C-51DC49AC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AEA-0C98-4052-B692-AF585EDE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0DB3-EF9A-4A88-ADA8-639113F0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4FF0-C82D-4F5B-8890-A6486AE5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084D-B0B9-452A-BD3A-E8A047E2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C40B-9613-4086-92D7-5776666D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0FA3D-05D7-4A38-93EF-7C0CD019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F0B0-0671-4668-BB76-E35E1550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C9F9-5345-4FAA-8B09-E676475F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7DAD-EC06-48E4-BE11-F396E1CA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FDCAB-3C4A-4799-BBAF-86CB7D9C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D622-9BBA-4F6D-AD70-6C56DEFC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6AD-6347-41B8-8264-936FB2C4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53C8-514C-4761-B1FD-B020DC8E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8369-933E-4ADC-A6C5-D2DFDA7A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CAFD-13E5-4C66-A76C-4222EC3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955D7-5EEF-4BD8-A9C6-A2BC407D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D3958-11F7-4879-B4DA-41349663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DE68D-B33D-40EE-A24B-8CCFB508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1578-4BD7-4271-9CE6-887F1862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5C9B3-7EB4-4234-8C48-8793218A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04D97-56BE-4F55-B621-2E5B0C4E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A84C9-11EF-445D-B474-F11E82CB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E26-E9EE-4A22-A910-6E9188E5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AA233-0E78-481C-A0B9-A5025A49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1AAA-4ECF-404D-BF30-E1EAB35E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C69D9-9347-4069-BC3D-B2A2A400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EA610-E241-47D0-A68D-2E02A321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E926F-C665-4677-8C33-E4A195E9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76039-A3D2-4FEA-A18B-17ACDFBA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6BE85-C751-43C9-8F71-FBBFA77B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025E5-FD0B-42F2-AC35-9F5D7B8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FFCE5-239F-4A54-A17E-C96306A1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3800-685E-447F-B6C2-2E305D3A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7BA-1C63-4533-AE6A-3E94612C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32B7E-C9FF-43E6-BFD0-71263A96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70D3B-3815-413D-A995-4B62B11A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A5C31-A169-48CD-B5EB-C6168147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C6841-CA78-43F5-8EA3-2BCE18E1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84C3-F67D-4276-B2BF-22BB5006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7F7F5-1130-4959-BD89-B6E8E6C7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89F55-5CC5-4ABE-8AE3-7FD382D6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C2FD3-6AFF-4C58-A53A-4101B946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6554A-6831-40AE-B6F6-62E1AD5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0D1AE-5E55-4863-ACD8-F1B9B4D2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3ED-9F3F-4DA0-A148-EF31112C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5748C-B6CF-4527-904E-A96C2CD2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97B6B-ACF3-42FA-877F-7E0B486B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46EC-43F3-4B24-8302-6F064CC0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63D69-F2F1-4257-AA92-99F94F7B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3D074-1DE6-4900-8399-DD725C20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E531D-2E94-4669-BF10-93DA5AAA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57124-816A-4321-8F98-EDF1BB6F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6431C-E3A8-4F5F-9B9E-E83FBD42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E2EFD-7AC0-434A-8371-BD835C9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C17BF-1043-41A5-98BB-F74417F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F96-EFA2-4955-A358-A4BFAA97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6143A-40E6-40E5-AA60-0F384BD2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D7505-42F3-4CD6-84CD-4DB5B6A9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7D828-0A6C-406D-A3A5-32D095D0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05231-4A7D-453C-99C0-6DD4661D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56927-93C5-4FDD-A4CD-B95D638C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AE8-D414-4CCC-A916-18F1F946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077C-4CEE-4203-BD43-4CA2873E295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283D-9DAC-4E69-A0EC-C356F89DAF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1F99-3DCF-485B-B992-9927AD6E12F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52DB-5280-47CD-88BB-AA30621A07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65E2-EEBE-4462-A4FB-20AF477C804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6C65-2F87-47FF-AF5C-CA678EF325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1C81-08F1-4F9F-ADA5-AC122D9C8F6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66B6-D32E-4CFC-AD65-53BCAAC66E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2C22-366B-4F74-80C3-B2370D1DF79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8136-C6A3-4917-984A-4B695541AB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C620-1F62-483D-8005-FE3064F3983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587-E9F1-4548-9EBB-C103543EBF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C471-C810-4972-B2F8-15AA5E47307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4539-1977-436F-84E6-F29926EDBBE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School101\Desktop\вирусы\i.jpeg"/>
          <p:cNvPicPr/>
          <p:nvPr/>
        </p:nvPicPr>
        <p:blipFill>
          <a:blip r:embed="rId2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222.jpeg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995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590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ГБОУ СПО «АМТ» преподаватель Струкова Елена Алексеевна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171360" y="2205000"/>
            <a:ext cx="8972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ы безопасности информации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 виды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Picture 10" descr="2"/>
          <p:cNvPicPr/>
          <p:nvPr/>
        </p:nvPicPr>
        <p:blipFill>
          <a:blip r:embed="rId9"/>
          <a:stretch/>
        </p:blipFill>
        <p:spPr>
          <a:xfrm>
            <a:off x="7291440" y="0"/>
            <a:ext cx="185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1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69228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03280" y="2420640"/>
            <a:ext cx="7499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7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549360"/>
            <a:ext cx="60004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267920"/>
            <a:ext cx="7667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497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404640"/>
            <a:ext cx="81010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47628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179280" y="27082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1.jpeg"/>
          <p:cNvPicPr/>
          <p:nvPr/>
        </p:nvPicPr>
        <p:blipFill>
          <a:blip r:embed="rId4"/>
          <a:stretch/>
        </p:blipFill>
        <p:spPr>
          <a:xfrm>
            <a:off x="179280" y="4941720"/>
            <a:ext cx="776520" cy="827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F:\2.jpeg"/>
          <p:cNvPicPr/>
          <p:nvPr/>
        </p:nvPicPr>
        <p:blipFill>
          <a:blip r:embed="rId5"/>
          <a:stretch/>
        </p:blipFill>
        <p:spPr>
          <a:xfrm>
            <a:off x="179280" y="3716280"/>
            <a:ext cx="908280" cy="9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F:\3.jpeg"/>
          <p:cNvPicPr/>
          <p:nvPr/>
        </p:nvPicPr>
        <p:blipFill>
          <a:blip r:embed="rId6"/>
          <a:stretch/>
        </p:blipFill>
        <p:spPr>
          <a:xfrm>
            <a:off x="0" y="155736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28800" y="14292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щеобразов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нать основы электронных коммуника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ы угроз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спит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коммуникативных свойств лич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толерант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сетев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и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познавательного интере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навыков общения в се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оворить об угрозах информационно-технического характера, можно выделить такие элементы как кража информации, вредоносное ПО, хакерские атаки, СПАМ, халатность сотрудников, аппаратные и программные сбои, финансовое мошенничество, кража обору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гласно статистике применительно к этим угрозам, можно привести следующие данные (по результатам исследований, проведённых в России компанией InfoWath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информации – 64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доносное ПО – 6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керские атаки – 48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ам – 4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латность сотрудников – 4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аратные и программные сбои – 21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оборудования – 6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нансовое мошенничество – 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видно, из приведенных данных, наиболее распространены кража информации и вредоносное П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99640" y="105228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-457200"/>
            <a:ext cx="4973760" cy="2054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46160"/>
            <a:ext cx="65912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57120" y="691920"/>
            <a:ext cx="87868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файлообменные (P2P) и IRC-сети, LAN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5"/>
          <p:cNvSpPr/>
          <p:nvPr/>
        </p:nvSpPr>
        <p:spPr>
          <a:xfrm>
            <a:off x="684360" y="40194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IRC-сообщениях, файл в каталоге обмена P2P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539640" y="3645000"/>
            <a:ext cx="1397160" cy="113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/>
  <dc:description/>
  <dc:language>en-US</dc:language>
  <cp:lastModifiedBy>КарМаН</cp:lastModifiedBy>
  <dcterms:modified xsi:type="dcterms:W3CDTF">2012-07-06T13:10:13Z</dcterms:modified>
  <cp:revision>28</cp:revision>
  <dc:subject/>
  <dc:title>Слайд 1</dc:title>
</cp:coreProperties>
</file>