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3B0-2CB0-4D62-8661-FB7F7FBB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4EC-DC58-49EE-AEEF-486762F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6DA-BFE6-44F1-BF37-328C1862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6B2-C003-420E-BFEA-3AE08856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C47-02A8-49C7-B722-1221DD32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8EF-8444-44B2-8C4D-49E7CE8E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972-8194-4D73-AB44-3E6F2BFE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ABC-BAE3-4A9D-A6C3-A8FD5292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CD9-986A-49FC-B755-1CEA7D1E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5F7-4868-4B06-B925-9E1CA060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457-4AA7-4207-BA5C-1AC07540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6D8-D0B4-43C9-8AD4-751E6127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66E5-3709-4946-955C-4C6892680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404640"/>
            <a:ext cx="7129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умерные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сивы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37372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втор: учитель информатики МКОУ Плесской средней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Юдин Андрей Бори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365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1268280"/>
            <a:ext cx="3744720" cy="5184720"/>
            <a:chOff x="826920" y="1268280"/>
            <a:chExt cx="3744720" cy="5184720"/>
          </a:xfrm>
        </p:grpSpPr>
        <p:sp>
          <p:nvSpPr>
            <p:cNvPr id="111" name=""/>
            <p:cNvSpPr/>
            <p:nvPr/>
          </p:nvSpPr>
          <p:spPr>
            <a:xfrm>
              <a:off x="1499760" y="2732040"/>
              <a:ext cx="2346480" cy="64764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320" y="3701880"/>
              <a:ext cx="2065320" cy="72576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2280"/>
              <a:ext cx="219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0520" y="337968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920" y="4427640"/>
              <a:ext cx="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125000" y="4753080"/>
              <a:ext cx="15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25360" y="3053880"/>
              <a:ext cx="0" cy="169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5360" y="305424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240" y="30542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440" y="3054240"/>
              <a:ext cx="0" cy="21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26920" y="515628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4560" y="1773000"/>
              <a:ext cx="2346120" cy="7192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8560" y="126828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2131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26920" y="2131560"/>
              <a:ext cx="0" cy="30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79640" y="213192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1640" y="2131920"/>
              <a:ext cx="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698200" y="57322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8560" y="5732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-5760" y="62064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-схема заполнения с клави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3069"/>
              <a:gd name="adj2" fmla="val -7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87310"/>
              <a:gd name="adj2" fmla="val -103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лучайными чис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440" y="1267920"/>
            <a:ext cx="837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 random(2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- 1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141720"/>
            <a:ext cx="3384360" cy="64908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78620"/>
              <a:gd name="adj2" fmla="val -70402"/>
              <a:gd name="adj3" fmla="val 16667"/>
            </a:avLst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без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ыводит элементы массива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437000"/>
            <a:ext cx="2016360" cy="647640"/>
          </a:xfrm>
          <a:prstGeom prst="rect">
            <a:avLst/>
          </a:prstGeom>
          <a:noFill/>
          <a:ln w="414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645000"/>
            <a:ext cx="3240360" cy="2520720"/>
          </a:xfrm>
          <a:prstGeom prst="wedgeRoundRectCallout">
            <a:avLst>
              <a:gd name="adj1" fmla="val -79004"/>
              <a:gd name="adj2" fmla="val 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гд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я строка закончилась, пишем пусто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для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45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1989000"/>
            <a:ext cx="2346480" cy="648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933720"/>
            <a:ext cx="2232000" cy="72576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6440" y="1749600"/>
            <a:ext cx="2232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2637000"/>
            <a:ext cx="0" cy="3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653000"/>
            <a:ext cx="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87280" y="4941720"/>
            <a:ext cx="15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172880" y="2311560"/>
            <a:ext cx="14040" cy="263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2311560"/>
            <a:ext cx="37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94120" y="2311560"/>
            <a:ext cx="37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2311560"/>
            <a:ext cx="14400" cy="29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9640" y="5300640"/>
            <a:ext cx="33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1030320"/>
            <a:ext cx="2346120" cy="7192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6440" y="5256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4800" y="13892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874800" y="1388880"/>
            <a:ext cx="25200" cy="391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27520" y="13892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9520" y="1389240"/>
            <a:ext cx="23760" cy="427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71640" y="566100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924280"/>
            <a:ext cx="216036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16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1032"/>
              <a:gd name="adj2" fmla="val -270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90208"/>
              <a:gd name="adj2" fmla="val -149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9400" y="476280"/>
            <a:ext cx="61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5120" y="1196640"/>
            <a:ext cx="735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ОРМУ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340280"/>
            <a:ext cx="85327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ь произвольный массив размер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x 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N&lt;10) по следующему прави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127160"/>
            <a:ext cx="860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ВВеди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4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7720"/>
            <a:ext cx="1871640" cy="6476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3284640"/>
            <a:ext cx="2737080" cy="1800000"/>
          </a:xfrm>
          <a:prstGeom prst="wedgeRoundRectCallout">
            <a:avLst>
              <a:gd name="adj1" fmla="val -80740"/>
              <a:gd name="adj2" fmla="val -30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начение элемента в каждой ячейке строки равно номеру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82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268280"/>
            <a:ext cx="648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1773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27664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781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5120" y="76500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  2    3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5032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74840" y="907920"/>
            <a:ext cx="48135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Глав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=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2205000"/>
            <a:ext cx="50576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Побоч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461040"/>
            <a:ext cx="8642160" cy="329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204120"/>
            <a:ext cx="89661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f (i+j = n+1) then a[i,j]: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lse a[i,j]:=0;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708280"/>
            <a:ext cx="5545440" cy="122544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005360"/>
            <a:ext cx="3095640" cy="1944720"/>
          </a:xfrm>
          <a:prstGeom prst="wedgeRoundRectCallout">
            <a:avLst>
              <a:gd name="adj1" fmla="val -80666"/>
              <a:gd name="adj2" fmla="val -5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побочная диагональ то заполнить ячейку 1 во всех остальных случаях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032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2133720"/>
            <a:ext cx="2449440" cy="2950920"/>
          </a:xfrm>
          <a:prstGeom prst="wedgeRoundRectCallout">
            <a:avLst>
              <a:gd name="adj1" fmla="val -73009"/>
              <a:gd name="adj2" fmla="val -31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рагмент блок-схемы задачи заполнения побочной диагонали ед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89000"/>
            <a:ext cx="1719360" cy="50976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81360"/>
            <a:ext cx="1944720" cy="57168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1844640"/>
            <a:ext cx="17640" cy="18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59500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1640" y="558972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332000" y="227628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276640"/>
            <a:ext cx="14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276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276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4365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268280"/>
            <a:ext cx="1717920" cy="5652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557360"/>
            <a:ext cx="184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1557000"/>
            <a:ext cx="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3640" y="595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5157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549360"/>
            <a:ext cx="1512720" cy="57132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33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125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637000"/>
            <a:ext cx="143964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+j=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400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32000" y="537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6520" y="26370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6160" y="2708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2492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9079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14842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06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263700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213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765000"/>
            <a:ext cx="3672000" cy="2592720"/>
          </a:xfrm>
          <a:prstGeom prst="wedgeRoundRectCallout">
            <a:avLst>
              <a:gd name="adj1" fmla="val -74643"/>
              <a:gd name="adj2" fmla="val -91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i &lt;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976560"/>
            <a:ext cx="3672000" cy="2621160"/>
          </a:xfrm>
          <a:prstGeom prst="wedgeRoundRectCallout">
            <a:avLst>
              <a:gd name="adj1" fmla="val -91333"/>
              <a:gd name="adj2" fmla="val -57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i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05264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7520" y="476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3800" y="62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380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1197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177336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1380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236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3080" y="2349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380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2925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380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052640"/>
            <a:ext cx="3671640" cy="2592360"/>
          </a:xfrm>
          <a:prstGeom prst="wedgeRoundRectCallout">
            <a:avLst>
              <a:gd name="adj1" fmla="val 73476"/>
              <a:gd name="adj2" fmla="val -50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05360"/>
            <a:ext cx="3672000" cy="2592360"/>
          </a:xfrm>
          <a:prstGeom prst="wedgeRoundRectCallout">
            <a:avLst>
              <a:gd name="adj1" fmla="val 7111"/>
              <a:gd name="adj2" fmla="val -70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&gt;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25520" y="260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04360" y="76500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292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292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2920" y="335772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292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4360" y="45100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349360"/>
            <a:ext cx="28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09520" y="184464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50864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836640"/>
            <a:ext cx="5473440" cy="719280"/>
          </a:xfrm>
          <a:prstGeom prst="wedgeRoundRectCallout">
            <a:avLst>
              <a:gd name="adj1" fmla="val -5657"/>
              <a:gd name="adj2" fmla="val 142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(i+j&lt;n+1)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2205000"/>
            <a:ext cx="2628720" cy="1152720"/>
          </a:xfrm>
          <a:prstGeom prst="wedgeRoundRectCallout">
            <a:avLst>
              <a:gd name="adj1" fmla="val -54347"/>
              <a:gd name="adj2" fmla="val 101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661000"/>
            <a:ext cx="5473440" cy="719280"/>
          </a:xfrm>
          <a:prstGeom prst="wedgeRoundRectCallout">
            <a:avLst>
              <a:gd name="adj1" fmla="val 143"/>
              <a:gd name="adj2" fmla="val -131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g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5000"/>
            <a:ext cx="2629080" cy="1152720"/>
          </a:xfrm>
          <a:prstGeom prst="wedgeRoundRectCallout">
            <a:avLst>
              <a:gd name="adj1" fmla="val 57546"/>
              <a:gd name="adj2" fmla="val 85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29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ы неравен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46120"/>
            <a:ext cx="8501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573360"/>
            <a:ext cx="3527280" cy="2376720"/>
          </a:xfrm>
          <a:prstGeom prst="wedgeRoundRectCallout">
            <a:avLst>
              <a:gd name="adj1" fmla="val -67013"/>
              <a:gd name="adj2" fmla="val -10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то пересечение двух множеств. Элементы лежащие на и ниже побочной диагонали и элементы лежащие на и выше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76280"/>
            <a:ext cx="9001080" cy="605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i+j&gt;=n+1) and (i&lt;=j) then a[i,j]: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se a[i,j]:=0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a[i,j]: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276640"/>
            <a:ext cx="806436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3789360"/>
            <a:ext cx="3166920" cy="1224000"/>
          </a:xfrm>
          <a:prstGeom prst="wedgeRoundRectCallout">
            <a:avLst>
              <a:gd name="adj1" fmla="val -70953"/>
              <a:gd name="adj2" fmla="val -908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яем условие принадлежности данному множ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108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20640"/>
            <a:ext cx="8496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В мате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таблицы чисел, состоящие из строк и столбцов называ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матриц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и записываются в круглых скобках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yrillicUniversit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8000" y="2349360"/>
                <a:ext cx="45720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трицы                           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7632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ь двумерный массив 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учайными числами из интервала [-10 ; 10] и найти сумму элементов  массива лежащих  на главной диаго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2600" y="404640"/>
            <a:ext cx="47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дин или два прохода по масси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9600"/>
            <a:ext cx="8424720" cy="63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Первый способ. Один проход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0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i=j) then s:=s+ 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('Сумма элементов  =',s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429000"/>
            <a:ext cx="432108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1844640"/>
            <a:ext cx="3384360" cy="1297080"/>
          </a:xfrm>
          <a:prstGeom prst="wedgeRoundRectCallout">
            <a:avLst>
              <a:gd name="adj1" fmla="val -33490"/>
              <a:gd name="adj2" fmla="val 708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случайными числами и выводим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43700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5373720"/>
            <a:ext cx="3384720" cy="1484280"/>
          </a:xfrm>
          <a:prstGeom prst="wedgeRoundRectCallout">
            <a:avLst>
              <a:gd name="adj1" fmla="val -43435"/>
              <a:gd name="adj2" fmla="val -783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разу же находим сумму элементов лежащих на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95280"/>
            <a:ext cx="9144000" cy="645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Второй способ. Два прохода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'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a[i,j]:=random(20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if (i=j) then s:=s+ 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Сумма элементов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=',s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44640"/>
            <a:ext cx="5473440" cy="3168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981000"/>
            <a:ext cx="3024360" cy="1582920"/>
          </a:xfrm>
          <a:prstGeom prst="wedgeRoundRectCallout">
            <a:avLst>
              <a:gd name="adj1" fmla="val -53833"/>
              <a:gd name="adj2" fmla="val 8851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вый проход. 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5084640"/>
            <a:ext cx="5473440" cy="1297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4365720"/>
            <a:ext cx="3024000" cy="861840"/>
          </a:xfrm>
          <a:prstGeom prst="wedgeRoundRectCallout">
            <a:avLst>
              <a:gd name="adj1" fmla="val -52833"/>
              <a:gd name="adj2" fmla="val 118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торой проход. Находим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907920"/>
            <a:ext cx="8785440" cy="388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ли нужно что то сдел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 главной диагонал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о можно обойтись без вложенных цик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:=1 to n do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s:=s+ a[i,</a:t>
            </a: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01920" y="2565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39800" y="38847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54280" y="235116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297324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80000" y="2781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191628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39800" y="3176640"/>
            <a:ext cx="207828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78040" y="3732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1125360"/>
            <a:ext cx="144000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7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33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4508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 =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72428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4941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6000" y="5516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116000" y="2781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4365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51640" y="278136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26920" y="5661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26920" y="213372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2133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21337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213372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627280" y="5805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6021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580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652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8520" y="4581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440" y="5157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27640" y="476280"/>
            <a:ext cx="4411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один проход по масс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6200" y="333360"/>
            <a:ext cx="3674160" cy="5183280"/>
            <a:chOff x="466200" y="333360"/>
            <a:chExt cx="3674160" cy="5183280"/>
          </a:xfrm>
        </p:grpSpPr>
        <p:sp>
          <p:nvSpPr>
            <p:cNvPr id="389" name=""/>
            <p:cNvSpPr/>
            <p:nvPr/>
          </p:nvSpPr>
          <p:spPr>
            <a:xfrm>
              <a:off x="1141560" y="2709720"/>
              <a:ext cx="225576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9440" y="402912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3920" y="2495520"/>
              <a:ext cx="2052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14440" y="311796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19640" y="292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16000" y="206064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79440" y="3321000"/>
              <a:ext cx="207828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7680" y="3876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62064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7640" y="1270080"/>
              <a:ext cx="144000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6920" y="184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6920" y="1125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50864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5280" y="46530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5640" y="292572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451008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5640" y="292572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24360" y="292572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68360" y="479736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66200" y="2278080"/>
              <a:ext cx="180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6560" y="22780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2780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40360" y="227808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68360" y="5086440"/>
              <a:ext cx="18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360" y="33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360" y="52293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553080" y="141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5840" y="1700280"/>
            <a:ext cx="3999240" cy="5040360"/>
            <a:chOff x="4785840" y="1700280"/>
            <a:chExt cx="3999240" cy="5040360"/>
          </a:xfrm>
        </p:grpSpPr>
        <p:sp>
          <p:nvSpPr>
            <p:cNvPr id="417" name=""/>
            <p:cNvSpPr/>
            <p:nvPr/>
          </p:nvSpPr>
          <p:spPr>
            <a:xfrm>
              <a:off x="5460840" y="2565360"/>
              <a:ext cx="225612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13560" y="2351160"/>
              <a:ext cx="205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8920" y="2781360"/>
              <a:ext cx="6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35640" y="191628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6560" y="1700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4000" y="3139920"/>
              <a:ext cx="1439640" cy="86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 =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61080" y="4292640"/>
              <a:ext cx="172872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 =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24720" y="400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11280" y="515772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111640" y="278100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4720" y="4869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1640" y="278136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53440" y="278136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785840" y="5661000"/>
              <a:ext cx="35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786200" y="2133720"/>
              <a:ext cx="0" cy="35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6200" y="21337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667640" y="2131560"/>
              <a:ext cx="1117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85080" y="2131920"/>
              <a:ext cx="0" cy="36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586200" y="5805360"/>
              <a:ext cx="21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602136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6560" y="580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96000" y="393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46880" y="321300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111280" y="3573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4720" y="2997360"/>
              <a:ext cx="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652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419640" y="549360"/>
            <a:ext cx="5473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68360" y="836640"/>
            <a:ext cx="3673440" cy="5183280"/>
            <a:chOff x="468360" y="836640"/>
            <a:chExt cx="3673440" cy="5183280"/>
          </a:xfrm>
        </p:grpSpPr>
        <p:sp>
          <p:nvSpPr>
            <p:cNvPr id="446" name=""/>
            <p:cNvSpPr/>
            <p:nvPr/>
          </p:nvSpPr>
          <p:spPr>
            <a:xfrm>
              <a:off x="1143000" y="3213000"/>
              <a:ext cx="225540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0880" y="453240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95360" y="2998800"/>
              <a:ext cx="2016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5880" y="362124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429000"/>
              <a:ext cx="50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7440" y="2563920"/>
              <a:ext cx="225720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0880" y="3824280"/>
              <a:ext cx="207792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19120" y="4380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0360" y="1123920"/>
              <a:ext cx="198540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080" y="1773360"/>
              <a:ext cx="143964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8360" y="23479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68360" y="1628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69800" y="558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57080" y="515628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7080" y="342900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41440" y="501336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080" y="3429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25800" y="342900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69440" y="5300640"/>
              <a:ext cx="34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68360" y="2781360"/>
              <a:ext cx="144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278136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49440" y="2781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1800" y="2781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269440" y="55897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9800" y="836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9800" y="573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437080" y="313992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0" y="2924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26160" y="3932280"/>
            <a:ext cx="17287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9800" y="3573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789080" y="4797360"/>
            <a:ext cx="180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89800" y="4508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88000" y="3357360"/>
            <a:ext cx="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8000" y="3357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9080" y="3357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02520" y="3357720"/>
            <a:ext cx="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5178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35640" y="5661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816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16720" y="6165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404640"/>
            <a:ext cx="54738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 (в случае когда речь идет только о главной диагонали и остальной массив не нуж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0464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дин или два прохода по массиву? Рассуждение втор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906840"/>
            <a:ext cx="8496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инимальный элемент лежащий на главной диаго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200720" cy="25639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1928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 элемент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1040" y="366480"/>
            <a:ext cx="8538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андартный способ без анализ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m:=a[1,1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=',m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1341360"/>
            <a:ext cx="5545080" cy="3167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1052640"/>
            <a:ext cx="3095640" cy="1224000"/>
          </a:xfrm>
          <a:prstGeom prst="wedgeRoundRectCallout">
            <a:avLst>
              <a:gd name="adj1" fmla="val -39694"/>
              <a:gd name="adj2" fmla="val 15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случайн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508640"/>
            <a:ext cx="2089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24360" y="3645000"/>
            <a:ext cx="3095640" cy="1439640"/>
          </a:xfrm>
          <a:prstGeom prst="wedgeRoundRectCallout">
            <a:avLst>
              <a:gd name="adj1" fmla="val -90412"/>
              <a:gd name="adj2" fmla="val 2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минимальный элемент стоит в левом верхнем уг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5950080"/>
            <a:ext cx="59054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1916280"/>
            <a:ext cx="3166920" cy="1944360"/>
          </a:xfrm>
          <a:prstGeom prst="wedgeRoundRectCallout">
            <a:avLst>
              <a:gd name="adj1" fmla="val -47143"/>
              <a:gd name="adj2" fmla="val 154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ли встречается элемент меньш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,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и он лежит на главной диагонали, то он становится мин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268280"/>
            <a:ext cx="8713800" cy="448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данном случае можно не бегать по вс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ассиву а пройти только по главной диагонали, обойдясь без вложенных цик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m:=a[1,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For i:=2 to n do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if (a[i,i]&lt;m)  then m:=a[i,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620640"/>
            <a:ext cx="86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немного по рассуждать,  можно увидеть, что самое «маленькое» число, которое может выдать генератор случайных чисел это 10. Все остальные числа будут меньше его. Т.к. в условии задачи нам точно задан интерва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-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404640"/>
            <a:ext cx="889308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 анализом исходных данных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'ВВеди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m: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a[i,j]:=random(21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лежащий на главной диагонали =',m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1484280"/>
            <a:ext cx="1584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125360"/>
            <a:ext cx="3097080" cy="1727280"/>
          </a:xfrm>
          <a:prstGeom prst="wedgeRoundRectCallout">
            <a:avLst>
              <a:gd name="adj1" fmla="val -175370"/>
              <a:gd name="adj2" fmla="val -19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маленькое число 10, пра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924280"/>
            <a:ext cx="6624720" cy="1512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0" y="4653000"/>
            <a:ext cx="3097440" cy="1727280"/>
          </a:xfrm>
          <a:prstGeom prst="wedgeRoundRectCallout">
            <a:avLst>
              <a:gd name="adj1" fmla="val -120273"/>
              <a:gd name="adj2" fmla="val -63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, выводим на экран и сразу проверяем на минимальность в главной диаго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 . Максимальный элемент в строке                                      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403560"/>
            <a:ext cx="878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аксимальный элемент в каждой строк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135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140360" y="299736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08360" y="3284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3640" y="350028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3280" y="3789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292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4508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472428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080" y="478800"/>
            <a:ext cx="872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x:=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,j]&gt;max) then 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  MAx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620640"/>
            <a:ext cx="6697800" cy="23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ешение в один про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 анализом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6920" y="1700280"/>
            <a:ext cx="2016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24360" y="1341360"/>
            <a:ext cx="3240360" cy="1366920"/>
          </a:xfrm>
          <a:prstGeom prst="wedgeRoundRectCallout">
            <a:avLst>
              <a:gd name="adj1" fmla="val -132902"/>
              <a:gd name="adj2" fmla="val -120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большое число - 10, ле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1125360"/>
            <a:ext cx="432108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838080"/>
            <a:ext cx="313236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5640" y="6093000"/>
            <a:ext cx="10796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27280" y="2781360"/>
            <a:ext cx="4681440" cy="1079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2000" y="1413000"/>
            <a:ext cx="3132000" cy="1224000"/>
          </a:xfrm>
          <a:prstGeom prst="wedgeRoundRectCallout">
            <a:avLst>
              <a:gd name="adj1" fmla="val -75291"/>
              <a:gd name="adj2" fmla="val 629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элемент массива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27280" y="3933720"/>
            <a:ext cx="651672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4724280"/>
            <a:ext cx="3203640" cy="1944720"/>
          </a:xfrm>
          <a:prstGeom prst="wedgeRoundRectCallout">
            <a:avLst>
              <a:gd name="adj1" fmla="val -55847"/>
              <a:gd name="adj2" fmla="val -65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в строке встречается элемент больше максимального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4941720"/>
            <a:ext cx="496908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27640" y="5516640"/>
            <a:ext cx="3203640" cy="1144440"/>
          </a:xfrm>
          <a:prstGeom prst="wedgeRoundRectCallout">
            <a:avLst>
              <a:gd name="adj1" fmla="val -81564"/>
              <a:gd name="adj2" fmla="val -4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им наибольший элемент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2276640"/>
            <a:ext cx="2255760" cy="4316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19280" y="3645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27280" y="213372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27280" y="270828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03280" y="112536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292428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500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8000" y="1773360"/>
            <a:ext cx="144000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155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9640" y="4292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08360" y="443700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9640" y="47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501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116000" y="5300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116000" y="2491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5157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149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600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2492280"/>
            <a:ext cx="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826920" y="645336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6920" y="13413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1341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3413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96000" y="13413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00000" y="551664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57340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1497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92360" y="48690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00360" y="623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476280"/>
            <a:ext cx="29894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один про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7280" y="33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03640" y="630864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Применение.                                                    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480000" cy="330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0120" y="47628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двумерных массивов для построения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00440" cy="516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7618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54936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‘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645000"/>
            <a:ext cx="3203640" cy="1144440"/>
          </a:xfrm>
          <a:prstGeom prst="wedgeRoundRectCallout">
            <a:avLst>
              <a:gd name="adj1" fmla="val 73833"/>
              <a:gd name="adj2" fmla="val -1196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a[i,1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j:=2 to n d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if (a[i,j]&gt;max) the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('В ',i,' строке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x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9228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500280"/>
            <a:ext cx="115236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8360" y="1268280"/>
            <a:ext cx="266364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1844640"/>
            <a:ext cx="8209080" cy="1079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5640" y="2924280"/>
            <a:ext cx="7993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549360"/>
            <a:ext cx="313200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04640"/>
            <a:ext cx="3456000" cy="1511640"/>
          </a:xfrm>
          <a:prstGeom prst="wedgeRoundRectCallout">
            <a:avLst>
              <a:gd name="adj1" fmla="val -118351"/>
              <a:gd name="adj2" fmla="val 2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наибольший элемент в каждой строке стоит на перв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80000" y="3573360"/>
            <a:ext cx="3240000" cy="1943280"/>
          </a:xfrm>
          <a:prstGeom prst="wedgeRoundRectCallout">
            <a:avLst>
              <a:gd name="adj1" fmla="val -67097"/>
              <a:gd name="adj2" fmla="val -82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дем по строке и если находим элемент больший чем максимальный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68360" y="4292640"/>
            <a:ext cx="3167280" cy="936720"/>
          </a:xfrm>
          <a:prstGeom prst="wedgeRoundRectCallout">
            <a:avLst>
              <a:gd name="adj1" fmla="val 6592"/>
              <a:gd name="adj2" fmla="val -1398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 наибольшего элемента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692280"/>
            <a:ext cx="6336000" cy="28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ндартным спосо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вый проход – запол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торой проход – 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аксимального в ст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2480" y="249552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3814920"/>
            <a:ext cx="1985760" cy="51084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04840" y="2281320"/>
            <a:ext cx="2088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25720" y="290340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30560" y="27115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184644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10680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28960" y="3662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12536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78200" y="1630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79640" y="4871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66200" y="44388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66560" y="27115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429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6560" y="27115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271152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79280" y="45831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77840" y="2063880"/>
            <a:ext cx="144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7840" y="206388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20638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206388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979280" y="48718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080" y="838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9417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2349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2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83280" y="220680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83280" y="2781360"/>
            <a:ext cx="0" cy="22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6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19844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1773360"/>
            <a:ext cx="144000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3280" y="163044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83280" y="10540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64000" y="2997360"/>
            <a:ext cx="144000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92720" y="407664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71640" y="3429000"/>
            <a:ext cx="79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8472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1640" y="4797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2565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465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56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2565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84360" y="595008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4282560" y="1414080"/>
            <a:ext cx="180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2920" y="141444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091280" y="141300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084360" y="5013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5229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8472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27640" y="3716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3068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72360" y="1413000"/>
            <a:ext cx="0" cy="43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12000" y="765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47628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580536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5229360"/>
            <a:ext cx="39243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два про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.                                             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50080"/>
            <a:ext cx="871380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Массив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 это пронумерованная последовательность величин одинакового типа, обозначаемая одним именем. Элементы массива располагаются в последовательных ячейках памяти, обозначаются именем массива и индексом. Каждое из значений, составляющих массив, называется его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компонент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 (или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элементом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масси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292640"/>
            <a:ext cx="8712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особ организации данных, при котором каждый элемент определяется номером строки и номером столбца, на пересечении которых он расположен, называется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умерным массивом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                                                                     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71640" y="1413000"/>
          <a:ext cx="4824000" cy="3023640"/>
        </p:xfrm>
        <a:graphic>
          <a:graphicData uri="http://schemas.openxmlformats.org/drawingml/2006/table">
            <a:tbl>
              <a:tblPr/>
              <a:tblGrid>
                <a:gridCol w="803880"/>
                <a:gridCol w="803880"/>
                <a:gridCol w="804240"/>
                <a:gridCol w="804240"/>
                <a:gridCol w="803520"/>
                <a:gridCol w="8042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890640" y="765000"/>
            <a:ext cx="51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     2      3      4      5      6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0160" y="1700280"/>
            <a:ext cx="37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400" y="40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 математик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6160" y="1773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scal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3120" y="765000"/>
            <a:ext cx="11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4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Courier New"/>
              </a:rPr>
              <a:t>;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2133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48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j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79640" cy="1079640"/>
          </a:xfrm>
          <a:prstGeom prst="wedgeRoundRectCallout">
            <a:avLst>
              <a:gd name="adj1" fmla="val -117532"/>
              <a:gd name="adj2" fmla="val -153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084640"/>
            <a:ext cx="2879640" cy="1079640"/>
          </a:xfrm>
          <a:prstGeom prst="wedgeRoundRectCallout">
            <a:avLst>
              <a:gd name="adj1" fmla="val -58875"/>
              <a:gd name="adj2" fmla="val -3414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445000"/>
            <a:ext cx="2879640" cy="1079640"/>
          </a:xfrm>
          <a:prstGeom prst="wedgeRoundRectCallout">
            <a:avLst>
              <a:gd name="adj1" fmla="val -59152"/>
              <a:gd name="adj2" fmla="val -204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720" y="33336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амый простой способ описани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ray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10,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20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r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5000"/>
            <a:ext cx="2087640" cy="1008000"/>
          </a:xfrm>
          <a:prstGeom prst="wedgeRoundRectCallout">
            <a:avLst>
              <a:gd name="adj1" fmla="val -32435"/>
              <a:gd name="adj2" fmla="val -112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м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1916280"/>
            <a:ext cx="3097080" cy="1008000"/>
          </a:xfrm>
          <a:prstGeom prst="wedgeRoundRectCallout">
            <a:avLst>
              <a:gd name="adj1" fmla="val -2384"/>
              <a:gd name="adj2" fmla="val -82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924280"/>
            <a:ext cx="2737080" cy="1008000"/>
          </a:xfrm>
          <a:prstGeom prst="wedgeRoundRectCallout">
            <a:avLst>
              <a:gd name="adj1" fmla="val 11657"/>
              <a:gd name="adj2" fmla="val -184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2276640"/>
            <a:ext cx="2376360" cy="1511280"/>
          </a:xfrm>
          <a:prstGeom prst="wedgeRoundRectCallout">
            <a:avLst>
              <a:gd name="adj1" fmla="val -6314"/>
              <a:gd name="adj2" fmla="val -94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ип данных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0" y="3357720"/>
            <a:ext cx="92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1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 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 2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25360"/>
            <a:ext cx="50508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200" y="2421000"/>
            <a:ext cx="59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исание как массив масси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2448000" cy="1008000"/>
          </a:xfrm>
          <a:prstGeom prst="wedgeRoundRectCallout">
            <a:avLst>
              <a:gd name="adj1" fmla="val -30222"/>
              <a:gd name="adj2" fmla="val -159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дно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365720"/>
            <a:ext cx="3529080" cy="2087640"/>
          </a:xfrm>
          <a:prstGeom prst="wedgeRoundRectCallout">
            <a:avLst>
              <a:gd name="adj1" fmla="val -44689"/>
              <a:gd name="adj2" fmla="val -626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элемент которого  в свою очередь является одномерным масс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429000"/>
            <a:ext cx="302400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429000"/>
            <a:ext cx="309564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" y="763560"/>
            <a:ext cx="894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m=10; n =20;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Var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 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 m, 1.. n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080" y="333360"/>
            <a:ext cx="85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рок и столбцов через конст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836640"/>
            <a:ext cx="3961080" cy="136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197000"/>
            <a:ext cx="3529080" cy="1295280"/>
          </a:xfrm>
          <a:prstGeom prst="wedgeRoundRectCallout">
            <a:avLst>
              <a:gd name="adj1" fmla="val -73662"/>
              <a:gd name="adj2" fmla="val -11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разделе констант указываем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8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yp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=array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1..m,1..n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]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eger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var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91960" y="386064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 нового тип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1511280" cy="720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997360"/>
            <a:ext cx="3529080" cy="1726920"/>
          </a:xfrm>
          <a:prstGeom prst="wedgeRoundRectCallout">
            <a:avLst>
              <a:gd name="adj1" fmla="val -92870"/>
              <a:gd name="adj2" fmla="val 50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ем пользовательский тип , дву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3,1..5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(3,-2,1,4,3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5,-9,0,3,7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1,2,1,-4,0))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7600" y="54936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ссив конс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492280"/>
            <a:ext cx="3600360" cy="2305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429000"/>
            <a:ext cx="3671640" cy="2016000"/>
          </a:xfrm>
          <a:prstGeom prst="wedgeRoundRectCallout">
            <a:avLst>
              <a:gd name="adj1" fmla="val 72092"/>
              <a:gd name="adj2" fmla="val -642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посредственно в программе указываем значения элементов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10840"/>
            <a:ext cx="85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, i,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j,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=  '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adln(a[i, j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92280"/>
            <a:ext cx="65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484280"/>
            <a:ext cx="5977080" cy="649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133720"/>
            <a:ext cx="7704000" cy="3311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189000"/>
            <a:ext cx="6696000" cy="1152360"/>
          </a:xfrm>
          <a:prstGeom prst="wedgeRoundRectCallout">
            <a:avLst>
              <a:gd name="adj1" fmla="val -48245"/>
              <a:gd name="adj2" fmla="val 59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Берем первую, вторую и так дале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5391000"/>
            <a:ext cx="3672000" cy="1467000"/>
          </a:xfrm>
          <a:prstGeom prst="wedgeRoundRectCallout">
            <a:avLst>
              <a:gd name="adj1" fmla="val -76111"/>
              <a:gd name="adj2" fmla="val -8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5661000"/>
            <a:ext cx="1729080" cy="574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7800" y="55166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67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07:47Z</dcterms:created>
  <dc:creator>Юдины</dc:creator>
  <dc:description/>
  <dc:language>en-US</dc:language>
  <cp:lastModifiedBy>Юдины</cp:lastModifiedBy>
  <dcterms:modified xsi:type="dcterms:W3CDTF">2012-03-27T14:17:05Z</dcterms:modified>
  <cp:revision>117</cp:revision>
  <dc:subject/>
  <dc:title>Слайд 1</dc:title>
</cp:coreProperties>
</file>