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404-658B-45FD-950B-F6AE9049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BAC-D880-4904-879B-19AD0A80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35A-3FEC-4659-8B86-946CC5CC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4B7-A98C-4469-9F8A-3D41BDA1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AC7-977F-47C9-A894-3812BF47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C58-9B4C-4340-86BE-38FDB8D2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163-7978-4AF0-B017-014E8240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D5C-A9FB-41CF-8644-11FE6C56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49C-A4F3-4CC2-BACB-E4C03401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BA1-7338-4E6D-B82A-8C61DF01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A3F-2247-4061-8637-00855E94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C0F-6BDE-44E6-8654-C8909ED8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D0A5-831C-4947-8908-9B4D9FB76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404640"/>
            <a:ext cx="71294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умерные 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сивы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5373720"/>
            <a:ext cx="44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втор: учитель информатики МКОУ Плесской средней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Юдин Андрей Бори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43657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Часть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1268280"/>
            <a:ext cx="3744720" cy="5184720"/>
            <a:chOff x="826920" y="1268280"/>
            <a:chExt cx="3744720" cy="5184720"/>
          </a:xfrm>
        </p:grpSpPr>
        <p:sp>
          <p:nvSpPr>
            <p:cNvPr id="111" name=""/>
            <p:cNvSpPr/>
            <p:nvPr/>
          </p:nvSpPr>
          <p:spPr>
            <a:xfrm>
              <a:off x="1499760" y="2732040"/>
              <a:ext cx="2346480" cy="64764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320" y="3701880"/>
              <a:ext cx="2065320" cy="72576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8560" y="2492280"/>
              <a:ext cx="2196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20520" y="337968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26920" y="4427640"/>
              <a:ext cx="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125000" y="4753080"/>
              <a:ext cx="15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125360" y="3053880"/>
              <a:ext cx="0" cy="169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25360" y="305424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240" y="30542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440" y="3054240"/>
              <a:ext cx="0" cy="21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26920" y="5156280"/>
              <a:ext cx="339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74560" y="1773000"/>
              <a:ext cx="2346120" cy="7192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98560" y="126828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6920" y="21319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26920" y="2131560"/>
              <a:ext cx="0" cy="30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79640" y="213192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1640" y="2131920"/>
              <a:ext cx="0" cy="36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698200" y="5732280"/>
              <a:ext cx="18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98560" y="573228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-5760" y="62064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лок-схема заполнения с клави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3069"/>
              <a:gd name="adj2" fmla="val -75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87310"/>
              <a:gd name="adj2" fmla="val -1030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6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лучайными числ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440" y="1267920"/>
            <a:ext cx="837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 random(2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 - 1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3141720"/>
            <a:ext cx="3384360" cy="64908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78620"/>
              <a:gd name="adj2" fmla="val -70402"/>
              <a:gd name="adj3" fmla="val 16667"/>
            </a:avLst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без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ыводит элементы массива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4437000"/>
            <a:ext cx="2016360" cy="647640"/>
          </a:xfrm>
          <a:prstGeom prst="rect">
            <a:avLst/>
          </a:prstGeom>
          <a:noFill/>
          <a:ln w="414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3645000"/>
            <a:ext cx="3240360" cy="2520720"/>
          </a:xfrm>
          <a:prstGeom prst="wedgeRoundRectCallout">
            <a:avLst>
              <a:gd name="adj1" fmla="val -79004"/>
              <a:gd name="adj2" fmla="val 6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гд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я строка закончилась, пишем пусто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для перехода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84720" y="4076640"/>
            <a:ext cx="45352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1989000"/>
            <a:ext cx="2346480" cy="648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3933720"/>
            <a:ext cx="2232000" cy="72576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6440" y="1749600"/>
            <a:ext cx="2232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68760" y="2637000"/>
            <a:ext cx="0" cy="3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653000"/>
            <a:ext cx="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187280" y="4941720"/>
            <a:ext cx="150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172880" y="2311560"/>
            <a:ext cx="14040" cy="263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2311560"/>
            <a:ext cx="37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94120" y="2311560"/>
            <a:ext cx="37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2311560"/>
            <a:ext cx="14400" cy="29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9640" y="5300640"/>
            <a:ext cx="33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1030320"/>
            <a:ext cx="2346120" cy="7192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6440" y="5256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74800" y="13892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874800" y="1388880"/>
            <a:ext cx="25200" cy="391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27520" y="13892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19520" y="1389240"/>
            <a:ext cx="23760" cy="427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71640" y="5661000"/>
            <a:ext cx="187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66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924280"/>
            <a:ext cx="216036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71628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1032"/>
              <a:gd name="adj2" fmla="val -270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90208"/>
              <a:gd name="adj2" fmla="val -149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9400" y="476280"/>
            <a:ext cx="61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по правил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15120" y="1196640"/>
            <a:ext cx="7355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ФОРМУ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340280"/>
            <a:ext cx="853272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олнить произвольный массив размеро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x N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N&lt;10) по следующему прави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127160"/>
            <a:ext cx="860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ВВеди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i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4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357720"/>
            <a:ext cx="1871640" cy="6476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3284640"/>
            <a:ext cx="2737080" cy="1800000"/>
          </a:xfrm>
          <a:prstGeom prst="wedgeRoundRectCallout">
            <a:avLst>
              <a:gd name="adj1" fmla="val -80740"/>
              <a:gd name="adj2" fmla="val -30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начение элемента в каждой ячейке строки равно номеру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826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268280"/>
            <a:ext cx="648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1773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27664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2781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5120" y="765000"/>
            <a:ext cx="23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   2    3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268280"/>
            <a:ext cx="50328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74840" y="907920"/>
            <a:ext cx="48135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Глав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=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0" y="2205000"/>
            <a:ext cx="505764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Побоч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461040"/>
            <a:ext cx="8642160" cy="329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840" y="204120"/>
            <a:ext cx="89661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f (i+j = n+1) then a[i,j]: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lse a[i,j]:=0;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708280"/>
            <a:ext cx="5545440" cy="122544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4005360"/>
            <a:ext cx="3095640" cy="1944720"/>
          </a:xfrm>
          <a:prstGeom prst="wedgeRoundRectCallout">
            <a:avLst>
              <a:gd name="adj1" fmla="val -80666"/>
              <a:gd name="adj2" fmla="val -54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побочная диагональ то заполнить ячейку 1 во всех остальных случаях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0320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2133720"/>
            <a:ext cx="2449440" cy="2950920"/>
          </a:xfrm>
          <a:prstGeom prst="wedgeRoundRectCallout">
            <a:avLst>
              <a:gd name="adj1" fmla="val -73009"/>
              <a:gd name="adj2" fmla="val -31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рагмент блок-схемы задачи заполнения побочной диагонали един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1989000"/>
            <a:ext cx="1719360" cy="50976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4581360"/>
            <a:ext cx="1944720" cy="57168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1844640"/>
            <a:ext cx="17640" cy="18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5950080"/>
            <a:ext cx="0" cy="25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1640" y="558972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332000" y="227628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276640"/>
            <a:ext cx="149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276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2276640"/>
            <a:ext cx="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410920" y="436572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268280"/>
            <a:ext cx="1717920" cy="5652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1557360"/>
            <a:ext cx="184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71640" y="1557000"/>
            <a:ext cx="0" cy="40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1557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3640" y="59500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5157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549360"/>
            <a:ext cx="1512720" cy="57132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333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1125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2637000"/>
            <a:ext cx="143964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+j=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10920" y="3068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4076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4005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332000" y="5373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1557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6520" y="26370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6160" y="270828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2492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092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9079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092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9236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14842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206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263700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200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3213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765000"/>
            <a:ext cx="3672000" cy="2592720"/>
          </a:xfrm>
          <a:prstGeom prst="wedgeRoundRectCallout">
            <a:avLst>
              <a:gd name="adj1" fmla="val -74643"/>
              <a:gd name="adj2" fmla="val -91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i &lt;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976560"/>
            <a:ext cx="3672000" cy="2621160"/>
          </a:xfrm>
          <a:prstGeom prst="wedgeRoundRectCallout">
            <a:avLst>
              <a:gd name="adj1" fmla="val -91333"/>
              <a:gd name="adj2" fmla="val -57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i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05264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7520" y="476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7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5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13800" y="62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308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1380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93080" y="1197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177336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81380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236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3080" y="2349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1380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9308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3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32360" y="2925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5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1380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052640"/>
            <a:ext cx="3671640" cy="2592360"/>
          </a:xfrm>
          <a:prstGeom prst="wedgeRoundRectCallout">
            <a:avLst>
              <a:gd name="adj1" fmla="val 73476"/>
              <a:gd name="adj2" fmla="val -50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05360"/>
            <a:ext cx="3672000" cy="2592360"/>
          </a:xfrm>
          <a:prstGeom prst="wedgeRoundRectCallout">
            <a:avLst>
              <a:gd name="adj1" fmla="val 7111"/>
              <a:gd name="adj2" fmla="val -70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&gt;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25520" y="260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604360" y="76500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8292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400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292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4328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82920" y="335772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0364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2436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400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292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4328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292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364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24360" y="45100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6400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11280" y="2349360"/>
            <a:ext cx="28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09520" y="184464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3280" y="450864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95640" y="836640"/>
            <a:ext cx="5473440" cy="719280"/>
          </a:xfrm>
          <a:prstGeom prst="wedgeRoundRectCallout">
            <a:avLst>
              <a:gd name="adj1" fmla="val -5657"/>
              <a:gd name="adj2" fmla="val 142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(i+j&lt;n+1)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5280" y="2205000"/>
            <a:ext cx="2628720" cy="1152720"/>
          </a:xfrm>
          <a:prstGeom prst="wedgeRoundRectCallout">
            <a:avLst>
              <a:gd name="adj1" fmla="val -54347"/>
              <a:gd name="adj2" fmla="val 101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35280" y="5661000"/>
            <a:ext cx="5473440" cy="719280"/>
          </a:xfrm>
          <a:prstGeom prst="wedgeRoundRectCallout">
            <a:avLst>
              <a:gd name="adj1" fmla="val 143"/>
              <a:gd name="adj2" fmla="val -131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g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205000"/>
            <a:ext cx="2629080" cy="1152720"/>
          </a:xfrm>
          <a:prstGeom prst="wedgeRoundRectCallout">
            <a:avLst>
              <a:gd name="adj1" fmla="val 57546"/>
              <a:gd name="adj2" fmla="val 85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82920" y="26028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истемы неравен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546120"/>
            <a:ext cx="8501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0720" y="3573360"/>
            <a:ext cx="3527280" cy="2376720"/>
          </a:xfrm>
          <a:prstGeom prst="wedgeRoundRectCallout">
            <a:avLst>
              <a:gd name="adj1" fmla="val -67013"/>
              <a:gd name="adj2" fmla="val -107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Это пересечение двух множеств. Элементы лежащие на и ниже побочной диагонали и элементы лежащие на и выше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76280"/>
            <a:ext cx="9001080" cy="605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i+j&gt;=n+1) and (i&lt;=j) then a[i,j]:=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lse a[i,j]:=0;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a[i,j]: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2276640"/>
            <a:ext cx="806436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2720" y="3789360"/>
            <a:ext cx="3166920" cy="1224000"/>
          </a:xfrm>
          <a:prstGeom prst="wedgeRoundRectCallout">
            <a:avLst>
              <a:gd name="adj1" fmla="val -70953"/>
              <a:gd name="adj2" fmla="val -908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веряем условие принадлежности данному множ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108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620640"/>
            <a:ext cx="84963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В математи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таблицы чисел, состоящие из строк и столбцов называю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матрица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и записываются в круглых скобках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yrillicUniversit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8000" y="2349360"/>
                <a:ext cx="457200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трицы                                                                                 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7632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ь двумерный массив N 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лучайными числами из интервала [-10 ; 10] и найти сумму элементов  массива лежащих  на главной диагон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2600" y="404640"/>
            <a:ext cx="47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дин или два прохода по масси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489600"/>
            <a:ext cx="8424720" cy="63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Первый способ. Один проход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0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i=j) then s:=s+ 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('Сумма элементов  =',s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3429000"/>
            <a:ext cx="432108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1844640"/>
            <a:ext cx="3384360" cy="1297080"/>
          </a:xfrm>
          <a:prstGeom prst="wedgeRoundRectCallout">
            <a:avLst>
              <a:gd name="adj1" fmla="val -33490"/>
              <a:gd name="adj2" fmla="val 708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случайными числами и выводим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9280" y="443700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59280" y="5373720"/>
            <a:ext cx="3384720" cy="1484280"/>
          </a:xfrm>
          <a:prstGeom prst="wedgeRoundRectCallout">
            <a:avLst>
              <a:gd name="adj1" fmla="val -43435"/>
              <a:gd name="adj2" fmla="val -783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сразу же находим сумму элементов лежащих на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95280"/>
            <a:ext cx="9144000" cy="645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Второй способ. Два прохода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'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a[i,j]:=random(20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if (i=j) then s:=s+ 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Сумма элементов</a:t>
            </a: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=',s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1844640"/>
            <a:ext cx="5473440" cy="3168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981000"/>
            <a:ext cx="3024360" cy="1582920"/>
          </a:xfrm>
          <a:prstGeom prst="wedgeRoundRectCallout">
            <a:avLst>
              <a:gd name="adj1" fmla="val -53833"/>
              <a:gd name="adj2" fmla="val 8851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вый проход. 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5084640"/>
            <a:ext cx="5473440" cy="1297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96000" y="4365720"/>
            <a:ext cx="3024000" cy="861840"/>
          </a:xfrm>
          <a:prstGeom prst="wedgeRoundRectCallout">
            <a:avLst>
              <a:gd name="adj1" fmla="val -52833"/>
              <a:gd name="adj2" fmla="val 1188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торой проход. Находим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907920"/>
            <a:ext cx="8785440" cy="388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сли нужно что то сделат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 главной диагонал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о можно обойтись без вложенных цик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:=1 to n do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s:=s+ a[i,</a:t>
            </a:r>
            <a:r>
              <a:rPr b="1" lang="en-US" sz="36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01920" y="2565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39800" y="38847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54280" y="235116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297324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80000" y="278136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191628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39800" y="3176640"/>
            <a:ext cx="207828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78040" y="3732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8000" y="1125360"/>
            <a:ext cx="144000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27280" y="17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27280" y="33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79640" y="4508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 =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472428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4941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530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116000" y="5516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116000" y="2781360"/>
            <a:ext cx="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00360" y="537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00360" y="4365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16000" y="2781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51640" y="278136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826920" y="5661000"/>
            <a:ext cx="48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826920" y="213372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213372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08360" y="21337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213372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627280" y="580536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47640" y="6021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27280" y="5805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27280" y="6524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78520" y="458136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81440" y="5157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27640" y="476280"/>
            <a:ext cx="4411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один проход по масс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66200" y="333360"/>
            <a:ext cx="3674160" cy="5183280"/>
            <a:chOff x="466200" y="333360"/>
            <a:chExt cx="3674160" cy="5183280"/>
          </a:xfrm>
        </p:grpSpPr>
        <p:sp>
          <p:nvSpPr>
            <p:cNvPr id="389" name=""/>
            <p:cNvSpPr/>
            <p:nvPr/>
          </p:nvSpPr>
          <p:spPr>
            <a:xfrm>
              <a:off x="1141560" y="2709720"/>
              <a:ext cx="225576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9440" y="402912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93920" y="2495520"/>
              <a:ext cx="2052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14440" y="311796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19640" y="2925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16000" y="206064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79440" y="3321000"/>
              <a:ext cx="207828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17680" y="3876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8920" y="62064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47640" y="1270080"/>
              <a:ext cx="144000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6920" y="184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6920" y="112536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50864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55280" y="465300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55640" y="292572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40000" y="451008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5640" y="292572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24360" y="292572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68360" y="479736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466200" y="2278080"/>
              <a:ext cx="180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6560" y="227808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48000" y="227808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40360" y="227808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268360" y="5086440"/>
              <a:ext cx="18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360" y="33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68360" y="5229360"/>
              <a:ext cx="28764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553080" y="1413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785840" y="1700280"/>
            <a:ext cx="3999240" cy="5040360"/>
            <a:chOff x="4785840" y="1700280"/>
            <a:chExt cx="3999240" cy="5040360"/>
          </a:xfrm>
        </p:grpSpPr>
        <p:sp>
          <p:nvSpPr>
            <p:cNvPr id="417" name=""/>
            <p:cNvSpPr/>
            <p:nvPr/>
          </p:nvSpPr>
          <p:spPr>
            <a:xfrm>
              <a:off x="5460840" y="2565360"/>
              <a:ext cx="225612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13560" y="2351160"/>
              <a:ext cx="205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38920" y="2781360"/>
              <a:ext cx="61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35640" y="191628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6560" y="1700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4000" y="3139920"/>
              <a:ext cx="1439640" cy="86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 =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61080" y="4292640"/>
              <a:ext cx="172872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 =S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24720" y="4005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11280" y="5157720"/>
              <a:ext cx="15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111640" y="278100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4720" y="4869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11640" y="2781360"/>
              <a:ext cx="3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53440" y="278136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4785840" y="5661000"/>
              <a:ext cx="356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786200" y="2133720"/>
              <a:ext cx="0" cy="35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6200" y="213372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667640" y="2131560"/>
              <a:ext cx="1117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85080" y="2131920"/>
              <a:ext cx="0" cy="36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586200" y="5805360"/>
              <a:ext cx="21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602136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86560" y="5805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96000" y="393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46880" y="321300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111280" y="35733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24720" y="2997360"/>
              <a:ext cx="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53080" y="652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419640" y="549360"/>
            <a:ext cx="54734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68360" y="836640"/>
            <a:ext cx="3673440" cy="5183280"/>
            <a:chOff x="468360" y="836640"/>
            <a:chExt cx="3673440" cy="5183280"/>
          </a:xfrm>
        </p:grpSpPr>
        <p:sp>
          <p:nvSpPr>
            <p:cNvPr id="446" name=""/>
            <p:cNvSpPr/>
            <p:nvPr/>
          </p:nvSpPr>
          <p:spPr>
            <a:xfrm>
              <a:off x="1143000" y="3213000"/>
              <a:ext cx="225540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80880" y="453240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95360" y="2998800"/>
              <a:ext cx="2016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5880" y="362124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1080" y="3429000"/>
              <a:ext cx="50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7440" y="2563920"/>
              <a:ext cx="225720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0880" y="3824280"/>
              <a:ext cx="207792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19120" y="4380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60360" y="1123920"/>
              <a:ext cx="198540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49080" y="1773360"/>
              <a:ext cx="143964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68360" y="23479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68360" y="1628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69800" y="55897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57080" y="5156280"/>
              <a:ext cx="15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7080" y="342900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41440" y="501336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080" y="3429000"/>
              <a:ext cx="43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25800" y="342900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69440" y="5300640"/>
              <a:ext cx="34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68360" y="2781360"/>
              <a:ext cx="144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278136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49440" y="27813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1800" y="2781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2269440" y="55897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69800" y="836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69800" y="573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437080" y="313992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0" y="29242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726160" y="3932280"/>
            <a:ext cx="17287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89800" y="3573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789080" y="4797360"/>
            <a:ext cx="180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589800" y="4508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788000" y="3357360"/>
            <a:ext cx="144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88000" y="335772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69080" y="335772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02520" y="3357720"/>
            <a:ext cx="0" cy="20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5178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435640" y="5661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8160" y="544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16720" y="6165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404640"/>
            <a:ext cx="54738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 (в случае когда речь идет только о главной диагонали и остальной массив не нуж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4320" y="40464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дин или два прохода по массиву? Рассуждение втор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4000" y="906840"/>
            <a:ext cx="84960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инимальный элемент лежащий на главной диагон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7200720" cy="25639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61928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 элемент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1040" y="366480"/>
            <a:ext cx="85381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ff"/>
                </a:solidFill>
                <a:uFillTx/>
                <a:latin typeface="Times New Roman"/>
              </a:rPr>
              <a:t>Стандартный способ без анализа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m:=a[1,1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=',m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1341360"/>
            <a:ext cx="5545080" cy="3167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1052640"/>
            <a:ext cx="3095640" cy="1224000"/>
          </a:xfrm>
          <a:prstGeom prst="wedgeRoundRectCallout">
            <a:avLst>
              <a:gd name="adj1" fmla="val -39694"/>
              <a:gd name="adj2" fmla="val 1566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случайным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508640"/>
            <a:ext cx="2089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24360" y="3645000"/>
            <a:ext cx="3095640" cy="1439640"/>
          </a:xfrm>
          <a:prstGeom prst="wedgeRoundRectCallout">
            <a:avLst>
              <a:gd name="adj1" fmla="val -90412"/>
              <a:gd name="adj2" fmla="val 25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минимальный элемент стоит в левом верхнем уг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87640" y="5950080"/>
            <a:ext cx="59054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1916280"/>
            <a:ext cx="3166920" cy="1944360"/>
          </a:xfrm>
          <a:prstGeom prst="wedgeRoundRectCallout">
            <a:avLst>
              <a:gd name="adj1" fmla="val -47143"/>
              <a:gd name="adj2" fmla="val 154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ли встречается элемент меньш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,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и он лежит на главной диагонали, то он становится мин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0920" y="1268280"/>
            <a:ext cx="8713800" cy="448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данном случае можно не бегать по вс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массиву а пройти только по главной диагонали, обойдясь без вложенных цик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m:=a[1,1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For i:=2 to n do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if (a[i,i]&lt;m)  then m:=a[i,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9280" y="620640"/>
            <a:ext cx="86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немного по рассуждать,  можно увидеть, что самое «маленькое» число, которое может выдать генератор случайных чисел это 10. Все остальные числа будут меньше его. Т.к. в условии задачи нам точно задан интерва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-1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404640"/>
            <a:ext cx="889308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 анализом исходных данных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'ВВеди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m:=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a[i,j]:=random(21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лежащий на главной диагонали =',m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9280" y="1484280"/>
            <a:ext cx="1584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1125360"/>
            <a:ext cx="3097080" cy="1727280"/>
          </a:xfrm>
          <a:prstGeom prst="wedgeRoundRectCallout">
            <a:avLst>
              <a:gd name="adj1" fmla="val -175370"/>
              <a:gd name="adj2" fmla="val -199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маленькое число 10, пра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79640" y="2924280"/>
            <a:ext cx="6624720" cy="1512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64000" y="4653000"/>
            <a:ext cx="3097440" cy="1727280"/>
          </a:xfrm>
          <a:prstGeom prst="wedgeRoundRectCallout">
            <a:avLst>
              <a:gd name="adj1" fmla="val -120273"/>
              <a:gd name="adj2" fmla="val -631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, выводим на экран и сразу проверяем на минимальность в главной диагон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 . Максимальный элемент в строке                                      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9280" y="403560"/>
            <a:ext cx="878544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аксимальный элемент в каждой строк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345440" cy="31356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4140360" y="299736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708360" y="3284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03640" y="350028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43280" y="3789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0036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35280" y="4292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87280" y="4508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5640" y="472428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080" y="478800"/>
            <a:ext cx="872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x:=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,j]&gt;max) then 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  MAx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87280" y="620640"/>
            <a:ext cx="6697800" cy="23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Решение в один прох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 анализом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6920" y="1700280"/>
            <a:ext cx="2016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24360" y="1341360"/>
            <a:ext cx="3240360" cy="1366920"/>
          </a:xfrm>
          <a:prstGeom prst="wedgeRoundRectCallout">
            <a:avLst>
              <a:gd name="adj1" fmla="val -132902"/>
              <a:gd name="adj2" fmla="val -1202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большое число - 10, ле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1280" y="1125360"/>
            <a:ext cx="432108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838080"/>
            <a:ext cx="313236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5640" y="6093000"/>
            <a:ext cx="10796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27280" y="2781360"/>
            <a:ext cx="4681440" cy="1079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12000" y="1413000"/>
            <a:ext cx="3132000" cy="1224000"/>
          </a:xfrm>
          <a:prstGeom prst="wedgeRoundRectCallout">
            <a:avLst>
              <a:gd name="adj1" fmla="val -75291"/>
              <a:gd name="adj2" fmla="val 629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элемент массива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627280" y="3933720"/>
            <a:ext cx="651672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24360" y="4724280"/>
            <a:ext cx="3203640" cy="1944720"/>
          </a:xfrm>
          <a:prstGeom prst="wedgeRoundRectCallout">
            <a:avLst>
              <a:gd name="adj1" fmla="val -55847"/>
              <a:gd name="adj2" fmla="val -65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в строке встречается элемент больше максимального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6920" y="4941720"/>
            <a:ext cx="4969080" cy="57636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27640" y="5516640"/>
            <a:ext cx="3203640" cy="1144440"/>
          </a:xfrm>
          <a:prstGeom prst="wedgeRoundRectCallout">
            <a:avLst>
              <a:gd name="adj1" fmla="val -81564"/>
              <a:gd name="adj2" fmla="val -498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им наибольший элемент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76360" y="2276640"/>
            <a:ext cx="2255760" cy="4316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19280" y="3645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27280" y="213372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27280" y="270828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360" y="24922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03280" y="112536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19280" y="292428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00360" y="3500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8000" y="1773360"/>
            <a:ext cx="144000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627280" y="155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79640" y="4292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08360" y="443700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19640" y="472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501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116000" y="5300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116000" y="249192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00360" y="5157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149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16000" y="249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580000" y="2492280"/>
            <a:ext cx="0" cy="302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826920" y="645336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826920" y="1341360"/>
            <a:ext cx="0" cy="511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6920" y="1341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34136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796000" y="1341360"/>
            <a:ext cx="0" cy="496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00000" y="551664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57340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0036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41497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92360" y="48690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00360" y="623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40360" y="476280"/>
            <a:ext cx="2989440" cy="176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один прох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27280" y="33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03640" y="630864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Применение.                                                                           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6480000" cy="330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0120" y="47628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спользование двумерных массивов для построения поверх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600440" cy="516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76183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9280" y="54936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‘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3645000"/>
            <a:ext cx="3203640" cy="1144440"/>
          </a:xfrm>
          <a:prstGeom prst="wedgeRoundRectCallout">
            <a:avLst>
              <a:gd name="adj1" fmla="val 73833"/>
              <a:gd name="adj2" fmla="val -1196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9280" y="620640"/>
            <a:ext cx="87138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a[i,1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j:=2 to n d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if (a[i,j]&gt;max) the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('В ',i,' строке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x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69228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500280"/>
            <a:ext cx="115236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8360" y="1268280"/>
            <a:ext cx="266364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9640" y="1844640"/>
            <a:ext cx="8209080" cy="10796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5640" y="2924280"/>
            <a:ext cx="7993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435640" y="549360"/>
            <a:ext cx="313200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08720" y="404640"/>
            <a:ext cx="3456000" cy="1511640"/>
          </a:xfrm>
          <a:prstGeom prst="wedgeRoundRectCallout">
            <a:avLst>
              <a:gd name="adj1" fmla="val -118351"/>
              <a:gd name="adj2" fmla="val 2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наибольший элемент в каждой строке стоит на первом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80000" y="3573360"/>
            <a:ext cx="3240000" cy="1943280"/>
          </a:xfrm>
          <a:prstGeom prst="wedgeRoundRectCallout">
            <a:avLst>
              <a:gd name="adj1" fmla="val -67097"/>
              <a:gd name="adj2" fmla="val -82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дем по строке и если находим элемент больший чем максимальный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68360" y="4292640"/>
            <a:ext cx="3167280" cy="936720"/>
          </a:xfrm>
          <a:prstGeom prst="wedgeRoundRectCallout">
            <a:avLst>
              <a:gd name="adj1" fmla="val 6592"/>
              <a:gd name="adj2" fmla="val -1398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 наибольшего элемента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7640" y="692280"/>
            <a:ext cx="6336000" cy="28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андартным спосо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ервый проход – запол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торой проход – поис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аксимального в ст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52480" y="249552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3814920"/>
            <a:ext cx="1985760" cy="51084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004840" y="2281320"/>
            <a:ext cx="2088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025720" y="290340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30560" y="27115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26920" y="184644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10680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28960" y="3662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71640" y="112536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978200" y="1630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79640" y="4871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66200" y="44388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66560" y="271152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050920" y="42958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6560" y="27115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35280" y="271152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79280" y="45831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177840" y="2063880"/>
            <a:ext cx="144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7840" y="206388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059280" y="20638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206388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1979280" y="48718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81080" y="8380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19280" y="494172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932360" y="2349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2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83280" y="220680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83280" y="2781360"/>
            <a:ext cx="0" cy="22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2565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19844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1773360"/>
            <a:ext cx="1440000" cy="433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3280" y="1630440"/>
            <a:ext cx="144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83280" y="10540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64000" y="2997360"/>
            <a:ext cx="144000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92720" y="407664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571640" y="3429000"/>
            <a:ext cx="793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8472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571640" y="4797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572000" y="2565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56360" y="465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2565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885080" y="2565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284360" y="595008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4282560" y="1414080"/>
            <a:ext cx="1800" cy="453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82920" y="141444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7091280" y="141300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084360" y="5013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076720" y="5229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8472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27640" y="3716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88000" y="3068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5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172360" y="1413000"/>
            <a:ext cx="0" cy="43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12000" y="76500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87280" y="47628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80360" y="580536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9280" y="5229360"/>
            <a:ext cx="392436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два прох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.                                                                      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50080"/>
            <a:ext cx="8713800" cy="35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Массив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 это пронумерованная последовательность величин одинакового типа, обозначаемая одним именем. Элементы массива располагаются в последовательных ячейках памяти, обозначаются именем массива и индексом. Каждое из значений, составляющих массив, называется его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компоненто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 (или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элементом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масси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292640"/>
            <a:ext cx="87123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особ организации данных, при котором каждый элемент определяется номером строки и номером столбца, на пересечении которых он расположен, называется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вумерным массивом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                                                                     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71640" y="1413000"/>
          <a:ext cx="4824000" cy="3023640"/>
        </p:xfrm>
        <a:graphic>
          <a:graphicData uri="http://schemas.openxmlformats.org/drawingml/2006/table">
            <a:tbl>
              <a:tblPr/>
              <a:tblGrid>
                <a:gridCol w="803880"/>
                <a:gridCol w="803880"/>
                <a:gridCol w="804240"/>
                <a:gridCol w="804240"/>
                <a:gridCol w="803520"/>
                <a:gridCol w="80424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890640" y="765000"/>
            <a:ext cx="51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     2      3      4      5      6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0160" y="1700280"/>
            <a:ext cx="37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9400" y="4046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В математике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6160" y="177336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ascal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3120" y="765000"/>
            <a:ext cx="1181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48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Courier New"/>
              </a:rPr>
              <a:t>;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213372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en-US" sz="48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j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4149720"/>
            <a:ext cx="2879640" cy="1079640"/>
          </a:xfrm>
          <a:prstGeom prst="wedgeRoundRectCallout">
            <a:avLst>
              <a:gd name="adj1" fmla="val -117532"/>
              <a:gd name="adj2" fmla="val -1533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5084640"/>
            <a:ext cx="2879640" cy="1079640"/>
          </a:xfrm>
          <a:prstGeom prst="wedgeRoundRectCallout">
            <a:avLst>
              <a:gd name="adj1" fmla="val -58875"/>
              <a:gd name="adj2" fmla="val -3414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5445000"/>
            <a:ext cx="2879640" cy="1079640"/>
          </a:xfrm>
          <a:prstGeom prst="wedgeRoundRectCallout">
            <a:avLst>
              <a:gd name="adj1" fmla="val -59152"/>
              <a:gd name="adj2" fmla="val -204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3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5720" y="333360"/>
            <a:ext cx="77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амый простой способ описани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90792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ray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10,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20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real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05000"/>
            <a:ext cx="2087640" cy="1008000"/>
          </a:xfrm>
          <a:prstGeom prst="wedgeRoundRectCallout">
            <a:avLst>
              <a:gd name="adj1" fmla="val -32435"/>
              <a:gd name="adj2" fmla="val -112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м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1916280"/>
            <a:ext cx="3097080" cy="1008000"/>
          </a:xfrm>
          <a:prstGeom prst="wedgeRoundRectCallout">
            <a:avLst>
              <a:gd name="adj1" fmla="val -2384"/>
              <a:gd name="adj2" fmla="val -8275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2924280"/>
            <a:ext cx="2737080" cy="1008000"/>
          </a:xfrm>
          <a:prstGeom prst="wedgeRoundRectCallout">
            <a:avLst>
              <a:gd name="adj1" fmla="val 11657"/>
              <a:gd name="adj2" fmla="val -184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олб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2276640"/>
            <a:ext cx="2376360" cy="1511280"/>
          </a:xfrm>
          <a:prstGeom prst="wedgeRoundRectCallout">
            <a:avLst>
              <a:gd name="adj1" fmla="val -6314"/>
              <a:gd name="adj2" fmla="val -94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ип данных в масс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0" y="3357720"/>
            <a:ext cx="92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1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 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 2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125360"/>
            <a:ext cx="50508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55200" y="2421000"/>
            <a:ext cx="59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исание как массив массив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5157720"/>
            <a:ext cx="2448000" cy="1008000"/>
          </a:xfrm>
          <a:prstGeom prst="wedgeRoundRectCallout">
            <a:avLst>
              <a:gd name="adj1" fmla="val -30222"/>
              <a:gd name="adj2" fmla="val -159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дно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4365720"/>
            <a:ext cx="3529080" cy="2087640"/>
          </a:xfrm>
          <a:prstGeom prst="wedgeRoundRectCallout">
            <a:avLst>
              <a:gd name="adj1" fmla="val -44689"/>
              <a:gd name="adj2" fmla="val -626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ждый элемент которого  в свою очередь является одномерным масси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3429000"/>
            <a:ext cx="302400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3429000"/>
            <a:ext cx="309564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" y="763560"/>
            <a:ext cx="8942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m=10; n =20;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Var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 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 m, 1.. n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080" y="333360"/>
            <a:ext cx="85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рок и столбцов через конста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836640"/>
            <a:ext cx="3961080" cy="1366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1197000"/>
            <a:ext cx="3529080" cy="1295280"/>
          </a:xfrm>
          <a:prstGeom prst="wedgeRoundRectCallout">
            <a:avLst>
              <a:gd name="adj1" fmla="val -73662"/>
              <a:gd name="adj2" fmla="val -11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разделе констант указываем числ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58028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ype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t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=array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1..m,1..n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] 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integer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var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91960" y="3860640"/>
            <a:ext cx="66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м нового типа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653000"/>
            <a:ext cx="1511280" cy="720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2997360"/>
            <a:ext cx="3529080" cy="1726920"/>
          </a:xfrm>
          <a:prstGeom prst="wedgeRoundRectCallout">
            <a:avLst>
              <a:gd name="adj1" fmla="val -92870"/>
              <a:gd name="adj2" fmla="val 500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яем пользовательский тип , дву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3,1..5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(3,-2,1,4,3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5,-9,0,3,7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1,2,1,-4,0))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7600" y="549360"/>
            <a:ext cx="32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ассив конст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492280"/>
            <a:ext cx="3600360" cy="2305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3429000"/>
            <a:ext cx="3671640" cy="2016000"/>
          </a:xfrm>
          <a:prstGeom prst="wedgeRoundRectCallout">
            <a:avLst>
              <a:gd name="adj1" fmla="val 72092"/>
              <a:gd name="adj2" fmla="val -642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посредственно в программе указываем значения элементов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410840"/>
            <a:ext cx="853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, i,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j,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=  ')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adln(a[i, j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400" y="692280"/>
            <a:ext cx="653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 клави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484280"/>
            <a:ext cx="5977080" cy="649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133720"/>
            <a:ext cx="7704000" cy="3311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189000"/>
            <a:ext cx="6696000" cy="1152360"/>
          </a:xfrm>
          <a:prstGeom prst="wedgeRoundRectCallout">
            <a:avLst>
              <a:gd name="adj1" fmla="val -48245"/>
              <a:gd name="adj2" fmla="val 59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Берем первую, вторую и так дале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5391000"/>
            <a:ext cx="3672000" cy="1467000"/>
          </a:xfrm>
          <a:prstGeom prst="wedgeRoundRectCallout">
            <a:avLst>
              <a:gd name="adj1" fmla="val -76111"/>
              <a:gd name="adj2" fmla="val -81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5661000"/>
            <a:ext cx="1729080" cy="574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7800" y="551664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671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4:07:47Z</dcterms:created>
  <dc:creator>Юдины</dc:creator>
  <dc:description/>
  <dc:language>en-US</dc:language>
  <cp:lastModifiedBy>Юдины</cp:lastModifiedBy>
  <dcterms:modified xsi:type="dcterms:W3CDTF">2012-03-27T14:17:05Z</dcterms:modified>
  <cp:revision>117</cp:revision>
  <dc:subject/>
  <dc:title>Слайд 1</dc:title>
</cp:coreProperties>
</file>