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10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3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88067A-AEE2-4370-B18F-1E82D7DB9F4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45B92-5D85-4DC7-80D2-5BB61F949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93BB9-829F-4572-AEEE-AF755B4C8FB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20DFE-366A-49D5-9043-2267D3537F8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AC45-35BC-4D12-9012-DF8F18B447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53095-146A-40DE-A0EE-D281D94A506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8280A-D767-4A9B-B151-A7A91FE9AB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D5695-E1FF-49DC-922D-662A6360AC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35C076-179E-406C-8DAD-ECD58F4E36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6D16D2-E8F3-46B0-8F5B-E58BD88A9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D844A-F4AF-4B71-922B-D96F3F7D04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5FAB6-BB31-4CA1-972A-7118F0F10C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3A2E0A-2497-4597-A5D2-13F7F9F95A3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42" name=""/>
          <p:cNvSpPr txBox="1"/>
          <p:nvPr/>
        </p:nvSpPr>
        <p:spPr>
          <a:xfrm>
            <a:off x="1042920" y="404640"/>
            <a:ext cx="7129440" cy="33847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Двумерные 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22320">
                  <a:solidFill>
                    <a:srgbClr val="ff0000"/>
                  </a:solidFill>
                  <a:miter/>
                </a:ln>
                <a:solidFill>
                  <a:srgbClr val="ffff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Impact"/>
              </a:rPr>
              <a:t>массивы</a:t>
            </a:r>
            <a:endParaRPr b="0" lang="en-US" sz="1800" spc="1" strike="noStrike">
              <a:ln w="22320">
                <a:solidFill>
                  <a:srgbClr val="ff0000"/>
                </a:solidFill>
                <a:miter/>
              </a:ln>
              <a:solidFill>
                <a:srgbClr val="ffff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Impact"/>
              <a:ea typeface="Impact"/>
            </a:endParaRPr>
          </a:p>
        </p:txBody>
      </p:sp>
      <p:sp>
        <p:nvSpPr>
          <p:cNvPr id="43" name=""/>
          <p:cNvSpPr/>
          <p:nvPr/>
        </p:nvSpPr>
        <p:spPr>
          <a:xfrm>
            <a:off x="4500720" y="5373720"/>
            <a:ext cx="441144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Автор: учитель информатики МКОУ Плесской средней общеобразовательной школы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00"/>
                </a:solidFill>
                <a:latin typeface="Times New Roman"/>
              </a:rPr>
              <a:t>Юдин Андрей Борисови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807000" y="4365720"/>
            <a:ext cx="19378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00"/>
                </a:solidFill>
                <a:latin typeface="Arial Black"/>
              </a:rPr>
              <a:t>Часть 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9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10" name=""/>
          <p:cNvGrpSpPr/>
          <p:nvPr/>
        </p:nvGrpSpPr>
        <p:grpSpPr>
          <a:xfrm>
            <a:off x="826920" y="1268280"/>
            <a:ext cx="3744720" cy="5184720"/>
            <a:chOff x="826920" y="1268280"/>
            <a:chExt cx="3744720" cy="5184720"/>
          </a:xfrm>
        </p:grpSpPr>
        <p:sp>
          <p:nvSpPr>
            <p:cNvPr id="111" name=""/>
            <p:cNvSpPr/>
            <p:nvPr/>
          </p:nvSpPr>
          <p:spPr>
            <a:xfrm>
              <a:off x="1499760" y="2732040"/>
              <a:ext cx="2346480" cy="64764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1687320" y="3701880"/>
              <a:ext cx="2065320" cy="72576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4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698560" y="2492280"/>
              <a:ext cx="21960" cy="2397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2720520" y="3379680"/>
              <a:ext cx="0" cy="3222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2626920" y="4427640"/>
              <a:ext cx="0" cy="3254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 flipH="1">
              <a:off x="1125000" y="4753080"/>
              <a:ext cx="150156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 flipV="1">
              <a:off x="1125360" y="3053880"/>
              <a:ext cx="0" cy="16988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1125360" y="3054240"/>
              <a:ext cx="3744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3846240" y="3054240"/>
              <a:ext cx="3762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4222440" y="3054240"/>
              <a:ext cx="0" cy="210204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H="1">
              <a:off x="826920" y="5156280"/>
              <a:ext cx="339552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1474560" y="1773000"/>
              <a:ext cx="2346120" cy="7192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698560" y="1268280"/>
              <a:ext cx="0" cy="504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826920" y="2131920"/>
              <a:ext cx="64764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 flipV="1">
              <a:off x="826920" y="2131560"/>
              <a:ext cx="0" cy="3024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3779640" y="2131920"/>
              <a:ext cx="79200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4571640" y="2131920"/>
              <a:ext cx="0" cy="360036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 flipH="1">
              <a:off x="2698200" y="5732280"/>
              <a:ext cx="1873080" cy="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2698560" y="5732280"/>
              <a:ext cx="0" cy="7207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0" name=""/>
          <p:cNvSpPr/>
          <p:nvPr/>
        </p:nvSpPr>
        <p:spPr>
          <a:xfrm>
            <a:off x="-5760" y="620640"/>
            <a:ext cx="51076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 u="sng">
                <a:solidFill>
                  <a:srgbClr val="000000"/>
                </a:solidFill>
                <a:uFillTx/>
                <a:latin typeface="Arial"/>
              </a:rPr>
              <a:t>Блок-схема заполнения с клавиатуры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3069"/>
              <a:gd name="adj2" fmla="val -75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87310"/>
              <a:gd name="adj2" fmla="val -10303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fill="hold">
                      <p:stCondLst>
                        <p:cond delay="indefinite"/>
                      </p:stCondLst>
                      <p:childTnLst>
                        <p:par>
                          <p:cTn id="255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9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0" fill="hold">
                      <p:stCondLst>
                        <p:cond delay="indefinite"/>
                      </p:stCondLst>
                      <p:childTnLst>
                        <p:par>
                          <p:cTn id="261" fill="hold">
                            <p:stCondLst>
                              <p:cond delay="0"/>
                            </p:stCondLst>
                            <p:childTnLst>
                              <p:par>
                                <p:cTn id="26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7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250920" y="476280"/>
            <a:ext cx="8569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лучайными числами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334440" y="1267920"/>
            <a:ext cx="837360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 random(2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1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 - 10;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2843280" y="3141720"/>
            <a:ext cx="3384360" cy="64908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78620"/>
              <a:gd name="adj2" fmla="val -70402"/>
              <a:gd name="adj3" fmla="val 16667"/>
            </a:avLst>
          </a:prstGeom>
          <a:solidFill>
            <a:srgbClr val="ffff99"/>
          </a:solidFill>
          <a:ln w="93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без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выводит элементы массива в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2050920" y="4437000"/>
            <a:ext cx="2016360" cy="647640"/>
          </a:xfrm>
          <a:prstGeom prst="rect">
            <a:avLst/>
          </a:prstGeom>
          <a:noFill/>
          <a:ln w="4140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5003640" y="3645000"/>
            <a:ext cx="3240360" cy="2520720"/>
          </a:xfrm>
          <a:prstGeom prst="wedgeRoundRectCallout">
            <a:avLst>
              <a:gd name="adj1" fmla="val -79004"/>
              <a:gd name="adj2" fmla="val 62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Когда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i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-я строка закончилась, пишем пустой </a:t>
            </a: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WriteLN</a:t>
            </a:r>
            <a:r>
              <a:rPr b="1" lang="ru-RU" sz="2400" spc="-1" strike="noStrike">
                <a:solidFill>
                  <a:srgbClr val="0000ff"/>
                </a:solidFill>
                <a:latin typeface="Arial"/>
              </a:rPr>
              <a:t>  для перехода на новую строк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0" name="" descr=""/>
          <p:cNvPicPr/>
          <p:nvPr/>
        </p:nvPicPr>
        <p:blipFill>
          <a:blip r:embed="rId1"/>
          <a:stretch/>
        </p:blipFill>
        <p:spPr>
          <a:xfrm>
            <a:off x="4284720" y="4076640"/>
            <a:ext cx="4535280" cy="2230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9" dur="indefinite" restart="never" nodeType="tmRoot">
          <p:childTnLst>
            <p:seq>
              <p:cTn id="270" dur="indefinite" nodeType="mainSeq">
                <p:childTnLst>
                  <p:par>
                    <p:cTn id="271" fill="hold">
                      <p:stCondLst>
                        <p:cond delay="indefinite"/>
                      </p:stCondLst>
                      <p:childTnLst>
                        <p:par>
                          <p:cTn id="272" fill="hold">
                            <p:stCondLst>
                              <p:cond delay="0"/>
                            </p:stCondLst>
                            <p:childTnLst>
                              <p:par>
                                <p:cTn id="27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1" fill="hold">
                      <p:stCondLst>
                        <p:cond delay="indefinite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4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87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9" fill="hold">
                      <p:stCondLst>
                        <p:cond delay="indefinite"/>
                      </p:stCondLst>
                      <p:childTnLst>
                        <p:par>
                          <p:cTn id="290" fill="hold">
                            <p:stCondLst>
                              <p:cond delay="0"/>
                            </p:stCondLst>
                            <p:childTnLst>
                              <p:par>
                                <p:cTn id="29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96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0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03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fill="hold">
                      <p:stCondLst>
                        <p:cond delay="indefinite"/>
                      </p:stCondLst>
                      <p:childTnLst>
                        <p:par>
                          <p:cTn id="306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9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0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547640" y="1989000"/>
            <a:ext cx="2346480" cy="648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1619280" y="3933720"/>
            <a:ext cx="2232000" cy="72576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2746440" y="1749600"/>
            <a:ext cx="22320" cy="2394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2768760" y="2637000"/>
            <a:ext cx="0" cy="3222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2700360" y="4653000"/>
            <a:ext cx="0" cy="32544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H="1">
            <a:off x="1187280" y="4941720"/>
            <a:ext cx="150192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 flipV="1">
            <a:off x="1172880" y="2311560"/>
            <a:ext cx="14040" cy="26301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73240" y="2311560"/>
            <a:ext cx="3744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3894120" y="2311560"/>
            <a:ext cx="3762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4270320" y="2311560"/>
            <a:ext cx="14400" cy="2989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 flipH="1">
            <a:off x="899640" y="5300640"/>
            <a:ext cx="33958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522440" y="1030320"/>
            <a:ext cx="2346120" cy="7192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2746440" y="525600"/>
            <a:ext cx="0" cy="5047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874800" y="1389240"/>
            <a:ext cx="647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 flipH="1" flipV="1">
            <a:off x="874800" y="1388880"/>
            <a:ext cx="25200" cy="3911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827520" y="1389240"/>
            <a:ext cx="79200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4619520" y="1389240"/>
            <a:ext cx="23760" cy="42717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 flipH="1">
            <a:off x="2771640" y="5661000"/>
            <a:ext cx="18734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2771640" y="5661000"/>
            <a:ext cx="0" cy="432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692360" y="2924280"/>
            <a:ext cx="2160360" cy="79200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2771640" y="3716280"/>
            <a:ext cx="0" cy="2174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5003640" y="1052640"/>
            <a:ext cx="3745080" cy="1800000"/>
          </a:xfrm>
          <a:prstGeom prst="wedgeRoundRectCallout">
            <a:avLst>
              <a:gd name="adj1" fmla="val -91032"/>
              <a:gd name="adj2" fmla="val -2707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(Внеш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76720" y="4149720"/>
            <a:ext cx="3672000" cy="1727280"/>
          </a:xfrm>
          <a:prstGeom prst="wedgeRoundRectCallout">
            <a:avLst>
              <a:gd name="adj1" fmla="val -90208"/>
              <a:gd name="adj2" fmla="val -149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 (Внутренний цикл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1" dur="indefinite" restart="never" nodeType="tmRoot">
          <p:childTnLst>
            <p:seq>
              <p:cTn id="312" dur="indefinite" nodeType="mainSeq">
                <p:childTnLst>
                  <p:par>
                    <p:cTn id="313" fill="hold">
                      <p:stCondLst>
                        <p:cond delay="indefinite"/>
                      </p:stCondLst>
                      <p:childTnLst>
                        <p:par>
                          <p:cTn id="314" fill="hold">
                            <p:stCondLst>
                              <p:cond delay="0"/>
                            </p:stCondLst>
                            <p:childTnLst>
                              <p:par>
                                <p:cTn id="3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7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5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9" fill="hold">
                      <p:stCondLst>
                        <p:cond delay="indefinite"/>
                      </p:stCondLst>
                      <p:childTnLst>
                        <p:par>
                          <p:cTn id="320" fill="hold">
                            <p:stCondLst>
                              <p:cond delay="0"/>
                            </p:stCondLst>
                            <p:childTnLst>
                              <p:par>
                                <p:cTn id="32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22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29400" y="476280"/>
            <a:ext cx="61290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по правилу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-15120" y="1196640"/>
            <a:ext cx="7355880" cy="4360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 begin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 j] :=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ФОРМУЛА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 j]:6)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</a:t>
            </a:r>
            <a:r>
              <a:rPr b="1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</a:t>
            </a:r>
            <a:r>
              <a:rPr b="1" lang="en-US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4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</a:t>
            </a:r>
            <a:r>
              <a:rPr b="1" lang="en-US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40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250920" y="1340280"/>
            <a:ext cx="8532720" cy="39934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Заполнить произвольный массив размером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N x N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(N&lt;10) по следующему правилу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111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2222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33333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44444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55555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640" y="1127160"/>
            <a:ext cx="860436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ВВеди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i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:4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3276720" y="3357720"/>
            <a:ext cx="1871640" cy="647640"/>
          </a:xfrm>
          <a:prstGeom prst="rect">
            <a:avLst/>
          </a:prstGeom>
          <a:noFill/>
          <a:ln w="3816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6227640" y="3284640"/>
            <a:ext cx="2737080" cy="1800000"/>
          </a:xfrm>
          <a:prstGeom prst="wedgeRoundRectCallout">
            <a:avLst>
              <a:gd name="adj1" fmla="val -80740"/>
              <a:gd name="adj2" fmla="val -304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начение элемента в каждой ячейке строки равно номеру строк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1"/>
          <a:stretch/>
        </p:blipFill>
        <p:spPr>
          <a:xfrm>
            <a:off x="3995640" y="1052640"/>
            <a:ext cx="4826160" cy="31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8" dur="indefinite" restart="never" nodeType="tmRoot">
          <p:childTnLst>
            <p:seq>
              <p:cTn id="329" dur="indefinite" nodeType="mainSeq">
                <p:childTnLst>
                  <p:par>
                    <p:cTn id="330" fill="hold">
                      <p:stCondLst>
                        <p:cond delay="indefinite"/>
                      </p:stCondLst>
                      <p:childTnLst>
                        <p:par>
                          <p:cTn id="331" fill="hold">
                            <p:stCondLst>
                              <p:cond delay="0"/>
                            </p:stCondLst>
                            <p:childTnLst>
                              <p:par>
                                <p:cTn id="332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33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1" fill="hold">
                      <p:stCondLst>
                        <p:cond delay="indefinite"/>
                      </p:stCondLst>
                      <p:childTnLst>
                        <p:par>
                          <p:cTn id="342" fill="hold">
                            <p:stCondLst>
                              <p:cond delay="0"/>
                            </p:stCondLst>
                            <p:childTnLst>
                              <p:par>
                                <p:cTn id="34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44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6" fill="hold">
                      <p:stCondLst>
                        <p:cond delay="indefinite"/>
                      </p:stCondLst>
                      <p:childTnLst>
                        <p:par>
                          <p:cTn id="347" fill="hold">
                            <p:stCondLst>
                              <p:cond delay="0"/>
                            </p:stCondLst>
                            <p:childTnLst>
                              <p:par>
                                <p:cTn id="34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5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5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6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9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0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600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600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11600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176364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2411280" y="1268280"/>
            <a:ext cx="64800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176364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2411280" y="1773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176364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2411280" y="227664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3059280" y="1268280"/>
            <a:ext cx="647640" cy="5050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3059280" y="1773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3059280" y="227664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111600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176364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2411280" y="2781360"/>
            <a:ext cx="64800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059280" y="2781360"/>
            <a:ext cx="647640" cy="5047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1185120" y="765000"/>
            <a:ext cx="238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3300"/>
                </a:solidFill>
                <a:latin typeface="Arial"/>
              </a:rPr>
              <a:t> 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   2    3     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11280" y="1268280"/>
            <a:ext cx="503280" cy="236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00" spc="-1" strike="noStrike">
                <a:solidFill>
                  <a:srgbClr val="ff3300"/>
                </a:solidFill>
                <a:latin typeface="Arial"/>
              </a:rPr>
              <a:t>  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" spc="-1" strike="noStrike">
                <a:solidFill>
                  <a:srgbClr val="ff3300"/>
                </a:solidFill>
                <a:latin typeface="Arial"/>
              </a:rPr>
              <a:t>   </a:t>
            </a:r>
            <a:endParaRPr b="0" lang="en-US" sz="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074840" y="907920"/>
            <a:ext cx="481356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Глав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=J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>
            <a:off x="3952800" y="2205000"/>
            <a:ext cx="5057640" cy="1068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Побочная диагональ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+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=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250920" y="3461040"/>
            <a:ext cx="8642160" cy="329184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01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01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01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01000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   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10000</a:t>
            </a: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177840" y="204120"/>
            <a:ext cx="8966160" cy="612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if (i+j = n+1) then a[i,j]:=1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   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else a[i,j]:=0;        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2771640" y="2708280"/>
            <a:ext cx="5545440" cy="1225440"/>
          </a:xfrm>
          <a:prstGeom prst="rect">
            <a:avLst/>
          </a:prstGeom>
          <a:noFill/>
          <a:ln w="3492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5580000" y="4005360"/>
            <a:ext cx="3095640" cy="1944720"/>
          </a:xfrm>
          <a:prstGeom prst="wedgeRoundRectCallout">
            <a:avLst>
              <a:gd name="adj1" fmla="val -80666"/>
              <a:gd name="adj2" fmla="val -5408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побочная диагональ то заполнить ячейку 1 во всех остальных случаях 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1"/>
          <a:stretch/>
        </p:blipFill>
        <p:spPr>
          <a:xfrm>
            <a:off x="684360" y="692280"/>
            <a:ext cx="4032000" cy="357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7" dur="indefinite" restart="never" nodeType="tmRoot">
          <p:childTnLst>
            <p:seq>
              <p:cTn id="368" dur="indefinite" nodeType="mainSeq">
                <p:childTnLst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3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6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7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79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00"/>
                                      </p:to>
                                    </p:animClr>
                                    <p:set>
                                      <p:cBhvr>
                                        <p:cTn id="382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387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8" fill="hold">
                      <p:stCondLst>
                        <p:cond delay="indefinite"/>
                      </p:stCondLst>
                      <p:childTnLst>
                        <p:par>
                          <p:cTn id="389" fill="hold">
                            <p:stCondLst>
                              <p:cond delay="0"/>
                            </p:stCondLst>
                            <p:childTnLst>
                              <p:par>
                                <p:cTn id="390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1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2" dur="2000" fill="hold"/>
                                        <p:tgtEl>
                                          <p:spTgt spid="17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4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5" dur="2000" fill="hold"/>
                                        <p:tgtEl>
                                          <p:spTgt spid="1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97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398" dur="2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0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ff"/>
                                      </p:to>
                                    </p:animClr>
                                    <p:set>
                                      <p:cBhvr>
                                        <p:cTn id="401" dur="2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2" fill="hold">
                      <p:stCondLst>
                        <p:cond delay="indefinite"/>
                      </p:stCondLst>
                      <p:childTnLst>
                        <p:par>
                          <p:cTn id="403" fill="hold">
                            <p:stCondLst>
                              <p:cond delay="0"/>
                            </p:stCondLst>
                            <p:childTnLst>
                              <p:par>
                                <p:cTn id="40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5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6" dur="2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0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08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09" dur="2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1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2" dur="2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14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15" dur="2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6" fill="hold">
                      <p:stCondLst>
                        <p:cond delay="indefinite"/>
                      </p:stCondLst>
                      <p:childTnLst>
                        <p:par>
                          <p:cTn id="417" fill="hold">
                            <p:stCondLst>
                              <p:cond delay="0"/>
                            </p:stCondLst>
                            <p:childTnLst>
                              <p:par>
                                <p:cTn id="41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420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1" fill="hold">
                      <p:stCondLst>
                        <p:cond delay="indefinite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5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6" dur="5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1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2" dur="5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434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6" fill="hold">
                      <p:stCondLst>
                        <p:cond delay="indefinite"/>
                      </p:stCondLst>
                      <p:childTnLst>
                        <p:par>
                          <p:cTn id="437" fill="hold">
                            <p:stCondLst>
                              <p:cond delay="0"/>
                            </p:stCondLst>
                            <p:childTnLst>
                              <p:par>
                                <p:cTn id="4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0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1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6" fill="hold">
                      <p:stCondLst>
                        <p:cond delay="indefinite"/>
                      </p:stCondLst>
                      <p:childTnLst>
                        <p:par>
                          <p:cTn id="447" fill="hold">
                            <p:stCondLst>
                              <p:cond delay="0"/>
                            </p:stCondLst>
                            <p:childTnLst>
                              <p:par>
                                <p:cTn id="4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6516720" y="2133720"/>
            <a:ext cx="2449440" cy="2950920"/>
          </a:xfrm>
          <a:prstGeom prst="wedgeRoundRectCallout">
            <a:avLst>
              <a:gd name="adj1" fmla="val -73009"/>
              <a:gd name="adj2" fmla="val -3149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Фрагмент блок-схемы задачи заполнения побочной диагонали единицам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2771640" y="1989000"/>
            <a:ext cx="1719360" cy="50976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2627280" y="4581360"/>
            <a:ext cx="1944720" cy="57168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3635280" y="1844640"/>
            <a:ext cx="17640" cy="189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3564000" y="5950080"/>
            <a:ext cx="0" cy="253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flipH="1">
            <a:off x="971640" y="5589720"/>
            <a:ext cx="468000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V="1">
            <a:off x="1332000" y="2276280"/>
            <a:ext cx="0" cy="3097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332000" y="2276640"/>
            <a:ext cx="149688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4500720" y="2276640"/>
            <a:ext cx="1150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5651640" y="2276640"/>
            <a:ext cx="0" cy="33130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 flipH="1">
            <a:off x="2410920" y="4365720"/>
            <a:ext cx="2305080" cy="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2771640" y="1268280"/>
            <a:ext cx="1717920" cy="5652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71640" y="1557360"/>
            <a:ext cx="18428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971640" y="1557000"/>
            <a:ext cx="0" cy="4032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500720" y="1557360"/>
            <a:ext cx="143964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 flipH="1">
            <a:off x="3563640" y="5950080"/>
            <a:ext cx="2376360" cy="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3635280" y="515772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61928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2916360" y="549360"/>
            <a:ext cx="1512720" cy="57132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3635280" y="333360"/>
            <a:ext cx="0" cy="2160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>
            <a:off x="3635280" y="1125360"/>
            <a:ext cx="0" cy="1429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2916360" y="2637000"/>
            <a:ext cx="143964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+j=N+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4356000" y="3068640"/>
            <a:ext cx="36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 flipH="1">
            <a:off x="2410920" y="3068640"/>
            <a:ext cx="505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3924360" y="3429000"/>
            <a:ext cx="1582560" cy="622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24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24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241128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4716360" y="306864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2411280" y="4076640"/>
            <a:ext cx="0" cy="2890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4716360" y="4005360"/>
            <a:ext cx="0" cy="360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"/>
          <p:cNvSpPr/>
          <p:nvPr/>
        </p:nvSpPr>
        <p:spPr>
          <a:xfrm>
            <a:off x="3635280" y="436572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"/>
          <p:cNvSpPr/>
          <p:nvPr/>
        </p:nvSpPr>
        <p:spPr>
          <a:xfrm flipH="1">
            <a:off x="1332000" y="5373720"/>
            <a:ext cx="23032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5940360" y="1557360"/>
            <a:ext cx="0" cy="4392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286520" y="263700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2486160" y="270828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3635280" y="2492280"/>
            <a:ext cx="0" cy="144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205092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277164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349236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1332000" y="9079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11280" y="9079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205092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277164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349236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1332000" y="14842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611280" y="14842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2050920" y="206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277164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"/>
          <p:cNvSpPr/>
          <p:nvPr/>
        </p:nvSpPr>
        <p:spPr>
          <a:xfrm>
            <a:off x="349236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"/>
          <p:cNvSpPr/>
          <p:nvPr/>
        </p:nvSpPr>
        <p:spPr>
          <a:xfrm>
            <a:off x="133200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611280" y="206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205092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2771640" y="263700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349236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133200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611280" y="263700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205092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277164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3492360" y="3213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133200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611280" y="3213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5076720" y="765000"/>
            <a:ext cx="3672000" cy="2592720"/>
          </a:xfrm>
          <a:prstGeom prst="wedgeRoundRectCallout">
            <a:avLst>
              <a:gd name="adj1" fmla="val -74643"/>
              <a:gd name="adj2" fmla="val -91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i &lt;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3132000" y="3976560"/>
            <a:ext cx="3672000" cy="2621160"/>
          </a:xfrm>
          <a:prstGeom prst="wedgeRoundRectCallout">
            <a:avLst>
              <a:gd name="adj1" fmla="val -91333"/>
              <a:gd name="adj2" fmla="val -57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33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i </a:t>
            </a:r>
            <a:r>
              <a:rPr b="1" lang="en-US" sz="54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5400" spc="-1" strike="noStrike">
                <a:solidFill>
                  <a:srgbClr val="0000ff"/>
                </a:solidFill>
                <a:latin typeface="Courier New"/>
              </a:rPr>
              <a:t> j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179280" y="105264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677520" y="476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indefinite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57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58" dur="2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5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0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1" dur="2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3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4" dur="2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6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67" dur="20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6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69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0" dur="20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2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3" dur="20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5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6" dur="20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7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78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79" dur="2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1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2" dur="20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8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84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485" dur="20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6" fill="hold">
                      <p:stCondLst>
                        <p:cond delay="indefinite"/>
                      </p:stCondLst>
                      <p:childTnLst>
                        <p:par>
                          <p:cTn id="487" fill="hold">
                            <p:stCondLst>
                              <p:cond delay="0"/>
                            </p:stCondLst>
                            <p:childTnLst>
                              <p:par>
                                <p:cTn id="48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2" fill="hold">
                      <p:stCondLst>
                        <p:cond delay="indefinite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5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6" dur="2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9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498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499" dur="2000" fill="hold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1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2" dur="2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4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5" dur="2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07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08" dur="2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0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0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1" dur="20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3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4" dur="2000" fill="hold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6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17" dur="2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19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0" dur="20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22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23" dur="20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4" fill="hold">
                      <p:stCondLst>
                        <p:cond delay="indefinite"/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9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16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637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709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493236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5653080" y="62064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813800" y="62064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>
            <a:off x="637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565308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"/>
          <p:cNvSpPr/>
          <p:nvPr/>
        </p:nvSpPr>
        <p:spPr>
          <a:xfrm>
            <a:off x="781380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7093080" y="1197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4932360" y="1197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6372360" y="177336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709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781380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565308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"/>
          <p:cNvSpPr/>
          <p:nvPr/>
        </p:nvSpPr>
        <p:spPr>
          <a:xfrm>
            <a:off x="4932360" y="177336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637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"/>
          <p:cNvSpPr/>
          <p:nvPr/>
        </p:nvSpPr>
        <p:spPr>
          <a:xfrm>
            <a:off x="5653080" y="2349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"/>
          <p:cNvSpPr/>
          <p:nvPr/>
        </p:nvSpPr>
        <p:spPr>
          <a:xfrm>
            <a:off x="781380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709308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4932360" y="2349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637236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709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4932360" y="2925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565308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7813800" y="2925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324000" y="1052640"/>
            <a:ext cx="3671640" cy="2592360"/>
          </a:xfrm>
          <a:prstGeom prst="wedgeRoundRectCallout">
            <a:avLst>
              <a:gd name="adj1" fmla="val 73476"/>
              <a:gd name="adj2" fmla="val -50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4932360" y="4005360"/>
            <a:ext cx="3672000" cy="2592360"/>
          </a:xfrm>
          <a:prstGeom prst="wedgeRoundRectCallout">
            <a:avLst>
              <a:gd name="adj1" fmla="val 7111"/>
              <a:gd name="adj2" fmla="val -7045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Удовлетворяет неравенств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+j&gt;n+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4925520" y="26028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604360" y="765000"/>
            <a:ext cx="28728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0" dur="indefinite" restart="never" nodeType="tmRoot">
          <p:childTnLst>
            <p:seq>
              <p:cTn id="531" dur="indefinite" nodeType="mainSeq">
                <p:childTnLst>
                  <p:par>
                    <p:cTn id="532" fill="hold">
                      <p:stCondLst>
                        <p:cond delay="indefinite"/>
                      </p:stCondLst>
                      <p:childTnLst>
                        <p:par>
                          <p:cTn id="533" fill="hold">
                            <p:stCondLst>
                              <p:cond delay="0"/>
                            </p:stCondLst>
                            <p:childTnLst>
                              <p:par>
                                <p:cTn id="534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5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6" dur="20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38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39" dur="2000" fill="hold"/>
                                        <p:tgtEl>
                                          <p:spTgt spid="28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1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2" dur="2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4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5" dur="2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47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48" dur="2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4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0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1" dur="20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2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3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4" dur="20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6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57" dur="20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59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0" dur="2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62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333399"/>
                                      </p:to>
                                    </p:animClr>
                                    <p:set>
                                      <p:cBhvr>
                                        <p:cTn id="563" dur="20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4" fill="hold">
                      <p:stCondLst>
                        <p:cond delay="indefinite"/>
                      </p:stCondLst>
                      <p:childTnLst>
                        <p:par>
                          <p:cTn id="565" fill="hold">
                            <p:stCondLst>
                              <p:cond delay="0"/>
                            </p:stCondLst>
                            <p:childTnLst>
                              <p:par>
                                <p:cTn id="5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8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0" fill="hold">
                      <p:stCondLst>
                        <p:cond delay="indefinite"/>
                      </p:stCondLst>
                      <p:childTnLst>
                        <p:par>
                          <p:cTn id="571" fill="hold">
                            <p:stCondLst>
                              <p:cond delay="0"/>
                            </p:stCondLst>
                            <p:childTnLst>
                              <p:par>
                                <p:cTn id="5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3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4" dur="20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6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77" dur="2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79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0" dur="20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2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3" dur="20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5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6" dur="2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8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88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89" dur="20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0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1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2" dur="2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3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4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5" dur="20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6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597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598" dur="2000" fill="hold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9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00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cc00"/>
                                      </p:to>
                                    </p:animClr>
                                    <p:set>
                                      <p:cBhvr>
                                        <p:cTn id="601" dur="20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02" fill="hold">
                      <p:stCondLst>
                        <p:cond delay="indefinite"/>
                      </p:stCondLst>
                      <p:childTnLst>
                        <p:par>
                          <p:cTn id="603" fill="hold">
                            <p:stCondLst>
                              <p:cond delay="0"/>
                            </p:stCondLst>
                            <p:childTnLst>
                              <p:par>
                                <p:cTn id="60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7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>
            <a:off x="428292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500364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3564000" y="220500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"/>
          <p:cNvSpPr/>
          <p:nvPr/>
        </p:nvSpPr>
        <p:spPr>
          <a:xfrm>
            <a:off x="284328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428292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"/>
          <p:cNvSpPr/>
          <p:nvPr/>
        </p:nvSpPr>
        <p:spPr>
          <a:xfrm>
            <a:off x="572436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356400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2843280" y="278136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"/>
          <p:cNvSpPr/>
          <p:nvPr/>
        </p:nvSpPr>
        <p:spPr>
          <a:xfrm>
            <a:off x="4282920" y="335772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3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500364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572436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356400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2843280" y="3357720"/>
            <a:ext cx="720720" cy="576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428292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500364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572436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"/>
          <p:cNvSpPr/>
          <p:nvPr/>
        </p:nvSpPr>
        <p:spPr>
          <a:xfrm>
            <a:off x="2843280" y="393372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"/>
          <p:cNvSpPr/>
          <p:nvPr/>
        </p:nvSpPr>
        <p:spPr>
          <a:xfrm>
            <a:off x="428292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500364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>
            <a:off x="5724360" y="451008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"/>
          <p:cNvSpPr/>
          <p:nvPr/>
        </p:nvSpPr>
        <p:spPr>
          <a:xfrm>
            <a:off x="356400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2843280" y="4510080"/>
            <a:ext cx="720720" cy="576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2411280" y="2349360"/>
            <a:ext cx="287640" cy="6677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2 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3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4        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"/>
          <p:cNvSpPr/>
          <p:nvPr/>
        </p:nvSpPr>
        <p:spPr>
          <a:xfrm>
            <a:off x="2909520" y="1844640"/>
            <a:ext cx="3373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1          2          3        4         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"/>
          <p:cNvSpPr/>
          <p:nvPr/>
        </p:nvSpPr>
        <p:spPr>
          <a:xfrm>
            <a:off x="3564000" y="393372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4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2843280" y="4508640"/>
            <a:ext cx="720720" cy="57600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ru-RU" sz="2800" spc="-1" strike="noStrike" baseline="-25000">
                <a:solidFill>
                  <a:srgbClr val="ffffff"/>
                </a:solidFill>
                <a:latin typeface="Times New Roman"/>
              </a:rPr>
              <a:t>5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>
            <a:off x="5003640" y="278136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2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5724360" y="2205000"/>
            <a:ext cx="720720" cy="57636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1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2195640" y="836640"/>
            <a:ext cx="5473440" cy="719280"/>
          </a:xfrm>
          <a:prstGeom prst="wedgeRoundRectCallout">
            <a:avLst>
              <a:gd name="adj1" fmla="val -5657"/>
              <a:gd name="adj2" fmla="val 14227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(i+j&lt;n+1)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>
            <a:off x="6515280" y="2205000"/>
            <a:ext cx="2628720" cy="1152720"/>
          </a:xfrm>
          <a:prstGeom prst="wedgeRoundRectCallout">
            <a:avLst>
              <a:gd name="adj1" fmla="val -54347"/>
              <a:gd name="adj2" fmla="val 10165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l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1835280" y="5661000"/>
            <a:ext cx="5473440" cy="719280"/>
          </a:xfrm>
          <a:prstGeom prst="wedgeRoundRectCallout">
            <a:avLst>
              <a:gd name="adj1" fmla="val 143"/>
              <a:gd name="adj2" fmla="val -13189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&gt;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&gt;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0" y="2205000"/>
            <a:ext cx="2629080" cy="1152720"/>
          </a:xfrm>
          <a:prstGeom prst="wedgeRoundRectCallout">
            <a:avLst>
              <a:gd name="adj1" fmla="val 57546"/>
              <a:gd name="adj2" fmla="val 8581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+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l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n+1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And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(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&gt;</a:t>
            </a: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j</a:t>
            </a:r>
            <a:r>
              <a:rPr b="1" lang="en-US" sz="3200" spc="-1" strike="noStrike">
                <a:solidFill>
                  <a:srgbClr val="0000ff"/>
                </a:solidFill>
                <a:latin typeface="Courier New"/>
              </a:rPr>
              <a:t>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2482920" y="260280"/>
            <a:ext cx="42894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ff"/>
                </a:solidFill>
                <a:latin typeface="Arial"/>
              </a:rPr>
              <a:t>Системы неравенств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08" dur="indefinite" restart="never" nodeType="tmRoot">
          <p:childTnLst>
            <p:seq>
              <p:cTn id="609" dur="indefinite" nodeType="mainSeq">
                <p:childTnLst>
                  <p:par>
                    <p:cTn id="610" fill="hold">
                      <p:stCondLst>
                        <p:cond delay="indefinite"/>
                      </p:stCondLst>
                      <p:childTnLst>
                        <p:par>
                          <p:cTn id="611" fill="hold">
                            <p:stCondLst>
                              <p:cond delay="0"/>
                            </p:stCondLst>
                            <p:childTnLst>
                              <p:par>
                                <p:cTn id="61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3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4" dur="2000" fill="hold"/>
                                        <p:tgtEl>
                                          <p:spTgt spid="29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6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17" dur="2000" fill="hold"/>
                                        <p:tgtEl>
                                          <p:spTgt spid="29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19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0" dur="2000" fill="hold"/>
                                        <p:tgtEl>
                                          <p:spTgt spid="29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22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0000ff"/>
                                      </p:to>
                                    </p:animClr>
                                    <p:set>
                                      <p:cBhvr>
                                        <p:cTn id="623" dur="2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8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9" dur="500" fill="hold"/>
                                        <p:tgtEl>
                                          <p:spTgt spid="3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0" fill="hold">
                      <p:stCondLst>
                        <p:cond delay="indefinite"/>
                      </p:stCondLst>
                      <p:childTnLst>
                        <p:par>
                          <p:cTn id="631" fill="hold">
                            <p:stCondLst>
                              <p:cond delay="0"/>
                            </p:stCondLst>
                            <p:childTnLst>
                              <p:par>
                                <p:cTn id="63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3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4" dur="2000" fill="hold"/>
                                        <p:tgtEl>
                                          <p:spTgt spid="30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6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37" dur="20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3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39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0" dur="2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4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42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ff00"/>
                                      </p:to>
                                    </p:animClr>
                                    <p:set>
                                      <p:cBhvr>
                                        <p:cTn id="643" dur="2000" fill="hold"/>
                                        <p:tgtEl>
                                          <p:spTgt spid="30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44" fill="hold">
                      <p:stCondLst>
                        <p:cond delay="indefinite"/>
                      </p:stCondLst>
                      <p:childTnLst>
                        <p:par>
                          <p:cTn id="645" fill="hold">
                            <p:stCondLst>
                              <p:cond delay="0"/>
                            </p:stCondLst>
                            <p:childTnLst>
                              <p:par>
                                <p:cTn id="64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8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9" dur="500" fill="hold"/>
                                        <p:tgtEl>
                                          <p:spTgt spid="3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0" fill="hold">
                      <p:stCondLst>
                        <p:cond delay="indefinite"/>
                      </p:stCondLst>
                      <p:childTnLst>
                        <p:par>
                          <p:cTn id="651" fill="hold">
                            <p:stCondLst>
                              <p:cond delay="0"/>
                            </p:stCondLst>
                            <p:childTnLst>
                              <p:par>
                                <p:cTn id="65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3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4" dur="2000" fill="hold"/>
                                        <p:tgtEl>
                                          <p:spTgt spid="31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6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57" dur="2000" fill="hold"/>
                                        <p:tgtEl>
                                          <p:spTgt spid="31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5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59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0" dur="2000" fill="hold"/>
                                        <p:tgtEl>
                                          <p:spTgt spid="31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6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62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33cc"/>
                                      </p:to>
                                    </p:animClr>
                                    <p:set>
                                      <p:cBhvr>
                                        <p:cTn id="663" dur="2000" fill="hold"/>
                                        <p:tgtEl>
                                          <p:spTgt spid="31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4" fill="hold">
                      <p:stCondLst>
                        <p:cond delay="indefinite"/>
                      </p:stCondLst>
                      <p:childTnLst>
                        <p:par>
                          <p:cTn id="665" fill="hold">
                            <p:stCondLst>
                              <p:cond delay="0"/>
                            </p:stCondLst>
                            <p:childTnLst>
                              <p:par>
                                <p:cTn id="66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3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0" fill="hold">
                      <p:stCondLst>
                        <p:cond delay="indefinite"/>
                      </p:stCondLst>
                      <p:childTnLst>
                        <p:par>
                          <p:cTn id="671" fill="hold">
                            <p:stCondLst>
                              <p:cond delay="0"/>
                            </p:stCondLst>
                            <p:childTnLst>
                              <p:par>
                                <p:cTn id="672" nodeType="click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3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4" dur="2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5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6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77" dur="2000" fill="hold"/>
                                        <p:tgtEl>
                                          <p:spTgt spid="3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8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79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0" dur="2000" fill="hold"/>
                                        <p:tgtEl>
                                          <p:spTgt spid="30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81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82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ff9900"/>
                                      </p:to>
                                    </p:animClr>
                                    <p:set>
                                      <p:cBhvr>
                                        <p:cTn id="683" dur="2000" fill="hold"/>
                                        <p:tgtEl>
                                          <p:spTgt spid="30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84" fill="hold">
                      <p:stCondLst>
                        <p:cond delay="indefinite"/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8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9" dur="500" fill="hold"/>
                                        <p:tgtEl>
                                          <p:spTgt spid="3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1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"/>
          <p:cNvSpPr/>
          <p:nvPr/>
        </p:nvSpPr>
        <p:spPr>
          <a:xfrm>
            <a:off x="250920" y="546120"/>
            <a:ext cx="8501040" cy="265428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произвольный массив размером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 x N 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(N&lt;10) по следующему правилу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000000"/>
                </a:solidFill>
                <a:latin typeface="Arial Black"/>
                <a:ea typeface="Times New Roman"/>
              </a:rPr>
              <a:t>                     </a:t>
            </a:r>
            <a:r>
              <a:rPr b="1" lang="ru-RU" sz="2400" spc="-1" strike="noStrike">
                <a:solidFill>
                  <a:srgbClr val="ff3300"/>
                </a:solidFill>
                <a:latin typeface="Arial Black"/>
                <a:ea typeface="Times New Roman"/>
              </a:rPr>
              <a:t>0000</a:t>
            </a:r>
            <a:r>
              <a:rPr b="1" lang="ru-RU" sz="2400" spc="-1" strike="noStrike">
                <a:solidFill>
                  <a:srgbClr val="0000ff"/>
                </a:solidFill>
                <a:latin typeface="Arial Black"/>
                <a:ea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4500720" y="3573360"/>
            <a:ext cx="3527280" cy="2376720"/>
          </a:xfrm>
          <a:prstGeom prst="wedgeRoundRectCallout">
            <a:avLst>
              <a:gd name="adj1" fmla="val -67013"/>
              <a:gd name="adj2" fmla="val -10798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Это пересечение двух множеств. Элементы лежащие на и ниже побочной диагонали и элементы лежащие на и выше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476280"/>
            <a:ext cx="9001080" cy="6058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4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if (i+j&gt;=n+1) and (i&lt;=j) then a[i,j]:=1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          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else a[i,j]:=0; 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(a[i,j]:2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5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"/>
          <p:cNvSpPr/>
          <p:nvPr/>
        </p:nvSpPr>
        <p:spPr>
          <a:xfrm>
            <a:off x="755640" y="2276640"/>
            <a:ext cx="806436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"/>
          <p:cNvSpPr/>
          <p:nvPr/>
        </p:nvSpPr>
        <p:spPr>
          <a:xfrm>
            <a:off x="5292720" y="3789360"/>
            <a:ext cx="3166920" cy="1224000"/>
          </a:xfrm>
          <a:prstGeom prst="wedgeRoundRectCallout">
            <a:avLst>
              <a:gd name="adj1" fmla="val -70953"/>
              <a:gd name="adj2" fmla="val -9085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оверяем условие принадлежности данному множеств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36" name="" descr=""/>
          <p:cNvPicPr/>
          <p:nvPr/>
        </p:nvPicPr>
        <p:blipFill>
          <a:blip r:embed="rId1"/>
          <a:stretch/>
        </p:blipFill>
        <p:spPr>
          <a:xfrm>
            <a:off x="4788000" y="3429000"/>
            <a:ext cx="3108240" cy="2905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0" dur="indefinite" restart="never" nodeType="tmRoot">
          <p:childTnLst>
            <p:seq>
              <p:cTn id="691" dur="indefinite" nodeType="mainSeq">
                <p:childTnLst>
                  <p:par>
                    <p:cTn id="692" fill="hold">
                      <p:stCondLst>
                        <p:cond delay="indefinite"/>
                      </p:stCondLst>
                      <p:childTnLst>
                        <p:par>
                          <p:cTn id="693" fill="hold">
                            <p:stCondLst>
                              <p:cond delay="0"/>
                            </p:stCondLst>
                            <p:childTnLst>
                              <p:par>
                                <p:cTn id="694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6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7" dur="5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8" fill="hold">
                      <p:stCondLst>
                        <p:cond delay="indefinite"/>
                      </p:stCondLst>
                      <p:childTnLst>
                        <p:par>
                          <p:cTn id="699" fill="hold">
                            <p:stCondLst>
                              <p:cond delay="0"/>
                            </p:stCondLst>
                            <p:childTnLst>
                              <p:par>
                                <p:cTn id="70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01" dur="500"/>
                                        <p:tgtEl>
                                          <p:spTgt spid="3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0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3" fill="hold">
                      <p:stCondLst>
                        <p:cond delay="indefinite"/>
                      </p:stCondLst>
                      <p:childTnLst>
                        <p:par>
                          <p:cTn id="704" fill="hold">
                            <p:stCondLst>
                              <p:cond delay="0"/>
                            </p:stCondLst>
                            <p:childTnLst>
                              <p:par>
                                <p:cTn id="70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7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3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09" fill="hold">
                      <p:stCondLst>
                        <p:cond delay="indefinite"/>
                      </p:stCondLst>
                      <p:childTnLst>
                        <p:par>
                          <p:cTn id="710" fill="hold">
                            <p:stCondLst>
                              <p:cond delay="0"/>
                            </p:stCondLst>
                            <p:childTnLst>
                              <p:par>
                                <p:cTn id="7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3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4" dur="5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17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18" dur="500" fill="hold"/>
                                        <p:tgtEl>
                                          <p:spTgt spid="3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9" fill="hold">
                      <p:stCondLst>
                        <p:cond delay="indefinite"/>
                      </p:stCondLst>
                      <p:childTnLst>
                        <p:par>
                          <p:cTn id="720" fill="hold">
                            <p:stCondLst>
                              <p:cond delay="0"/>
                            </p:stCondLst>
                            <p:childTnLst>
                              <p:par>
                                <p:cTn id="7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3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"/>
          <p:cNvSpPr/>
          <p:nvPr/>
        </p:nvSpPr>
        <p:spPr>
          <a:xfrm>
            <a:off x="250920" y="620640"/>
            <a:ext cx="8496360" cy="1373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В математике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таблицы чисел, состоящие из строк и столбцов называются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i="1" lang="en-US" sz="2800" spc="-1" strike="noStrike">
                <a:solidFill>
                  <a:srgbClr val="ff3300"/>
                </a:solidFill>
                <a:latin typeface="Times New Roman"/>
                <a:ea typeface="CyrillicUniversity"/>
              </a:rPr>
              <a:t>матрицами</a:t>
            </a:r>
            <a:r>
              <a:rPr b="1" lang="en-US" sz="2800" spc="-1" strike="noStrike">
                <a:solidFill>
                  <a:srgbClr val="000000"/>
                </a:solidFill>
                <a:latin typeface="Times New Roman"/>
                <a:ea typeface="CyrillicUniversity"/>
              </a:rPr>
              <a:t> </a:t>
            </a:r>
            <a:r>
              <a:rPr b="1" lang="en-US" sz="2800" spc="-1" strike="noStrike">
                <a:solidFill>
                  <a:srgbClr val="0000ff"/>
                </a:solidFill>
                <a:latin typeface="Times New Roman"/>
                <a:ea typeface="CyrillicUniversity"/>
              </a:rPr>
              <a:t>и записываются в круглых скобках.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  <a:ea typeface="CyrillicUniversity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0" y="2852640"/>
            <a:ext cx="9144000" cy="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46440" bIns="-464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mc:AlternateContent>
        <mc:Choice xmlns:a14="http://schemas.microsoft.com/office/drawing/2010/main" Requires="a14">
          <p:sp>
            <p:nvSpPr>
              <p:cNvPr id="47" name=""/>
              <p:cNvSpPr txBox="1"/>
              <p:nvPr/>
            </p:nvSpPr>
            <p:spPr>
              <a:xfrm>
                <a:off x="1908000" y="2349360"/>
                <a:ext cx="4572000" cy="352440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A</m:t>
                    </m:r>
                    <m:r>
                      <m:t xml:space="preserve">=</m:t>
                    </m:r>
                    <m:d>
                      <m:dPr>
                        <m:begChr m:val="("/>
                        <m:endChr m:val=")"/>
                      </m:dPr>
                      <m:e>
                        <m:m>
                          <m:mr>
                            <m:e>
                              <m:r>
                                <m:t xml:space="preserve">3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6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4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7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9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2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9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3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7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7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8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65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20</m:t>
                              </m:r>
                            </m:e>
                          </m:mr>
                          <m:mr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6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81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54</m:t>
                              </m:r>
                            </m:e>
                            <m:e>
                              <m:r>
                                <m:rPr>
                                  <m:lit/>
                                  <m:nor/>
                                </m:rPr>
                                <m:t xml:space="preserve">16</m:t>
                              </m:r>
                            </m:e>
                          </m:mr>
                        </m:m>
                      </m:e>
                    </m:d>
                  </m:oMath>
                </a14:m>
              </a:p>
            </p:txBody>
          </p:sp>
        </mc:Choice>
        <mc:Fallback/>
      </mc:AlternateContent>
      <p:sp>
        <p:nvSpPr>
          <p:cNvPr id="4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трицы                                                                                    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19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250920" y="763200"/>
            <a:ext cx="8316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Заполнить двумерный массив N x </a:t>
            </a: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N</a:t>
            </a:r>
            <a:r>
              <a:rPr b="0" lang="ru-RU" sz="2400" spc="-1" strike="noStrike">
                <a:solidFill>
                  <a:srgbClr val="000000"/>
                </a:solidFill>
                <a:latin typeface="Times New Roman"/>
              </a:rPr>
              <a:t> случайными числами из интервала [-10 ; 10] и найти сумму элементов  массива лежащих  на главной диагонали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1182600" y="404640"/>
            <a:ext cx="4737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Один или два прохода по массиву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250920" y="489600"/>
            <a:ext cx="8424720" cy="636984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Первый способ. Один проход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ClrScr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s:=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    </a:t>
            </a:r>
            <a:r>
              <a:rPr b="1" lang="en-US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0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i=j) then s:=s+ 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</a:t>
            </a:r>
            <a:r>
              <a:rPr b="1" lang="en-US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('Сумма элементов  =',s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3059280" y="3429000"/>
            <a:ext cx="4321080" cy="100800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5435640" y="1844640"/>
            <a:ext cx="3384360" cy="1297080"/>
          </a:xfrm>
          <a:prstGeom prst="wedgeRoundRectCallout">
            <a:avLst>
              <a:gd name="adj1" fmla="val -33490"/>
              <a:gd name="adj2" fmla="val 7080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случайными числами и выводим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3059280" y="443700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"/>
          <p:cNvSpPr/>
          <p:nvPr/>
        </p:nvSpPr>
        <p:spPr>
          <a:xfrm>
            <a:off x="4859280" y="5373720"/>
            <a:ext cx="3384720" cy="1484280"/>
          </a:xfrm>
          <a:prstGeom prst="wedgeRoundRectCallout">
            <a:avLst>
              <a:gd name="adj1" fmla="val -43435"/>
              <a:gd name="adj2" fmla="val -7834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 сразу же находим сумму элементов лежащих на главной диагонал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0" y="395280"/>
            <a:ext cx="9144000" cy="64594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 u="sng">
                <a:solidFill>
                  <a:srgbClr val="0000ff"/>
                </a:solidFill>
                <a:uFillTx/>
                <a:latin typeface="Times New Roman"/>
              </a:rPr>
              <a:t>Второй способ. Два прохода по массив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'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s:=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a[i,j]:=random(20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      </a:t>
            </a:r>
            <a:r>
              <a:rPr b="1" lang="ru-RU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if (i=j) then s:=s+ 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 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Сумма элементов</a:t>
            </a:r>
            <a:r>
              <a:rPr b="1" lang="ru-RU" sz="30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=',s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250920" y="1844640"/>
            <a:ext cx="5473440" cy="3168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5867280" y="981000"/>
            <a:ext cx="3024360" cy="1582920"/>
          </a:xfrm>
          <a:prstGeom prst="wedgeRoundRectCallout">
            <a:avLst>
              <a:gd name="adj1" fmla="val -53833"/>
              <a:gd name="adj2" fmla="val 8851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вый проход. 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250920" y="5084640"/>
            <a:ext cx="5473440" cy="1297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5796000" y="4365720"/>
            <a:ext cx="3024000" cy="861840"/>
          </a:xfrm>
          <a:prstGeom prst="wedgeRoundRectCallout">
            <a:avLst>
              <a:gd name="adj1" fmla="val -52833"/>
              <a:gd name="adj2" fmla="val 11887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торой проход. Находим сумму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179280" y="907920"/>
            <a:ext cx="8785440" cy="388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Если нужно что то сделать только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с главной диагональю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то можно обойтись без вложенных циклов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For 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0000ff"/>
                </a:solidFill>
                <a:latin typeface="Courier New"/>
              </a:rPr>
              <a:t>:=1 to n do</a:t>
            </a:r>
            <a:r>
              <a:rPr b="1" lang="en-US" sz="3600" spc="-1" strike="noStrike">
                <a:solidFill>
                  <a:srgbClr val="0000ff"/>
                </a:solidFill>
                <a:latin typeface="Courier New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s:=s+ a[i,</a:t>
            </a:r>
            <a:r>
              <a:rPr b="1" lang="en-US" sz="36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ru-RU" sz="3600" spc="-1" strike="noStrike">
                <a:solidFill>
                  <a:srgbClr val="ff3300"/>
                </a:solidFill>
                <a:latin typeface="Courier New"/>
              </a:rPr>
              <a:t>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indefinite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1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2" dur="500" fill="hold"/>
                                        <p:tgtEl>
                                          <p:spTgt spid="3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3" fill="hold">
                      <p:stCondLst>
                        <p:cond delay="indefinite"/>
                      </p:stCondLst>
                      <p:childTnLst>
                        <p:par>
                          <p:cTn id="734" fill="hold">
                            <p:stCondLst>
                              <p:cond delay="0"/>
                            </p:stCondLst>
                            <p:childTnLst>
                              <p:par>
                                <p:cTn id="7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7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8" dur="500" fill="hold"/>
                                        <p:tgtEl>
                                          <p:spTgt spid="3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3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1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2" dur="5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3" fill="hold">
                      <p:stCondLst>
                        <p:cond delay="indefinite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7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8" dur="5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4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1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2" dur="5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3" fill="hold">
                      <p:stCondLst>
                        <p:cond delay="indefinite"/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57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8" dur="500" fill="hold"/>
                                        <p:tgtEl>
                                          <p:spTgt spid="3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9" fill="hold">
                      <p:stCondLst>
                        <p:cond delay="indefinite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34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6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7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8" dur="500" fill="hold"/>
                                        <p:tgtEl>
                                          <p:spTgt spid="3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9" fill="hold">
                      <p:stCondLst>
                        <p:cond delay="indefinite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3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4" dur="500" fill="hold"/>
                                        <p:tgtEl>
                                          <p:spTgt spid="3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77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8" dur="500" fill="hold"/>
                                        <p:tgtEl>
                                          <p:spTgt spid="3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9" fill="hold">
                      <p:stCondLst>
                        <p:cond delay="indefinite"/>
                      </p:stCondLst>
                      <p:childTnLst>
                        <p:par>
                          <p:cTn id="780" fill="hold">
                            <p:stCondLst>
                              <p:cond delay="0"/>
                            </p:stCondLst>
                            <p:childTnLst>
                              <p:par>
                                <p:cTn id="7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4" dur="500" fill="hold"/>
                                        <p:tgtEl>
                                          <p:spTgt spid="3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1501920" y="2565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"/>
          <p:cNvSpPr/>
          <p:nvPr/>
        </p:nvSpPr>
        <p:spPr>
          <a:xfrm>
            <a:off x="1639800" y="38847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4" name=""/>
          <p:cNvSpPr/>
          <p:nvPr/>
        </p:nvSpPr>
        <p:spPr>
          <a:xfrm>
            <a:off x="2654280" y="235116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2674800" y="297324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3780000" y="278136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1476360" y="191628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"/>
          <p:cNvSpPr/>
          <p:nvPr/>
        </p:nvSpPr>
        <p:spPr>
          <a:xfrm>
            <a:off x="1639800" y="3176640"/>
            <a:ext cx="207828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2678040" y="373212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"/>
          <p:cNvSpPr/>
          <p:nvPr/>
        </p:nvSpPr>
        <p:spPr>
          <a:xfrm>
            <a:off x="1908000" y="1125360"/>
            <a:ext cx="144000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S = 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2627280" y="17002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"/>
          <p:cNvSpPr/>
          <p:nvPr/>
        </p:nvSpPr>
        <p:spPr>
          <a:xfrm>
            <a:off x="2627280" y="33336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1979640" y="4508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 =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"/>
          <p:cNvSpPr/>
          <p:nvPr/>
        </p:nvSpPr>
        <p:spPr>
          <a:xfrm>
            <a:off x="3708360" y="472428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"/>
          <p:cNvSpPr/>
          <p:nvPr/>
        </p:nvSpPr>
        <p:spPr>
          <a:xfrm>
            <a:off x="3419640" y="494172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4572000" y="530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 flipH="1">
            <a:off x="1116000" y="5516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 flipV="1">
            <a:off x="1116000" y="2781360"/>
            <a:ext cx="0" cy="2735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2700360" y="5373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2700360" y="4365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1116000" y="2781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"/>
          <p:cNvSpPr/>
          <p:nvPr/>
        </p:nvSpPr>
        <p:spPr>
          <a:xfrm>
            <a:off x="5651640" y="2781360"/>
            <a:ext cx="0" cy="287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 flipH="1">
            <a:off x="826920" y="5661000"/>
            <a:ext cx="482472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 flipV="1">
            <a:off x="826920" y="2133720"/>
            <a:ext cx="0" cy="35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26920" y="213372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3708360" y="213372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5867280" y="2133720"/>
            <a:ext cx="0" cy="3671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 flipH="1">
            <a:off x="2627280" y="5805360"/>
            <a:ext cx="3240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1547640" y="6021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2627280" y="5805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2627280" y="652464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3278520" y="4581360"/>
            <a:ext cx="462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1981440" y="5157720"/>
            <a:ext cx="57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427640" y="476280"/>
            <a:ext cx="4411440" cy="15570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один проход по массиву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1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88" name=""/>
          <p:cNvGrpSpPr/>
          <p:nvPr/>
        </p:nvGrpSpPr>
        <p:grpSpPr>
          <a:xfrm>
            <a:off x="466200" y="333360"/>
            <a:ext cx="3674160" cy="5183280"/>
            <a:chOff x="466200" y="333360"/>
            <a:chExt cx="3674160" cy="5183280"/>
          </a:xfrm>
        </p:grpSpPr>
        <p:sp>
          <p:nvSpPr>
            <p:cNvPr id="389" name=""/>
            <p:cNvSpPr/>
            <p:nvPr/>
          </p:nvSpPr>
          <p:spPr>
            <a:xfrm>
              <a:off x="1141560" y="2709720"/>
              <a:ext cx="225576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1279440" y="402912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2293920" y="2495520"/>
              <a:ext cx="2052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2314440" y="311796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3419640" y="2925720"/>
              <a:ext cx="5047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1116000" y="206064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1279440" y="3321000"/>
              <a:ext cx="207828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2317680" y="387684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1258920" y="62064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1547640" y="1270080"/>
              <a:ext cx="144000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2266920" y="184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2266920" y="112536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2268360" y="508644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 flipH="1">
              <a:off x="755280" y="4653000"/>
              <a:ext cx="158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 flipV="1">
              <a:off x="755640" y="292572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2340000" y="451008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755640" y="2925720"/>
              <a:ext cx="43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3924360" y="292572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 flipH="1">
              <a:off x="468360" y="4797360"/>
              <a:ext cx="3456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 flipH="1" flipV="1">
              <a:off x="466200" y="2278080"/>
              <a:ext cx="180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466560" y="227808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3348000" y="227808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4140360" y="227808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 flipH="1">
              <a:off x="2268360" y="5086440"/>
              <a:ext cx="187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2268360" y="333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2268360" y="5229360"/>
              <a:ext cx="28764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15" name=""/>
          <p:cNvSpPr/>
          <p:nvPr/>
        </p:nvSpPr>
        <p:spPr>
          <a:xfrm>
            <a:off x="6553080" y="1413000"/>
            <a:ext cx="287280" cy="2872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16" name=""/>
          <p:cNvGrpSpPr/>
          <p:nvPr/>
        </p:nvGrpSpPr>
        <p:grpSpPr>
          <a:xfrm>
            <a:off x="4785840" y="1700280"/>
            <a:ext cx="3999240" cy="5040360"/>
            <a:chOff x="4785840" y="1700280"/>
            <a:chExt cx="3999240" cy="5040360"/>
          </a:xfrm>
        </p:grpSpPr>
        <p:sp>
          <p:nvSpPr>
            <p:cNvPr id="417" name=""/>
            <p:cNvSpPr/>
            <p:nvPr/>
          </p:nvSpPr>
          <p:spPr>
            <a:xfrm>
              <a:off x="5460840" y="2565360"/>
              <a:ext cx="225612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613560" y="2351160"/>
              <a:ext cx="20520" cy="16812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7738920" y="2781360"/>
              <a:ext cx="614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5435640" y="1916280"/>
              <a:ext cx="225756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586560" y="170028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5904000" y="3139920"/>
              <a:ext cx="1439640" cy="863640"/>
            </a:xfrm>
            <a:prstGeom prst="flowChartDecision">
              <a:avLst/>
            </a:prstGeom>
            <a:solidFill>
              <a:srgbClr val="ff00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 =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5761080" y="4292640"/>
              <a:ext cx="172872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S =S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 + </a:t>
              </a:r>
              <a:r>
                <a:rPr b="1" lang="en-US" sz="28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8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6624720" y="400536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 flipH="1">
              <a:off x="5111280" y="5157720"/>
              <a:ext cx="1513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 flipV="1">
              <a:off x="5111640" y="2781000"/>
              <a:ext cx="0" cy="2376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6624720" y="4869000"/>
              <a:ext cx="0" cy="288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5111640" y="2781360"/>
              <a:ext cx="395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8353440" y="2781360"/>
              <a:ext cx="0" cy="2879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 flipH="1">
              <a:off x="4785840" y="5661000"/>
              <a:ext cx="35672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 flipV="1">
              <a:off x="4786200" y="2133720"/>
              <a:ext cx="0" cy="35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4786200" y="2133720"/>
              <a:ext cx="6494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 flipV="1">
              <a:off x="7667640" y="2131560"/>
              <a:ext cx="1117440" cy="18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000" bIns="-450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8785080" y="2131920"/>
              <a:ext cx="0" cy="3672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 flipH="1">
              <a:off x="6586200" y="5805360"/>
              <a:ext cx="219852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5506920" y="6021360"/>
              <a:ext cx="198612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S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6586560" y="580536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6696000" y="3932280"/>
              <a:ext cx="5032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Да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5546880" y="3213000"/>
              <a:ext cx="57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Нет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 flipH="1">
              <a:off x="5111280" y="3573360"/>
              <a:ext cx="792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6624720" y="2997360"/>
              <a:ext cx="0" cy="1425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6553080" y="652464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3" name=""/>
          <p:cNvSpPr/>
          <p:nvPr/>
        </p:nvSpPr>
        <p:spPr>
          <a:xfrm>
            <a:off x="3419640" y="549360"/>
            <a:ext cx="5473440" cy="7038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Сумма элементов                                                                    2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5" name=""/>
          <p:cNvGrpSpPr/>
          <p:nvPr/>
        </p:nvGrpSpPr>
        <p:grpSpPr>
          <a:xfrm>
            <a:off x="468360" y="836640"/>
            <a:ext cx="3673440" cy="5183280"/>
            <a:chOff x="468360" y="836640"/>
            <a:chExt cx="3673440" cy="5183280"/>
          </a:xfrm>
        </p:grpSpPr>
        <p:sp>
          <p:nvSpPr>
            <p:cNvPr id="446" name=""/>
            <p:cNvSpPr/>
            <p:nvPr/>
          </p:nvSpPr>
          <p:spPr>
            <a:xfrm>
              <a:off x="1143000" y="3213000"/>
              <a:ext cx="2255400" cy="43200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j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1280880" y="4532400"/>
              <a:ext cx="198576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000" spc="-1" strike="noStrike">
                  <a:solidFill>
                    <a:srgbClr val="ffffff"/>
                  </a:solidFill>
                  <a:latin typeface="Times New Roman"/>
                </a:rPr>
                <a:t>Вывод </a:t>
              </a: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a </a:t>
              </a:r>
              <a:r>
                <a:rPr b="1" lang="en-US" sz="2000" spc="-1" strike="noStrike" baseline="-25000">
                  <a:solidFill>
                    <a:srgbClr val="ffffff"/>
                  </a:solidFill>
                  <a:latin typeface="Times New Roman"/>
                </a:rPr>
                <a:t>i , j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8" name=""/>
            <p:cNvSpPr/>
            <p:nvPr/>
          </p:nvSpPr>
          <p:spPr>
            <a:xfrm>
              <a:off x="2295360" y="2998800"/>
              <a:ext cx="20160" cy="1684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9" name=""/>
            <p:cNvSpPr/>
            <p:nvPr/>
          </p:nvSpPr>
          <p:spPr>
            <a:xfrm>
              <a:off x="2315880" y="3621240"/>
              <a:ext cx="0" cy="22680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0" name=""/>
            <p:cNvSpPr/>
            <p:nvPr/>
          </p:nvSpPr>
          <p:spPr>
            <a:xfrm>
              <a:off x="3421080" y="3429000"/>
              <a:ext cx="50436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1" name=""/>
            <p:cNvSpPr/>
            <p:nvPr/>
          </p:nvSpPr>
          <p:spPr>
            <a:xfrm>
              <a:off x="1117440" y="2563920"/>
              <a:ext cx="2257200" cy="434880"/>
            </a:xfrm>
            <a:prstGeom prst="flowChartPreparation">
              <a:avLst/>
            </a:prstGeom>
            <a:solidFill>
              <a:srgbClr val="3333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Times New Roman"/>
                </a:rPr>
                <a:t>i , 1, N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2" name=""/>
            <p:cNvSpPr/>
            <p:nvPr/>
          </p:nvSpPr>
          <p:spPr>
            <a:xfrm>
              <a:off x="1280880" y="3824280"/>
              <a:ext cx="2077920" cy="55584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a </a:t>
              </a:r>
              <a:r>
                <a:rPr b="1" lang="en-US" sz="1600" spc="-1" strike="noStrike" baseline="-25000">
                  <a:solidFill>
                    <a:srgbClr val="ffffff"/>
                  </a:solidFill>
                  <a:latin typeface="Arial"/>
                </a:rPr>
                <a:t>i , j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=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 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случайное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[</a:t>
              </a:r>
              <a:r>
                <a:rPr b="1" lang="ru-RU" sz="1600" spc="-1" strike="noStrike">
                  <a:solidFill>
                    <a:srgbClr val="ffffff"/>
                  </a:solidFill>
                  <a:latin typeface="Arial"/>
                </a:rPr>
                <a:t>-10</a:t>
              </a:r>
              <a:r>
                <a:rPr b="1" lang="en-US" sz="1600" spc="-1" strike="noStrike">
                  <a:solidFill>
                    <a:srgbClr val="ffffff"/>
                  </a:solidFill>
                  <a:latin typeface="Arial"/>
                </a:rPr>
                <a:t>;10]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3" name=""/>
            <p:cNvSpPr/>
            <p:nvPr/>
          </p:nvSpPr>
          <p:spPr>
            <a:xfrm>
              <a:off x="2319120" y="4380120"/>
              <a:ext cx="0" cy="152280"/>
            </a:xfrm>
            <a:prstGeom prst="line">
              <a:avLst/>
            </a:prstGeom>
            <a:ln w="381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260360" y="1123920"/>
              <a:ext cx="1985400" cy="511200"/>
            </a:xfrm>
            <a:prstGeom prst="flowChartInputOutpu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ru-RU" sz="2400" spc="-1" strike="noStrike">
                  <a:solidFill>
                    <a:srgbClr val="ffffff"/>
                  </a:solidFill>
                  <a:latin typeface="Times New Roman"/>
                </a:rPr>
                <a:t>Ввод </a:t>
              </a:r>
              <a:r>
                <a:rPr b="1" lang="en-US" sz="2400" spc="-1" strike="noStrike">
                  <a:solidFill>
                    <a:srgbClr val="ffffff"/>
                  </a:solidFill>
                  <a:latin typeface="Times New Roman"/>
                </a:rPr>
                <a:t>N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1549080" y="1773360"/>
              <a:ext cx="1439640" cy="555480"/>
            </a:xfrm>
            <a:prstGeom prst="rect">
              <a:avLst/>
            </a:prstGeom>
            <a:solidFill>
              <a:srgbClr val="ff33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800" spc="-1" strike="noStrike">
                  <a:solidFill>
                    <a:srgbClr val="ffffff"/>
                  </a:solidFill>
                  <a:latin typeface="Arial"/>
                </a:rPr>
                <a:t>S = 0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2268360" y="2347920"/>
              <a:ext cx="0" cy="21600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2268360" y="1628640"/>
              <a:ext cx="0" cy="1447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2269800" y="5589720"/>
              <a:ext cx="0" cy="215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 flipH="1">
              <a:off x="757080" y="5156280"/>
              <a:ext cx="1584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 flipV="1">
              <a:off x="757080" y="3429000"/>
              <a:ext cx="0" cy="172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2341440" y="5013360"/>
              <a:ext cx="0" cy="14292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757080" y="3429000"/>
              <a:ext cx="4312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3925800" y="3429000"/>
              <a:ext cx="0" cy="187164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 flipH="1">
              <a:off x="469440" y="5300640"/>
              <a:ext cx="3455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 flipH="1" flipV="1">
              <a:off x="468360" y="2781360"/>
              <a:ext cx="1440" cy="2519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68360" y="2781360"/>
              <a:ext cx="64908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7" name=""/>
            <p:cNvSpPr/>
            <p:nvPr/>
          </p:nvSpPr>
          <p:spPr>
            <a:xfrm>
              <a:off x="3349440" y="2781360"/>
              <a:ext cx="79200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4141800" y="2781360"/>
              <a:ext cx="0" cy="280836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9" name=""/>
            <p:cNvSpPr/>
            <p:nvPr/>
          </p:nvSpPr>
          <p:spPr>
            <a:xfrm flipH="1">
              <a:off x="2269440" y="5589720"/>
              <a:ext cx="1871640" cy="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2269800" y="836640"/>
              <a:ext cx="0" cy="287280"/>
            </a:xfrm>
            <a:prstGeom prst="line">
              <a:avLst/>
            </a:prstGeom>
            <a:ln w="2844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2269800" y="5732640"/>
              <a:ext cx="287280" cy="287280"/>
            </a:xfrm>
            <a:prstGeom prst="ellipse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Arial"/>
                </a:rPr>
                <a:t>1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72" name=""/>
          <p:cNvSpPr/>
          <p:nvPr/>
        </p:nvSpPr>
        <p:spPr>
          <a:xfrm>
            <a:off x="5437080" y="313992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"/>
          <p:cNvSpPr/>
          <p:nvPr/>
        </p:nvSpPr>
        <p:spPr>
          <a:xfrm>
            <a:off x="6588000" y="2924280"/>
            <a:ext cx="0" cy="2156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"/>
          <p:cNvSpPr/>
          <p:nvPr/>
        </p:nvSpPr>
        <p:spPr>
          <a:xfrm>
            <a:off x="5726160" y="3932280"/>
            <a:ext cx="17287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S =S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 +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"/>
          <p:cNvSpPr/>
          <p:nvPr/>
        </p:nvSpPr>
        <p:spPr>
          <a:xfrm>
            <a:off x="6589800" y="3573360"/>
            <a:ext cx="0" cy="358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"/>
          <p:cNvSpPr/>
          <p:nvPr/>
        </p:nvSpPr>
        <p:spPr>
          <a:xfrm flipH="1">
            <a:off x="4789080" y="4797360"/>
            <a:ext cx="1801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"/>
          <p:cNvSpPr/>
          <p:nvPr/>
        </p:nvSpPr>
        <p:spPr>
          <a:xfrm>
            <a:off x="6589800" y="4508640"/>
            <a:ext cx="0" cy="2887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"/>
          <p:cNvSpPr/>
          <p:nvPr/>
        </p:nvSpPr>
        <p:spPr>
          <a:xfrm flipH="1" flipV="1">
            <a:off x="4788000" y="3357360"/>
            <a:ext cx="1440" cy="1439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"/>
          <p:cNvSpPr/>
          <p:nvPr/>
        </p:nvSpPr>
        <p:spPr>
          <a:xfrm>
            <a:off x="4788000" y="335772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"/>
          <p:cNvSpPr/>
          <p:nvPr/>
        </p:nvSpPr>
        <p:spPr>
          <a:xfrm>
            <a:off x="7669080" y="3357720"/>
            <a:ext cx="433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"/>
          <p:cNvSpPr/>
          <p:nvPr/>
        </p:nvSpPr>
        <p:spPr>
          <a:xfrm>
            <a:off x="8102520" y="3357720"/>
            <a:ext cx="0" cy="20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"/>
          <p:cNvSpPr/>
          <p:nvPr/>
        </p:nvSpPr>
        <p:spPr>
          <a:xfrm flipH="1">
            <a:off x="6517800" y="54450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"/>
          <p:cNvSpPr/>
          <p:nvPr/>
        </p:nvSpPr>
        <p:spPr>
          <a:xfrm>
            <a:off x="5435640" y="5661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"/>
          <p:cNvSpPr/>
          <p:nvPr/>
        </p:nvSpPr>
        <p:spPr>
          <a:xfrm>
            <a:off x="6518160" y="544500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"/>
          <p:cNvSpPr/>
          <p:nvPr/>
        </p:nvSpPr>
        <p:spPr>
          <a:xfrm>
            <a:off x="6516720" y="616572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"/>
          <p:cNvSpPr/>
          <p:nvPr/>
        </p:nvSpPr>
        <p:spPr>
          <a:xfrm>
            <a:off x="3492360" y="404640"/>
            <a:ext cx="5473800" cy="1922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ахождение суммы элементов на главной диагонали за два прохода (в случае когда речь идет только о главной диагонали и остальной массив не нужен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 2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"/>
          <p:cNvSpPr/>
          <p:nvPr/>
        </p:nvSpPr>
        <p:spPr>
          <a:xfrm>
            <a:off x="544320" y="404640"/>
            <a:ext cx="7918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 u="sng">
                <a:solidFill>
                  <a:srgbClr val="0000ff"/>
                </a:solidFill>
                <a:uFillTx/>
                <a:latin typeface="Times New Roman"/>
              </a:rPr>
              <a:t>Один или два прохода по массиву? Рассуждение второ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"/>
          <p:cNvSpPr/>
          <p:nvPr/>
        </p:nvSpPr>
        <p:spPr>
          <a:xfrm>
            <a:off x="324000" y="906840"/>
            <a:ext cx="849600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инимальный элемент лежащий на главной диагонали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0" name="" descr=""/>
          <p:cNvPicPr/>
          <p:nvPr/>
        </p:nvPicPr>
        <p:blipFill>
          <a:blip r:embed="rId1"/>
          <a:stretch/>
        </p:blipFill>
        <p:spPr>
          <a:xfrm>
            <a:off x="971640" y="3141720"/>
            <a:ext cx="7200720" cy="2563920"/>
          </a:xfrm>
          <a:prstGeom prst="rect">
            <a:avLst/>
          </a:prstGeom>
          <a:ln w="0">
            <a:noFill/>
          </a:ln>
        </p:spPr>
      </p:pic>
      <p:sp>
        <p:nvSpPr>
          <p:cNvPr id="491" name=""/>
          <p:cNvSpPr/>
          <p:nvPr/>
        </p:nvSpPr>
        <p:spPr>
          <a:xfrm>
            <a:off x="161928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 элемент                                                         2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"/>
          <p:cNvSpPr/>
          <p:nvPr/>
        </p:nvSpPr>
        <p:spPr>
          <a:xfrm>
            <a:off x="221040" y="366480"/>
            <a:ext cx="8538120" cy="648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000" spc="-1" strike="noStrike" u="sng">
                <a:solidFill>
                  <a:srgbClr val="0000ff"/>
                </a:solidFill>
                <a:uFillTx/>
                <a:latin typeface="Times New Roman"/>
              </a:rPr>
              <a:t>Стандартный способ без анализа задачи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'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ВВеди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m:=a[1,1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i:=1 to n do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    </a:t>
            </a:r>
            <a:r>
              <a:rPr b="1" lang="en-US" sz="3000" spc="-1" strike="noStrike">
                <a:solidFill>
                  <a:srgbClr val="0000ff"/>
                </a:solidFill>
                <a:latin typeface="Times New Roman"/>
              </a:rPr>
              <a:t>For j:=1 to n do</a:t>
            </a: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000" spc="-1" strike="noStrike">
                <a:solidFill>
                  <a:srgbClr val="000000"/>
                </a:solidFill>
                <a:latin typeface="Times New Roman"/>
              </a:rPr>
              <a:t>                          </a:t>
            </a:r>
            <a:r>
              <a:rPr b="1" lang="en-US" sz="30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0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=',m:5);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"/>
          <p:cNvSpPr/>
          <p:nvPr/>
        </p:nvSpPr>
        <p:spPr>
          <a:xfrm>
            <a:off x="539640" y="1341360"/>
            <a:ext cx="5545080" cy="3167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5796000" y="1052640"/>
            <a:ext cx="3095640" cy="1224000"/>
          </a:xfrm>
          <a:prstGeom prst="wedgeRoundRectCallout">
            <a:avLst>
              <a:gd name="adj1" fmla="val -39694"/>
              <a:gd name="adj2" fmla="val 15661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случайными числам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611280" y="4508640"/>
            <a:ext cx="2089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3924360" y="3645000"/>
            <a:ext cx="3095640" cy="1439640"/>
          </a:xfrm>
          <a:prstGeom prst="wedgeRoundRectCallout">
            <a:avLst>
              <a:gd name="adj1" fmla="val -90412"/>
              <a:gd name="adj2" fmla="val 25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минимальный элемент стоит в левом верхнем угл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2987640" y="5950080"/>
            <a:ext cx="59054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"/>
          <p:cNvSpPr/>
          <p:nvPr/>
        </p:nvSpPr>
        <p:spPr>
          <a:xfrm>
            <a:off x="5651640" y="1916280"/>
            <a:ext cx="3166920" cy="1944360"/>
          </a:xfrm>
          <a:prstGeom prst="wedgeRoundRectCallout">
            <a:avLst>
              <a:gd name="adj1" fmla="val -47143"/>
              <a:gd name="adj2" fmla="val 1543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Если встречается элемент меньше </a:t>
            </a: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m,</a:t>
            </a:r>
            <a:r>
              <a:rPr b="1" lang="ru-RU" sz="2000" spc="-1" strike="noStrike">
                <a:solidFill>
                  <a:srgbClr val="0000ff"/>
                </a:solidFill>
                <a:latin typeface="Arial"/>
              </a:rPr>
              <a:t> и он лежит на главной диагонали, то он становится мин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"/>
          <p:cNvSpPr/>
          <p:nvPr/>
        </p:nvSpPr>
        <p:spPr>
          <a:xfrm>
            <a:off x="250920" y="1268280"/>
            <a:ext cx="8713800" cy="44809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 u="sng">
                <a:solidFill>
                  <a:srgbClr val="ff3300"/>
                </a:solidFill>
                <a:uFillTx/>
                <a:latin typeface="Times New Roman"/>
              </a:rPr>
              <a:t>Замечание</a:t>
            </a:r>
            <a:r>
              <a:rPr b="0" lang="ru-RU" sz="3200" spc="-1" strike="noStrike">
                <a:solidFill>
                  <a:srgbClr val="ff33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В данном случае можно не бегать по всему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массиву а пройти только по главной диагонали, обойдясь без вложенных циклов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m:=a[1,1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Courier New"/>
              </a:rPr>
              <a:t>For i:=2 to n do</a:t>
            </a: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ru-RU" sz="3200" spc="-1" strike="noStrike">
                <a:solidFill>
                  <a:srgbClr val="ff3300"/>
                </a:solidFill>
                <a:latin typeface="Courier New"/>
              </a:rPr>
              <a:t>if (a[i,i]&lt;m)  then m:=a[i,i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5" dur="indefinite" restart="never" nodeType="tmRoot">
          <p:childTnLst>
            <p:seq>
              <p:cTn id="786" dur="indefinite" nodeType="mainSeq">
                <p:childTnLst>
                  <p:par>
                    <p:cTn id="787" fill="hold">
                      <p:stCondLst>
                        <p:cond delay="indefinite"/>
                      </p:stCondLst>
                      <p:childTnLst>
                        <p:par>
                          <p:cTn id="788" fill="hold">
                            <p:stCondLst>
                              <p:cond delay="0"/>
                            </p:stCondLst>
                            <p:childTnLst>
                              <p:par>
                                <p:cTn id="78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49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9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5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6" dur="500" fill="hold"/>
                                        <p:tgtEl>
                                          <p:spTgt spid="4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7" fill="hold">
                      <p:stCondLst>
                        <p:cond delay="indefinite"/>
                      </p:stCondLst>
                      <p:childTnLst>
                        <p:par>
                          <p:cTn id="798" fill="hold">
                            <p:stCondLst>
                              <p:cond delay="0"/>
                            </p:stCondLst>
                            <p:childTnLst>
                              <p:par>
                                <p:cTn id="79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0" dur="5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03" dur="5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05" fill="hold">
                      <p:stCondLst>
                        <p:cond delay="indefinite"/>
                      </p:stCondLst>
                      <p:childTnLst>
                        <p:par>
                          <p:cTn id="806" fill="hold">
                            <p:stCondLst>
                              <p:cond delay="0"/>
                            </p:stCondLst>
                            <p:childTnLst>
                              <p:par>
                                <p:cTn id="80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0" dur="500" fill="hold"/>
                                        <p:tgtEl>
                                          <p:spTgt spid="4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3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4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5" fill="hold">
                      <p:stCondLst>
                        <p:cond delay="indefinite"/>
                      </p:stCondLst>
                      <p:childTnLst>
                        <p:par>
                          <p:cTn id="816" fill="hold">
                            <p:stCondLst>
                              <p:cond delay="0"/>
                            </p:stCondLst>
                            <p:childTnLst>
                              <p:par>
                                <p:cTn id="81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8" dur="5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2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21" dur="5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23" fill="hold">
                      <p:stCondLst>
                        <p:cond delay="indefinite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4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1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500" fill="hold"/>
                                        <p:tgtEl>
                                          <p:spTgt spid="4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3" fill="hold">
                      <p:stCondLst>
                        <p:cond delay="indefinite"/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7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8" dur="500" fill="hold"/>
                                        <p:tgtEl>
                                          <p:spTgt spid="5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инимальный элемент                                                         25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"/>
          <p:cNvSpPr/>
          <p:nvPr/>
        </p:nvSpPr>
        <p:spPr>
          <a:xfrm>
            <a:off x="179280" y="620640"/>
            <a:ext cx="8661600" cy="350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Если немного по рассуждать,  можно увидеть, что самое «маленькое» число, которое может выдать генератор случайных чисел это 10. Все остальные числа будут меньше его. Т.к. в условии задачи нам точно задан интервал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[-10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;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10]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3" name=""/>
          <p:cNvSpPr/>
          <p:nvPr/>
        </p:nvSpPr>
        <p:spPr>
          <a:xfrm>
            <a:off x="0" y="404640"/>
            <a:ext cx="8893080" cy="64306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3200" spc="-1" strike="noStrike" u="sng">
                <a:solidFill>
                  <a:srgbClr val="0000ff"/>
                </a:solidFill>
                <a:uFillTx/>
                <a:latin typeface="Times New Roman"/>
              </a:rPr>
              <a:t>С анализом исходных данных задачи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'ВВеди N = ');Readln(n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m:=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a[i,j]:=random(21)-10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if (a[i,j]&lt;m) and (i=j) then m:=a[i,j]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2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ru-RU" sz="3200" spc="-1" strike="noStrike">
                <a:solidFill>
                  <a:srgbClr val="ff3300"/>
                </a:solidFill>
                <a:latin typeface="Times New Roman"/>
              </a:rPr>
              <a:t>writeln(' Минимальный элемент лежащий на главной диагонали =',m:5);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"/>
          <p:cNvSpPr/>
          <p:nvPr/>
        </p:nvSpPr>
        <p:spPr>
          <a:xfrm>
            <a:off x="179280" y="1484280"/>
            <a:ext cx="1584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"/>
          <p:cNvSpPr/>
          <p:nvPr/>
        </p:nvSpPr>
        <p:spPr>
          <a:xfrm>
            <a:off x="5651640" y="1125360"/>
            <a:ext cx="3097080" cy="1727280"/>
          </a:xfrm>
          <a:prstGeom prst="wedgeRoundRectCallout">
            <a:avLst>
              <a:gd name="adj1" fmla="val -175370"/>
              <a:gd name="adj2" fmla="val -1994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маленькое число 10, пра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1979640" y="2924280"/>
            <a:ext cx="6624720" cy="1512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5364000" y="4653000"/>
            <a:ext cx="3097440" cy="1727280"/>
          </a:xfrm>
          <a:prstGeom prst="wedgeRoundRectCallout">
            <a:avLst>
              <a:gd name="adj1" fmla="val -120273"/>
              <a:gd name="adj2" fmla="val -6314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, выводим на экран и сразу проверяем на минимальность в главной диагонали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9" dur="indefinite" restart="never" nodeType="tmRoot">
          <p:childTnLst>
            <p:seq>
              <p:cTn id="840" dur="indefinite" nodeType="mainSeq">
                <p:childTnLst>
                  <p:par>
                    <p:cTn id="841" fill="hold">
                      <p:stCondLst>
                        <p:cond delay="indefinite"/>
                      </p:stCondLst>
                      <p:childTnLst>
                        <p:par>
                          <p:cTn id="842" fill="hold">
                            <p:stCondLst>
                              <p:cond delay="0"/>
                            </p:stCondLst>
                            <p:childTnLst>
                              <p:par>
                                <p:cTn id="84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45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6" dur="500" fill="hold"/>
                                        <p:tgtEl>
                                          <p:spTgt spid="5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47" fill="hold">
                      <p:stCondLst>
                        <p:cond delay="indefinite"/>
                      </p:stCondLst>
                      <p:childTnLst>
                        <p:par>
                          <p:cTn id="848" fill="hold">
                            <p:stCondLst>
                              <p:cond delay="0"/>
                            </p:stCondLst>
                            <p:childTnLst>
                              <p:par>
                                <p:cTn id="8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1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2" dur="500" fill="hold"/>
                                        <p:tgtEl>
                                          <p:spTgt spid="5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5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6" dur="500" fill="hold"/>
                                        <p:tgtEl>
                                          <p:spTgt spid="5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7" fill="hold">
                      <p:stCondLst>
                        <p:cond delay="indefinite"/>
                      </p:stCondLst>
                      <p:childTnLst>
                        <p:par>
                          <p:cTn id="858" fill="hold">
                            <p:stCondLst>
                              <p:cond delay="0"/>
                            </p:stCondLst>
                            <p:childTnLst>
                              <p:par>
                                <p:cTn id="8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0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63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5" fill="hold">
                      <p:stCondLst>
                        <p:cond delay="indefinite"/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4" dur="5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 . Максимальный элемент в строке                                       2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179280" y="403560"/>
            <a:ext cx="8785440" cy="2043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аполнить двумерный массив N x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</a:t>
            </a:r>
            <a:r>
              <a:rPr b="1" lang="ru-RU" sz="3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случайными числами из интервала [-10 ; 10] и найти максимальный элемент в каждой строке.</a:t>
            </a: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0" name="" descr=""/>
          <p:cNvPicPr/>
          <p:nvPr/>
        </p:nvPicPr>
        <p:blipFill>
          <a:blip r:embed="rId1"/>
          <a:stretch/>
        </p:blipFill>
        <p:spPr>
          <a:xfrm>
            <a:off x="971640" y="2349360"/>
            <a:ext cx="7345440" cy="3135600"/>
          </a:xfrm>
          <a:prstGeom prst="rect">
            <a:avLst/>
          </a:prstGeom>
          <a:ln w="0">
            <a:noFill/>
          </a:ln>
        </p:spPr>
      </p:pic>
      <p:sp>
        <p:nvSpPr>
          <p:cNvPr id="511" name=""/>
          <p:cNvSpPr/>
          <p:nvPr/>
        </p:nvSpPr>
        <p:spPr>
          <a:xfrm>
            <a:off x="4140360" y="299736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3708360" y="3284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3203640" y="350028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4643280" y="3789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700360" y="400536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3635280" y="4292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1187280" y="4508640"/>
            <a:ext cx="57636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2195640" y="4724280"/>
            <a:ext cx="576000" cy="360360"/>
          </a:xfrm>
          <a:prstGeom prst="ellipse">
            <a:avLst/>
          </a:prstGeom>
          <a:noFill/>
          <a:ln w="255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75" dur="indefinite" restart="never" nodeType="tmRoot">
          <p:childTnLst>
            <p:seq>
              <p:cTn id="876" dur="indefinite" nodeType="mainSeq">
                <p:childTnLst>
                  <p:par>
                    <p:cTn id="877" fill="hold">
                      <p:stCondLst>
                        <p:cond delay="indefinite"/>
                      </p:stCondLst>
                      <p:childTnLst>
                        <p:par>
                          <p:cTn id="878" fill="hold">
                            <p:stCondLst>
                              <p:cond delay="0"/>
                            </p:stCondLst>
                            <p:childTnLst>
                              <p:par>
                                <p:cTn id="87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1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2" dur="5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3" fill="hold">
                      <p:stCondLst>
                        <p:cond delay="indefinite"/>
                      </p:stCondLst>
                      <p:childTnLst>
                        <p:par>
                          <p:cTn id="884" fill="hold">
                            <p:stCondLst>
                              <p:cond delay="0"/>
                            </p:stCondLst>
                            <p:childTnLst>
                              <p:par>
                                <p:cTn id="8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9" fill="hold">
                      <p:stCondLst>
                        <p:cond delay="indefinite"/>
                      </p:stCondLst>
                      <p:childTnLst>
                        <p:par>
                          <p:cTn id="890" fill="hold">
                            <p:stCondLst>
                              <p:cond delay="0"/>
                            </p:stCondLst>
                            <p:childTnLst>
                              <p:par>
                                <p:cTn id="89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95" fill="hold">
                      <p:stCondLst>
                        <p:cond delay="indefinite"/>
                      </p:stCondLst>
                      <p:childTnLst>
                        <p:par>
                          <p:cTn id="896" fill="hold">
                            <p:stCondLst>
                              <p:cond delay="0"/>
                            </p:stCondLst>
                            <p:childTnLst>
                              <p:par>
                                <p:cTn id="89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9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0" dur="500" fill="hold"/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1" fill="hold">
                      <p:stCondLst>
                        <p:cond delay="indefinite"/>
                      </p:stCondLst>
                      <p:childTnLst>
                        <p:par>
                          <p:cTn id="902" fill="hold">
                            <p:stCondLst>
                              <p:cond delay="0"/>
                            </p:stCondLst>
                            <p:childTnLst>
                              <p:par>
                                <p:cTn id="9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5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6" dur="500" fill="hold"/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7" fill="hold">
                      <p:stCondLst>
                        <p:cond delay="indefinite"/>
                      </p:stCondLst>
                      <p:childTnLst>
                        <p:par>
                          <p:cTn id="908" fill="hold">
                            <p:stCondLst>
                              <p:cond delay="0"/>
                            </p:stCondLst>
                            <p:childTnLst>
                              <p:par>
                                <p:cTn id="90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1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2" dur="500" fill="hold"/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3" fill="hold">
                      <p:stCondLst>
                        <p:cond delay="indefinite"/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7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9" fill="hold">
                      <p:stCondLst>
                        <p:cond delay="indefinite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23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4" dur="5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90080" y="478800"/>
            <a:ext cx="8727480" cy="612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ВВеди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max:=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if (a[i,j]&gt;max) then 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  MAx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187280" y="620640"/>
            <a:ext cx="6697800" cy="2376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Решение в один проход,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ff"/>
                </a:solidFill>
                <a:latin typeface="Arial"/>
              </a:rPr>
              <a:t>с анализом задачи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826920" y="1700280"/>
            <a:ext cx="201636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5724360" y="1341360"/>
            <a:ext cx="3240360" cy="1366920"/>
          </a:xfrm>
          <a:prstGeom prst="wedgeRoundRectCallout">
            <a:avLst>
              <a:gd name="adj1" fmla="val -132902"/>
              <a:gd name="adj2" fmla="val -1202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самое большое число - 10, левая граница исходного интервал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611280" y="1125360"/>
            <a:ext cx="432108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5724360" y="838080"/>
            <a:ext cx="313236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755640" y="6093000"/>
            <a:ext cx="107964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2627280" y="2781360"/>
            <a:ext cx="4681440" cy="10792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6012000" y="1413000"/>
            <a:ext cx="3132000" cy="1224000"/>
          </a:xfrm>
          <a:prstGeom prst="wedgeRoundRectCallout">
            <a:avLst>
              <a:gd name="adj1" fmla="val -75291"/>
              <a:gd name="adj2" fmla="val 629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элемент массива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2627280" y="3933720"/>
            <a:ext cx="651672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724360" y="4724280"/>
            <a:ext cx="3203640" cy="1944720"/>
          </a:xfrm>
          <a:prstGeom prst="wedgeRoundRectCallout">
            <a:avLst>
              <a:gd name="adj1" fmla="val -55847"/>
              <a:gd name="adj2" fmla="val -6510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Если в строке встречается элемент больше максимального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826920" y="4941720"/>
            <a:ext cx="4969080" cy="57636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4427640" y="5516640"/>
            <a:ext cx="3203640" cy="1144440"/>
          </a:xfrm>
          <a:prstGeom prst="wedgeRoundRectCallout">
            <a:avLst>
              <a:gd name="adj1" fmla="val -81564"/>
              <a:gd name="adj2" fmla="val -4986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им наибольший элемент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25" dur="indefinite" restart="never" nodeType="tmRoot">
          <p:childTnLst>
            <p:seq>
              <p:cTn id="926" dur="indefinite" nodeType="mainSeq">
                <p:childTnLst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5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3" fill="hold">
                      <p:stCondLst>
                        <p:cond delay="indefinite"/>
                      </p:stCondLst>
                      <p:childTnLst>
                        <p:par>
                          <p:cTn id="934" fill="hold">
                            <p:stCondLst>
                              <p:cond delay="0"/>
                            </p:stCondLst>
                            <p:childTnLst>
                              <p:par>
                                <p:cTn id="93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36" dur="5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8" fill="hold">
                      <p:stCondLst>
                        <p:cond delay="indefinite"/>
                      </p:stCondLst>
                      <p:childTnLst>
                        <p:par>
                          <p:cTn id="939" fill="hold">
                            <p:stCondLst>
                              <p:cond delay="0"/>
                            </p:stCondLst>
                            <p:childTnLst>
                              <p:par>
                                <p:cTn id="94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2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3" dur="500" fill="hold"/>
                                        <p:tgtEl>
                                          <p:spTgt spid="52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6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7" dur="500" fill="hold"/>
                                        <p:tgtEl>
                                          <p:spTgt spid="5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8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52" fill="hold">
                      <p:stCondLst>
                        <p:cond delay="indefinite"/>
                      </p:stCondLst>
                      <p:childTnLst>
                        <p:par>
                          <p:cTn id="953" fill="hold">
                            <p:stCondLst>
                              <p:cond delay="0"/>
                            </p:stCondLst>
                            <p:childTnLst>
                              <p:par>
                                <p:cTn id="954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5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7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58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6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1" dur="5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3" fill="hold">
                      <p:stCondLst>
                        <p:cond delay="indefinite"/>
                      </p:stCondLst>
                      <p:childTnLst>
                        <p:par>
                          <p:cTn id="964" fill="hold">
                            <p:stCondLst>
                              <p:cond delay="0"/>
                            </p:stCondLst>
                            <p:childTnLst>
                              <p:par>
                                <p:cTn id="96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7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8" dur="5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1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5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73" fill="hold">
                      <p:stCondLst>
                        <p:cond delay="indefinite"/>
                      </p:stCondLst>
                      <p:childTnLst>
                        <p:par>
                          <p:cTn id="974" fill="hold">
                            <p:stCondLst>
                              <p:cond delay="0"/>
                            </p:stCondLst>
                            <p:childTnLst>
                              <p:par>
                                <p:cTn id="97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6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7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79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1" fill="hold">
                      <p:stCondLst>
                        <p:cond delay="indefinite"/>
                      </p:stCondLst>
                      <p:childTnLst>
                        <p:par>
                          <p:cTn id="982" fill="hold">
                            <p:stCondLst>
                              <p:cond delay="0"/>
                            </p:stCondLst>
                            <p:childTnLst>
                              <p:par>
                                <p:cTn id="98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5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6" dur="500" fill="hold"/>
                                        <p:tgtEl>
                                          <p:spTgt spid="52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8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1" fill="hold">
                      <p:stCondLst>
                        <p:cond delay="indefinite"/>
                      </p:stCondLst>
                      <p:childTnLst>
                        <p:par>
                          <p:cTn id="992" fill="hold">
                            <p:stCondLst>
                              <p:cond delay="0"/>
                            </p:stCondLst>
                            <p:childTnLst>
                              <p:par>
                                <p:cTn id="99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9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9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09" fill="hold">
                      <p:stCondLst>
                        <p:cond delay="indefinite"/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2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1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15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7" fill="hold">
                      <p:stCondLst>
                        <p:cond delay="indefinite"/>
                      </p:stCondLst>
                      <p:childTnLst>
                        <p:par>
                          <p:cTn id="1018" fill="hold">
                            <p:stCondLst>
                              <p:cond delay="0"/>
                            </p:stCondLst>
                            <p:childTnLst>
                              <p:par>
                                <p:cTn id="10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1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2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2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5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6" dur="500" fill="hold"/>
                                        <p:tgtEl>
                                          <p:spTgt spid="5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7" fill="hold">
                      <p:stCondLst>
                        <p:cond delay="indefinite"/>
                      </p:stCondLst>
                      <p:childTnLst>
                        <p:par>
                          <p:cTn id="1028" fill="hold">
                            <p:stCondLst>
                              <p:cond delay="0"/>
                            </p:stCondLst>
                            <p:childTnLst>
                              <p:par>
                                <p:cTn id="102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0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3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33" dur="5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3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2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1476360" y="2276640"/>
            <a:ext cx="2255760" cy="4316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/>
          <p:cNvSpPr/>
          <p:nvPr/>
        </p:nvSpPr>
        <p:spPr>
          <a:xfrm>
            <a:off x="1619280" y="364500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>
            <a:off x="2627280" y="213372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>
            <a:off x="2627280" y="270828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3708360" y="24922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>
            <a:off x="1403280" y="112536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1619280" y="292428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"/>
          <p:cNvSpPr/>
          <p:nvPr/>
        </p:nvSpPr>
        <p:spPr>
          <a:xfrm>
            <a:off x="2700360" y="3500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1619280" y="4762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1908000" y="1773360"/>
            <a:ext cx="1440000" cy="36036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- 1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>
            <a:off x="2627280" y="155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2627280" y="981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>
            <a:off x="1979640" y="4292640"/>
            <a:ext cx="1440000" cy="86364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3708360" y="443700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"/>
          <p:cNvSpPr/>
          <p:nvPr/>
        </p:nvSpPr>
        <p:spPr>
          <a:xfrm>
            <a:off x="3419640" y="4724280"/>
            <a:ext cx="288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572000" y="501336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 flipH="1">
            <a:off x="1116000" y="530064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 flipV="1">
            <a:off x="1116000" y="2491920"/>
            <a:ext cx="0" cy="280836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>
            <a:off x="2700360" y="5157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2700360" y="414972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1116000" y="249228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>
            <a:off x="5580000" y="2492280"/>
            <a:ext cx="0" cy="30258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H="1">
            <a:off x="826920" y="6453360"/>
            <a:ext cx="187344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 flipV="1">
            <a:off x="826920" y="1341360"/>
            <a:ext cx="0" cy="511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826920" y="134136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635280" y="1341360"/>
            <a:ext cx="21589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5796000" y="1341360"/>
            <a:ext cx="0" cy="496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"/>
          <p:cNvSpPr/>
          <p:nvPr/>
        </p:nvSpPr>
        <p:spPr>
          <a:xfrm flipH="1">
            <a:off x="2700000" y="5516640"/>
            <a:ext cx="2879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>
            <a:off x="1619280" y="573408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>
            <a:off x="2700360" y="5516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276720" y="4149720"/>
            <a:ext cx="466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1692360" y="486900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2700360" y="6237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5940360" y="476280"/>
            <a:ext cx="2989440" cy="1769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один проход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>
            <a:off x="2627280" y="33336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003640" y="630864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Применение.                                                                              2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24000" y="836640"/>
            <a:ext cx="6480000" cy="3305160"/>
          </a:xfrm>
          <a:prstGeom prst="rect">
            <a:avLst/>
          </a:prstGeom>
          <a:ln w="0">
            <a:noFill/>
          </a:ln>
        </p:spPr>
      </p:pic>
      <p:sp>
        <p:nvSpPr>
          <p:cNvPr id="51" name=""/>
          <p:cNvSpPr/>
          <p:nvPr/>
        </p:nvSpPr>
        <p:spPr>
          <a:xfrm>
            <a:off x="690120" y="476280"/>
            <a:ext cx="8119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ff"/>
                </a:solidFill>
                <a:latin typeface="Arial"/>
              </a:rPr>
              <a:t>Использование двумерных массивов для построения поверхностей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" descr=""/>
          <p:cNvPicPr/>
          <p:nvPr/>
        </p:nvPicPr>
        <p:blipFill>
          <a:blip r:embed="rId2"/>
          <a:stretch/>
        </p:blipFill>
        <p:spPr>
          <a:xfrm>
            <a:off x="4067280" y="1268280"/>
            <a:ext cx="4600440" cy="51627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3"/>
          <a:stretch/>
        </p:blipFill>
        <p:spPr>
          <a:xfrm>
            <a:off x="611280" y="836640"/>
            <a:ext cx="7618320" cy="5467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" dur="500" fill="hold"/>
                                        <p:tgtEl>
                                          <p:spTgt spid="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 29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179280" y="549360"/>
            <a:ext cx="8640720" cy="5031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ClrScr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‘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Введи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N = ');Readln(n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For j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a[i,j]:=random(2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1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)-10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 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(a[i,j]:4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writeln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Times New Roman"/>
              </a:rPr>
              <a:t>                   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</a:t>
            </a:r>
            <a:r>
              <a:rPr b="1" lang="en-US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250920" y="3645000"/>
            <a:ext cx="3203640" cy="1144440"/>
          </a:xfrm>
          <a:prstGeom prst="wedgeRoundRectCallout">
            <a:avLst>
              <a:gd name="adj1" fmla="val 73833"/>
              <a:gd name="adj2" fmla="val -119625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Заполняем массив и выводим его на экран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179280" y="620640"/>
            <a:ext cx="8713800" cy="558036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i:=1 to n do begin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a[i,1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For j:=2 to n do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if (a[i,j]&gt;max) then</a:t>
            </a: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                                          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max:= a[i,j]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    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writeln('В ',i,' строке </a:t>
            </a:r>
            <a:r>
              <a:rPr b="1" lang="en-US" sz="3600" spc="-1" strike="noStrike">
                <a:solidFill>
                  <a:srgbClr val="ff3300"/>
                </a:solidFill>
                <a:latin typeface="Times New Roman"/>
              </a:rPr>
              <a:t>max</a:t>
            </a:r>
            <a:r>
              <a:rPr b="1" lang="ru-RU" sz="3600" spc="-1" strike="noStrike">
                <a:solidFill>
                  <a:srgbClr val="ff3300"/>
                </a:solidFill>
                <a:latin typeface="Times New Roman"/>
              </a:rPr>
              <a:t>   = ',max:5)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1" lang="ru-RU" sz="3600" spc="-1" strike="noStrike">
                <a:solidFill>
                  <a:srgbClr val="0000ff"/>
                </a:solidFill>
                <a:latin typeface="Times New Roman"/>
              </a:rPr>
              <a:t>end;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250920" y="692280"/>
            <a:ext cx="4321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250920" y="3500280"/>
            <a:ext cx="115236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468360" y="1268280"/>
            <a:ext cx="2663640" cy="50508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539640" y="1844640"/>
            <a:ext cx="8209080" cy="107964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755640" y="2924280"/>
            <a:ext cx="7993080" cy="504720"/>
          </a:xfrm>
          <a:prstGeom prst="rect">
            <a:avLst/>
          </a:prstGeom>
          <a:noFill/>
          <a:ln w="28440">
            <a:solidFill>
              <a:srgbClr val="00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5435640" y="549360"/>
            <a:ext cx="3132000" cy="646200"/>
          </a:xfrm>
          <a:prstGeom prst="wedgeRoundRectCallout">
            <a:avLst>
              <a:gd name="adj1" fmla="val -77875"/>
              <a:gd name="adj2" fmla="val 2370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еребираем строк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5508720" y="404640"/>
            <a:ext cx="3456000" cy="1511640"/>
          </a:xfrm>
          <a:prstGeom prst="wedgeRoundRectCallout">
            <a:avLst>
              <a:gd name="adj1" fmla="val -118351"/>
              <a:gd name="adj2" fmla="val 235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Предполагаем, что наибольший элемент в каждой строке стоит на первом мест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5580000" y="3573360"/>
            <a:ext cx="3240000" cy="1943280"/>
          </a:xfrm>
          <a:prstGeom prst="wedgeRoundRectCallout">
            <a:avLst>
              <a:gd name="adj1" fmla="val -67097"/>
              <a:gd name="adj2" fmla="val -8275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Идем по строке и если находим элемент больший чем максимальный, то он становится максимальным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268360" y="4292640"/>
            <a:ext cx="3167280" cy="936720"/>
          </a:xfrm>
          <a:prstGeom prst="wedgeRoundRectCallout">
            <a:avLst>
              <a:gd name="adj1" fmla="val 6592"/>
              <a:gd name="adj2" fmla="val -139828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ff"/>
                </a:solidFill>
                <a:latin typeface="Arial"/>
              </a:rPr>
              <a:t>Вывод наибольшего элемента в строк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1547640" y="692280"/>
            <a:ext cx="6336000" cy="2808000"/>
          </a:xfrm>
          <a:prstGeom prst="rect">
            <a:avLst/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Стандартным способом,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первый проход – заполнение,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второй проход – поиск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максимального в строках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5" dur="indefinite" restart="never" nodeType="tmRoot">
          <p:childTnLst>
            <p:seq>
              <p:cTn id="1036" dur="indefinite" nodeType="mainSeq">
                <p:childTnLst>
                  <p:par>
                    <p:cTn id="1037" fill="hold">
                      <p:stCondLst>
                        <p:cond delay="indefinite"/>
                      </p:stCondLst>
                      <p:childTnLst>
                        <p:par>
                          <p:cTn id="1038" fill="hold">
                            <p:stCondLst>
                              <p:cond delay="0"/>
                            </p:stCondLst>
                            <p:childTnLst>
                              <p:par>
                                <p:cTn id="103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1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2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3" fill="hold">
                      <p:stCondLst>
                        <p:cond delay="indefinite"/>
                      </p:stCondLst>
                      <p:childTnLst>
                        <p:par>
                          <p:cTn id="1044" fill="hold">
                            <p:stCondLst>
                              <p:cond delay="0"/>
                            </p:stCondLst>
                            <p:childTnLst>
                              <p:par>
                                <p:cTn id="104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46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4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8" fill="hold">
                      <p:stCondLst>
                        <p:cond delay="indefinite"/>
                      </p:stCondLst>
                      <p:childTnLst>
                        <p:par>
                          <p:cTn id="1049" fill="hold">
                            <p:stCondLst>
                              <p:cond delay="0"/>
                            </p:stCondLst>
                            <p:childTnLst>
                              <p:par>
                                <p:cTn id="105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52" dur="50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3" fill="hold">
                      <p:stCondLst>
                        <p:cond delay="indefinite"/>
                      </p:stCondLst>
                      <p:childTnLst>
                        <p:par>
                          <p:cTn id="1054" fill="hold">
                            <p:stCondLst>
                              <p:cond delay="0"/>
                            </p:stCondLst>
                            <p:childTnLst>
                              <p:par>
                                <p:cTn id="105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7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8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5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1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7" fill="hold">
                      <p:stCondLst>
                        <p:cond delay="indefinite"/>
                      </p:stCondLst>
                      <p:childTnLst>
                        <p:par>
                          <p:cTn id="1068" fill="hold">
                            <p:stCondLst>
                              <p:cond delay="0"/>
                            </p:stCondLst>
                            <p:childTnLst>
                              <p:par>
                                <p:cTn id="106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0" dur="50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3" dur="500"/>
                                        <p:tgtEl>
                                          <p:spTgt spid="5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75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76" dur="5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7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8" fill="hold">
                      <p:stCondLst>
                        <p:cond delay="indefinite"/>
                      </p:stCondLst>
                      <p:childTnLst>
                        <p:par>
                          <p:cTn id="1079" fill="hold">
                            <p:stCondLst>
                              <p:cond delay="0"/>
                            </p:stCondLst>
                            <p:childTnLst>
                              <p:par>
                                <p:cTn id="108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4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6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7" dur="500" fill="hold"/>
                                        <p:tgtEl>
                                          <p:spTgt spid="5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88" fill="hold">
                      <p:stCondLst>
                        <p:cond delay="indefinite"/>
                      </p:stCondLst>
                      <p:childTnLst>
                        <p:par>
                          <p:cTn id="1089" fill="hold">
                            <p:stCondLst>
                              <p:cond delay="0"/>
                            </p:stCondLst>
                            <p:childTnLst>
                              <p:par>
                                <p:cTn id="1090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1" dur="5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09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094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6" fill="hold">
                      <p:stCondLst>
                        <p:cond delay="indefinite"/>
                      </p:stCondLst>
                      <p:childTnLst>
                        <p:par>
                          <p:cTn id="1097" fill="hold">
                            <p:stCondLst>
                              <p:cond delay="0"/>
                            </p:stCondLst>
                            <p:childTnLst>
                              <p:par>
                                <p:cTn id="109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0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1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0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4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5" dur="500" fill="hold"/>
                                        <p:tgtEl>
                                          <p:spTgt spid="5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6" fill="hold">
                      <p:stCondLst>
                        <p:cond delay="indefinite"/>
                      </p:stCondLst>
                      <p:childTnLst>
                        <p:par>
                          <p:cTn id="1107" fill="hold">
                            <p:stCondLst>
                              <p:cond delay="0"/>
                            </p:stCondLst>
                            <p:childTnLst>
                              <p:par>
                                <p:cTn id="1108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09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11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12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4" fill="hold">
                      <p:stCondLst>
                        <p:cond delay="indefinite"/>
                      </p:stCondLst>
                      <p:childTnLst>
                        <p:par>
                          <p:cTn id="1115" fill="hold">
                            <p:stCondLst>
                              <p:cond delay="0"/>
                            </p:stCondLst>
                            <p:childTnLst>
                              <p:par>
                                <p:cTn id="1116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20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3" dur="500" fill="hold"/>
                                        <p:tgtEl>
                                          <p:spTgt spid="5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4" fill="hold">
                      <p:stCondLst>
                        <p:cond delay="indefinite"/>
                      </p:stCondLst>
                      <p:childTnLst>
                        <p:par>
                          <p:cTn id="1125" fill="hold">
                            <p:stCondLst>
                              <p:cond delay="0"/>
                            </p:stCondLst>
                            <p:childTnLst>
                              <p:par>
                                <p:cTn id="112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27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29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30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Максимальный элемент в строке                                        30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852480" y="249552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j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990720" y="3814920"/>
            <a:ext cx="1985760" cy="51084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>
            <a:off x="2004840" y="2281320"/>
            <a:ext cx="2088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2025720" y="2903400"/>
            <a:ext cx="0" cy="22716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130560" y="2711520"/>
            <a:ext cx="504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826920" y="1846440"/>
            <a:ext cx="2257560" cy="43488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990720" y="3106800"/>
            <a:ext cx="2077920" cy="55548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a </a:t>
            </a:r>
            <a:r>
              <a:rPr b="1" lang="en-US" sz="1600" spc="-1" strike="noStrike" baseline="-25000">
                <a:solidFill>
                  <a:srgbClr val="ffffff"/>
                </a:solidFill>
                <a:latin typeface="Arial"/>
              </a:rPr>
              <a:t>i , j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=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случайное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[</a:t>
            </a:r>
            <a:r>
              <a:rPr b="1" lang="ru-RU" sz="1600" spc="-1" strike="noStrike">
                <a:solidFill>
                  <a:srgbClr val="ffffff"/>
                </a:solidFill>
                <a:latin typeface="Arial"/>
              </a:rPr>
              <a:t>-10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;10]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2028960" y="3662280"/>
            <a:ext cx="0" cy="15264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971640" y="1125360"/>
            <a:ext cx="198576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ffffff"/>
                </a:solidFill>
                <a:latin typeface="Times New Roman"/>
              </a:rPr>
              <a:t>Ввод 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1978200" y="16304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>
            <a:off x="1979640" y="48718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 flipH="1">
            <a:off x="466200" y="443880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466560" y="2711520"/>
            <a:ext cx="0" cy="1727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2050920" y="4295880"/>
            <a:ext cx="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466560" y="2711520"/>
            <a:ext cx="43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635280" y="2711520"/>
            <a:ext cx="0" cy="1871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179280" y="4583160"/>
            <a:ext cx="345600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 flipH="1" flipV="1">
            <a:off x="177840" y="2063880"/>
            <a:ext cx="1440" cy="251928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177840" y="2063880"/>
            <a:ext cx="64908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3059280" y="2063880"/>
            <a:ext cx="7920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"/>
          <p:cNvSpPr/>
          <p:nvPr/>
        </p:nvSpPr>
        <p:spPr>
          <a:xfrm>
            <a:off x="3851280" y="2063880"/>
            <a:ext cx="0" cy="2808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6" name=""/>
          <p:cNvSpPr/>
          <p:nvPr/>
        </p:nvSpPr>
        <p:spPr>
          <a:xfrm flipH="1">
            <a:off x="1979280" y="4871880"/>
            <a:ext cx="187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7" name=""/>
          <p:cNvSpPr/>
          <p:nvPr/>
        </p:nvSpPr>
        <p:spPr>
          <a:xfrm>
            <a:off x="1981080" y="838080"/>
            <a:ext cx="0" cy="28728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1619280" y="494172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4932360" y="2349360"/>
            <a:ext cx="2255760" cy="43200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j , 2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6083280" y="2206800"/>
            <a:ext cx="20520" cy="16812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6083280" y="2781360"/>
            <a:ext cx="0" cy="226800"/>
          </a:xfrm>
          <a:prstGeom prst="line">
            <a:avLst/>
          </a:prstGeom>
          <a:ln w="381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7164360" y="2565360"/>
            <a:ext cx="72072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4859280" y="1198440"/>
            <a:ext cx="2257560" cy="435240"/>
          </a:xfrm>
          <a:prstGeom prst="flowChartPreparation">
            <a:avLst/>
          </a:prstGeom>
          <a:solidFill>
            <a:srgbClr val="3333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i , 1, 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5364000" y="1773360"/>
            <a:ext cx="1440000" cy="4334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800" spc="-1" strike="noStrike">
                <a:solidFill>
                  <a:srgbClr val="ffffff"/>
                </a:solidFill>
                <a:latin typeface="Arial"/>
              </a:rPr>
              <a:t>Мах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 =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000" spc="-1" strike="noStrike" baseline="-25000">
                <a:solidFill>
                  <a:srgbClr val="ffffff"/>
                </a:solidFill>
                <a:latin typeface="Times New Roman"/>
              </a:rPr>
              <a:t>i , 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6083280" y="1630440"/>
            <a:ext cx="1440" cy="142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6083280" y="105408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364000" y="2997360"/>
            <a:ext cx="1440000" cy="863280"/>
          </a:xfrm>
          <a:prstGeom prst="flowChartDecision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1800" spc="-1" strike="noStrike" baseline="-25000">
                <a:solidFill>
                  <a:srgbClr val="ffffff"/>
                </a:solidFill>
                <a:latin typeface="Times New Roman"/>
              </a:rPr>
              <a:t>i , j  </a:t>
            </a:r>
            <a:r>
              <a:rPr b="1" lang="en-US" sz="1800" spc="-1" strike="noStrike">
                <a:solidFill>
                  <a:srgbClr val="ffffff"/>
                </a:solidFill>
                <a:latin typeface="Times New Roman"/>
              </a:rPr>
              <a:t>&gt; Ma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92720" y="4076640"/>
            <a:ext cx="1728720" cy="555840"/>
          </a:xfrm>
          <a:prstGeom prst="rec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Max = </a:t>
            </a:r>
            <a:r>
              <a:rPr b="1" lang="en-US" sz="2800" spc="-1" strike="noStrike">
                <a:solidFill>
                  <a:srgbClr val="ffffff"/>
                </a:solidFill>
                <a:latin typeface="Times New Roman"/>
              </a:rPr>
              <a:t>a </a:t>
            </a:r>
            <a:r>
              <a:rPr b="1" lang="en-US" sz="2800" spc="-1" strike="noStrike" baseline="-25000">
                <a:solidFill>
                  <a:srgbClr val="ffffff"/>
                </a:solidFill>
                <a:latin typeface="Times New Roman"/>
              </a:rPr>
              <a:t>i , j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/>
          <p:cNvSpPr/>
          <p:nvPr/>
        </p:nvSpPr>
        <p:spPr>
          <a:xfrm flipH="1">
            <a:off x="4571640" y="3429000"/>
            <a:ext cx="79380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"/>
          <p:cNvSpPr/>
          <p:nvPr/>
        </p:nvSpPr>
        <p:spPr>
          <a:xfrm>
            <a:off x="6084720" y="386064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"/>
          <p:cNvSpPr/>
          <p:nvPr/>
        </p:nvSpPr>
        <p:spPr>
          <a:xfrm flipH="1">
            <a:off x="4571640" y="4797360"/>
            <a:ext cx="1584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"/>
          <p:cNvSpPr/>
          <p:nvPr/>
        </p:nvSpPr>
        <p:spPr>
          <a:xfrm flipV="1">
            <a:off x="4572000" y="2565360"/>
            <a:ext cx="0" cy="2232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3" name=""/>
          <p:cNvSpPr/>
          <p:nvPr/>
        </p:nvSpPr>
        <p:spPr>
          <a:xfrm>
            <a:off x="6156360" y="4653000"/>
            <a:ext cx="0" cy="144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4572000" y="2565360"/>
            <a:ext cx="4316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7885080" y="2565360"/>
            <a:ext cx="0" cy="244800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 flipH="1">
            <a:off x="4284360" y="5950080"/>
            <a:ext cx="1873080" cy="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 flipH="1" flipV="1">
            <a:off x="4282560" y="1414080"/>
            <a:ext cx="1800" cy="4535640"/>
          </a:xfrm>
          <a:prstGeom prst="line">
            <a:avLst/>
          </a:prstGeom>
          <a:ln w="284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4282920" y="1414440"/>
            <a:ext cx="64944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 flipV="1">
            <a:off x="7091280" y="1413000"/>
            <a:ext cx="1081080" cy="14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 flipH="1">
            <a:off x="6084360" y="5013360"/>
            <a:ext cx="1800360" cy="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5076720" y="5229360"/>
            <a:ext cx="1986120" cy="511200"/>
          </a:xfrm>
          <a:prstGeom prst="flowChartInputOutput">
            <a:avLst/>
          </a:prstGeom>
          <a:solidFill>
            <a:srgbClr val="ff33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ffffff"/>
                </a:solidFill>
                <a:latin typeface="Times New Roman"/>
              </a:rPr>
              <a:t>Вывод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Ma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6084720" y="501336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6227640" y="3716280"/>
            <a:ext cx="46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Д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4788000" y="3068640"/>
            <a:ext cx="581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Не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6156360" y="5734080"/>
            <a:ext cx="0" cy="2160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8172360" y="1413000"/>
            <a:ext cx="0" cy="439236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6012000" y="765000"/>
            <a:ext cx="287280" cy="28764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1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/>
          <p:cNvSpPr/>
          <p:nvPr/>
        </p:nvSpPr>
        <p:spPr>
          <a:xfrm>
            <a:off x="1187280" y="47628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Начал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9" name=""/>
          <p:cNvSpPr/>
          <p:nvPr/>
        </p:nvSpPr>
        <p:spPr>
          <a:xfrm>
            <a:off x="7380360" y="5805360"/>
            <a:ext cx="1584360" cy="360360"/>
          </a:xfrm>
          <a:prstGeom prst="flowChartTerminator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Конец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0" name=""/>
          <p:cNvSpPr/>
          <p:nvPr/>
        </p:nvSpPr>
        <p:spPr>
          <a:xfrm>
            <a:off x="179280" y="5229360"/>
            <a:ext cx="3924360" cy="143460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ff"/>
                </a:solidFill>
                <a:latin typeface="Arial"/>
              </a:rPr>
              <a:t>Нахождение максимального элемента в каждой строке в два прохода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.                                                                           3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179280" y="550080"/>
            <a:ext cx="8713800" cy="35067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Массив 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— это пронумерованная последовательность величин одинакового типа, обозначаемая одним именем. Элементы массива располагаются в последовательных ячейках памяти, обозначаются именем массива и индексом. Каждое из значений, составляющих массив, называется его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компонентой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 (или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элементом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 массива)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79280" y="4292640"/>
            <a:ext cx="8712360" cy="222696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Способ организации данных, при котором каждый элемент определяется номером строки и номером столбца, на пересечении которых он расположен, называется </a:t>
            </a:r>
            <a:r>
              <a:rPr b="1" i="1" lang="en-US" sz="2800" spc="-1" strike="noStrike">
                <a:solidFill>
                  <a:srgbClr val="ff3300"/>
                </a:solidFill>
                <a:latin typeface="Arial"/>
              </a:rPr>
              <a:t>двумерным массивом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ределение                                                                             4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971640" y="1413000"/>
          <a:ext cx="4824000" cy="3023640"/>
        </p:xfrm>
        <a:graphic>
          <a:graphicData uri="http://schemas.openxmlformats.org/drawingml/2006/table">
            <a:tbl>
              <a:tblPr/>
              <a:tblGrid>
                <a:gridCol w="803880"/>
                <a:gridCol w="803880"/>
                <a:gridCol w="804240"/>
                <a:gridCol w="804240"/>
                <a:gridCol w="803520"/>
                <a:gridCol w="804240"/>
              </a:tblGrid>
              <a:tr h="1007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7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4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3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8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9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080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5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6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11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4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</a:t>
                      </a:r>
                      <a:endParaRPr b="0" lang="en-US" sz="4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890640" y="765000"/>
            <a:ext cx="5133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0000"/>
                </a:solidFill>
                <a:latin typeface="Arial"/>
              </a:rPr>
              <a:t>   </a:t>
            </a: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1      2      3      4      5      6   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470160" y="1700280"/>
            <a:ext cx="378720" cy="2471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089400" y="404640"/>
            <a:ext cx="2681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В математике</a:t>
            </a:r>
            <a:r>
              <a:rPr b="1" lang="en-US" sz="20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446160" y="1773360"/>
            <a:ext cx="1782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В </a:t>
            </a:r>
            <a:r>
              <a:rPr b="1" lang="en-US" sz="2800" spc="-1" strike="noStrike">
                <a:solidFill>
                  <a:srgbClr val="ff3300"/>
                </a:solidFill>
                <a:latin typeface="Arial"/>
              </a:rPr>
              <a:t>Pascal</a:t>
            </a:r>
            <a:r>
              <a:rPr b="1" lang="ru-RU" sz="2800" spc="-1" strike="noStrike">
                <a:solidFill>
                  <a:srgbClr val="ff3300"/>
                </a:solidFill>
                <a:latin typeface="Arial"/>
              </a:rPr>
              <a:t>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6783120" y="765000"/>
            <a:ext cx="1181880" cy="92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</a:t>
            </a:r>
            <a:r>
              <a:rPr b="1" lang="en-US" sz="4800" spc="-1" strike="noStrike" baseline="-25000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 baseline="-25000">
                <a:solidFill>
                  <a:srgbClr val="0000ff"/>
                </a:solidFill>
                <a:latin typeface="Courier New"/>
              </a:rPr>
              <a:t>;j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6227640" y="2133720"/>
            <a:ext cx="237492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en-US" sz="4800" spc="-1" strike="noStrike">
                <a:solidFill>
                  <a:srgbClr val="ff3300"/>
                </a:solidFill>
                <a:latin typeface="Courier New"/>
              </a:rPr>
              <a:t>i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j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5796000" y="4149720"/>
            <a:ext cx="2879640" cy="1079640"/>
          </a:xfrm>
          <a:prstGeom prst="wedgeRoundRectCallout">
            <a:avLst>
              <a:gd name="adj1" fmla="val -117532"/>
              <a:gd name="adj2" fmla="val -15338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4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2340000" y="5084640"/>
            <a:ext cx="2879640" cy="1079640"/>
          </a:xfrm>
          <a:prstGeom prst="wedgeRoundRectCallout">
            <a:avLst>
              <a:gd name="adj1" fmla="val -58875"/>
              <a:gd name="adj2" fmla="val -34147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1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2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4788000" y="5445000"/>
            <a:ext cx="2879640" cy="1079640"/>
          </a:xfrm>
          <a:prstGeom prst="wedgeRoundRectCallout">
            <a:avLst>
              <a:gd name="adj1" fmla="val -59152"/>
              <a:gd name="adj2" fmla="val -20441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A[</a:t>
            </a:r>
            <a:r>
              <a:rPr b="1" lang="ru-RU" sz="4800" spc="-1" strike="noStrike">
                <a:solidFill>
                  <a:srgbClr val="ff3300"/>
                </a:solidFill>
                <a:latin typeface="Courier New"/>
              </a:rPr>
              <a:t>3</a:t>
            </a:r>
            <a:r>
              <a:rPr b="1" lang="en-US" sz="4800" spc="-1" strike="noStrike">
                <a:solidFill>
                  <a:srgbClr val="0000ff"/>
                </a:solidFill>
                <a:latin typeface="Courier New"/>
              </a:rPr>
              <a:t>,</a:t>
            </a:r>
            <a:r>
              <a:rPr b="1" lang="ru-RU" sz="4800" spc="-1" strike="noStrike">
                <a:solidFill>
                  <a:srgbClr val="0000ff"/>
                </a:solidFill>
                <a:latin typeface="Courier New"/>
              </a:rPr>
              <a:t>5</a:t>
            </a:r>
            <a:r>
              <a:rPr b="1" lang="en-US" sz="4800" spc="-1" strike="noStrike">
                <a:solidFill>
                  <a:srgbClr val="000000"/>
                </a:solidFill>
                <a:latin typeface="Courier New"/>
              </a:rPr>
              <a:t>]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500" fill="hold"/>
                                        <p:tgtEl>
                                          <p:spTgt spid="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6" dur="500"/>
                                        <p:tgtEl>
                                          <p:spTgt spid="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fill="hold">
                      <p:stCondLst>
                        <p:cond delay="indefinite"/>
                      </p:stCondLst>
                      <p:childTnLst>
                        <p:par>
                          <p:cTn id="29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" dur="500" fill="hold"/>
                                        <p:tgtEl>
                                          <p:spTgt spid="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" fill="hold">
                      <p:stCondLst>
                        <p:cond delay="indefinite"/>
                      </p:stCondLst>
                      <p:childTnLst>
                        <p:par>
                          <p:cTn id="35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7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3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                                                                                   </a:t>
            </a: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765720" y="333360"/>
            <a:ext cx="77076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Самый простой способ описани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179280" y="907920"/>
            <a:ext cx="849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: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array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10,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1..20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real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0" y="2205000"/>
            <a:ext cx="2087640" cy="1008000"/>
          </a:xfrm>
          <a:prstGeom prst="wedgeRoundRectCallout">
            <a:avLst>
              <a:gd name="adj1" fmla="val -32435"/>
              <a:gd name="adj2" fmla="val -112833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Имя массив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979640" y="1916280"/>
            <a:ext cx="3097080" cy="1008000"/>
          </a:xfrm>
          <a:prstGeom prst="wedgeRoundRectCallout">
            <a:avLst>
              <a:gd name="adj1" fmla="val -2384"/>
              <a:gd name="adj2" fmla="val -82754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ро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3635280" y="2924280"/>
            <a:ext cx="2737080" cy="1008000"/>
          </a:xfrm>
          <a:prstGeom prst="wedgeRoundRectCallout">
            <a:avLst>
              <a:gd name="adj1" fmla="val 11657"/>
              <a:gd name="adj2" fmla="val -18417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Количество столбцов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6516720" y="2276640"/>
            <a:ext cx="2376360" cy="1511280"/>
          </a:xfrm>
          <a:prstGeom prst="wedgeRoundRectCallout">
            <a:avLst>
              <a:gd name="adj1" fmla="val -6314"/>
              <a:gd name="adj2" fmla="val -9443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ff"/>
                </a:solidFill>
                <a:latin typeface="Arial"/>
              </a:rPr>
              <a:t>Тип данных в массив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7200" y="3357720"/>
            <a:ext cx="9215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a: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1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 array [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1.. 20</a:t>
            </a:r>
            <a:r>
              <a:rPr b="1" lang="en-US" sz="40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4000" spc="-1" strike="noStrike">
                <a:solidFill>
                  <a:srgbClr val="0000ff"/>
                </a:solidFill>
                <a:latin typeface="Arial"/>
              </a:rPr>
              <a:t>real;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79280" y="1125360"/>
            <a:ext cx="505080" cy="432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284328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435600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6659640" y="1052640"/>
            <a:ext cx="1224000" cy="57600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1555200" y="2421000"/>
            <a:ext cx="59065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исание как массив массивов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1332000" y="5157720"/>
            <a:ext cx="2448000" cy="1008000"/>
          </a:xfrm>
          <a:prstGeom prst="wedgeRoundRectCallout">
            <a:avLst>
              <a:gd name="adj1" fmla="val -30222"/>
              <a:gd name="adj2" fmla="val -159921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дно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4788000" y="4365720"/>
            <a:ext cx="3529080" cy="2087640"/>
          </a:xfrm>
          <a:prstGeom prst="wedgeRoundRectCallout">
            <a:avLst>
              <a:gd name="adj1" fmla="val -44689"/>
              <a:gd name="adj2" fmla="val -6269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Каждый элемент которого  в свою очередь является одномерным массивом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611280" y="3429000"/>
            <a:ext cx="302400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4284720" y="3429000"/>
            <a:ext cx="3095640" cy="64764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500" fill="hold"/>
                                        <p:tgtEl>
                                          <p:spTgt spid="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500" fill="hold"/>
                                        <p:tgtEl>
                                          <p:spTgt spid="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0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2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63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5" fill="hold">
                      <p:stCondLst>
                        <p:cond delay="indefinite"/>
                      </p:stCondLst>
                      <p:childTnLst>
                        <p:par>
                          <p:cTn id="66" fill="hold">
                            <p:stCondLst>
                              <p:cond delay="0"/>
                            </p:stCondLst>
                            <p:childTnLst>
                              <p:par>
                                <p:cTn id="6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78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81" dur="500"/>
                                        <p:tgtEl>
                                          <p:spTgt spid="7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500" fill="hold"/>
                                        <p:tgtEl>
                                          <p:spTgt spid="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8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9" dur="500"/>
                                        <p:tgtEl>
                                          <p:spTgt spid="7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fill="hold">
                      <p:stCondLst>
                        <p:cond delay="indefinite"/>
                      </p:stCondLst>
                      <p:childTnLst>
                        <p:par>
                          <p:cTn id="102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" dur="500" fill="hold"/>
                                        <p:tgtEl>
                                          <p:spTgt spid="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500" fill="hold"/>
                                        <p:tgtEl>
                                          <p:spTgt spid="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4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1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9" fill="hold">
                      <p:stCondLst>
                        <p:cond delay="indefinite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500" fill="hold"/>
                                        <p:tgtEl>
                                          <p:spTgt spid="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2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7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8" dur="500" fill="hold"/>
                                        <p:tgtEl>
                                          <p:spTgt spid="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3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4" dur="500" fill="hold"/>
                                        <p:tgtEl>
                                          <p:spTgt spid="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199080" y="763560"/>
            <a:ext cx="89427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m=10; n =20;</a:t>
            </a:r>
            <a:br>
              <a:rPr sz="4400"/>
            </a:b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Var</a:t>
            </a:r>
            <a:br>
              <a:rPr sz="4400"/>
            </a:b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 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 m, 1.. n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 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34080" y="333360"/>
            <a:ext cx="8509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Количество строк и столбцов через константу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179280" y="836640"/>
            <a:ext cx="3961080" cy="13669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5003640" y="1197000"/>
            <a:ext cx="3529080" cy="1295280"/>
          </a:xfrm>
          <a:prstGeom prst="wedgeRoundRectCallout">
            <a:avLst>
              <a:gd name="adj1" fmla="val -73662"/>
              <a:gd name="adj2" fmla="val -11027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В разделе констант указываем число строк и столбц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50920" y="4580280"/>
            <a:ext cx="889308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ype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 t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=array[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1..m,1..n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] of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integer;</a:t>
            </a:r>
            <a:r>
              <a:rPr b="1" lang="en-US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var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  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a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  <a:ea typeface="Times New Roman"/>
              </a:rPr>
              <a:t>: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  <a:ea typeface="Times New Roman"/>
              </a:rPr>
              <a:t>t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191960" y="3860640"/>
            <a:ext cx="6612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Определением нового типа данных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324000" y="4653000"/>
            <a:ext cx="1511280" cy="72072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627280" y="2997360"/>
            <a:ext cx="3529080" cy="1726920"/>
          </a:xfrm>
          <a:prstGeom prst="wedgeRoundRectCallout">
            <a:avLst>
              <a:gd name="adj1" fmla="val -92870"/>
              <a:gd name="adj2" fmla="val 50092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Определяем пользовательский тип , двумерный масси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9" dur="indefinite" restart="never" nodeType="tmRoot">
          <p:childTnLst>
            <p:seq>
              <p:cTn id="150" dur="indefinite" nodeType="mainSeq">
                <p:childTnLst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5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6" dur="500" fill="hold"/>
                                        <p:tgtEl>
                                          <p:spTgt spid="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5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fill="hold">
                      <p:stCondLst>
                        <p:cond delay="indefinite"/>
                      </p:stCondLst>
                      <p:childTnLst>
                        <p:par>
                          <p:cTn id="162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4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66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67" dur="500"/>
                                        <p:tgtEl>
                                          <p:spTgt spid="8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3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4" dur="500" fill="hold"/>
                                        <p:tgtEl>
                                          <p:spTgt spid="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9" fill="hold">
                      <p:stCondLst>
                        <p:cond delay="indefinite"/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2" dur="500"/>
                                        <p:tgtEl>
                                          <p:spTgt spid="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4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95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Описание                                                                                    7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179280" y="1125360"/>
            <a:ext cx="8964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const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a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: array[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1..3,1..5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]</a:t>
            </a:r>
            <a:r>
              <a:rPr b="1" lang="en-US" sz="4400" spc="-1" strike="noStrike">
                <a:solidFill>
                  <a:srgbClr val="ff3300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of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 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integer</a:t>
            </a:r>
            <a:r>
              <a:rPr b="1" lang="en-US" sz="4400" spc="-1" strike="noStrike">
                <a:solidFill>
                  <a:srgbClr val="000066"/>
                </a:solidFill>
                <a:latin typeface="Arial"/>
              </a:rPr>
              <a:t> </a:t>
            </a:r>
            <a:r>
              <a:rPr b="1" lang="ru-RU" sz="4400" spc="-1" strike="noStrike">
                <a:solidFill>
                  <a:srgbClr val="ff3300"/>
                </a:solidFill>
                <a:latin typeface="Arial"/>
              </a:rPr>
              <a:t>=</a:t>
            </a: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9933"/>
                </a:solidFill>
                <a:latin typeface="Arial"/>
              </a:rPr>
              <a:t>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(3,-2,1,4,3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              </a:t>
            </a: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5,-9,0,3,7),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Arial"/>
              </a:rPr>
              <a:t>                                  </a:t>
            </a:r>
            <a:r>
              <a:rPr b="1" lang="ru-RU" sz="4400" spc="-1" strike="noStrike">
                <a:solidFill>
                  <a:srgbClr val="0000ff"/>
                </a:solidFill>
                <a:latin typeface="Arial"/>
              </a:rPr>
              <a:t>(-1,2,1,-4,0));</a:t>
            </a:r>
            <a:r>
              <a:rPr b="1" lang="ru-RU" sz="44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847600" y="549360"/>
            <a:ext cx="32727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Массив констант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5292720" y="2492280"/>
            <a:ext cx="3600360" cy="2305080"/>
          </a:xfrm>
          <a:prstGeom prst="rect">
            <a:avLst/>
          </a:prstGeom>
          <a:noFill/>
          <a:ln w="28440">
            <a:solidFill>
              <a:srgbClr val="ff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684360" y="3429000"/>
            <a:ext cx="3671640" cy="2016000"/>
          </a:xfrm>
          <a:prstGeom prst="wedgeRoundRectCallout">
            <a:avLst>
              <a:gd name="adj1" fmla="val 72092"/>
              <a:gd name="adj2" fmla="val -64249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Непосредственно в программе указываем значения элементов массива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7" dur="indefinite" restart="never" nodeType="tmRoot">
          <p:childTnLst>
            <p:seq>
              <p:cTn id="198" dur="indefinite" nodeType="mainSeq">
                <p:childTnLst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7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8" dur="500" fill="hold"/>
                                        <p:tgtEl>
                                          <p:spTgt spid="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"/>
          <p:cNvSpPr/>
          <p:nvPr/>
        </p:nvSpPr>
        <p:spPr>
          <a:xfrm>
            <a:off x="324000" y="1410840"/>
            <a:ext cx="8532720" cy="411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i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3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For j := 1 to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4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do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  </a:t>
            </a: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beg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           </a:t>
            </a: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write(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A[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, i,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,j,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'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]=  ');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   </a:t>
            </a:r>
            <a:r>
              <a:rPr b="1" lang="en-US" sz="4400" spc="-1" strike="noStrike">
                <a:solidFill>
                  <a:srgbClr val="ff3300"/>
                </a:solidFill>
                <a:latin typeface="Times New Roman"/>
                <a:ea typeface="Times New Roman"/>
              </a:rPr>
              <a:t>readln(a[i, j]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algn="just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             </a:t>
            </a: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0" y="0"/>
            <a:ext cx="9144000" cy="333360"/>
          </a:xfrm>
          <a:prstGeom prst="rect">
            <a:avLst/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ffff"/>
                </a:solidFill>
                <a:latin typeface="Arial"/>
              </a:rPr>
              <a:t>Двумерный массив. Заполнение                                                                                8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17400" y="692280"/>
            <a:ext cx="65343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 u="sng">
                <a:solidFill>
                  <a:srgbClr val="000000"/>
                </a:solidFill>
                <a:uFillTx/>
                <a:latin typeface="Arial"/>
              </a:rPr>
              <a:t>Заполнение массива с клавиатуры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95280" y="1484280"/>
            <a:ext cx="5977080" cy="64944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971640" y="2133720"/>
            <a:ext cx="7704000" cy="331128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124000" y="189000"/>
            <a:ext cx="6696000" cy="1152360"/>
          </a:xfrm>
          <a:prstGeom prst="wedgeRoundRectCallout">
            <a:avLst>
              <a:gd name="adj1" fmla="val -48245"/>
              <a:gd name="adj2" fmla="val 59916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строк. Берем первую, вторую и так далее строки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932360" y="5391000"/>
            <a:ext cx="3672000" cy="1467000"/>
          </a:xfrm>
          <a:prstGeom prst="wedgeRoundRectCallout">
            <a:avLst>
              <a:gd name="adj1" fmla="val -76111"/>
              <a:gd name="adj2" fmla="val -81060"/>
              <a:gd name="adj3" fmla="val 16667"/>
            </a:avLst>
          </a:prstGeom>
          <a:solidFill>
            <a:srgbClr val="ffff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ff"/>
                </a:solidFill>
                <a:latin typeface="Arial"/>
              </a:rPr>
              <a:t>Цикл отвечающий за перебор ячеек в каждой строке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1187280" y="5661000"/>
            <a:ext cx="1729080" cy="574560"/>
          </a:xfrm>
          <a:prstGeom prst="rect">
            <a:avLst/>
          </a:prstGeom>
          <a:noFill/>
          <a:ln w="3492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1477800" y="5516640"/>
            <a:ext cx="120636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end</a:t>
            </a:r>
            <a:r>
              <a:rPr b="0" lang="ru-RU" sz="4400" spc="-1" strike="noStrike">
                <a:solidFill>
                  <a:srgbClr val="0000ff"/>
                </a:solidFill>
                <a:latin typeface="Times New Roman"/>
                <a:ea typeface="Times New Roman"/>
              </a:rPr>
              <a:t>;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324000" y="2421000"/>
            <a:ext cx="3671640" cy="4032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5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0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5" fill="hold">
                      <p:stCondLst>
                        <p:cond delay="indefinite"/>
                      </p:stCondLst>
                      <p:childTnLst>
                        <p:par>
                          <p:cTn id="226" fill="hold">
                            <p:stCondLst>
                              <p:cond delay="0"/>
                            </p:stCondLst>
                            <p:childTnLst>
                              <p:par>
                                <p:cTn id="227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2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0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1" dur="500"/>
                                        <p:tgtEl>
                                          <p:spTgt spid="10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34" dur="500"/>
                                        <p:tgtEl>
                                          <p:spTgt spid="10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6" fill="hold">
                      <p:stCondLst>
                        <p:cond delay="indefinite"/>
                      </p:stCondLst>
                      <p:childTnLst>
                        <p:par>
                          <p:cTn id="237" fill="hold">
                            <p:stCondLst>
                              <p:cond delay="0"/>
                            </p:stCondLst>
                            <p:childTnLst>
                              <p:par>
                                <p:cTn id="23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0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42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4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5" dur="5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6" fill="hold">
                      <p:stCondLst>
                        <p:cond delay="indefinite"/>
                      </p:stCondLst>
                      <p:childTnLst>
                        <p:par>
                          <p:cTn id="247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0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1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6T14:07:47Z</dcterms:created>
  <dc:creator>Юдины</dc:creator>
  <dc:description/>
  <dc:language>en-US</dc:language>
  <cp:lastModifiedBy>Юдины</cp:lastModifiedBy>
  <dcterms:modified xsi:type="dcterms:W3CDTF">2012-03-27T14:17:05Z</dcterms:modified>
  <cp:revision>117</cp:revision>
  <dc:subject/>
  <dc:title>Слайд 1</dc:title>
</cp:coreProperties>
</file>