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5913-DD7A-469A-A2D7-E53F2538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3DBE2-EF2C-4DBC-9AB3-1ADDB4F8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1C19F-313D-4BA9-B4CE-765D8E4F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C3009-7E9D-4691-8D27-4F5A98AA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1C17-8EE1-4CAA-AAA6-D2B0C176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4E21-27F9-4CD8-828B-89422811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FFF2-59D3-430A-BB65-DA220F1A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1781-8421-46B9-A9BA-14CAD04A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8B54-8CEA-4B03-B336-9DD99DA7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2C95-490D-4D0D-82CE-7585AEFC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C38D-8795-4D94-A94F-5F8F1C15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C5250-2D40-4565-8331-469DA70A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70A1-5C20-46AC-910C-6019487E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B378-E286-4299-8502-466901F4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D019-474F-43DB-975D-D200D0B6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A575-2FBD-42AF-9C45-24E3798C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6B1D-4D57-4D5B-BD6F-FDED8BCF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FD4F3-7221-4884-AC74-D8367036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6A48F-00BA-457F-90BC-F469D328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C492B-FDA2-4D09-B72D-F5B55902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99F5-BED6-4D33-9462-92CD146C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E1F91-18B1-4DD2-AF97-E5C7691A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0D5D9-4C06-4140-8F50-B7F08B82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EBE96-7159-4FBA-AC3D-6A57C5CF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F185-D994-459E-970E-1DEA8C5D8B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8309-C7DA-4A45-A317-A3420C6D43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 u="sng">
                <a:solidFill>
                  <a:srgbClr val="00007d"/>
                </a:solidFill>
                <a:uFillTx/>
                <a:latin typeface="Arial"/>
              </a:rPr>
              <a:t>Тема урока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743200" y="23623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ачните работу с нажатия кнопки Пу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429000" cy="954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18800" y="4568760"/>
            <a:ext cx="3728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 информатике и 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ля 5-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0080"/>
                </a:solidFill>
                <a:uFillTx/>
                <a:latin typeface="Arial"/>
              </a:rPr>
              <a:t>Соста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улова Светла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ГБОУ СОШ № 2031, г.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Практическая работа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«Запуск стандартных программ из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Главного меню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Запустите программу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тобы запустить стандартную 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ведите указатель мыши на кнопку Пуск на Панели задач и щелкните левой кноп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мыши к пункту Программы – откроется вложенное меню с перечнем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к пункту Стандартные – появится вновь вложенное меню с перечнем стандартных , часто используемых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нужную программу Блокнот, и выберите ее щелчком левой кнопки мы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ус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5791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андар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5791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ADADF-32D4-4B0D-8159-0AA5DA30BA4D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. Запустите стандартную программу Калькулятор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1143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295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11430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129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143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Стандар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129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1143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6765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106200" indent="-106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. Завершение работы с програм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Калькуля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появлении окна сохранения документа, нажмите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518148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44474-E366-4569-8F3A-0D6349A3CEE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Итоги урока и Д/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акую тему рассматрив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нового вы 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ему научи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вам больше всего понравило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/З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5 и определения вы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3276720" cy="238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BD9CC-9062-47FB-BD89-EDF0D22DD3C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910120" y="3200400"/>
            <a:ext cx="3233880" cy="2809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 с назначением и функциями Главного мен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воить запуск программ через Главное мен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209B8-DC60-4243-8F29-EA24F0391C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19360" y="19807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тоги урока и д/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35412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78D4E-D708-476B-96B6-1526672804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4619520" cy="3067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 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10663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бочий сто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Рабочем сто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анели зада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Мен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вы знаете о кнопке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ус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BE4DA-7EEF-492A-AD3F-1337C673AD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2. Изучение нового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3733920" cy="1040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нопка Пуск располагается на Панели задач в левом нижнем уг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200400"/>
            <a:ext cx="4495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ие действия начинаются с нажатия кнопки Пу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9A2EB-669C-4267-9E54-8251FE0339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46720" y="228600"/>
            <a:ext cx="3797280" cy="5605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4495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Щелкнув по кнопке Пуск откроетс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97180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657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886200"/>
            <a:ext cx="449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этого меню можно вызвать различные программы. При помощи программ создаются документы: тексты, рисунки,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841A8-34B7-4C2B-BE2C-95761F04E8D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3733560" cy="5867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44960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 пункте меню справа расположен значок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ит этот пункт является заголовком еще одного ме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687240" cy="718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2971800" y="2514600"/>
            <a:ext cx="5562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3048120"/>
            <a:ext cx="3429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124080"/>
            <a:ext cx="3962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3200400"/>
            <a:ext cx="4267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7A914-4446-435E-966D-1BC909A0F94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8077320" cy="44085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содержимое появляется при выделении этого пункта. Такие меню называют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вложен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скрытым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Глав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371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Вложен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89548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343040" y="1752480"/>
            <a:ext cx="2514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934320" y="17524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1828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D46C5-4037-4F33-B02F-6CE89436511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174920" cy="6095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0492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ме того, кнопка Пуск позволяет грамотно завершить работу на компьютере, выбрав команд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вершение рабо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99351-D225-4083-978E-46B39C3331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</cp:lastModifiedBy>
  <dcterms:modified xsi:type="dcterms:W3CDTF">2012-04-13T07:39:0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