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B99F-666C-44BB-855E-EBAACE16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26B8-3194-4193-923E-9288F5C0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B3F99-0D74-4C2E-8BA8-C9996A6B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101DF-26B6-4353-B86E-28F854BD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51DA-40B7-4777-A1D3-52DEB54B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A61B-560B-40D5-86B3-97CECD44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7387-44C4-4E9B-8825-4FFB29FA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2C17-4793-429A-9756-8DCA622D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BF79-AC5C-4DC6-881D-928B8029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FFCD-E349-4AFC-97CE-88290E89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CE2E-A413-4C1C-859D-06FB382A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C97B7-219F-48BB-8DB7-CB70C6B0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D3CB-F244-4AD7-BC72-59D73483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9FBF-39B1-48BD-9886-AC7E74C4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E91E-0AD0-401B-969D-B5A94799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A03D-6C94-45E6-8D9B-633D49DB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FD7B-5559-4FA1-9F4F-B68D5873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6675D-A8ED-47DD-84A0-3741FEE3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56DA3-F493-42F5-90D4-1C762784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5F910-F931-4C08-982B-9F5017FB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4F9DF-3690-43A7-932E-C3ED776F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CCEEF-7DBB-412F-8FDA-AEC19081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04FE0-4CD6-4591-B330-1D3252FF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42A05-A1AF-4C9A-B42B-9323DBFD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B6F8-EAED-4125-9992-F610BEFCC0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C6FF-0DCB-48AB-A500-2F785C505B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 u="sng">
                <a:solidFill>
                  <a:srgbClr val="00007d"/>
                </a:solidFill>
                <a:uFillTx/>
                <a:latin typeface="Arial"/>
              </a:rPr>
              <a:t>Тема урока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743200" y="2362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чните работу с нажатия кнопки Пу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429000" cy="954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8800" y="4568760"/>
            <a:ext cx="372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 информатике и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ля 5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0080"/>
                </a:solidFill>
                <a:uFillTx/>
                <a:latin typeface="Arial"/>
              </a:rPr>
              <a:t>Соста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улова Светла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ГБОУ СОШ № 2031, г.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Практическая работа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«Запуск стандартных программ из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Главного меню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Запустите программу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тобы запустить стандартную 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ведите указатель мыши на кнопку Пуск на Панели задач и щелкните левой кноп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мыши к пункту Программы – откроется вложенное меню с перечнем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к пункту Стандартные – появится вновь вложенное меню с перечнем стандартных , часто используем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нужную программу Блокнот, и выберите ее щелчком левой кнопки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ус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андар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2B180-2AA1-4FB3-8AC4-70D70E9525F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. Запустите стандартную программу Калькулято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1143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295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11430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143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129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1143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676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06200" indent="-106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. Завершение работы с програм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Калькуля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оявлении окна сохранения документа, нажмите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518148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D137-F407-43BA-AB35-498FB3E101B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Итоги урока и Д/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акую тему рассматрив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нового вы 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ему научи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вам больше всего понравило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/З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5 и определения вы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276720" cy="238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08E4D-25B7-45F3-B86D-417A6390D7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910120" y="3200400"/>
            <a:ext cx="3233880" cy="280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 с назначением и функциями Главного мен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оить запуск программ через Главное ме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78C90-C07F-4B2F-8885-2C86F33D31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9360" y="19807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оги урока и д/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35412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81396-401C-4EAC-BC30-28D907DC2D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4619520" cy="3067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 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0663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бочий ст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Рабочем сто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анели зада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ен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ы знаете о кнопке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ус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EE0D4-81C4-479D-A109-63EFA5C6A7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2. Изуч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733920" cy="1040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нопка Пуск располагается на Панели задач в левом нижнем уг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200400"/>
            <a:ext cx="4495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ие действия начинаются с нажатия кнопки Пу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74C64-4ECE-4215-B88F-E4C2C6800A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46720" y="228600"/>
            <a:ext cx="3797280" cy="5605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495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Щелкнув по кнопке Пуск откроетс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97180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657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886200"/>
            <a:ext cx="449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этого меню можно вызвать различные программы. При помощи программ создаются документы: тексты, рисунки,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1FC1-F178-4EDD-B558-848BD47837F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3733560" cy="5867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44960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 пункте меню справа расположен значок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т этот пункт является заголовком еще одного ме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687240" cy="718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2971800" y="2514600"/>
            <a:ext cx="5562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3048120"/>
            <a:ext cx="3429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124080"/>
            <a:ext cx="3962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200400"/>
            <a:ext cx="4267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607F4-6C2C-4B63-9974-B09B71B2057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077320" cy="4408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содержимое появляется при выделении этого пункта. Такие меню называют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вложен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крытым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Глав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371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Вложен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8954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343040" y="1752480"/>
            <a:ext cx="2514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934320" y="17524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1828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E9DEE-4599-41D7-A5C8-9BA7D3915DE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174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0492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ме того, кнопка Пуск позволяет грамотно завершить работу на компьютере, выбрав команд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вершение рабо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DA195-5C2C-4C56-B8D9-7DD562F513D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</cp:lastModifiedBy>
  <dcterms:modified xsi:type="dcterms:W3CDTF">2012-04-13T07:39:0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