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AC89C-F7E7-402D-8E6D-B3C840C8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941A-E49E-42B5-8746-2EC8619E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B99C-5D8E-4020-A972-87B672E4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BAA3-B22A-4170-880E-B53BFFF6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E097-F173-4691-90E6-8C79797B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682F-5FE5-47E3-BA77-952AB32C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6A65-D22B-4C3C-8A28-2673B9BE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8DA3-6296-4886-B99F-7C204C54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FDB6-C1E9-448B-B7C4-03B0C0E3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E146-EC07-4A1A-9018-C9400478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2BB0-596D-4B1D-B9B2-136583E5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6D57-7A21-4D48-AB74-393AE444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AAE4-88B8-476D-ABED-43D94AB1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9694-208F-4C85-BB23-E7F9866B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765C-1606-437F-B694-83C29FAF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7CA4-BE74-4169-B5F1-71059FDD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E3E1-2444-4A31-9A3A-3DB22F8E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A9810-63C1-468F-98E7-DCD971A6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7F3A-4A4D-4614-B3DC-A2533DF8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BCFF-18C1-441E-9CD2-37D3B7AF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D46F-6BAA-4D6B-A4C8-B0C09D6A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3F53-8EF9-4821-AAEA-C2FA75B2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F308A-7704-4FF3-8635-5F1AE1D4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6AEF-CBDD-470C-8A3F-81E1FFF7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C1F7-F672-41AC-B668-800B89E508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ED65-E52C-4202-8B5C-73BD4CBBB8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00007d"/>
                </a:solidFill>
                <a:uFillTx/>
                <a:latin typeface="Arial"/>
              </a:rPr>
              <a:t>Тема урок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чните работу с нажатия кнопки Пу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95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8800" y="4568760"/>
            <a:ext cx="372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 информатике и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5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80"/>
                </a:solidFill>
                <a:uFillTx/>
                <a:latin typeface="Arial"/>
              </a:rPr>
              <a:t>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улова 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БОУ СОШ № 2031,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Практическая работа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«Запуск стандартных программ из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Главного мен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Запустите программу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бы запустить стандартную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ведите указатель мыши на кнопку Пуск на Панели задач и щелкните левой кноп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мыши к пункту Программы – откроется вложенное меню с перечнем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к пункту Стандартные – появится вновь вложенное меню с перечнем стандартных , часто используем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ужную программу Блокнот, и выберите ее щелчком левой кнопк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ус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анда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AB5E-269D-43CE-92F2-CEF4330B27E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. Запустите стандартную программу Калькулято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29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14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129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114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76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. Завершение работы с програм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Кальк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явлении окна сохранения документа, нажмит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18148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A77A-790C-4D5E-A129-9C70FB6E059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Итоги урока и Д/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акую тему рассматрив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нового вы 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ему науч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вам больше всего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/З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5 и определения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276720" cy="23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4F40-F96F-481D-8680-8DA7AE7631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10120" y="3200400"/>
            <a:ext cx="3233880" cy="280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назначением и функциями Главного мен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ить запуск программ через Главное ме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33140-A428-4C74-82F0-1AFEE4A330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 урока и д/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3541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FD71-4F3D-43E8-8F7A-DFD1FBE09B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619520" cy="3067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бочий ст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Рабочем сто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анели зада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е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ы знаете о кнопке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ус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B400-FF1B-4686-B54B-A000B0A3DF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Изуч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733920" cy="1040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опка Пуск располагается на Панели задач в левом нижнем уг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200400"/>
            <a:ext cx="4495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е действия начинаются с нажатия кнопки Пу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0D88D-E1BB-45F0-B9FB-02B32FCFC6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46720" y="228600"/>
            <a:ext cx="3797280" cy="5605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Щелкнув по кнопке Пуск открое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9718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657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86200"/>
            <a:ext cx="449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этого меню можно вызвать различные программы. При помощи программ создаются документы: тексты, рисунки,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352C-C794-48A3-8827-5F0EBDEB53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3733560" cy="586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496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пункте меню справа расположен значок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 этот пункт является заголовком еще одного 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687240" cy="718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971800" y="2514600"/>
            <a:ext cx="5562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0481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124080"/>
            <a:ext cx="3962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200400"/>
            <a:ext cx="4267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B785-6084-4115-9659-9B68CBBFE8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77320" cy="4408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содержимое появляется при выделении этого пункта. Такие меню называют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влож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крытым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ложен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895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43040" y="175248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34320" y="1752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62FE-6F4D-4A63-9EC4-EDE5B1906AD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174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0492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того, кнопка Пуск позволяет грамотно завершить работу на компьютере, выбрав команд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вершение рабо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F112-F5F5-49F2-B619-9C6442A3ABF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</cp:lastModifiedBy>
  <dcterms:modified xsi:type="dcterms:W3CDTF">2012-04-13T07:39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