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EFD-C340-472E-9210-5B8AAE27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32C-FD44-4AB1-88D2-2A992213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627-4819-4716-BBB6-A5072BC8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273-48E4-4528-AD07-5AC7D8A0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839C-9C71-499D-A6BB-3708674AD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701E-9279-47B9-865A-A9A25834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D923-25F1-43A2-B5D2-5947ED87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8CB-53B7-4668-A145-95C897C7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6D5F-FA94-4550-9087-D0E3F154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A3B0-2F7C-4368-80D2-CED0FE2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3DEB-997D-4F9F-ADF4-A0D6DFCF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7AF-1B5E-4F3C-A02E-CF629295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3ED-8766-47BB-9EFD-1AB1BA77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C886-08CA-46A2-8AF9-3E620D4D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C85DB-FBB3-44D3-B50B-C2F5E56F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7E16-D242-417C-AA45-CCEB1E13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3B0-0D19-402E-A520-EDE335B7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AA600-7409-4622-BC84-74E540DF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432D-6109-4C71-9993-103066BD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FEAC-477B-4854-B865-3587C54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337F6-6EEE-4963-85BC-37FF15F1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3B8A4-00D4-4C0B-AADE-A0E10888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935-D104-4C0F-8B26-BD42C352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E464-0B39-4610-B3A6-7E84FB49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B9F5A-38F6-41FF-A70B-1EC3D01A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6C8B-D9EF-4349-B7B0-51C7B7B9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13E8-687D-4482-AE37-3513EBE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06533-89D6-4664-AF00-1B45AD9F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7989-ED1A-4601-9FA9-B248B240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8F79-F74C-4249-A35C-FA64735F3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754-FE3F-4777-A7D8-F5764E41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DB5-AC02-4350-A0C0-24A794DE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B8A-7648-4AA9-83B6-8D143A80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CE6-0BE7-402E-983C-8AB2C3D3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5A62-180A-458B-83F9-019F583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5BCE-AEBB-46BE-8176-367626B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1A7B-F667-4A9A-88BC-B9F0E8039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AEED-7A22-4607-8DBC-173E1E94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0080"/>
                            <a:ext cx="25524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568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36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7040" y="3773160"/>
                            <a:ext cx="98856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8400" y="3456000"/>
                            <a:ext cx="124740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296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520" y="2916360"/>
                            <a:ext cx="185220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5400" y="2658240"/>
                            <a:ext cx="213660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600" y="2394000"/>
                            <a:ext cx="248076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81400" y="210996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4560" y="1847880"/>
                            <a:ext cx="298404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3760" y="2247480"/>
                  <a:ext cx="254160" cy="24768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6560" y="2236320"/>
                  <a:ext cx="185040" cy="173160"/>
                </a:xfrm>
                <a:custGeom>
                  <a:avLst/>
                  <a:gdLst>
                    <a:gd name="textAreaLeft" fmla="*/ 0 w 185040"/>
                    <a:gd name="textAreaRight" fmla="*/ 185400 w 18504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28960" cy="21852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18520"/>
                    <a:gd name="textAreaBottom" fmla="*/ 218880 h 21852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7520" y="2125440"/>
                  <a:ext cx="89640" cy="82080"/>
                </a:xfrm>
                <a:custGeom>
                  <a:avLst/>
                  <a:gdLst>
                    <a:gd name="textAreaLeft" fmla="*/ 0 w 89640"/>
                    <a:gd name="textAreaRight" fmla="*/ 89640 w 89640"/>
                    <a:gd name="textAreaTop" fmla="*/ 0 h 82080"/>
                    <a:gd name="textAreaBottom" fmla="*/ 82440 h 8208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8293-0D42-4105-9E8D-E5BB51970C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6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4.png"/><Relationship Id="rId17" Type="http://schemas.openxmlformats.org/officeDocument/2006/relationships/image" Target="../media/image24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6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6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228600" y="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781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ы и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БОУ СОШ № 1 г. Завитинска Шерстобитова О.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4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299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3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3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4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47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3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5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5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1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2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3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4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5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66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7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76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79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0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2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85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88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0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1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2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3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4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395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6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3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4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07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0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3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16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25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7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28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4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38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28600" y="18288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актическая работа №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: Файлов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7920" y="-7668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, конспект л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-353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.*   Постройте дерево катал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Города\Благовещен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Рисунки\Природа\Бор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Документы\Компьютеры\Принтер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Рефера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:\Мои документы\Учебные\Доклад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4000"/>
                            </p:stCondLst>
                            <p:childTnLst>
                              <p:par>
                                <p:cTn id="5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годня я узнал 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было интересно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еня удивило 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рок дал мне для жизни  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не захотелось  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2860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я могу сказать об уроке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0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6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68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0:32:06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