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.jpeg" ContentType="image/jpeg"/>
  <Override PartName="/ppt/media/image3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6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FD7A-75F4-4575-9020-34D708D4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E449-7C94-4561-8A0E-EF80C3B4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1399-040A-48F0-ACD4-9EBFE28D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D3E-01AD-4CED-854E-E834B897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D9C1-9E1E-4C03-B5C8-09C7DBA3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6BDC-AF64-4209-82B0-66CC929A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EC1F-BEF3-46BB-96A1-4C6A76B3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2A45-AFDA-425A-A28C-C8FFEFE3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BAF8-B4DB-4D70-A9A3-A829B744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9F4F-DC71-4A85-ACCD-01E746E3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4DA2-E3C2-4416-8F4B-8F3673F9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48D-E61E-4F65-A492-76516D16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9EC9-1850-46CF-BB9F-20AACD4B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A4E1-B64D-4C6B-B9A7-E6759C49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C169-5007-46FE-89CC-9AFEDA61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8B55-55EB-4DE7-9364-1E1B24CE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B294-2CB7-43A2-804E-B55CE58E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5AED0-0BE9-42D4-98A2-EDE0A36F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4BE34-AF1F-467D-8B59-FE7E506F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C8987-ADB3-4C41-8884-6B9269F7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9B7DD-A69B-43F1-839C-A7187C83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32E36-C6DE-4160-9843-37FEEC2E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266-E2D7-43DC-BBAA-D39815E3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4FC27-CB9C-49F6-8353-A71A651E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D93D0-C0BA-4158-99FB-E3AE4FC6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CFC59-23A1-464C-AC5B-318929C4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86D64-38AB-4608-ACC0-969CD1B6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70BA4-85F8-46B5-98FF-A01F14FB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790C3-E5D2-4565-A9FD-591BDA63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FF5A-2AB0-4446-BA4E-656FCECD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57B-44E5-43C1-AB9A-88AC023B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9222-F6CB-43F5-92D7-683C23B9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D16-7F9A-4999-A3BE-A1B2BA95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DFE-6BE7-42E8-90CC-E6C2955C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C1F-2DA8-4621-A382-D85645E5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3F12-7ADB-42C6-8E47-CB300B7F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E8B7-72C6-4CFE-91DB-4635B10EB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3DB4-6216-4AC8-B68B-0AFFB46A9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304200" y="798480"/>
            <a:ext cx="7074360" cy="6851520"/>
            <a:chOff x="-304200" y="798480"/>
            <a:chExt cx="7074360" cy="6851520"/>
          </a:xfrm>
        </p:grpSpPr>
        <p:grpSp>
          <p:nvGrpSpPr>
            <p:cNvPr id="83" name="Group 3"/>
            <p:cNvGrpSpPr/>
            <p:nvPr/>
          </p:nvGrpSpPr>
          <p:grpSpPr>
            <a:xfrm>
              <a:off x="-304200" y="798480"/>
              <a:ext cx="7074360" cy="6851520"/>
              <a:chOff x="-304200" y="798480"/>
              <a:chExt cx="7074360" cy="6851520"/>
            </a:xfrm>
          </p:grpSpPr>
          <p:grpSp>
            <p:nvGrpSpPr>
              <p:cNvPr id="84" name="Group 4"/>
              <p:cNvGrpSpPr/>
              <p:nvPr/>
            </p:nvGrpSpPr>
            <p:grpSpPr>
              <a:xfrm>
                <a:off x="-304200" y="798480"/>
                <a:ext cx="7074360" cy="6851520"/>
                <a:chOff x="-304200" y="798480"/>
                <a:chExt cx="7074360" cy="6851520"/>
              </a:xfrm>
            </p:grpSpPr>
            <p:sp>
              <p:nvSpPr>
                <p:cNvPr id="85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6"/>
                <p:cNvGrpSpPr/>
                <p:nvPr/>
              </p:nvGrpSpPr>
              <p:grpSpPr>
                <a:xfrm>
                  <a:off x="-304200" y="798480"/>
                  <a:ext cx="7074360" cy="6851520"/>
                  <a:chOff x="-304200" y="798480"/>
                  <a:chExt cx="7074360" cy="6851520"/>
                </a:xfrm>
              </p:grpSpPr>
              <p:sp>
                <p:nvSpPr>
                  <p:cNvPr id="87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" name="Group 10"/>
                  <p:cNvGrpSpPr/>
                  <p:nvPr/>
                </p:nvGrpSpPr>
                <p:grpSpPr>
                  <a:xfrm>
                    <a:off x="-304200" y="798480"/>
                    <a:ext cx="7074360" cy="6851520"/>
                    <a:chOff x="-304200" y="798480"/>
                    <a:chExt cx="7074360" cy="6851520"/>
                  </a:xfrm>
                </p:grpSpPr>
                <p:sp>
                  <p:nvSpPr>
                    <p:cNvPr id="91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2" name="Group 12"/>
                    <p:cNvGrpSpPr/>
                    <p:nvPr/>
                  </p:nvGrpSpPr>
                  <p:grpSpPr>
                    <a:xfrm>
                      <a:off x="-304200" y="805680"/>
                      <a:ext cx="7064640" cy="6844320"/>
                      <a:chOff x="-304200" y="805680"/>
                      <a:chExt cx="7064640" cy="6844320"/>
                    </a:xfrm>
                  </p:grpSpPr>
                  <p:sp>
                    <p:nvSpPr>
                      <p:cNvPr id="93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4" name="Group 14"/>
                      <p:cNvGrpSpPr/>
                      <p:nvPr/>
                    </p:nvGrpSpPr>
                    <p:grpSpPr>
                      <a:xfrm>
                        <a:off x="-304200" y="805680"/>
                        <a:ext cx="7064640" cy="6844320"/>
                        <a:chOff x="-304200" y="805680"/>
                        <a:chExt cx="7064640" cy="6844320"/>
                      </a:xfrm>
                    </p:grpSpPr>
                    <p:sp>
                      <p:nvSpPr>
                        <p:cNvPr id="95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51"/>
                        <p:cNvGrpSpPr/>
                        <p:nvPr/>
                      </p:nvGrpSpPr>
                      <p:grpSpPr>
                        <a:xfrm>
                          <a:off x="-304200" y="1272960"/>
                          <a:ext cx="6462360" cy="6377040"/>
                          <a:chOff x="-304200" y="1272960"/>
                          <a:chExt cx="6462360" cy="6377040"/>
                        </a:xfrm>
                      </p:grpSpPr>
                      <p:sp>
                        <p:nvSpPr>
                          <p:cNvPr id="132" name="Oval 52"/>
                          <p:cNvSpPr/>
                          <p:nvPr/>
                        </p:nvSpPr>
                        <p:spPr>
                          <a:xfrm rot="18780000">
                            <a:off x="2454480" y="4510080"/>
                            <a:ext cx="25524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568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36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Oval 55"/>
                          <p:cNvSpPr/>
                          <p:nvPr/>
                        </p:nvSpPr>
                        <p:spPr>
                          <a:xfrm rot="18780000">
                            <a:off x="2147040" y="3773160"/>
                            <a:ext cx="98856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Oval 56"/>
                          <p:cNvSpPr/>
                          <p:nvPr/>
                        </p:nvSpPr>
                        <p:spPr>
                          <a:xfrm rot="18780000">
                            <a:off x="2048400" y="3456000"/>
                            <a:ext cx="124740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296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Oval 58"/>
                          <p:cNvSpPr/>
                          <p:nvPr/>
                        </p:nvSpPr>
                        <p:spPr>
                          <a:xfrm rot="18780000">
                            <a:off x="1838520" y="2916360"/>
                            <a:ext cx="185220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9"/>
                          <p:cNvSpPr/>
                          <p:nvPr/>
                        </p:nvSpPr>
                        <p:spPr>
                          <a:xfrm rot="18780000">
                            <a:off x="1715400" y="2658240"/>
                            <a:ext cx="213660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60"/>
                          <p:cNvSpPr/>
                          <p:nvPr/>
                        </p:nvSpPr>
                        <p:spPr>
                          <a:xfrm rot="18780000">
                            <a:off x="1587600" y="2394000"/>
                            <a:ext cx="248076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61"/>
                          <p:cNvSpPr/>
                          <p:nvPr/>
                        </p:nvSpPr>
                        <p:spPr>
                          <a:xfrm rot="18780000">
                            <a:off x="1481400" y="21099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62"/>
                          <p:cNvSpPr/>
                          <p:nvPr/>
                        </p:nvSpPr>
                        <p:spPr>
                          <a:xfrm rot="18734400">
                            <a:off x="1384560" y="1847880"/>
                            <a:ext cx="298404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63"/>
                          <p:cNvSpPr/>
                          <p:nvPr/>
                        </p:nvSpPr>
                        <p:spPr>
                          <a:xfrm rot="18819600">
                            <a:off x="1300320" y="154692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4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0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1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84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3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194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201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4883760" y="2247480"/>
                  <a:ext cx="254160" cy="24768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23"/>
                <p:cNvSpPr/>
                <p:nvPr/>
              </p:nvSpPr>
              <p:spPr>
                <a:xfrm>
                  <a:off x="4966560" y="2236320"/>
                  <a:ext cx="185040" cy="17316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24"/>
                <p:cNvSpPr/>
                <p:nvPr/>
              </p:nvSpPr>
              <p:spPr>
                <a:xfrm>
                  <a:off x="5031360" y="2133000"/>
                  <a:ext cx="228960" cy="21852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5177520" y="2125440"/>
                  <a:ext cx="89640" cy="8208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82080"/>
                    <a:gd name="textAreaBottom" fmla="*/ 82440 h 8208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BF24-FA73-4D9C-8F77-910CA9A952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5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6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6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26.png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26.png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26.png"/><Relationship Id="rId2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b219b859b880"/>
          <p:cNvPicPr/>
          <p:nvPr/>
        </p:nvPicPr>
        <p:blipFill>
          <a:blip r:embed="rId2"/>
          <a:stretch/>
        </p:blipFill>
        <p:spPr>
          <a:xfrm>
            <a:off x="228600" y="0"/>
            <a:ext cx="8354880" cy="5181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781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ы и </a:t>
            </a:r>
            <a:br>
              <a:rPr sz="4000"/>
            </a:b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447920" y="502920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БОУ СОШ № 1 г. Завитинска Шерстобитова О.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АЙЛ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яем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рограмм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ициализация (запуск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>
            <a:off x="1447920" y="4724280"/>
            <a:ext cx="617220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вные фай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хран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информ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ы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мотр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9"/>
          <p:cNvSpPr/>
          <p:nvPr/>
        </p:nvSpPr>
        <p:spPr>
          <a:xfrm rot="16200000">
            <a:off x="4324320" y="2876760"/>
            <a:ext cx="533520" cy="3009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8480 h 3009600"/>
              <a:gd name="textAreaBottom" fmla="*/ 2931120 h 30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960" y="258480"/>
            <a:ext cx="876276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те допустимые имена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?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kyky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.b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mp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file&gt;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ork/x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n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1522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ть тип файла по иконк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152280" y="2362320"/>
            <a:ext cx="8763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1"/>
          <p:cNvPicPr/>
          <p:nvPr/>
        </p:nvPicPr>
        <p:blipFill>
          <a:blip r:embed="rId2"/>
          <a:stretch/>
        </p:blipFill>
        <p:spPr>
          <a:xfrm>
            <a:off x="990720" y="14479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2"/>
          <p:cNvPicPr/>
          <p:nvPr/>
        </p:nvPicPr>
        <p:blipFill>
          <a:blip r:embed="rId3"/>
          <a:stretch/>
        </p:blipFill>
        <p:spPr>
          <a:xfrm>
            <a:off x="3657600" y="1447920"/>
            <a:ext cx="1523880" cy="1415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3"/>
          <p:cNvPicPr/>
          <p:nvPr/>
        </p:nvPicPr>
        <p:blipFill>
          <a:blip r:embed="rId4"/>
          <a:stretch/>
        </p:blipFill>
        <p:spPr>
          <a:xfrm>
            <a:off x="6248520" y="1447920"/>
            <a:ext cx="1676160" cy="1311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4"/>
          <p:cNvPicPr/>
          <p:nvPr/>
        </p:nvPicPr>
        <p:blipFill>
          <a:blip r:embed="rId5"/>
          <a:stretch/>
        </p:blipFill>
        <p:spPr>
          <a:xfrm>
            <a:off x="6858000" y="4343400"/>
            <a:ext cx="1343160" cy="1600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5"/>
          <p:cNvPicPr/>
          <p:nvPr/>
        </p:nvPicPr>
        <p:blipFill>
          <a:blip r:embed="rId6"/>
          <a:stretch/>
        </p:blipFill>
        <p:spPr>
          <a:xfrm>
            <a:off x="838080" y="4114800"/>
            <a:ext cx="1406520" cy="1676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6"/>
          <p:cNvPicPr/>
          <p:nvPr/>
        </p:nvPicPr>
        <p:blipFill>
          <a:blip r:embed="rId7"/>
          <a:stretch/>
        </p:blipFill>
        <p:spPr>
          <a:xfrm>
            <a:off x="2743200" y="419112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7"/>
          <p:cNvPicPr/>
          <p:nvPr/>
        </p:nvPicPr>
        <p:blipFill>
          <a:blip r:embed="rId8"/>
          <a:stretch/>
        </p:blipFill>
        <p:spPr>
          <a:xfrm>
            <a:off x="4876920" y="4038480"/>
            <a:ext cx="141264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рл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рлык - это ссылка на тот или иной файл, которая дает команду к запуску этого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971800" y="3017880"/>
            <a:ext cx="1905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п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"/>
          <p:cNvPicPr/>
          <p:nvPr/>
        </p:nvPicPr>
        <p:blipFill>
          <a:blip r:embed="rId3"/>
          <a:stretch/>
        </p:blipFill>
        <p:spPr>
          <a:xfrm>
            <a:off x="2514600" y="4419720"/>
            <a:ext cx="2209680" cy="741240"/>
          </a:xfrm>
          <a:prstGeom prst="rect">
            <a:avLst/>
          </a:prstGeom>
          <a:ln w="0">
            <a:noFill/>
          </a:ln>
        </p:spPr>
      </p:pic>
      <p:sp>
        <p:nvSpPr>
          <p:cNvPr id="294" name="Line 8"/>
          <p:cNvSpPr/>
          <p:nvPr/>
        </p:nvSpPr>
        <p:spPr>
          <a:xfrm flipH="1">
            <a:off x="3733920" y="3429000"/>
            <a:ext cx="38088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5715000" y="3276720"/>
            <a:ext cx="53352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648320" y="2819520"/>
            <a:ext cx="1904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рлы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"/>
          <p:cNvPicPr/>
          <p:nvPr/>
        </p:nvPicPr>
        <p:blipFill>
          <a:blip r:embed="rId4"/>
          <a:stretch/>
        </p:blipFill>
        <p:spPr>
          <a:xfrm>
            <a:off x="2133720" y="5486400"/>
            <a:ext cx="2971800" cy="905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"/>
          <p:cNvPicPr/>
          <p:nvPr/>
        </p:nvPicPr>
        <p:blipFill>
          <a:blip r:embed="rId5"/>
          <a:stretch/>
        </p:blipFill>
        <p:spPr>
          <a:xfrm>
            <a:off x="5562720" y="5410080"/>
            <a:ext cx="1600200" cy="919440"/>
          </a:xfrm>
          <a:prstGeom prst="rect">
            <a:avLst/>
          </a:prstGeom>
          <a:ln w="0">
            <a:noFill/>
          </a:ln>
        </p:spPr>
      </p:pic>
      <p:sp>
        <p:nvSpPr>
          <p:cNvPr id="299" name="Line 15"/>
          <p:cNvSpPr/>
          <p:nvPr/>
        </p:nvSpPr>
        <p:spPr>
          <a:xfrm>
            <a:off x="5181480" y="3352680"/>
            <a:ext cx="304920" cy="2362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6"/>
          <p:cNvSpPr/>
          <p:nvPr/>
        </p:nvSpPr>
        <p:spPr>
          <a:xfrm>
            <a:off x="1523880" y="3886200"/>
            <a:ext cx="91440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533520" y="3475080"/>
            <a:ext cx="1904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й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8" descr=""/>
          <p:cNvPicPr/>
          <p:nvPr/>
        </p:nvPicPr>
        <p:blipFill>
          <a:blip r:embed="rId6"/>
          <a:stretch/>
        </p:blipFill>
        <p:spPr>
          <a:xfrm>
            <a:off x="7391520" y="3276720"/>
            <a:ext cx="1447560" cy="850680"/>
          </a:xfrm>
          <a:prstGeom prst="rect">
            <a:avLst/>
          </a:prstGeom>
          <a:ln w="0">
            <a:noFill/>
          </a:ln>
        </p:spPr>
      </p:pic>
      <p:sp>
        <p:nvSpPr>
          <p:cNvPr id="303" name="Line 19"/>
          <p:cNvSpPr/>
          <p:nvPr/>
        </p:nvSpPr>
        <p:spPr>
          <a:xfrm>
            <a:off x="6400800" y="3200400"/>
            <a:ext cx="99072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54545"/>
          <p:cNvPicPr/>
          <p:nvPr/>
        </p:nvPicPr>
        <p:blipFill>
          <a:blip r:embed="rId7"/>
          <a:stretch/>
        </p:blipFill>
        <p:spPr>
          <a:xfrm>
            <a:off x="1170000" y="5381640"/>
            <a:ext cx="963720" cy="1095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54545"/>
          <p:cNvPicPr/>
          <p:nvPr/>
        </p:nvPicPr>
        <p:blipFill>
          <a:blip r:embed="rId8"/>
          <a:stretch/>
        </p:blipFill>
        <p:spPr>
          <a:xfrm>
            <a:off x="2514600" y="3505320"/>
            <a:ext cx="871560" cy="990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54545"/>
          <p:cNvPicPr/>
          <p:nvPr/>
        </p:nvPicPr>
        <p:blipFill>
          <a:blip r:embed="rId9"/>
          <a:stretch/>
        </p:blipFill>
        <p:spPr>
          <a:xfrm>
            <a:off x="8001000" y="2286000"/>
            <a:ext cx="8287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начение ярлы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азать путь к файлу и открыть 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3520" y="33526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ь к файлу – последовательность, начиная от системного диска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одном компьютере может бы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сколько диск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 заканчивая папкой, в которой непосредственно хранится фай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9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Times New Roman"/>
              </a:rPr>
              <a:t>Путь к файлу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 – последовательность папок, начиная от самой верхней и заканчивая той, в которой непосредственно хранится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Без-имени-2"/>
          <p:cNvPicPr/>
          <p:nvPr/>
        </p:nvPicPr>
        <p:blipFill>
          <a:blip r:embed="rId2"/>
          <a:stretch/>
        </p:blipFill>
        <p:spPr>
          <a:xfrm>
            <a:off x="2514600" y="3352680"/>
            <a:ext cx="4267080" cy="2697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609480" y="6095880"/>
            <a:ext cx="8077320" cy="45972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C:\Рефераты\Информатика\ Интернет.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19320" y="0"/>
            <a:ext cx="6629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imes New Roman"/>
              </a:rPr>
              <a:t>Путь к файл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е имя файла = путь к файлу + имя фай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мер полного имени файл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:\ Работа\Отчет\Моя_работа.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do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16200000">
            <a:off x="2971800" y="3504960"/>
            <a:ext cx="228600" cy="3429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2037960" y="54133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5586120" y="54133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 rot="16200000">
            <a:off x="6362640" y="361908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35100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шите полные имена всех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файловая-система"/>
          <p:cNvPicPr/>
          <p:nvPr/>
        </p:nvPicPr>
        <p:blipFill>
          <a:blip r:embed="rId2"/>
          <a:stretch/>
        </p:blipFill>
        <p:spPr>
          <a:xfrm>
            <a:off x="2514600" y="1143000"/>
            <a:ext cx="4267080" cy="261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447920" y="175248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 3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263880" y="388620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Файловая структура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 – вся совокупность файлов на диске и взаимосвязей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2209680" y="1371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1"/>
          <p:cNvSpPr/>
          <p:nvPr/>
        </p:nvSpPr>
        <p:spPr>
          <a:xfrm>
            <a:off x="6629400" y="13716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6"/>
          <p:cNvSpPr/>
          <p:nvPr/>
        </p:nvSpPr>
        <p:spPr>
          <a:xfrm>
            <a:off x="762120" y="19051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029200" y="1828800"/>
            <a:ext cx="3429000" cy="1066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иерархическая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одноуровневая файловая система"/>
          <p:cNvPicPr/>
          <p:nvPr/>
        </p:nvPicPr>
        <p:blipFill>
          <a:blip r:embed="rId2"/>
          <a:stretch/>
        </p:blipFill>
        <p:spPr>
          <a:xfrm>
            <a:off x="533520" y="3581280"/>
            <a:ext cx="3581280" cy="1828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многоуровневая иерархическая файловая система"/>
          <p:cNvPicPr/>
          <p:nvPr/>
        </p:nvPicPr>
        <p:blipFill>
          <a:blip r:embed="rId3"/>
          <a:stretch/>
        </p:blipFill>
        <p:spPr>
          <a:xfrm>
            <a:off x="5334120" y="3581280"/>
            <a:ext cx="3200400" cy="182880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9"/>
          <p:cNvSpPr/>
          <p:nvPr/>
        </p:nvSpPr>
        <p:spPr>
          <a:xfrm>
            <a:off x="2209680" y="30481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9"/>
          <p:cNvSpPr/>
          <p:nvPr/>
        </p:nvSpPr>
        <p:spPr>
          <a:xfrm>
            <a:off x="6705720" y="29718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4495680" y="5867280"/>
            <a:ext cx="419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окументы/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ba.do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1295280" y="5867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tris.ex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ы. Файлов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иведи в своем сознании все по существу взаимосвязанные между собой предметы, в ту именно связь, в которой они действительно находятся в природе».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.Г. Песталоц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80880" y="45720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1676520"/>
            <a:ext cx="842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Arial"/>
              </a:rPr>
              <a:t>Проводник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уск – Программы – Стандарт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1981080" y="5181480"/>
            <a:ext cx="1589040" cy="982800"/>
          </a:xfrm>
          <a:prstGeom prst="wedgeRoundRectCallout">
            <a:avLst>
              <a:gd name="adj1" fmla="val -93754"/>
              <a:gd name="adj2" fmla="val -11397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3581280" y="3962520"/>
            <a:ext cx="1555920" cy="982440"/>
          </a:xfrm>
          <a:prstGeom prst="wedgeRoundRectCallout">
            <a:avLst>
              <a:gd name="adj1" fmla="val 66222"/>
              <a:gd name="adj2" fmla="val -125768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7"/>
          <p:cNvGrpSpPr/>
          <p:nvPr/>
        </p:nvGrpSpPr>
        <p:grpSpPr>
          <a:xfrm>
            <a:off x="5105520" y="2286000"/>
            <a:ext cx="3493080" cy="3539880"/>
            <a:chOff x="5105520" y="2286000"/>
            <a:chExt cx="3493080" cy="3539880"/>
          </a:xfrm>
        </p:grpSpPr>
        <p:grpSp>
          <p:nvGrpSpPr>
            <p:cNvPr id="343" name="Group 8"/>
            <p:cNvGrpSpPr/>
            <p:nvPr/>
          </p:nvGrpSpPr>
          <p:grpSpPr>
            <a:xfrm>
              <a:off x="5105520" y="2286000"/>
              <a:ext cx="2219760" cy="590400"/>
              <a:chOff x="5105520" y="2286000"/>
              <a:chExt cx="2219760" cy="590400"/>
            </a:xfrm>
          </p:grpSpPr>
          <p:pic>
            <p:nvPicPr>
              <p:cNvPr id="344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457000"/>
                <a:ext cx="673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Rectangle 10"/>
              <p:cNvSpPr/>
              <p:nvPr/>
            </p:nvSpPr>
            <p:spPr>
              <a:xfrm>
                <a:off x="5860800" y="2286000"/>
                <a:ext cx="146448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1"/>
            <p:cNvGrpSpPr/>
            <p:nvPr/>
          </p:nvGrpSpPr>
          <p:grpSpPr>
            <a:xfrm>
              <a:off x="5957640" y="2940120"/>
              <a:ext cx="2613960" cy="547200"/>
              <a:chOff x="5957640" y="2940120"/>
              <a:chExt cx="2613960" cy="547200"/>
            </a:xfrm>
          </p:grpSpPr>
          <p:pic>
            <p:nvPicPr>
              <p:cNvPr id="347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957640" y="294012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Rectangle 13"/>
              <p:cNvSpPr/>
              <p:nvPr/>
            </p:nvSpPr>
            <p:spPr>
              <a:xfrm>
                <a:off x="6582240" y="294264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5952960" y="3494160"/>
              <a:ext cx="2613600" cy="547200"/>
              <a:chOff x="5952960" y="3494160"/>
              <a:chExt cx="2613600" cy="547200"/>
            </a:xfrm>
          </p:grpSpPr>
          <p:pic>
            <p:nvPicPr>
              <p:cNvPr id="350" name="Pictur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5952960" y="349416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Rectangle 16"/>
              <p:cNvSpPr/>
              <p:nvPr/>
            </p:nvSpPr>
            <p:spPr>
              <a:xfrm>
                <a:off x="6577560" y="3496680"/>
                <a:ext cx="198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5984640" y="5278680"/>
              <a:ext cx="2613960" cy="547200"/>
              <a:chOff x="5984640" y="5278680"/>
              <a:chExt cx="2613960" cy="547200"/>
            </a:xfrm>
          </p:grpSpPr>
          <p:pic>
            <p:nvPicPr>
              <p:cNvPr id="353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984640" y="527868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Rectangle 19"/>
              <p:cNvSpPr/>
              <p:nvPr/>
            </p:nvSpPr>
            <p:spPr>
              <a:xfrm>
                <a:off x="6609240" y="528120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0"/>
            <p:cNvGrpSpPr/>
            <p:nvPr/>
          </p:nvGrpSpPr>
          <p:grpSpPr>
            <a:xfrm>
              <a:off x="6602040" y="4044960"/>
              <a:ext cx="1772280" cy="547560"/>
              <a:chOff x="6602040" y="4044960"/>
              <a:chExt cx="1772280" cy="547560"/>
            </a:xfrm>
          </p:grpSpPr>
          <p:pic>
            <p:nvPicPr>
              <p:cNvPr id="356" name="Pictur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6602040" y="4044960"/>
                <a:ext cx="54792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Rectangle 22"/>
              <p:cNvSpPr/>
              <p:nvPr/>
            </p:nvSpPr>
            <p:spPr>
              <a:xfrm>
                <a:off x="7227360" y="404676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23"/>
            <p:cNvGrpSpPr/>
            <p:nvPr/>
          </p:nvGrpSpPr>
          <p:grpSpPr>
            <a:xfrm>
              <a:off x="6602040" y="4602240"/>
              <a:ext cx="1772280" cy="547200"/>
              <a:chOff x="6602040" y="4602240"/>
              <a:chExt cx="1772280" cy="547200"/>
            </a:xfrm>
          </p:grpSpPr>
          <p:pic>
            <p:nvPicPr>
              <p:cNvPr id="359" name="Pictur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602040" y="4602240"/>
                <a:ext cx="54792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Rectangle 25"/>
              <p:cNvSpPr/>
              <p:nvPr/>
            </p:nvSpPr>
            <p:spPr>
              <a:xfrm>
                <a:off x="7227360" y="460404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61" name="Object 26"/>
            <p:cNvGraphicFramePr/>
            <p:nvPr/>
          </p:nvGraphicFramePr>
          <p:xfrm>
            <a:off x="5284440" y="3598920"/>
            <a:ext cx="374400" cy="37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2" name="Object 2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84440" y="35989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3" name="Object 27"/>
            <p:cNvGraphicFramePr/>
            <p:nvPr/>
          </p:nvGraphicFramePr>
          <p:xfrm>
            <a:off x="5284440" y="3046320"/>
            <a:ext cx="374400" cy="374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4" name="Object 2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84440" y="30463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5" name="Object 28"/>
            <p:cNvGraphicFramePr/>
            <p:nvPr/>
          </p:nvGraphicFramePr>
          <p:xfrm>
            <a:off x="5270040" y="5373720"/>
            <a:ext cx="374400" cy="37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66" name="Object 2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70040" y="53737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Line 29"/>
            <p:cNvSpPr/>
            <p:nvPr/>
          </p:nvSpPr>
          <p:spPr>
            <a:xfrm>
              <a:off x="5481360" y="28227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0"/>
            <p:cNvSpPr/>
            <p:nvPr/>
          </p:nvSpPr>
          <p:spPr>
            <a:xfrm>
              <a:off x="5486040" y="398952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1"/>
            <p:cNvSpPr/>
            <p:nvPr/>
          </p:nvSpPr>
          <p:spPr>
            <a:xfrm>
              <a:off x="5481360" y="3427560"/>
              <a:ext cx="0" cy="162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2"/>
            <p:cNvSpPr/>
            <p:nvPr/>
          </p:nvSpPr>
          <p:spPr>
            <a:xfrm>
              <a:off x="5667120" y="326088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3"/>
            <p:cNvSpPr/>
            <p:nvPr/>
          </p:nvSpPr>
          <p:spPr>
            <a:xfrm>
              <a:off x="5671800" y="38037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4"/>
            <p:cNvSpPr/>
            <p:nvPr/>
          </p:nvSpPr>
          <p:spPr>
            <a:xfrm>
              <a:off x="5657400" y="55659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5"/>
            <p:cNvSpPr/>
            <p:nvPr/>
          </p:nvSpPr>
          <p:spPr>
            <a:xfrm>
              <a:off x="6229080" y="3965760"/>
              <a:ext cx="371160" cy="9810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76" h="618">
                  <a:moveTo>
                    <a:pt x="0" y="0"/>
                  </a:moveTo>
                  <a:lnTo>
                    <a:pt x="0" y="618"/>
                  </a:lnTo>
                  <a:lnTo>
                    <a:pt x="276" y="61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6"/>
            <p:cNvSpPr/>
            <p:nvPr/>
          </p:nvSpPr>
          <p:spPr>
            <a:xfrm>
              <a:off x="6243480" y="4365720"/>
              <a:ext cx="308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7"/>
          <p:cNvGrpSpPr/>
          <p:nvPr/>
        </p:nvGrpSpPr>
        <p:grpSpPr>
          <a:xfrm>
            <a:off x="838080" y="2286000"/>
            <a:ext cx="3276000" cy="2369880"/>
            <a:chOff x="838080" y="2286000"/>
            <a:chExt cx="3276000" cy="2369880"/>
          </a:xfrm>
        </p:grpSpPr>
        <p:sp>
          <p:nvSpPr>
            <p:cNvPr id="376" name="Line 38"/>
            <p:cNvSpPr/>
            <p:nvPr/>
          </p:nvSpPr>
          <p:spPr>
            <a:xfrm>
              <a:off x="1122120" y="3408480"/>
              <a:ext cx="0" cy="26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9"/>
            <p:cNvSpPr/>
            <p:nvPr/>
          </p:nvSpPr>
          <p:spPr>
            <a:xfrm>
              <a:off x="1114200" y="39718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40"/>
            <p:cNvGrpSpPr/>
            <p:nvPr/>
          </p:nvGrpSpPr>
          <p:grpSpPr>
            <a:xfrm>
              <a:off x="838080" y="2286000"/>
              <a:ext cx="2108880" cy="568080"/>
              <a:chOff x="838080" y="2286000"/>
              <a:chExt cx="2108880" cy="568080"/>
            </a:xfrm>
          </p:grpSpPr>
          <p:pic>
            <p:nvPicPr>
              <p:cNvPr id="379" name="Pictur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38080" y="2450520"/>
                <a:ext cx="640080" cy="35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Rectangle 42"/>
              <p:cNvSpPr/>
              <p:nvPr/>
            </p:nvSpPr>
            <p:spPr>
              <a:xfrm>
                <a:off x="1555560" y="2286000"/>
                <a:ext cx="139140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43"/>
            <p:cNvGrpSpPr/>
            <p:nvPr/>
          </p:nvGrpSpPr>
          <p:grpSpPr>
            <a:xfrm>
              <a:off x="1628640" y="2992320"/>
              <a:ext cx="2484000" cy="528480"/>
              <a:chOff x="1628640" y="2992320"/>
              <a:chExt cx="2484000" cy="528480"/>
            </a:xfrm>
          </p:grpSpPr>
          <p:pic>
            <p:nvPicPr>
              <p:cNvPr id="382" name="Picture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28640" y="2992320"/>
                <a:ext cx="520200" cy="5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Rectangle 45"/>
              <p:cNvSpPr/>
              <p:nvPr/>
            </p:nvSpPr>
            <p:spPr>
              <a:xfrm>
                <a:off x="2222280" y="29948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6"/>
            <p:cNvGrpSpPr/>
            <p:nvPr/>
          </p:nvGrpSpPr>
          <p:grpSpPr>
            <a:xfrm>
              <a:off x="1628640" y="3544920"/>
              <a:ext cx="2484000" cy="526680"/>
              <a:chOff x="1628640" y="3544920"/>
              <a:chExt cx="2484000" cy="526680"/>
            </a:xfrm>
          </p:grpSpPr>
          <p:pic>
            <p:nvPicPr>
              <p:cNvPr id="385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28640" y="354492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48"/>
              <p:cNvSpPr/>
              <p:nvPr/>
            </p:nvSpPr>
            <p:spPr>
              <a:xfrm>
                <a:off x="2222280" y="35474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49"/>
            <p:cNvGrpSpPr/>
            <p:nvPr/>
          </p:nvGrpSpPr>
          <p:grpSpPr>
            <a:xfrm>
              <a:off x="1631520" y="4129200"/>
              <a:ext cx="2482560" cy="526680"/>
              <a:chOff x="1631520" y="4129200"/>
              <a:chExt cx="2482560" cy="526680"/>
            </a:xfrm>
          </p:grpSpPr>
          <p:pic>
            <p:nvPicPr>
              <p:cNvPr id="388" name="Picture 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1631520" y="412920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Rectangle 51"/>
              <p:cNvSpPr/>
              <p:nvPr/>
            </p:nvSpPr>
            <p:spPr>
              <a:xfrm>
                <a:off x="2224800" y="4131720"/>
                <a:ext cx="188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90" name="Object 52"/>
            <p:cNvGraphicFramePr/>
            <p:nvPr/>
          </p:nvGraphicFramePr>
          <p:xfrm>
            <a:off x="944280" y="3097080"/>
            <a:ext cx="355680" cy="3603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91" name="Object 52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944280" y="309708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2" name="Object 53"/>
            <p:cNvGraphicFramePr/>
            <p:nvPr/>
          </p:nvGraphicFramePr>
          <p:xfrm>
            <a:off x="933120" y="4230720"/>
            <a:ext cx="355680" cy="3603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93" name="Object 5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933120" y="423072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4" name="Object 54"/>
            <p:cNvGraphicFramePr/>
            <p:nvPr/>
          </p:nvGraphicFramePr>
          <p:xfrm>
            <a:off x="939600" y="3657600"/>
            <a:ext cx="355680" cy="3603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395" name="Object 5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939600" y="365760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Line 55"/>
            <p:cNvSpPr/>
            <p:nvPr/>
          </p:nvSpPr>
          <p:spPr>
            <a:xfrm>
              <a:off x="1122120" y="282564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6"/>
            <p:cNvSpPr/>
            <p:nvPr/>
          </p:nvSpPr>
          <p:spPr>
            <a:xfrm>
              <a:off x="1290240" y="328464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7"/>
            <p:cNvSpPr/>
            <p:nvPr/>
          </p:nvSpPr>
          <p:spPr>
            <a:xfrm>
              <a:off x="1307880" y="383868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8"/>
            <p:cNvSpPr/>
            <p:nvPr/>
          </p:nvSpPr>
          <p:spPr>
            <a:xfrm>
              <a:off x="1298160" y="441180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457200" y="30492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3279600" y="4778280"/>
            <a:ext cx="541044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бочая папка (текущий катал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папка, с которой в данный момент работает пользоват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6"/>
          <p:cNvGrpSpPr/>
          <p:nvPr/>
        </p:nvGrpSpPr>
        <p:grpSpPr>
          <a:xfrm>
            <a:off x="495360" y="1514520"/>
            <a:ext cx="8405280" cy="2479320"/>
            <a:chOff x="495360" y="1514520"/>
            <a:chExt cx="8405280" cy="2479320"/>
          </a:xfrm>
        </p:grpSpPr>
        <p:grpSp>
          <p:nvGrpSpPr>
            <p:cNvPr id="403" name="Group 7"/>
            <p:cNvGrpSpPr/>
            <p:nvPr/>
          </p:nvGrpSpPr>
          <p:grpSpPr>
            <a:xfrm>
              <a:off x="3870360" y="1731960"/>
              <a:ext cx="1911240" cy="452520"/>
              <a:chOff x="3870360" y="1731960"/>
              <a:chExt cx="1911240" cy="452520"/>
            </a:xfrm>
          </p:grpSpPr>
          <p:pic>
            <p:nvPicPr>
              <p:cNvPr id="404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0360" y="1876320"/>
                <a:ext cx="58752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Rectangle 9"/>
              <p:cNvSpPr/>
              <p:nvPr/>
            </p:nvSpPr>
            <p:spPr>
              <a:xfrm>
                <a:off x="4506840" y="1731960"/>
                <a:ext cx="1274760" cy="419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0"/>
            <p:cNvGrpSpPr/>
            <p:nvPr/>
          </p:nvGrpSpPr>
          <p:grpSpPr>
            <a:xfrm>
              <a:off x="495360" y="2641680"/>
              <a:ext cx="2275920" cy="462960"/>
              <a:chOff x="495360" y="2641680"/>
              <a:chExt cx="2275920" cy="462960"/>
            </a:xfrm>
          </p:grpSpPr>
          <p:pic>
            <p:nvPicPr>
              <p:cNvPr id="407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360" y="2641680"/>
                <a:ext cx="4766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2"/>
              <p:cNvSpPr/>
              <p:nvPr/>
            </p:nvSpPr>
            <p:spPr>
              <a:xfrm>
                <a:off x="103932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13"/>
            <p:cNvGrpSpPr/>
            <p:nvPr/>
          </p:nvGrpSpPr>
          <p:grpSpPr>
            <a:xfrm>
              <a:off x="6624720" y="2641680"/>
              <a:ext cx="2275920" cy="461520"/>
              <a:chOff x="6624720" y="2641680"/>
              <a:chExt cx="2275920" cy="461520"/>
            </a:xfrm>
          </p:grpSpPr>
          <p:pic>
            <p:nvPicPr>
              <p:cNvPr id="410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4720" y="2641680"/>
                <a:ext cx="47664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Rectangle 15"/>
              <p:cNvSpPr/>
              <p:nvPr/>
            </p:nvSpPr>
            <p:spPr>
              <a:xfrm>
                <a:off x="716868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6"/>
            <p:cNvGrpSpPr/>
            <p:nvPr/>
          </p:nvGrpSpPr>
          <p:grpSpPr>
            <a:xfrm>
              <a:off x="2901960" y="3530520"/>
              <a:ext cx="1542600" cy="463320"/>
              <a:chOff x="2901960" y="3530520"/>
              <a:chExt cx="1542600" cy="463320"/>
            </a:xfrm>
          </p:grpSpPr>
          <p:pic>
            <p:nvPicPr>
              <p:cNvPr id="413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0196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18"/>
              <p:cNvSpPr/>
              <p:nvPr/>
            </p:nvSpPr>
            <p:spPr>
              <a:xfrm>
                <a:off x="344628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9"/>
            <p:cNvGrpSpPr/>
            <p:nvPr/>
          </p:nvGrpSpPr>
          <p:grpSpPr>
            <a:xfrm>
              <a:off x="5394240" y="3530520"/>
              <a:ext cx="1542600" cy="463320"/>
              <a:chOff x="5394240" y="3530520"/>
              <a:chExt cx="1542600" cy="463320"/>
            </a:xfrm>
          </p:grpSpPr>
          <p:pic>
            <p:nvPicPr>
              <p:cNvPr id="416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39424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Rectangle 21"/>
              <p:cNvSpPr/>
              <p:nvPr/>
            </p:nvSpPr>
            <p:spPr>
              <a:xfrm>
                <a:off x="593856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22"/>
            <p:cNvSpPr/>
            <p:nvPr/>
          </p:nvSpPr>
          <p:spPr>
            <a:xfrm>
              <a:off x="4925880" y="2225520"/>
              <a:ext cx="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3"/>
            <p:cNvSpPr/>
            <p:nvPr/>
          </p:nvSpPr>
          <p:spPr>
            <a:xfrm flipH="1">
              <a:off x="2771280" y="2171880"/>
              <a:ext cx="130500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4"/>
            <p:cNvSpPr/>
            <p:nvPr/>
          </p:nvSpPr>
          <p:spPr>
            <a:xfrm>
              <a:off x="5808600" y="2114640"/>
              <a:ext cx="137952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25"/>
            <p:cNvSpPr/>
            <p:nvPr/>
          </p:nvSpPr>
          <p:spPr>
            <a:xfrm flipH="1">
              <a:off x="4047840" y="2951280"/>
              <a:ext cx="9126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6"/>
            <p:cNvSpPr/>
            <p:nvPr/>
          </p:nvSpPr>
          <p:spPr>
            <a:xfrm>
              <a:off x="4986360" y="2962440"/>
              <a:ext cx="982800" cy="5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7"/>
            <p:cNvSpPr/>
            <p:nvPr/>
          </p:nvSpPr>
          <p:spPr>
            <a:xfrm>
              <a:off x="1037160" y="151452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рево папок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28"/>
            <p:cNvGrpSpPr/>
            <p:nvPr/>
          </p:nvGrpSpPr>
          <p:grpSpPr>
            <a:xfrm>
              <a:off x="3583080" y="2641680"/>
              <a:ext cx="2272320" cy="461520"/>
              <a:chOff x="3583080" y="2641680"/>
              <a:chExt cx="2272320" cy="461520"/>
            </a:xfrm>
          </p:grpSpPr>
          <p:pic>
            <p:nvPicPr>
              <p:cNvPr id="425" name="Picture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3080" y="2641680"/>
                <a:ext cx="47592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Rectangle 30"/>
              <p:cNvSpPr/>
              <p:nvPr/>
            </p:nvSpPr>
            <p:spPr>
              <a:xfrm>
                <a:off x="4125960" y="2643840"/>
                <a:ext cx="172944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Group 31"/>
          <p:cNvGrpSpPr/>
          <p:nvPr/>
        </p:nvGrpSpPr>
        <p:grpSpPr>
          <a:xfrm>
            <a:off x="609480" y="4038480"/>
            <a:ext cx="2479680" cy="1958760"/>
            <a:chOff x="609480" y="4038480"/>
            <a:chExt cx="2479680" cy="1958760"/>
          </a:xfrm>
        </p:grpSpPr>
        <p:sp>
          <p:nvSpPr>
            <p:cNvPr id="428" name="Rectangle 32"/>
            <p:cNvSpPr/>
            <p:nvPr/>
          </p:nvSpPr>
          <p:spPr>
            <a:xfrm>
              <a:off x="1336320" y="40384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рен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33" descr=""/>
            <p:cNvPicPr/>
            <p:nvPr/>
          </p:nvPicPr>
          <p:blipFill>
            <a:blip r:embed="rId8"/>
            <a:stretch/>
          </p:blipFill>
          <p:spPr>
            <a:xfrm>
              <a:off x="609480" y="4422600"/>
              <a:ext cx="2479680" cy="15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533520" y="167544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поморгать, закрыть глаза и посидеть спокойно, медленно считая до 5. Повторить 3 раза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eye333"/>
          <p:cNvPicPr/>
          <p:nvPr/>
        </p:nvPicPr>
        <p:blipFill>
          <a:blip r:embed="rId2"/>
          <a:stretch/>
        </p:blipFill>
        <p:spPr>
          <a:xfrm>
            <a:off x="3962520" y="3505320"/>
            <a:ext cx="1523880" cy="1195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eyeкопирование"/>
          <p:cNvPicPr/>
          <p:nvPr/>
        </p:nvPicPr>
        <p:blipFill>
          <a:blip r:embed="rId3"/>
          <a:stretch/>
        </p:blipFill>
        <p:spPr>
          <a:xfrm>
            <a:off x="3886200" y="34686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434" name="1.mp3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38480" cy="36748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3"/>
          <a:stretch/>
        </p:blipFill>
        <p:spPr>
          <a:xfrm>
            <a:off x="4572000" y="2819520"/>
            <a:ext cx="4038480" cy="35748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4"/>
          <p:cNvSpPr/>
          <p:nvPr/>
        </p:nvSpPr>
        <p:spPr>
          <a:xfrm>
            <a:off x="609480" y="52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5"/>
          <p:cNvSpPr/>
          <p:nvPr/>
        </p:nvSpPr>
        <p:spPr>
          <a:xfrm>
            <a:off x="4495680" y="20574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пир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29080" cy="3772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4648320" y="297180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1295280" y="525780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мести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4876920" y="160020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имен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438440" cy="381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038840" cy="3458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28600" y="18288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 №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: Файл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7920" y="-766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, конспект л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*   Постройте дерево ката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Города\Благовещенск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Природа\Бор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Документы\Компьютеры\Принтер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Рефера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Доклад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егодня я узнал 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ыло интересно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еня удивило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рок дал мне для жизни 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не захотелось 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22860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я могу сказать об уроке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в компьютере хранится  ин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сновные характеристики  долговременной памяти, заполнив таблицу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и устройств долговременной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447920"/>
          <a:ext cx="8229600" cy="4943520"/>
        </p:xfrm>
        <a:graphic>
          <a:graphicData uri="http://schemas.openxmlformats.org/drawingml/2006/table">
            <a:tbl>
              <a:tblPr/>
              <a:tblGrid>
                <a:gridCol w="2590920"/>
                <a:gridCol w="3124080"/>
                <a:gridCol w="2514600"/>
              </a:tblGrid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стройств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информационная емкость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воздействи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, сильные магнитные пол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Т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 Гб - 8Гб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sh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Г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отключени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е программы и данные хранятся в долговременной (внешней) памяти компьютера в вид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ай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Фай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информация, хранящаяс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внешнем носителе и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диненная общим име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9051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я файла состоит из двух частей, разделе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чкой: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 файла</a:t>
            </a:r>
            <a:r>
              <a:rPr b="0" i="1" lang="ru-RU" sz="2600" spc="-1" strike="noStrike">
                <a:solidFill>
                  <a:srgbClr val="409632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ferat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файлу дает пользоват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указывает, какого рода информация хранится в файле, тип фай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16200000">
            <a:off x="4038480" y="304740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 rot="16200000">
            <a:off x="5219640" y="34668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505320" y="2743200"/>
            <a:ext cx="76176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 flipH="1">
            <a:off x="5333760" y="2743200"/>
            <a:ext cx="68580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оглашение 8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520" y="167616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глашению 8.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я файла мож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остоять из двух частей, разделенных точкой. Первая часть может иметь длину до 8 симв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 записи имени файла разрешается использовать только буквы английского алфавита и циф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чинаться имя должно с бук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белы и знаки препинания не допускаются, за исключением трёх символов: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определить расширение фай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каждого файла есть свойства, где указывается тип фай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4910040" y="1600200"/>
            <a:ext cx="3646440" cy="4786200"/>
          </a:xfrm>
          <a:prstGeom prst="rect">
            <a:avLst/>
          </a:prstGeom>
          <a:ln w="0">
            <a:noFill/>
          </a:ln>
        </p:spPr>
      </p:pic>
      <p:sp>
        <p:nvSpPr>
          <p:cNvPr id="268" name="Line 5"/>
          <p:cNvSpPr/>
          <p:nvPr/>
        </p:nvSpPr>
        <p:spPr>
          <a:xfrm flipV="1">
            <a:off x="4038480" y="2895120"/>
            <a:ext cx="160020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0:32:06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