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3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FBC-9838-4A93-9EC4-60DB9FA9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F22-7B8E-41D8-9A1A-1CC84C35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9F7-9959-4D13-9EAF-BC01D3F7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72D-262D-410C-9850-2EBE5497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9EEC-1C0E-4E45-AD81-8B03AB27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C74D-4524-42EB-B059-0BB21C82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4DA0-BE8E-432C-9D7C-88EBC508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7A9F-6594-4ED5-9707-54C72719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C0BE-8C12-43A8-B8FB-E2510917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AA46-4A99-4850-8571-6B91B67C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84F3-1623-467B-901A-69EFBA29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0A7-20E3-408C-9B54-B98F0D4E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2D52-D0A3-4348-B47C-B6DE9FB4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ADFF-DE88-47D4-AAB0-F0A7E4D7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006D-023B-46FF-A19D-52DE7A18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5D4C-F1B4-42E1-A709-8CA51103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6607-6759-44BC-8CF4-980688E0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1AF3-F660-431E-AAD0-3FCDF913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E9157-C1A6-451C-BD98-83DDAEF2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8CA0D-9707-47F3-917D-789C97D0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8C37-6CF8-4F08-8170-F96D8752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F26F9-F48F-4B6C-80BF-0E2FBCCD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539-1EB9-4A32-AD9A-073266F5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571DB-37A2-462C-88D3-5763DA7A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476B3-230E-4129-A149-F5585A41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500EE-54CA-4A87-8F65-F4656C5E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BA7FC-D2F4-4764-AE84-89C6FB6D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6ADBB-D575-471C-8D20-2215417F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0848F-074F-4558-A3BD-75DEC207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85AD-4898-45C9-BC20-442F184F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2B5-5ABC-4CBD-9349-78532E08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6C7-954B-4C06-ACC6-F4B99845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95E-0870-4F95-9DF1-FD5AC0F2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3FD-C6B8-4456-AAD9-1148DCFF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FC4-7E96-4714-AEAF-AA9DDF41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458-9346-43AD-A24A-49A865D0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E5A6-D5BB-4DC7-95A5-88762C935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D975-489D-4E9D-89AC-5DC589839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54480" y="451008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47040" y="377316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48400" y="345600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38520" y="2916360"/>
                            <a:ext cx="185220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15400" y="2658240"/>
                            <a:ext cx="213660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587600" y="2394000"/>
                            <a:ext cx="248076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81400" y="21099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384560" y="1847880"/>
                            <a:ext cx="298404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83760" y="2247480"/>
                  <a:ext cx="254160" cy="24768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66560" y="2236320"/>
                  <a:ext cx="185040" cy="17316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31360" y="2133000"/>
                  <a:ext cx="228960" cy="21852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77520" y="2125440"/>
                  <a:ext cx="89640" cy="8208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009D-DA08-4858-825C-8A9ACA313E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6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26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b219b859b880"/>
          <p:cNvPicPr/>
          <p:nvPr/>
        </p:nvPicPr>
        <p:blipFill>
          <a:blip r:embed="rId2"/>
          <a:stretch/>
        </p:blipFill>
        <p:spPr>
          <a:xfrm>
            <a:off x="228600" y="0"/>
            <a:ext cx="8354880" cy="5181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781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ы и </a:t>
            </a:r>
            <a:br>
              <a:rPr sz="4000"/>
            </a:b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447920" y="502920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БОУ СОШ № 1 г. Завитинска Шерстобитова О.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960" y="258480"/>
            <a:ext cx="87627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допустимые имена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?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yky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b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mp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file&gt;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rk/x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n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1522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ть тип файла по иконк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152280" y="23623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1"/>
          <p:cNvPicPr/>
          <p:nvPr/>
        </p:nvPicPr>
        <p:blipFill>
          <a:blip r:embed="rId2"/>
          <a:stretch/>
        </p:blipFill>
        <p:spPr>
          <a:xfrm>
            <a:off x="990720" y="1447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2"/>
          <p:cNvPicPr/>
          <p:nvPr/>
        </p:nvPicPr>
        <p:blipFill>
          <a:blip r:embed="rId3"/>
          <a:stretch/>
        </p:blipFill>
        <p:spPr>
          <a:xfrm>
            <a:off x="3657600" y="1447920"/>
            <a:ext cx="1523880" cy="1415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3"/>
          <p:cNvPicPr/>
          <p:nvPr/>
        </p:nvPicPr>
        <p:blipFill>
          <a:blip r:embed="rId4"/>
          <a:stretch/>
        </p:blipFill>
        <p:spPr>
          <a:xfrm>
            <a:off x="6248520" y="144792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4"/>
          <p:cNvPicPr/>
          <p:nvPr/>
        </p:nvPicPr>
        <p:blipFill>
          <a:blip r:embed="rId5"/>
          <a:stretch/>
        </p:blipFill>
        <p:spPr>
          <a:xfrm>
            <a:off x="6858000" y="4343400"/>
            <a:ext cx="1343160" cy="1600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5"/>
          <p:cNvPicPr/>
          <p:nvPr/>
        </p:nvPicPr>
        <p:blipFill>
          <a:blip r:embed="rId6"/>
          <a:stretch/>
        </p:blipFill>
        <p:spPr>
          <a:xfrm>
            <a:off x="838080" y="4114800"/>
            <a:ext cx="1406520" cy="1676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6"/>
          <p:cNvPicPr/>
          <p:nvPr/>
        </p:nvPicPr>
        <p:blipFill>
          <a:blip r:embed="rId7"/>
          <a:stretch/>
        </p:blipFill>
        <p:spPr>
          <a:xfrm>
            <a:off x="2743200" y="419112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7"/>
          <p:cNvPicPr/>
          <p:nvPr/>
        </p:nvPicPr>
        <p:blipFill>
          <a:blip r:embed="rId8"/>
          <a:stretch/>
        </p:blipFill>
        <p:spPr>
          <a:xfrm>
            <a:off x="4876920" y="4038480"/>
            <a:ext cx="141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лык - это ссылка на тот или иной файл, которая дает команду к запуску этого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971800" y="3017880"/>
            <a:ext cx="1905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п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2209680" cy="741240"/>
          </a:xfrm>
          <a:prstGeom prst="rect">
            <a:avLst/>
          </a:prstGeom>
          <a:ln w="0">
            <a:noFill/>
          </a:ln>
        </p:spPr>
      </p:pic>
      <p:sp>
        <p:nvSpPr>
          <p:cNvPr id="294" name="Line 8"/>
          <p:cNvSpPr/>
          <p:nvPr/>
        </p:nvSpPr>
        <p:spPr>
          <a:xfrm flipH="1">
            <a:off x="3733920" y="3429000"/>
            <a:ext cx="380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5715000" y="3276720"/>
            <a:ext cx="53352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648320" y="2819520"/>
            <a:ext cx="1904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рлы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2971800" cy="905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/>
          <p:cNvPicPr/>
          <p:nvPr/>
        </p:nvPicPr>
        <p:blipFill>
          <a:blip r:embed="rId5"/>
          <a:stretch/>
        </p:blipFill>
        <p:spPr>
          <a:xfrm>
            <a:off x="5562720" y="5410080"/>
            <a:ext cx="1600200" cy="919440"/>
          </a:xfrm>
          <a:prstGeom prst="rect">
            <a:avLst/>
          </a:prstGeom>
          <a:ln w="0">
            <a:noFill/>
          </a:ln>
        </p:spPr>
      </p:pic>
      <p:sp>
        <p:nvSpPr>
          <p:cNvPr id="299" name="Line 15"/>
          <p:cNvSpPr/>
          <p:nvPr/>
        </p:nvSpPr>
        <p:spPr>
          <a:xfrm>
            <a:off x="5181480" y="3352680"/>
            <a:ext cx="304920" cy="2362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1523880" y="3886200"/>
            <a:ext cx="9144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533520" y="3475080"/>
            <a:ext cx="190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8" descr=""/>
          <p:cNvPicPr/>
          <p:nvPr/>
        </p:nvPicPr>
        <p:blipFill>
          <a:blip r:embed="rId6"/>
          <a:stretch/>
        </p:blipFill>
        <p:spPr>
          <a:xfrm>
            <a:off x="7391520" y="3276720"/>
            <a:ext cx="1447560" cy="850680"/>
          </a:xfrm>
          <a:prstGeom prst="rect">
            <a:avLst/>
          </a:prstGeom>
          <a:ln w="0">
            <a:noFill/>
          </a:ln>
        </p:spPr>
      </p:pic>
      <p:sp>
        <p:nvSpPr>
          <p:cNvPr id="303" name="Line 19"/>
          <p:cNvSpPr/>
          <p:nvPr/>
        </p:nvSpPr>
        <p:spPr>
          <a:xfrm>
            <a:off x="6400800" y="3200400"/>
            <a:ext cx="9907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54545"/>
          <p:cNvPicPr/>
          <p:nvPr/>
        </p:nvPicPr>
        <p:blipFill>
          <a:blip r:embed="rId7"/>
          <a:stretch/>
        </p:blipFill>
        <p:spPr>
          <a:xfrm>
            <a:off x="1170000" y="5381640"/>
            <a:ext cx="963720" cy="109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54545"/>
          <p:cNvPicPr/>
          <p:nvPr/>
        </p:nvPicPr>
        <p:blipFill>
          <a:blip r:embed="rId8"/>
          <a:stretch/>
        </p:blipFill>
        <p:spPr>
          <a:xfrm>
            <a:off x="2514600" y="3505320"/>
            <a:ext cx="871560" cy="990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54545"/>
          <p:cNvPicPr/>
          <p:nvPr/>
        </p:nvPicPr>
        <p:blipFill>
          <a:blip r:embed="rId9"/>
          <a:stretch/>
        </p:blipFill>
        <p:spPr>
          <a:xfrm>
            <a:off x="8001000" y="2286000"/>
            <a:ext cx="828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 ярл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азать путь к файлу и открыть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3520" y="33526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 к файлу – последовательность, начиная от системного диска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дис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 заканчивая папкой, в которой непосредственно хранится фай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уть к файлу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Без-имени-2"/>
          <p:cNvPicPr/>
          <p:nvPr/>
        </p:nvPicPr>
        <p:blipFill>
          <a:blip r:embed="rId2"/>
          <a:stretch/>
        </p:blipFill>
        <p:spPr>
          <a:xfrm>
            <a:off x="2514600" y="335268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C:\Рефераты\Информатика\ Интернет.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19320" y="0"/>
            <a:ext cx="662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уть к файл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имя файла = путь к файлу + имя фай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 полного имени фай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:\ Работа\Отчет\Моя_работа.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16200000">
            <a:off x="2971800" y="350496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2037960" y="54133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5586120" y="541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 rot="16200000">
            <a:off x="6362640" y="361908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олные имена все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файловая-система"/>
          <p:cNvPicPr/>
          <p:nvPr/>
        </p:nvPicPr>
        <p:blipFill>
          <a:blip r:embed="rId2"/>
          <a:stretch/>
        </p:blipFill>
        <p:spPr>
          <a:xfrm>
            <a:off x="2514600" y="1143000"/>
            <a:ext cx="4267080" cy="261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447920" y="17524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 3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263880" y="388620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Файловая структура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– вся совокупность файлов на диске и взаимосвязей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2209680" y="1371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1"/>
          <p:cNvSpPr/>
          <p:nvPr/>
        </p:nvSpPr>
        <p:spPr>
          <a:xfrm>
            <a:off x="6629400" y="1371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6"/>
          <p:cNvSpPr/>
          <p:nvPr/>
        </p:nvSpPr>
        <p:spPr>
          <a:xfrm>
            <a:off x="762120" y="19051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029200" y="18288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533520" y="3581280"/>
            <a:ext cx="3581280" cy="1828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многоуровневая иерархическая файловая система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9"/>
          <p:cNvSpPr/>
          <p:nvPr/>
        </p:nvSpPr>
        <p:spPr>
          <a:xfrm>
            <a:off x="2209680" y="3048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>
            <a:off x="6705720" y="2971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495680" y="5867280"/>
            <a:ext cx="419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кументы/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ba.d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12952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. Фай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иведи в своем сознании все по существу взаимосвязанные между собой предметы, в ту именно связь, в которой они действительно находятся в природе».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Г. 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80880" y="45720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1676520"/>
            <a:ext cx="84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1981080" y="5181480"/>
            <a:ext cx="1589040" cy="982800"/>
          </a:xfrm>
          <a:prstGeom prst="wedgeRoundRectCallout">
            <a:avLst>
              <a:gd name="adj1" fmla="val -93754"/>
              <a:gd name="adj2" fmla="val -11397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3581280" y="3962520"/>
            <a:ext cx="1555920" cy="982440"/>
          </a:xfrm>
          <a:prstGeom prst="wedgeRoundRectCallout">
            <a:avLst>
              <a:gd name="adj1" fmla="val 66222"/>
              <a:gd name="adj2" fmla="val -12576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5105520" y="2286000"/>
            <a:ext cx="3493080" cy="3539880"/>
            <a:chOff x="5105520" y="2286000"/>
            <a:chExt cx="3493080" cy="3539880"/>
          </a:xfrm>
        </p:grpSpPr>
        <p:grpSp>
          <p:nvGrpSpPr>
            <p:cNvPr id="343" name="Group 8"/>
            <p:cNvGrpSpPr/>
            <p:nvPr/>
          </p:nvGrpSpPr>
          <p:grpSpPr>
            <a:xfrm>
              <a:off x="5105520" y="2286000"/>
              <a:ext cx="2219760" cy="590400"/>
              <a:chOff x="5105520" y="2286000"/>
              <a:chExt cx="2219760" cy="590400"/>
            </a:xfrm>
          </p:grpSpPr>
          <p:pic>
            <p:nvPicPr>
              <p:cNvPr id="344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45700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Rectangle 10"/>
              <p:cNvSpPr/>
              <p:nvPr/>
            </p:nvSpPr>
            <p:spPr>
              <a:xfrm>
                <a:off x="5860800" y="2286000"/>
                <a:ext cx="146448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1"/>
            <p:cNvGrpSpPr/>
            <p:nvPr/>
          </p:nvGrpSpPr>
          <p:grpSpPr>
            <a:xfrm>
              <a:off x="5957640" y="2940120"/>
              <a:ext cx="2613960" cy="547200"/>
              <a:chOff x="5957640" y="2940120"/>
              <a:chExt cx="2613960" cy="547200"/>
            </a:xfrm>
          </p:grpSpPr>
          <p:pic>
            <p:nvPicPr>
              <p:cNvPr id="347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7640" y="2940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13"/>
              <p:cNvSpPr/>
              <p:nvPr/>
            </p:nvSpPr>
            <p:spPr>
              <a:xfrm>
                <a:off x="6582240" y="2942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5952960" y="3494160"/>
              <a:ext cx="2613600" cy="547200"/>
              <a:chOff x="5952960" y="3494160"/>
              <a:chExt cx="2613600" cy="547200"/>
            </a:xfrm>
          </p:grpSpPr>
          <p:pic>
            <p:nvPicPr>
              <p:cNvPr id="350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2960" y="349416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16"/>
              <p:cNvSpPr/>
              <p:nvPr/>
            </p:nvSpPr>
            <p:spPr>
              <a:xfrm>
                <a:off x="6577560" y="3496680"/>
                <a:ext cx="19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5984640" y="5278680"/>
              <a:ext cx="2613960" cy="547200"/>
              <a:chOff x="5984640" y="5278680"/>
              <a:chExt cx="2613960" cy="547200"/>
            </a:xfrm>
          </p:grpSpPr>
          <p:pic>
            <p:nvPicPr>
              <p:cNvPr id="353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4640" y="52786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19"/>
              <p:cNvSpPr/>
              <p:nvPr/>
            </p:nvSpPr>
            <p:spPr>
              <a:xfrm>
                <a:off x="6609240" y="52812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0"/>
            <p:cNvGrpSpPr/>
            <p:nvPr/>
          </p:nvGrpSpPr>
          <p:grpSpPr>
            <a:xfrm>
              <a:off x="6602040" y="4044960"/>
              <a:ext cx="1772280" cy="547560"/>
              <a:chOff x="6602040" y="4044960"/>
              <a:chExt cx="1772280" cy="547560"/>
            </a:xfrm>
          </p:grpSpPr>
          <p:pic>
            <p:nvPicPr>
              <p:cNvPr id="356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2040" y="404496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Rectangle 22"/>
              <p:cNvSpPr/>
              <p:nvPr/>
            </p:nvSpPr>
            <p:spPr>
              <a:xfrm>
                <a:off x="7227360" y="40467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23"/>
            <p:cNvGrpSpPr/>
            <p:nvPr/>
          </p:nvGrpSpPr>
          <p:grpSpPr>
            <a:xfrm>
              <a:off x="6602040" y="4602240"/>
              <a:ext cx="1772280" cy="547200"/>
              <a:chOff x="6602040" y="4602240"/>
              <a:chExt cx="1772280" cy="547200"/>
            </a:xfrm>
          </p:grpSpPr>
          <p:pic>
            <p:nvPicPr>
              <p:cNvPr id="359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2040" y="460224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25"/>
              <p:cNvSpPr/>
              <p:nvPr/>
            </p:nvSpPr>
            <p:spPr>
              <a:xfrm>
                <a:off x="7227360" y="460404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61" name="Object 26"/>
            <p:cNvGraphicFramePr/>
            <p:nvPr/>
          </p:nvGraphicFramePr>
          <p:xfrm>
            <a:off x="5284440" y="3598920"/>
            <a:ext cx="374400" cy="37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2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84440" y="35989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3" name="Object 27"/>
            <p:cNvGraphicFramePr/>
            <p:nvPr/>
          </p:nvGraphicFramePr>
          <p:xfrm>
            <a:off x="5284440" y="3046320"/>
            <a:ext cx="374400" cy="37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4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4440" y="30463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Object 28"/>
            <p:cNvGraphicFramePr/>
            <p:nvPr/>
          </p:nvGraphicFramePr>
          <p:xfrm>
            <a:off x="5270040" y="5373720"/>
            <a:ext cx="374400" cy="37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66" name="Object 2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70040" y="53737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Line 29"/>
            <p:cNvSpPr/>
            <p:nvPr/>
          </p:nvSpPr>
          <p:spPr>
            <a:xfrm>
              <a:off x="5481360" y="28227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>
              <a:off x="5486040" y="3989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1"/>
            <p:cNvSpPr/>
            <p:nvPr/>
          </p:nvSpPr>
          <p:spPr>
            <a:xfrm>
              <a:off x="5481360" y="342756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2"/>
            <p:cNvSpPr/>
            <p:nvPr/>
          </p:nvSpPr>
          <p:spPr>
            <a:xfrm>
              <a:off x="5667120" y="32608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3"/>
            <p:cNvSpPr/>
            <p:nvPr/>
          </p:nvSpPr>
          <p:spPr>
            <a:xfrm>
              <a:off x="5671800" y="38037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4"/>
            <p:cNvSpPr/>
            <p:nvPr/>
          </p:nvSpPr>
          <p:spPr>
            <a:xfrm>
              <a:off x="5657400" y="55659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5"/>
            <p:cNvSpPr/>
            <p:nvPr/>
          </p:nvSpPr>
          <p:spPr>
            <a:xfrm>
              <a:off x="6229080" y="3965760"/>
              <a:ext cx="371160" cy="981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243480" y="4365720"/>
              <a:ext cx="308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7"/>
          <p:cNvGrpSpPr/>
          <p:nvPr/>
        </p:nvGrpSpPr>
        <p:grpSpPr>
          <a:xfrm>
            <a:off x="838080" y="2286000"/>
            <a:ext cx="3276000" cy="2369880"/>
            <a:chOff x="838080" y="2286000"/>
            <a:chExt cx="3276000" cy="2369880"/>
          </a:xfrm>
        </p:grpSpPr>
        <p:sp>
          <p:nvSpPr>
            <p:cNvPr id="376" name="Line 38"/>
            <p:cNvSpPr/>
            <p:nvPr/>
          </p:nvSpPr>
          <p:spPr>
            <a:xfrm>
              <a:off x="1122120" y="34084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9"/>
            <p:cNvSpPr/>
            <p:nvPr/>
          </p:nvSpPr>
          <p:spPr>
            <a:xfrm>
              <a:off x="1114200" y="39718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40"/>
            <p:cNvGrpSpPr/>
            <p:nvPr/>
          </p:nvGrpSpPr>
          <p:grpSpPr>
            <a:xfrm>
              <a:off x="838080" y="2286000"/>
              <a:ext cx="2108880" cy="568080"/>
              <a:chOff x="838080" y="2286000"/>
              <a:chExt cx="2108880" cy="568080"/>
            </a:xfrm>
          </p:grpSpPr>
          <p:pic>
            <p:nvPicPr>
              <p:cNvPr id="379" name="Pictur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8080" y="24505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Rectangle 42"/>
              <p:cNvSpPr/>
              <p:nvPr/>
            </p:nvSpPr>
            <p:spPr>
              <a:xfrm>
                <a:off x="1555560" y="22860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3"/>
            <p:cNvGrpSpPr/>
            <p:nvPr/>
          </p:nvGrpSpPr>
          <p:grpSpPr>
            <a:xfrm>
              <a:off x="1628640" y="2992320"/>
              <a:ext cx="2484000" cy="528480"/>
              <a:chOff x="1628640" y="2992320"/>
              <a:chExt cx="2484000" cy="528480"/>
            </a:xfrm>
          </p:grpSpPr>
          <p:pic>
            <p:nvPicPr>
              <p:cNvPr id="382" name="Picture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28640" y="29923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Rectangle 45"/>
              <p:cNvSpPr/>
              <p:nvPr/>
            </p:nvSpPr>
            <p:spPr>
              <a:xfrm>
                <a:off x="2222280" y="29948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6"/>
            <p:cNvGrpSpPr/>
            <p:nvPr/>
          </p:nvGrpSpPr>
          <p:grpSpPr>
            <a:xfrm>
              <a:off x="1628640" y="3544920"/>
              <a:ext cx="2484000" cy="526680"/>
              <a:chOff x="1628640" y="3544920"/>
              <a:chExt cx="2484000" cy="526680"/>
            </a:xfrm>
          </p:grpSpPr>
          <p:pic>
            <p:nvPicPr>
              <p:cNvPr id="385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28640" y="35449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48"/>
              <p:cNvSpPr/>
              <p:nvPr/>
            </p:nvSpPr>
            <p:spPr>
              <a:xfrm>
                <a:off x="2222280" y="35474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9"/>
            <p:cNvGrpSpPr/>
            <p:nvPr/>
          </p:nvGrpSpPr>
          <p:grpSpPr>
            <a:xfrm>
              <a:off x="1631520" y="4129200"/>
              <a:ext cx="2482560" cy="526680"/>
              <a:chOff x="1631520" y="4129200"/>
              <a:chExt cx="2482560" cy="526680"/>
            </a:xfrm>
          </p:grpSpPr>
          <p:pic>
            <p:nvPicPr>
              <p:cNvPr id="388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31520" y="41292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51"/>
              <p:cNvSpPr/>
              <p:nvPr/>
            </p:nvSpPr>
            <p:spPr>
              <a:xfrm>
                <a:off x="2224800" y="41317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90" name="Object 52"/>
            <p:cNvGraphicFramePr/>
            <p:nvPr/>
          </p:nvGraphicFramePr>
          <p:xfrm>
            <a:off x="944280" y="3097080"/>
            <a:ext cx="355680" cy="3603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91" name="Object 5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944280" y="30970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Object 53"/>
            <p:cNvGraphicFramePr/>
            <p:nvPr/>
          </p:nvGraphicFramePr>
          <p:xfrm>
            <a:off x="933120" y="4230720"/>
            <a:ext cx="35568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93" name="Object 5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33120" y="42307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Object 54"/>
            <p:cNvGraphicFramePr/>
            <p:nvPr/>
          </p:nvGraphicFramePr>
          <p:xfrm>
            <a:off x="939600" y="3657600"/>
            <a:ext cx="355680" cy="36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39600" y="36576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Line 55"/>
            <p:cNvSpPr/>
            <p:nvPr/>
          </p:nvSpPr>
          <p:spPr>
            <a:xfrm>
              <a:off x="1122120" y="28256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6"/>
            <p:cNvSpPr/>
            <p:nvPr/>
          </p:nvSpPr>
          <p:spPr>
            <a:xfrm>
              <a:off x="1290240" y="32846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7"/>
            <p:cNvSpPr/>
            <p:nvPr/>
          </p:nvSpPr>
          <p:spPr>
            <a:xfrm>
              <a:off x="1307880" y="38386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8"/>
            <p:cNvSpPr/>
            <p:nvPr/>
          </p:nvSpPr>
          <p:spPr>
            <a:xfrm>
              <a:off x="1298160" y="44118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457200" y="30492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403" name="Group 7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9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0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407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2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410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Rectangle 15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413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18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416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Rectangle 21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22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3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4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6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7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28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425" name="Picture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Rectangle 30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Group 31"/>
          <p:cNvGrpSpPr/>
          <p:nvPr/>
        </p:nvGrpSpPr>
        <p:grpSpPr>
          <a:xfrm>
            <a:off x="609480" y="4038480"/>
            <a:ext cx="2479680" cy="1958760"/>
            <a:chOff x="609480" y="4038480"/>
            <a:chExt cx="2479680" cy="1958760"/>
          </a:xfrm>
        </p:grpSpPr>
        <p:sp>
          <p:nvSpPr>
            <p:cNvPr id="428" name="Rectangle 32"/>
            <p:cNvSpPr/>
            <p:nvPr/>
          </p:nvSpPr>
          <p:spPr>
            <a:xfrm>
              <a:off x="1336320" y="40384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33" descr=""/>
            <p:cNvPicPr/>
            <p:nvPr/>
          </p:nvPicPr>
          <p:blipFill>
            <a:blip r:embed="rId8"/>
            <a:stretch/>
          </p:blipFill>
          <p:spPr>
            <a:xfrm>
              <a:off x="609480" y="442260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533520" y="167544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поморгать, закрыть глаза и посидеть спокойно, медленно считая до 5. Повторить 3 раз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eye333"/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eyeкопирование"/>
          <p:cNvPicPr/>
          <p:nvPr/>
        </p:nvPicPr>
        <p:blipFill>
          <a:blip r:embed="rId3"/>
          <a:stretch/>
        </p:blipFill>
        <p:spPr>
          <a:xfrm>
            <a:off x="3886200" y="34686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434" name="1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038480" cy="35748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6094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449568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ир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29080" cy="3772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1295280" y="52578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сти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876920" y="1600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мен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438440" cy="381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28600" y="18288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№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: Файл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, конспект 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*   Постройте дерево кат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Города\Благовещенс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Природа\Бор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Документы\Компьютеры\Принтер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Рефера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Доклад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годня я узнал 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ыло интересно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еня удивило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рок дал мне для жизни 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не захотелось 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22860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я могу сказать об уроке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 компьютере хранится 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характеристики  долговременной памяти, заполнив таблицу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устройств долговременной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447920"/>
          <a:ext cx="8229600" cy="494352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2514600"/>
              </a:tblGrid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информационная емкос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воздейств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, сильные магнитные пол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Гб - 8Г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Г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отключ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й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чкой: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 файла</a:t>
            </a:r>
            <a:r>
              <a:rPr b="0" i="1" lang="ru-RU" sz="26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at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айлу дает пользов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 хранится в файле, тип фай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16200000">
            <a:off x="4038480" y="304740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 rot="16200000">
            <a:off x="5219640" y="3466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505320" y="2743200"/>
            <a:ext cx="76176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 flipH="1">
            <a:off x="5333760" y="27432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глашение 8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16761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глашению 8.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я файла мож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стоять из двух частей, разделенных точкой. Первая часть может иметь длину до 8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записи имени файла разрешается использовать только буквы английского алфавита и 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чинаться имя должно с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белы и знаки препинания не допускаются, за исключением трёх символов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пределить расширение фай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каждого файла есть свойства, где указывается тип фай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646440" cy="4786200"/>
          </a:xfrm>
          <a:prstGeom prst="rect">
            <a:avLst/>
          </a:prstGeom>
          <a:ln w="0">
            <a:noFill/>
          </a:ln>
        </p:spPr>
      </p:pic>
      <p:sp>
        <p:nvSpPr>
          <p:cNvPr id="268" name="Line 5"/>
          <p:cNvSpPr/>
          <p:nvPr/>
        </p:nvSpPr>
        <p:spPr>
          <a:xfrm flipV="1">
            <a:off x="4038480" y="2895120"/>
            <a:ext cx="16002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0:32:06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