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17560-5CAF-4CCD-8EA5-D7D254F88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0073A-B92B-4271-9CC2-ED039F169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70E22-7EEF-4059-8AD1-B242E628E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D7EC2-091F-4A1D-894E-74FE1894C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6D3B0-5666-44B5-9194-7BFA70786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F4A60-C84B-4A10-B374-95E3F2483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1ACC4-EDAA-4D56-AD99-C5E1A2224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B01D3-551E-4287-AB43-D56BB8424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1EA4D-0C8F-4038-829F-85B438FA8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B9344-C4B6-4BC1-BAB7-0261AFB44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9585C-5614-470E-BC4F-8942B98C7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D2256-05E7-48FD-84AA-F8EBFE8D8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D659D-D1BD-40A5-92BF-B2CEFCE217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813200" y="5229360"/>
            <a:ext cx="4324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Автор: учитель информат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МКОУ Плесской СО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Юдин А.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285440" y="6491160"/>
            <a:ext cx="102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2012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3780000" y="476280"/>
            <a:ext cx="5113080" cy="36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5840">
                  <a:solidFill>
                    <a:srgbClr val="ffff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троки </a:t>
            </a:r>
            <a:endParaRPr b="0" lang="en-US" sz="1800" spc="1" strike="noStrike">
              <a:ln w="15840">
                <a:solidFill>
                  <a:srgbClr val="ffff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5840">
                  <a:solidFill>
                    <a:srgbClr val="ffff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 Pascal</a:t>
            </a:r>
            <a:endParaRPr b="0" lang="en-US" sz="1800" spc="1" strike="noStrike">
              <a:ln w="15840">
                <a:solidFill>
                  <a:srgbClr val="ffff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250920" y="678600"/>
            <a:ext cx="8713800" cy="496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Процедура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val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позволяет преобразовать цифровые символы (изображение числа) в число. В общем виде обращение к процедуре выглядит так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r>
              <a:rPr b="1" lang="en-US" sz="4000" spc="-1" strike="noStrike">
                <a:solidFill>
                  <a:srgbClr val="ff3300"/>
                </a:solidFill>
                <a:latin typeface="Arial"/>
                <a:ea typeface="Times New Roman"/>
              </a:rPr>
              <a:t>VAL</a:t>
            </a:r>
            <a:r>
              <a:rPr b="1" lang="ru-RU" sz="4000" spc="-1" strike="noStrike">
                <a:solidFill>
                  <a:srgbClr val="ff3300"/>
                </a:solidFill>
                <a:latin typeface="Arial"/>
                <a:ea typeface="Times New Roman"/>
              </a:rPr>
              <a:t> (</a:t>
            </a:r>
            <a:r>
              <a:rPr b="1" i="1" lang="ru-RU" sz="4000" spc="-1" strike="noStrike">
                <a:solidFill>
                  <a:srgbClr val="ff3300"/>
                </a:solidFill>
                <a:latin typeface="Arial"/>
                <a:ea typeface="Times New Roman"/>
              </a:rPr>
              <a:t>Строка, Число, Код</a:t>
            </a:r>
            <a:r>
              <a:rPr b="1" lang="ru-RU" sz="4000" spc="-1" strike="noStrike">
                <a:solidFill>
                  <a:srgbClr val="ff3300"/>
                </a:solidFill>
                <a:latin typeface="Arial"/>
                <a:ea typeface="Times New Roman"/>
              </a:rPr>
              <a:t>) 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где 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С</a:t>
            </a:r>
            <a:r>
              <a:rPr b="1" i="1" lang="ru-RU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трок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– строковая константа или переменная, содержащая изображение числа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Ч</a:t>
            </a:r>
            <a:r>
              <a:rPr b="1" i="1" lang="ru-RU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исло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переменная целого или дробного типа, которой должно быть присвоено значени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r>
              <a:rPr b="1" i="1" lang="ru-RU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Код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возвращаемый процедурой код ошибки (целое число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реобразование типов                                                                                                  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-720" y="333360"/>
            <a:ext cx="3144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Процедура V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реобразование типов                                                                                               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79280" y="476280"/>
            <a:ext cx="4033800" cy="261792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4356000" y="476280"/>
            <a:ext cx="41767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1:='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123456789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'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l(s1,n,code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riteln(n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356000" y="3573360"/>
            <a:ext cx="4950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1:='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123456789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ABCD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'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l(s1,n,code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riteln(n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179280" y="3357720"/>
            <a:ext cx="4248360" cy="28224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2556000" y="2133720"/>
            <a:ext cx="1295280" cy="35856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627280" y="5516640"/>
            <a:ext cx="1295280" cy="35856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333360"/>
            <a:ext cx="4465800" cy="31831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4572000" y="692280"/>
            <a:ext cx="4896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s1:='</a:t>
            </a:r>
            <a:r>
              <a:rPr b="0" lang="ru-RU" sz="3200" spc="-1" strike="noStrike">
                <a:solidFill>
                  <a:srgbClr val="0000ff"/>
                </a:solidFill>
                <a:latin typeface="Times New Roman"/>
              </a:rPr>
              <a:t>ABCDE</a:t>
            </a:r>
            <a:r>
              <a:rPr b="0" lang="ru-RU" sz="3200" spc="-1" strike="noStrike">
                <a:solidFill>
                  <a:srgbClr val="ff3300"/>
                </a:solidFill>
                <a:latin typeface="Times New Roman"/>
              </a:rPr>
              <a:t>123456789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'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val(s1,n,code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Writeln(n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411280" y="2565360"/>
            <a:ext cx="576360" cy="35892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404640"/>
            <a:ext cx="9144000" cy="643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В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PascalABC</a:t>
            </a: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 есть более развитый арсена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преобразований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как в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DELPHI</a:t>
            </a: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S:=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IntToStr(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N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)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преобразует целое число к строке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n:=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StrToInt(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S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)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еобразует строку в целое числ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S:=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FloatToStr(r)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еобразует вещественное число к строк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R:=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StrToFloat(s)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преобразует строку в вещественное число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Если преобразование невозможно, то возникает ошибка времени выполн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реобразование типов                                                                                                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реобразование типов                                                                                                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50920" y="417240"/>
            <a:ext cx="8496360" cy="1918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3300"/>
                </a:solidFill>
                <a:latin typeface="Arial"/>
              </a:rPr>
              <a:t>Задача 5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Дано строка символов  а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а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. Где 1&lt;=а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и а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&lt;=9.  Составить программу, вычисляющую это выражение. Измените программу так, что бы вместо знака «+» можно было писать «-», «*», «/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50920" y="430200"/>
            <a:ext cx="8497800" cy="643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AR  S: STRING;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a,b,c:real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de:INTEGE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rite(‘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веди выражение =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');read(s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val(s[1],a,code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val(s[3],b,code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f (s[2]='+') then c:=a+b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f (s[2]='-') then c:=a-b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f (s[2]='*') then c:=a*b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f (s[2]='/') then c:=a/b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rsc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riteln(s,c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472000" y="2708280"/>
            <a:ext cx="3672000" cy="2736720"/>
          </a:xfrm>
          <a:prstGeom prst="wedgeRoundRectCallout">
            <a:avLst>
              <a:gd name="adj1" fmla="val -97342"/>
              <a:gd name="adj2" fmla="val -38976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з строки берем первый и третий символ и преобразуем в числ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84360" y="2492280"/>
            <a:ext cx="3024000" cy="93672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547640" y="2108160"/>
            <a:ext cx="5977080" cy="47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8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8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0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9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Символы и их коды                                                                                                      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333360"/>
            <a:ext cx="487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Times New Roman"/>
              </a:rPr>
              <a:t>Функции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ORD</a:t>
            </a:r>
            <a:r>
              <a:rPr b="1" lang="ru-RU" sz="3600" spc="-1" strike="noStrike">
                <a:solidFill>
                  <a:srgbClr val="ff3300"/>
                </a:solidFill>
                <a:latin typeface="Times New Roman"/>
              </a:rPr>
              <a:t>  и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CH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50920" y="1341360"/>
            <a:ext cx="856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Функция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Ord(S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–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определяет порядковый номер символ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50920" y="2349360"/>
            <a:ext cx="8642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Функция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Chr(i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пределяет символ с порядковым номером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95280" y="3573360"/>
            <a:ext cx="3745080" cy="29862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3132000" y="4653000"/>
            <a:ext cx="576360" cy="35856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716360" y="3500280"/>
            <a:ext cx="3672000" cy="2233800"/>
          </a:xfrm>
          <a:prstGeom prst="wedgeRoundRectCallout">
            <a:avLst>
              <a:gd name="adj1" fmla="val -76287"/>
              <a:gd name="adj2" fmla="val 8495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 номеру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5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выводим символ из кодовой таблицы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Символы  и их коды                                                                                                    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352440"/>
            <a:ext cx="9144000" cy="13737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3300"/>
                </a:solidFill>
                <a:latin typeface="Arial"/>
              </a:rPr>
              <a:t>Задача 6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Составьте программу, которая по символу введенному с клавиатуры, выводит его номер в кодовой таблиц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5280" y="1989000"/>
            <a:ext cx="83534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PROGRAM  Prime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uses Cr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VAR  S: </a:t>
            </a: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cha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n,code:INTEGE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Write(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'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веди символ  ');readln(s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Writeln(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'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имвол ', s 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'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имеет код -',</a:t>
            </a: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ord(s)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076720" y="1773360"/>
            <a:ext cx="3672000" cy="2233440"/>
          </a:xfrm>
          <a:prstGeom prst="wedgeRoundRectCallout">
            <a:avLst>
              <a:gd name="adj1" fmla="val -107287"/>
              <a:gd name="adj2" fmla="val 14532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ункция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D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работает только символьным типом дан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979640" y="3068640"/>
            <a:ext cx="1008000" cy="50472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539640" y="1989000"/>
            <a:ext cx="7561440" cy="38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333000"/>
            <a:ext cx="9144000" cy="947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3300"/>
                </a:solidFill>
                <a:latin typeface="Arial"/>
              </a:rPr>
              <a:t>Задача 7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Дана строка символов. Определить сколько раз в ней встречается буква А (русская)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24000" y="1414440"/>
            <a:ext cx="84247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n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Cr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 s:string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,k:integer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g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rScr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('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Веди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у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'); readln(s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k:=0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for i:=1 to length(s) do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if (s[i]='</a:t>
            </a:r>
            <a:r>
              <a:rPr b="1" lang="ru-RU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А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') then k:=k+1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ln('Буква А встречается = ', k:8,' раз'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132000" y="2060640"/>
            <a:ext cx="3024360" cy="934920"/>
          </a:xfrm>
          <a:prstGeom prst="wedgeRoundRectCallout">
            <a:avLst>
              <a:gd name="adj1" fmla="val -67583"/>
              <a:gd name="adj2" fmla="val 24779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еребираем от 1 до последней букв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012000" y="2781360"/>
            <a:ext cx="2952720" cy="1439640"/>
          </a:xfrm>
          <a:prstGeom prst="wedgeRoundRectCallout">
            <a:avLst>
              <a:gd name="adj1" fmla="val -51560"/>
              <a:gd name="adj2" fmla="val 9432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Если на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ом месте стоит А увеличиваем К на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68360" y="4869000"/>
            <a:ext cx="3456000" cy="504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924360" y="4869000"/>
            <a:ext cx="3816360" cy="50472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одсчет символов в строке                                                                                       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Замечание                                                                                                                      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24000" y="2275920"/>
            <a:ext cx="84247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for i:=1 to length(s) do</a:t>
            </a:r>
            <a:r>
              <a:rPr b="1" lang="ru-RU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begi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                                        </a:t>
            </a:r>
            <a:r>
              <a:rPr b="1" lang="en-US" sz="4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if (s[i]=…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                                          </a:t>
            </a:r>
            <a:r>
              <a:rPr b="1" lang="en-US" sz="4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if (s[i]=…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                                        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end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50920" y="476280"/>
            <a:ext cx="8642160" cy="13737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Замечание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Если требуется поиск нескольких символов в строке, то условия заключаем в программные скобки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GIN … 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одсчет символов в строке                                                                                      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419640" y="476280"/>
            <a:ext cx="1800000" cy="36036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Начал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492360" y="1125360"/>
            <a:ext cx="1511280" cy="432000"/>
          </a:xfrm>
          <a:prstGeom prst="flowChartInputOutpu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вод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203640" y="2492280"/>
            <a:ext cx="2305080" cy="576360"/>
          </a:xfrm>
          <a:prstGeom prst="flowChartPreparation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,1,length(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635280" y="3213000"/>
            <a:ext cx="1440000" cy="1008000"/>
          </a:xfrm>
          <a:prstGeom prst="flowChartDecision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i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='A'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5280" y="4437000"/>
            <a:ext cx="1513080" cy="432000"/>
          </a:xfrm>
          <a:prstGeom prst="flowChartProcess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К=К+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564000" y="5589720"/>
            <a:ext cx="1511280" cy="431640"/>
          </a:xfrm>
          <a:prstGeom prst="flowChartInputOutpu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Вывод 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284720" y="836640"/>
            <a:ext cx="0" cy="288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284720" y="1557360"/>
            <a:ext cx="0" cy="287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356000" y="306864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356000" y="422100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356000" y="4869000"/>
            <a:ext cx="0" cy="360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843280" y="5229360"/>
            <a:ext cx="1512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2843280" y="2781360"/>
            <a:ext cx="0" cy="2448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43280" y="2781360"/>
            <a:ext cx="360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506920" y="2781360"/>
            <a:ext cx="289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796000" y="2781360"/>
            <a:ext cx="0" cy="2590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356000" y="5372280"/>
            <a:ext cx="1440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356000" y="5372280"/>
            <a:ext cx="0" cy="217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419640" y="6308640"/>
            <a:ext cx="1800000" cy="36036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Коне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356000" y="6021360"/>
            <a:ext cx="0" cy="287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428720" y="4076640"/>
            <a:ext cx="50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060000" y="3355920"/>
            <a:ext cx="63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2843280" y="3716280"/>
            <a:ext cx="792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156360" y="1413000"/>
            <a:ext cx="2663640" cy="1655640"/>
          </a:xfrm>
          <a:prstGeom prst="wedgeRoundRectCallout">
            <a:avLst>
              <a:gd name="adj1" fmla="val -64300"/>
              <a:gd name="adj2" fmla="val 9841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Блок-схема к задаче подсчета букв А в стро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4000" y="1844640"/>
            <a:ext cx="1512720" cy="432000"/>
          </a:xfrm>
          <a:prstGeom prst="flowChartProcess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К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284720" y="2276640"/>
            <a:ext cx="0" cy="215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Замена символов в строке                                                                                        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333000"/>
            <a:ext cx="8964720" cy="947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3300"/>
                </a:solidFill>
                <a:latin typeface="Arial"/>
              </a:rPr>
              <a:t>Задача 8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Дана строка символов. Заменить в ней все буквы А на букву 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1774440"/>
            <a:ext cx="88930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n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Cr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 s:string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:integer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g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rScr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('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Веди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у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'); readln(s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for i:=1 to length(s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do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if (s[i]='A') then s[i]:='O'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ln(s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987640" y="1628640"/>
            <a:ext cx="3090960" cy="1224000"/>
          </a:xfrm>
          <a:prstGeom prst="wedgeRoundRectCallout">
            <a:avLst>
              <a:gd name="adj1" fmla="val -64944"/>
              <a:gd name="adj2" fmla="val 20668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еребираем от 1 до последней букв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39640" y="4797360"/>
            <a:ext cx="3527640" cy="503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96000" y="2421000"/>
            <a:ext cx="3097080" cy="1584360"/>
          </a:xfrm>
          <a:prstGeom prst="wedgeRoundRectCallout">
            <a:avLst>
              <a:gd name="adj1" fmla="val -26574"/>
              <a:gd name="adj2" fmla="val 9939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Если на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ом месте стоит А ставим на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е место 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067280" y="4797360"/>
            <a:ext cx="3960720" cy="50328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40392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Строк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 это массив символов,  т.е.  элементов типа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har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В Паскале строке соответствует тип данных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tring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229400" y="2133000"/>
            <a:ext cx="7038720" cy="6426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Courier New"/>
                <a:ea typeface="Times New Roman"/>
              </a:rPr>
              <a:t>var</a:t>
            </a:r>
            <a:r>
              <a:rPr b="1" lang="ru-RU" sz="3600" spc="-1" strike="noStrike">
                <a:solidFill>
                  <a:srgbClr val="cc3300"/>
                </a:solidFill>
                <a:latin typeface="Courier New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Имя</a:t>
            </a:r>
            <a:r>
              <a:rPr b="1" lang="ru-RU" sz="3600" spc="-1" strike="noStrike">
                <a:solidFill>
                  <a:srgbClr val="cc3300"/>
                </a:solidFill>
                <a:latin typeface="Courier New"/>
                <a:ea typeface="Times New Roman"/>
              </a:rPr>
              <a:t> : </a:t>
            </a:r>
            <a:r>
              <a:rPr b="1" lang="en-US" sz="3600" spc="-1" strike="noStrike">
                <a:solidFill>
                  <a:srgbClr val="cc3300"/>
                </a:solidFill>
                <a:latin typeface="Courier New"/>
                <a:ea typeface="Times New Roman"/>
              </a:rPr>
              <a:t>string</a:t>
            </a:r>
            <a:r>
              <a:rPr b="1" lang="ru-RU" sz="3600" spc="-1" strike="noStrike">
                <a:solidFill>
                  <a:srgbClr val="cc3300"/>
                </a:solidFill>
                <a:latin typeface="Courier New"/>
                <a:ea typeface="Times New Roman"/>
              </a:rPr>
              <a:t> [</a:t>
            </a:r>
            <a:r>
              <a:rPr b="1" lang="ru-RU" sz="36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Длина</a:t>
            </a:r>
            <a:r>
              <a:rPr b="1" lang="ru-RU" sz="3600" spc="-1" strike="noStrike">
                <a:solidFill>
                  <a:srgbClr val="cc3300"/>
                </a:solidFill>
                <a:latin typeface="Courier New"/>
                <a:ea typeface="Times New Roman"/>
              </a:rPr>
              <a:t>]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2923200"/>
            <a:ext cx="8064360" cy="10688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Если длина не указана, выделяется память под строку до 255 символов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Теория                                                                                                                             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24000" y="4292640"/>
            <a:ext cx="365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ar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s1:string;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003640" y="4076640"/>
            <a:ext cx="2305080" cy="936720"/>
          </a:xfrm>
          <a:prstGeom prst="wedgeRoundRectCallout">
            <a:avLst>
              <a:gd name="adj1" fmla="val -112532"/>
              <a:gd name="adj2" fmla="val 1220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трока 255 символ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24720" y="5157720"/>
            <a:ext cx="414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ar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s2:string[20];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651640" y="5084640"/>
            <a:ext cx="2305080" cy="936720"/>
          </a:xfrm>
          <a:prstGeom prst="wedgeRoundRectCallout">
            <a:avLst>
              <a:gd name="adj1" fmla="val -109226"/>
              <a:gd name="adj2" fmla="val -237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трока 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символ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Замена символов в строке                                                                                         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419640" y="476280"/>
            <a:ext cx="1800000" cy="36036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Начал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492360" y="1125360"/>
            <a:ext cx="1511280" cy="432000"/>
          </a:xfrm>
          <a:prstGeom prst="flowChartInputOutpu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вод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32000" y="1844640"/>
            <a:ext cx="2305080" cy="576360"/>
          </a:xfrm>
          <a:prstGeom prst="flowChartPreparation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,1,length(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564000" y="2565360"/>
            <a:ext cx="1439640" cy="1008000"/>
          </a:xfrm>
          <a:prstGeom prst="flowChartDecision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i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='A'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564000" y="3789360"/>
            <a:ext cx="1512720" cy="576360"/>
          </a:xfrm>
          <a:prstGeom prst="flowChartProcess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i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='O'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4941720"/>
            <a:ext cx="1511280" cy="432000"/>
          </a:xfrm>
          <a:prstGeom prst="flowChartInputOutpu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ывод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284720" y="836640"/>
            <a:ext cx="0" cy="288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284720" y="1557360"/>
            <a:ext cx="0" cy="287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284720" y="242100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84720" y="357336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84720" y="4365720"/>
            <a:ext cx="0" cy="215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H="1">
            <a:off x="2771280" y="4581360"/>
            <a:ext cx="1513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2771640" y="2133360"/>
            <a:ext cx="0" cy="2447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771640" y="2133720"/>
            <a:ext cx="360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435640" y="2133720"/>
            <a:ext cx="288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724360" y="2133720"/>
            <a:ext cx="0" cy="2590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284720" y="4724280"/>
            <a:ext cx="1439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284720" y="4724280"/>
            <a:ext cx="0" cy="217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348000" y="5661000"/>
            <a:ext cx="1800360" cy="36036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Коне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284720" y="5373720"/>
            <a:ext cx="0" cy="287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357440" y="3429000"/>
            <a:ext cx="50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988360" y="2708280"/>
            <a:ext cx="63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2771280" y="3068640"/>
            <a:ext cx="792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156360" y="1413000"/>
            <a:ext cx="2663640" cy="1224000"/>
          </a:xfrm>
          <a:prstGeom prst="wedgeRoundRectCallout">
            <a:avLst>
              <a:gd name="adj1" fmla="val -60907"/>
              <a:gd name="adj2" fmla="val 11277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Блок-схема к задаче замен буквы А на 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0" y="333000"/>
            <a:ext cx="9144000" cy="947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3300"/>
                </a:solidFill>
                <a:latin typeface="Arial"/>
              </a:rPr>
              <a:t>Задача 9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Удалить из строки введенной с клавиатуры все буквы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(латинские, заглавные)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55960" y="1414440"/>
            <a:ext cx="83224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n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Cr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 a,b:String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:integer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g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rScr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('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Веди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у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');readln(a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:=''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for i:=1 to length(a) do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if (a[i]&lt;&gt;‘R') then b:=b+a[i]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:=b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ln(a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276720" y="2852640"/>
            <a:ext cx="2879640" cy="1152720"/>
          </a:xfrm>
          <a:prstGeom prst="wedgeRoundRectCallout">
            <a:avLst>
              <a:gd name="adj1" fmla="val -95314"/>
              <a:gd name="adj2" fmla="val 12437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еребираем от 1 до последней букв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68360" y="4869000"/>
            <a:ext cx="3527280" cy="504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68360" y="4437000"/>
            <a:ext cx="914400" cy="43200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132000" y="1341360"/>
            <a:ext cx="2737080" cy="1150920"/>
          </a:xfrm>
          <a:prstGeom prst="wedgeRoundRectCallout">
            <a:avLst>
              <a:gd name="adj1" fmla="val -116532"/>
              <a:gd name="adj2" fmla="val 21813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дготавливаем дополнительную переменну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995640" y="4869000"/>
            <a:ext cx="4537080" cy="50472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335640" y="1989000"/>
            <a:ext cx="2808360" cy="1727280"/>
          </a:xfrm>
          <a:prstGeom prst="wedgeRoundRectCallout">
            <a:avLst>
              <a:gd name="adj1" fmla="val -57629"/>
              <a:gd name="adj2" fmla="val 10918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Если на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ом месте не стоит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то прибавляем эту букву к тому, что есть в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68360" y="5373720"/>
            <a:ext cx="914400" cy="43164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643280" y="5589720"/>
            <a:ext cx="2737080" cy="936360"/>
          </a:xfrm>
          <a:prstGeom prst="wedgeRoundRectCallout">
            <a:avLst>
              <a:gd name="adj1" fmla="val -170129"/>
              <a:gd name="adj2" fmla="val -4508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о, что получилось в В перемещаем обратно в 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Удаление символов из строки                                                                                  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Удаление символов из строки                                                                                  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419640" y="476280"/>
            <a:ext cx="1800000" cy="36036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Начал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492360" y="981000"/>
            <a:ext cx="1511280" cy="432000"/>
          </a:xfrm>
          <a:prstGeom prst="flowChartInputOutpu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вод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203640" y="2205000"/>
            <a:ext cx="2305080" cy="576360"/>
          </a:xfrm>
          <a:prstGeom prst="flowChartPreparation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,1,length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635280" y="2924280"/>
            <a:ext cx="1440000" cy="1008000"/>
          </a:xfrm>
          <a:prstGeom prst="flowChartDecision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i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&gt;'R'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635280" y="4149720"/>
            <a:ext cx="1513080" cy="431640"/>
          </a:xfrm>
          <a:prstGeom prst="flowChartProcess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=B+ A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780000" y="5589720"/>
            <a:ext cx="1511280" cy="431640"/>
          </a:xfrm>
          <a:prstGeom prst="flowChartInputOutpu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Вывод 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284720" y="836640"/>
            <a:ext cx="0" cy="144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284720" y="1413000"/>
            <a:ext cx="0" cy="144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356000" y="2781360"/>
            <a:ext cx="0" cy="142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356000" y="393372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356000" y="4581360"/>
            <a:ext cx="0" cy="142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2843280" y="4724280"/>
            <a:ext cx="1512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2843280" y="2492280"/>
            <a:ext cx="0" cy="223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843280" y="2492280"/>
            <a:ext cx="360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08720" y="2492280"/>
            <a:ext cx="288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796000" y="2492280"/>
            <a:ext cx="0" cy="2305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79736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635280" y="6165720"/>
            <a:ext cx="1800360" cy="36036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Коне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572000" y="5445000"/>
            <a:ext cx="0" cy="144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428720" y="3789360"/>
            <a:ext cx="50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060000" y="2997360"/>
            <a:ext cx="63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2843280" y="3429000"/>
            <a:ext cx="792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156360" y="1413000"/>
            <a:ext cx="2663640" cy="1655640"/>
          </a:xfrm>
          <a:prstGeom prst="wedgeRoundRectCallout">
            <a:avLst>
              <a:gd name="adj1" fmla="val -64300"/>
              <a:gd name="adj2" fmla="val 9841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лок-схема к задаче удаления букв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R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з стро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564000" y="1557360"/>
            <a:ext cx="1512720" cy="431640"/>
          </a:xfrm>
          <a:prstGeom prst="flowChartProcess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''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284720" y="198900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851280" y="5013360"/>
            <a:ext cx="1512720" cy="431640"/>
          </a:xfrm>
          <a:prstGeom prst="flowChartProcess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4572000" y="4797360"/>
            <a:ext cx="1224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572000" y="6021360"/>
            <a:ext cx="0" cy="144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Вложенные условия.                                                                                                  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0" y="1916280"/>
            <a:ext cx="91440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Rsc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adln(s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or i:=1 to length(s) 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(s[i]='а') or (s[i]='б')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th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if (s[i]='а') then s[i]:='б' else s[i]:='а'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riteln(s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0" y="475920"/>
            <a:ext cx="9144000" cy="947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3300"/>
                </a:solidFill>
                <a:latin typeface="Arial"/>
              </a:rPr>
              <a:t>Задача 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В заданном тексте везде букву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"а"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заменить на букву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"б"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  а букву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"б"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 на букву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"а"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84360" y="3933720"/>
            <a:ext cx="3671640" cy="576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932360" y="1773360"/>
            <a:ext cx="3203640" cy="1657080"/>
          </a:xfrm>
          <a:prstGeom prst="wedgeRoundRectCallout">
            <a:avLst>
              <a:gd name="adj1" fmla="val -69277"/>
              <a:gd name="adj2" fmla="val 81898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з всей строки нам нужно выбрать только А и 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268360" y="4365720"/>
            <a:ext cx="6696360" cy="57600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076720" y="5157720"/>
            <a:ext cx="3203640" cy="1295640"/>
          </a:xfrm>
          <a:prstGeom prst="wedgeRoundRectCallout">
            <a:avLst>
              <a:gd name="adj1" fmla="val -80722"/>
              <a:gd name="adj2" fmla="val -63847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 только после осуществлять замен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40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2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43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Вложенные условия                                                                                                   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916360" y="476280"/>
            <a:ext cx="1655640" cy="36036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ачал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843280" y="981000"/>
            <a:ext cx="1657440" cy="360360"/>
          </a:xfrm>
          <a:prstGeom prst="flowChartInputOutpu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вод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556000" y="1484280"/>
            <a:ext cx="2160360" cy="504720"/>
          </a:xfrm>
          <a:prstGeom prst="flowChartPreparat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, 1, length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916360" y="2205000"/>
            <a:ext cx="1439640" cy="1008000"/>
          </a:xfrm>
          <a:prstGeom prst="flowChartDecision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427640" y="3068640"/>
            <a:ext cx="1439640" cy="1008000"/>
          </a:xfrm>
          <a:prstGeom prst="flowChartDecision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i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='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'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492360" y="4076640"/>
            <a:ext cx="1150920" cy="5047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i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='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б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'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651640" y="4076640"/>
            <a:ext cx="1152360" cy="5047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i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='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'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987640" y="5734080"/>
            <a:ext cx="1657440" cy="360360"/>
          </a:xfrm>
          <a:prstGeom prst="flowChartInputOutpu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ывод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987640" y="6308640"/>
            <a:ext cx="1655640" cy="36036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оне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708360" y="83664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708360" y="134136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635280" y="1989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56000" y="2708280"/>
            <a:ext cx="792360" cy="0"/>
          </a:xfrm>
          <a:prstGeom prst="line">
            <a:avLst/>
          </a:prstGeom>
          <a:ln w="2844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148360" y="2708280"/>
            <a:ext cx="0" cy="360360"/>
          </a:xfrm>
          <a:prstGeom prst="line">
            <a:avLst/>
          </a:prstGeom>
          <a:ln w="2844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3573360"/>
            <a:ext cx="28908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4066920" y="3573360"/>
            <a:ext cx="36036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067280" y="3573360"/>
            <a:ext cx="0" cy="50328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156360" y="3573360"/>
            <a:ext cx="0" cy="50328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067280" y="4581360"/>
            <a:ext cx="0" cy="21600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156360" y="4581360"/>
            <a:ext cx="0" cy="21600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067280" y="4797360"/>
            <a:ext cx="208908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5076720" y="4797360"/>
            <a:ext cx="0" cy="216000"/>
          </a:xfrm>
          <a:prstGeom prst="line">
            <a:avLst/>
          </a:prstGeom>
          <a:ln w="2844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flipH="1">
            <a:off x="2410920" y="2708280"/>
            <a:ext cx="505080" cy="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411280" y="2708280"/>
            <a:ext cx="0" cy="230508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411280" y="5013360"/>
            <a:ext cx="2665440" cy="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3780000" y="501336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780000" y="6093000"/>
            <a:ext cx="0" cy="215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435640" y="692280"/>
            <a:ext cx="2735280" cy="345960"/>
          </a:xfr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'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или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'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'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997080" y="3187800"/>
            <a:ext cx="50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5796720" y="3213000"/>
            <a:ext cx="63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357440" y="2349360"/>
            <a:ext cx="50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412000" y="2349360"/>
            <a:ext cx="63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5076720" y="5805360"/>
            <a:ext cx="3888000" cy="863640"/>
          </a:xfrm>
          <a:prstGeom prst="wedgeRoundRectCallout">
            <a:avLst>
              <a:gd name="adj1" fmla="val 879"/>
              <a:gd name="adj2" fmla="val -87685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Блок-схема к задаче замены А на Б и наоборо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 flipH="1">
            <a:off x="1908000" y="5229360"/>
            <a:ext cx="1872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1908000" y="1773360"/>
            <a:ext cx="0" cy="345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908000" y="1736640"/>
            <a:ext cx="648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716360" y="1733400"/>
            <a:ext cx="2664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7380360" y="1773360"/>
            <a:ext cx="0" cy="3671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 flipH="1">
            <a:off x="3779640" y="5445000"/>
            <a:ext cx="3600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780000" y="5445000"/>
            <a:ext cx="0" cy="289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Вложенные циклы                                                                                                       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-107640" y="1698840"/>
            <a:ext cx="903816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rSc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rite('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Веди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троку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'); readln(s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1:=',.;:"!?-'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for i:=1 to length(s1) do beg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k:=0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for j:=1 to length(s) do if (s[j]=s1[i]) then k:=k+1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if (k&lt;&gt;0) then writeln(s1[i],' - ',k:5,' 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раз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'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en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50920" y="411120"/>
            <a:ext cx="8713800" cy="1191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Arial"/>
              </a:rPr>
              <a:t>Задача 11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Дана строка символов, содержащая знаки препинания. Подсчитать какие и сколько знаков препинания содержит стро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250920" y="3716280"/>
            <a:ext cx="5329080" cy="5763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50920" y="5661000"/>
            <a:ext cx="1512720" cy="5763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68360" y="4653000"/>
            <a:ext cx="8675640" cy="576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012000" y="1557360"/>
            <a:ext cx="3132000" cy="2016000"/>
          </a:xfrm>
          <a:prstGeom prst="wedgeRoundRectCallout">
            <a:avLst>
              <a:gd name="adj1" fmla="val -70120"/>
              <a:gd name="adj2" fmla="val 55513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нешний цикл, осуществляющий перебор знаков записанных в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5940360" y="1989000"/>
            <a:ext cx="3203640" cy="2448000"/>
          </a:xfrm>
          <a:prstGeom prst="wedgeRoundRectCallout">
            <a:avLst>
              <a:gd name="adj1" fmla="val -63083"/>
              <a:gd name="adj2" fmla="val 57976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ело внешнего цикла содержит цикл, отвечающий за перебор символов введенной строк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2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83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86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Вложенные циклы                                                                                                       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1476360" y="620640"/>
            <a:ext cx="1655640" cy="36036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ачал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1403280" y="1125360"/>
            <a:ext cx="1657440" cy="360720"/>
          </a:xfrm>
          <a:prstGeom prst="flowChartInputOutpu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вод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1116000" y="2205000"/>
            <a:ext cx="2160720" cy="504720"/>
          </a:xfrm>
          <a:prstGeom prst="flowChartPreparation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, 1, length(S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268360" y="981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268360" y="1486080"/>
            <a:ext cx="0" cy="142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332000" y="1628640"/>
            <a:ext cx="1871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1=',.;:"!?-'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268360" y="206064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19280" y="2852640"/>
            <a:ext cx="1225440" cy="43200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K=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268360" y="2709720"/>
            <a:ext cx="0" cy="142920"/>
          </a:xfrm>
          <a:prstGeom prst="line">
            <a:avLst/>
          </a:prstGeom>
          <a:ln w="93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260360" y="3429000"/>
            <a:ext cx="2160720" cy="504720"/>
          </a:xfrm>
          <a:prstGeom prst="flowChartPreparation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, 1, length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268360" y="3286080"/>
            <a:ext cx="0" cy="142920"/>
          </a:xfrm>
          <a:prstGeom prst="line">
            <a:avLst/>
          </a:prstGeom>
          <a:ln w="93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619280" y="4078440"/>
            <a:ext cx="1440000" cy="1008000"/>
          </a:xfrm>
          <a:prstGeom prst="flowChartDecision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Times New Roman"/>
              </a:rPr>
              <a:t>j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= S1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059280" y="4581360"/>
            <a:ext cx="79200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060360" y="4222800"/>
            <a:ext cx="50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2556720" y="4869000"/>
            <a:ext cx="63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Н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852720" y="4294080"/>
            <a:ext cx="1225800" cy="432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K=K+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2340000" y="3933720"/>
            <a:ext cx="0" cy="14472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427640" y="4726080"/>
            <a:ext cx="0" cy="50328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H="1">
            <a:off x="1044360" y="5229360"/>
            <a:ext cx="338292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 flipV="1">
            <a:off x="1044720" y="3718080"/>
            <a:ext cx="0" cy="151128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1044720" y="3681360"/>
            <a:ext cx="21564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419640" y="3681360"/>
            <a:ext cx="1800000" cy="0"/>
          </a:xfrm>
          <a:prstGeom prst="line">
            <a:avLst/>
          </a:prstGeom>
          <a:ln w="2844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5219640" y="3718080"/>
            <a:ext cx="0" cy="172692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 flipH="1">
            <a:off x="2268360" y="5445000"/>
            <a:ext cx="2951280" cy="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2268360" y="5445000"/>
            <a:ext cx="0" cy="144720"/>
          </a:xfrm>
          <a:prstGeom prst="line">
            <a:avLst/>
          </a:prstGeom>
          <a:ln w="2844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1547640" y="5589720"/>
            <a:ext cx="1440000" cy="1008000"/>
          </a:xfrm>
          <a:prstGeom prst="flowChartDecision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K&lt;&gt;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3132000" y="5877000"/>
            <a:ext cx="2160720" cy="360360"/>
          </a:xfrm>
          <a:prstGeom prst="flowChartInputOutpu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ывод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,K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987640" y="6093000"/>
            <a:ext cx="289080" cy="0"/>
          </a:xfrm>
          <a:prstGeom prst="line">
            <a:avLst/>
          </a:prstGeom>
          <a:ln w="2844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995640" y="6237360"/>
            <a:ext cx="0" cy="43164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>
            <a:off x="468360" y="6669000"/>
            <a:ext cx="3527280" cy="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340000" y="5084640"/>
            <a:ext cx="0" cy="14472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 flipV="1">
            <a:off x="468360" y="2492280"/>
            <a:ext cx="0" cy="417672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468360" y="2457360"/>
            <a:ext cx="647640" cy="0"/>
          </a:xfrm>
          <a:prstGeom prst="line">
            <a:avLst/>
          </a:prstGeom>
          <a:ln w="2844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 flipH="1">
            <a:off x="468360" y="6093000"/>
            <a:ext cx="1079280" cy="0"/>
          </a:xfrm>
          <a:prstGeom prst="line">
            <a:avLst/>
          </a:prstGeom>
          <a:ln w="2844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972360" y="5734080"/>
            <a:ext cx="63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Н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917440" y="5734080"/>
            <a:ext cx="50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3276720" y="2457360"/>
            <a:ext cx="324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516720" y="249228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651640" y="3500280"/>
            <a:ext cx="1655640" cy="36036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оне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292720" y="5516640"/>
            <a:ext cx="3672000" cy="1152360"/>
          </a:xfrm>
          <a:prstGeom prst="wedgeRoundRectCallout">
            <a:avLst>
              <a:gd name="adj1" fmla="val -51425"/>
              <a:gd name="adj2" fmla="val -117907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Блок-схема к задаче подсчета знаков препин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150920"/>
            <a:ext cx="91440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и равны только при одинаковом наборе символов 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инаковой длин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пример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'ABC'='ABC'   </a:t>
            </a:r>
            <a:r>
              <a:rPr b="1" lang="ru-RU" sz="3600" spc="-1" strike="noStrike">
                <a:solidFill>
                  <a:srgbClr val="ff3300"/>
                </a:solidFill>
                <a:latin typeface="Times New Roman"/>
              </a:rPr>
              <a:t>и 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'ABC'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≠'abc'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аче происходит поэлементное сравнение  символ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их кодам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'0'&lt;'1'&lt;...&lt;'9'&lt;'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'&lt;...&lt;'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'&lt;'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'&lt;...&lt;'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'&lt;символы кириллиц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пример: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'ADS'&lt;'</a:t>
            </a:r>
            <a:r>
              <a:rPr b="1" lang="ru-RU" sz="3600" spc="-1" strike="noStrike">
                <a:solidFill>
                  <a:srgbClr val="ff3300"/>
                </a:solidFill>
                <a:latin typeface="Times New Roman"/>
              </a:rPr>
              <a:t>АДС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'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Times New Roman"/>
              </a:rPr>
              <a:t>   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65+68+83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&lt;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    192+196+209 (По таблице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ASCI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194920" y="260280"/>
            <a:ext cx="481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Сравнение двух строк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Теория                                                                                                                              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50920" y="981000"/>
            <a:ext cx="3960720" cy="36482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427640" y="981000"/>
            <a:ext cx="4032000" cy="37782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539640" y="5084640"/>
            <a:ext cx="4105440" cy="1440000"/>
          </a:xfrm>
          <a:prstGeom prst="wedgeRoundRectCallout">
            <a:avLst>
              <a:gd name="adj1" fmla="val 12143"/>
              <a:gd name="adj2" fmla="val -17888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Times New Roman"/>
              </a:rPr>
              <a:t>Сумма кодов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400" spc="-1" strike="noStrike">
                <a:solidFill>
                  <a:srgbClr val="000000"/>
                </a:solidFill>
                <a:latin typeface="Times New Roman"/>
              </a:rPr>
              <a:t>строки 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S1&lt;S2,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859280" y="5084640"/>
            <a:ext cx="4105440" cy="1440000"/>
          </a:xfrm>
          <a:prstGeom prst="wedgeRoundRectCallout">
            <a:avLst>
              <a:gd name="adj1" fmla="val 12143"/>
              <a:gd name="adj2" fmla="val -17888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Times New Roman"/>
              </a:rPr>
              <a:t>Сумма кодов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400" spc="-1" strike="noStrike">
                <a:solidFill>
                  <a:srgbClr val="000000"/>
                </a:solidFill>
                <a:latin typeface="Times New Roman"/>
              </a:rPr>
              <a:t>строки 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S1&gt;S2,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4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Теория                                                                                                                              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618920" y="333360"/>
            <a:ext cx="507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Соединение двух строк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4211640" y="907920"/>
            <a:ext cx="4595760" cy="31514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0" y="3141720"/>
            <a:ext cx="3745080" cy="34034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179280" y="981000"/>
            <a:ext cx="4105440" cy="1656000"/>
          </a:xfrm>
          <a:prstGeom prst="wedgeRoundRectCallout">
            <a:avLst>
              <a:gd name="adj1" fmla="val 62990"/>
              <a:gd name="adj2" fmla="val 4884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ru-RU" sz="3400" spc="-1" strike="noStrike">
                <a:solidFill>
                  <a:srgbClr val="000000"/>
                </a:solidFill>
                <a:latin typeface="Times New Roman"/>
              </a:rPr>
              <a:t>1:=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'2011</a:t>
            </a:r>
            <a:r>
              <a:rPr b="1" lang="ru-RU" sz="3400" spc="-1" strike="noStrike">
                <a:solidFill>
                  <a:srgbClr val="000000"/>
                </a:solidFill>
                <a:latin typeface="Times New Roman"/>
              </a:rPr>
              <a:t>' + ' год';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Writeln(s1);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59280" y="4292640"/>
            <a:ext cx="3384720" cy="2303280"/>
          </a:xfrm>
          <a:prstGeom prst="wedgeRoundRectCallout">
            <a:avLst>
              <a:gd name="adj1" fmla="val -113740"/>
              <a:gd name="adj2" fmla="val -2339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s1:='10';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s2:='</a:t>
            </a:r>
            <a:r>
              <a:rPr b="1" lang="ru-RU" sz="3400" spc="-1" strike="noStrike">
                <a:solidFill>
                  <a:srgbClr val="000000"/>
                </a:solidFill>
                <a:latin typeface="Times New Roman"/>
              </a:rPr>
              <a:t>класс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';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s3:=s1+'</a:t>
            </a:r>
            <a:r>
              <a:rPr b="1" lang="ru-RU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 '+s2;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Writeln(s</a:t>
            </a:r>
            <a:r>
              <a:rPr b="1" lang="ru-RU" sz="3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-22320" y="188280"/>
            <a:ext cx="345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  <a:ea typeface="Times New Roman"/>
              </a:rPr>
              <a:t>Функция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Leng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5152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Функция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Length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) определяет текущую длину строки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Результат — значение целого тип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Теория                                                                                                                              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24000" y="2637000"/>
            <a:ext cx="83516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PROGRAM  Dlina_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VAR  S : STRING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n:INTEGER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Writeln(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ведите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во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') ;  Readln(S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ru-RU" sz="2800" spc="-1" strike="noStrike">
                <a:solidFill>
                  <a:srgbClr val="cc3300"/>
                </a:solidFill>
                <a:latin typeface="Times New Roman"/>
              </a:rPr>
              <a:t>n:= Length (S) 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Writeln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ведите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лово ', </a:t>
            </a:r>
            <a:r>
              <a:rPr b="1" lang="ru-RU" sz="2800" spc="-1" strike="noStrike">
                <a:solidFill>
                  <a:srgbClr val="cc3300"/>
                </a:solidFill>
                <a:latin typeface="Times New Roman"/>
              </a:rPr>
              <a:t>n:5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,' букв..'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187280" y="4797360"/>
            <a:ext cx="2592720" cy="50328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364000" y="2205000"/>
            <a:ext cx="3168720" cy="1728720"/>
          </a:xfrm>
          <a:prstGeom prst="wedgeRoundRectCallout">
            <a:avLst>
              <a:gd name="adj1" fmla="val -118736"/>
              <a:gd name="adj2" fmla="val 9903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аписываем длину строки в переменную целого тип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9360" y="2134080"/>
            <a:ext cx="8891640" cy="2653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 Dlina_2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  S : STRING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G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ln(’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ведите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во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’) ;  Readln(S);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ln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’слово состоит из ’,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Length</a:t>
            </a:r>
            <a:r>
              <a:rPr b="1" lang="ru-RU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(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S</a:t>
            </a:r>
            <a:r>
              <a:rPr b="1" lang="ru-RU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’букв. ’);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D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292720" y="3860640"/>
            <a:ext cx="1943280" cy="50328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780000" y="4941720"/>
            <a:ext cx="3600360" cy="1656000"/>
          </a:xfrm>
          <a:prstGeom prst="wedgeRoundRectCallout">
            <a:avLst>
              <a:gd name="adj1" fmla="val 21472"/>
              <a:gd name="adj2" fmla="val -8317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ыводим на экран длину строки, как результат выполнения функ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55640" y="1700280"/>
            <a:ext cx="7632720" cy="453528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0" y="333360"/>
            <a:ext cx="9144000" cy="1495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Arial"/>
              </a:rPr>
              <a:t>Задача 1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Составить программу подсчитывающую количество букв в слов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9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0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0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2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95280" y="1216080"/>
            <a:ext cx="777708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cr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 a,b:string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,n:Integer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g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rscr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ln('ВВеди первую строку ');Readln(a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ln('ВВеди вторую строку ');Readln(b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m:=Length(a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n:=Length(b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f (m=n) then writeln('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Строки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равны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'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f (m&gt;n) then writeln('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ервая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больше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'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f (m&lt;n) then writeln('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Вторая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больше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'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96640"/>
            <a:ext cx="9144000" cy="947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3300"/>
                </a:solidFill>
                <a:latin typeface="Arial"/>
              </a:rPr>
              <a:t>Задача 2.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Сравнить длину двух строк введенных с клавиатур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39640" y="4292640"/>
            <a:ext cx="2303640" cy="79200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987640" y="2349360"/>
            <a:ext cx="2808360" cy="935280"/>
          </a:xfrm>
          <a:prstGeom prst="wedgeRoundRectCallout">
            <a:avLst>
              <a:gd name="adj1" fmla="val -81939"/>
              <a:gd name="adj2" fmla="val 13353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ычисляем длину стр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39640" y="5157720"/>
            <a:ext cx="6264360" cy="129564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84720" y="1484280"/>
            <a:ext cx="3059280" cy="1727280"/>
          </a:xfrm>
          <a:prstGeom prst="wedgeRoundRectCallout">
            <a:avLst>
              <a:gd name="adj1" fmla="val -83680"/>
              <a:gd name="adj2" fmla="val 16130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равниваем длины и выводим соответствующие пояс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Задача на сравнение строк                                                                                          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-67680" y="332640"/>
            <a:ext cx="316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  <a:ea typeface="Times New Roman"/>
              </a:rPr>
              <a:t>Функция Сору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0" y="83628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Функция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Сору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P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, N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выделяет из строки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подстроку длиной N символов, начиная с позиции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P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. Здесь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N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и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P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– целочисленные выражения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Теория                                                                                                                             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250920" y="2852640"/>
            <a:ext cx="4465440" cy="27036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4859280" y="2133720"/>
            <a:ext cx="3960720" cy="4032000"/>
          </a:xfrm>
          <a:prstGeom prst="wedgeRoundRectCallout">
            <a:avLst>
              <a:gd name="adj1" fmla="val -91361"/>
              <a:gd name="adj2" fmla="val -106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Times New Roman"/>
              </a:rPr>
              <a:t>В фразе </a:t>
            </a:r>
            <a:r>
              <a:rPr b="1" lang="ru-RU" sz="3400" spc="-1" strike="noStrike">
                <a:solidFill>
                  <a:srgbClr val="0000ff"/>
                </a:solidFill>
                <a:latin typeface="Times New Roman"/>
              </a:rPr>
              <a:t>МАМА МЫЛА РАМУ</a:t>
            </a:r>
            <a:r>
              <a:rPr b="1" lang="ru-RU" sz="3400" spc="-1" strike="noStrike">
                <a:solidFill>
                  <a:srgbClr val="000000"/>
                </a:solidFill>
                <a:latin typeface="Times New Roman"/>
              </a:rPr>
              <a:t> слово </a:t>
            </a:r>
            <a:r>
              <a:rPr b="1" lang="ru-RU" sz="3400" spc="-1" strike="noStrike">
                <a:solidFill>
                  <a:srgbClr val="0000ff"/>
                </a:solidFill>
                <a:latin typeface="Times New Roman"/>
              </a:rPr>
              <a:t>РАМУ </a:t>
            </a:r>
            <a:r>
              <a:rPr b="1" lang="ru-RU" sz="3400" spc="-1" strike="noStrike">
                <a:solidFill>
                  <a:srgbClr val="000000"/>
                </a:solidFill>
                <a:latin typeface="Times New Roman"/>
              </a:rPr>
              <a:t>начинается с 11 буквы и состоит из 4 букв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3300"/>
                </a:solidFill>
                <a:latin typeface="Times New Roman"/>
              </a:rPr>
              <a:t>COPY(s1,11,4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331560"/>
            <a:ext cx="9144000" cy="1191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3300"/>
                </a:solidFill>
                <a:latin typeface="Arial"/>
              </a:rPr>
              <a:t>Задача 3.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оставить программу осуществляющую вырезку из слова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ИНФОРМАТИК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букв так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что бы из них получилось слово ТОР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993760" y="1643040"/>
            <a:ext cx="426924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n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_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cr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 a,b,c,d:string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g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rscr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='информатика'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b</a:t>
            </a:r>
            <a:r>
              <a:rPr b="1" lang="ru-RU" sz="2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:=''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c:=copy(a,8,1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          </a:t>
            </a:r>
            <a:r>
              <a:rPr b="1" lang="ru-RU" sz="28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d:=copy(a,4,2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          </a:t>
            </a:r>
            <a:r>
              <a:rPr b="1" lang="ru-RU" sz="28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b:=c+d+c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ln(b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Задача на составление строк                                                                                      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67280" y="4292640"/>
            <a:ext cx="2663640" cy="172872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4000" y="2852640"/>
            <a:ext cx="2735280" cy="2664000"/>
          </a:xfrm>
          <a:prstGeom prst="wedgeRoundRectCallout">
            <a:avLst>
              <a:gd name="adj1" fmla="val 82615"/>
              <a:gd name="adj2" fmla="val 3390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пользуем функцию работы  с символьными переменным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908000" y="1700280"/>
            <a:ext cx="5616720" cy="423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ff"/>
                </a:solidFill>
                <a:uFillTx/>
                <a:latin typeface="Arial"/>
              </a:rPr>
              <a:t>Второй вариан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Program n3_2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Uses cr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var a,b:string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Clrscr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a:=‘информатика'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ru-RU" sz="2800" spc="-1" strike="noStrike">
                <a:solidFill>
                  <a:srgbClr val="cc3300"/>
                </a:solidFill>
                <a:latin typeface="Times New Roman"/>
              </a:rPr>
              <a:t>b:=a[8]+a[4]+a[5]+a[8]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writeln(b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916360" y="4653000"/>
            <a:ext cx="3960720" cy="50472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796000" y="2060640"/>
            <a:ext cx="3168720" cy="1728720"/>
          </a:xfrm>
          <a:prstGeom prst="wedgeRoundRectCallout">
            <a:avLst>
              <a:gd name="adj1" fmla="val -25449"/>
              <a:gd name="adj2" fmla="val 9995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спользуем определение строки как массива символ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6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7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7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реобразование типов                                                                                                 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52720" y="260280"/>
            <a:ext cx="278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Функция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ST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50920" y="837000"/>
            <a:ext cx="8642160" cy="1280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Str(x, S)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 преобразует число x в строковый формат. Где  x – любое числовое выражение, S – строковая переменна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50920" y="404640"/>
            <a:ext cx="8589960" cy="1191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3300"/>
                </a:solidFill>
                <a:latin typeface="Arial"/>
              </a:rPr>
              <a:t>Задача 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оставьте программу которая выводит первую и последнюю цифру натурального числа, введенного с клавиату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79280" y="1700280"/>
            <a:ext cx="896472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PROGRAM  Prime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uses Cr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VAR  S: STRING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n:INTEGE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Write(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'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веди число ');readln(n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Str(n,S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Writeln(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'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ервая цифра  -',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S[1]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Writeln(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'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оследняя цифра - ',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S[length(S)]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500720" y="2060640"/>
            <a:ext cx="3168360" cy="1728720"/>
          </a:xfrm>
          <a:prstGeom prst="wedgeRoundRectCallout">
            <a:avLst>
              <a:gd name="adj1" fmla="val -112023"/>
              <a:gd name="adj2" fmla="val 11143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еобразуем натуральное число в стро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68360" y="4653000"/>
            <a:ext cx="2016000" cy="57636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24000" y="1628640"/>
            <a:ext cx="6551640" cy="412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9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4T10:33:22Z</dcterms:created>
  <dc:creator>Юдины</dc:creator>
  <dc:description/>
  <dc:language>en-US</dc:language>
  <cp:lastModifiedBy>Юдины</cp:lastModifiedBy>
  <dcterms:modified xsi:type="dcterms:W3CDTF">2012-05-06T11:03:40Z</dcterms:modified>
  <cp:revision>103</cp:revision>
  <dc:subject/>
  <dc:title>Слайд 1</dc:title>
</cp:coreProperties>
</file>