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D7EF-FA35-48C4-9555-FEB27121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F3E6-D51A-4404-9EA5-60A972E9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2AD2-5987-4FEA-BC22-BEEADB0E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B7A-D760-4A58-B72F-71A4C97C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79D-B975-4103-839C-4F628082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AFC-4857-4396-96EF-904C11DA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AC90-D45D-49CD-9724-3FE43672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006-ED2C-4820-87F3-2085187E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506-B7E1-4947-B17C-FC6DCDA9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82E1-99B4-4044-A258-88DFF0F0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B32-C505-4709-AEAB-72E5668A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DBAB-8AD9-47B0-A919-2EF84D3E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14F8-AB73-4336-89EC-AB42F629A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13200" y="5229360"/>
            <a:ext cx="432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втор: 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КОУ Плесской С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Юдин А.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285440" y="64911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780000" y="476280"/>
            <a:ext cx="5113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оки 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Pascal</a:t>
            </a:r>
            <a:endParaRPr b="0" lang="en-US" sz="1800" spc="1" strike="noStrike">
              <a:ln w="1584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678600"/>
            <a:ext cx="871380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цеду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зволяет преобразовать цифровые символы (изображение числа) в число. В общем виде обращение к процедуре выглядит так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VAL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 (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Строка, Число, Код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) 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т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троковая константа или переменная, содержащая изображение числ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Ч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исло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менная целого или дробного типа, которой должно быть присвоено зна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Код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озвращаемый процедурой код ошибки (целое числ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33336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роцедура 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4033800" cy="2617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356000" y="476280"/>
            <a:ext cx="417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573360"/>
            <a:ext cx="4950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9280" y="3357720"/>
            <a:ext cx="4248360" cy="2822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56000" y="213372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5516640"/>
            <a:ext cx="129528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4465800" cy="31831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692280"/>
            <a:ext cx="48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1:='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ABCDE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123456789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al(s1,n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rite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11280" y="2565360"/>
            <a:ext cx="576360" cy="3589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4640"/>
            <a:ext cx="91440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scalABC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есть более развитый арсен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преобразований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как в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LPHI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IntToStr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целое число к строке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n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Int(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строку в целое чис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loatToStr(r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еобразует вещественное число к строк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:=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trToFloat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преобразует строку в вещественное чис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преобразование невозможно, то возникает ошибка времени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17240"/>
            <a:ext cx="8496360" cy="191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5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ано строка символов 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. Где 1&lt;=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и а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=9.  Составить программу, вычисляющую это выражение. Измените программу так, что бы вместо знака «+» можно было писать «-», «*», «/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30200"/>
            <a:ext cx="84978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,b,c: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‘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выражение 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read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1],a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al(s[3],b,cod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+') then c:=a+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-') then c:=a-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*') then c:=a*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(s[2]='/') then c:=a/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,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2000" y="2708280"/>
            <a:ext cx="3672000" cy="2736720"/>
          </a:xfrm>
          <a:prstGeom prst="wedgeRoundRectCallout">
            <a:avLst>
              <a:gd name="adj1" fmla="val -97342"/>
              <a:gd name="adj2" fmla="val -38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строки берем первый и третий символ и преобразуем в чи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2492280"/>
            <a:ext cx="3024000" cy="936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2108160"/>
            <a:ext cx="59770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9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и их коды                                                                                                     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33360"/>
            <a:ext cx="48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Функци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D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H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134136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Ord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определяет порядковый номер симво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34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hr(i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яет символ с порядковым номером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3745080" cy="2986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132000" y="4653000"/>
            <a:ext cx="576360" cy="3585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3500280"/>
            <a:ext cx="3672000" cy="2233800"/>
          </a:xfrm>
          <a:prstGeom prst="wedgeRoundRectCallout">
            <a:avLst>
              <a:gd name="adj1" fmla="val -76287"/>
              <a:gd name="adj2" fmla="val 849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номеру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5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ыводим символ из кодовой таблицы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имволы  и их коды                                                                                                   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2440"/>
            <a:ext cx="914400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ставьте программу, которая по символу введенному с клавиатуры, выводит его номер в кодовой табли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989000"/>
            <a:ext cx="8353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cha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,code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символ  ');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имвол ', s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имеет код -',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ord(s)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1773360"/>
            <a:ext cx="3672000" cy="2233440"/>
          </a:xfrm>
          <a:prstGeom prst="wedgeRoundRectCallout">
            <a:avLst>
              <a:gd name="adj1" fmla="val -107287"/>
              <a:gd name="adj2" fmla="val 1453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аботает только символьным типом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79640" y="3068640"/>
            <a:ext cx="100800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5614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7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Определить сколько раз в ней встречается буква А (русска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141444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,k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:=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) then k:=k+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Буква А встречается = ', k:8,' раз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2060640"/>
            <a:ext cx="3024360" cy="934920"/>
          </a:xfrm>
          <a:prstGeom prst="wedgeRoundRectCallout">
            <a:avLst>
              <a:gd name="adj1" fmla="val -67583"/>
              <a:gd name="adj2" fmla="val 24779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12000" y="2781360"/>
            <a:ext cx="2952720" cy="1439640"/>
          </a:xfrm>
          <a:prstGeom prst="wedgeRoundRectCallout">
            <a:avLst>
              <a:gd name="adj1" fmla="val -51560"/>
              <a:gd name="adj2" fmla="val 943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стоит А увеличиваем К на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869000"/>
            <a:ext cx="345600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4360" y="4869000"/>
            <a:ext cx="381636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чание                                                                                                                     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2275920"/>
            <a:ext cx="84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 do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476280"/>
            <a:ext cx="86421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Замечани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ли требуется поиск нескольких символов в строке, то условия заключаем в программные скоб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 … 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счет символов в строке        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249228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35280" y="321300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4437000"/>
            <a:ext cx="151308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К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5600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42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56000" y="486900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843280" y="522936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43280" y="2781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781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06920" y="278136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96000" y="278136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5372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5372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19640" y="630864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021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8720" y="407664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60000" y="335592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843280" y="37162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подсчета букв А в стро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1844640"/>
            <a:ext cx="1512720" cy="43200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4720" y="2276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33000"/>
            <a:ext cx="8964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8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ана строка символов. Заменить в ней все буквы А на букву 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774440"/>
            <a:ext cx="889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s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');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o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s[i]='A') then s[i]:='O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1628640"/>
            <a:ext cx="3090960" cy="1224000"/>
          </a:xfrm>
          <a:prstGeom prst="wedgeRoundRectCallout">
            <a:avLst>
              <a:gd name="adj1" fmla="val -64944"/>
              <a:gd name="adj2" fmla="val 20668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4797360"/>
            <a:ext cx="352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6000" y="2421000"/>
            <a:ext cx="3097080" cy="1584360"/>
          </a:xfrm>
          <a:prstGeom prst="wedgeRoundRectCallout">
            <a:avLst>
              <a:gd name="adj1" fmla="val -26574"/>
              <a:gd name="adj2" fmla="val 99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ом месте стоит А ставим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е место 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7280" y="4797360"/>
            <a:ext cx="3960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03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тро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это массив символов,  т.е.  элементов типа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 Паскале строке соответствует тип данных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ri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9400" y="2133000"/>
            <a:ext cx="703872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var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Имя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: </a:t>
            </a:r>
            <a:r>
              <a:rPr b="1" lang="en-US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tring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 [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Длина</a:t>
            </a:r>
            <a:r>
              <a:rPr b="1" lang="ru-RU" sz="36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2923200"/>
            <a:ext cx="80643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длина не указана, выделяется память под строку до 255 символов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292640"/>
            <a:ext cx="36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1:string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4076640"/>
            <a:ext cx="2305080" cy="936720"/>
          </a:xfrm>
          <a:prstGeom prst="wedgeRoundRectCallout">
            <a:avLst>
              <a:gd name="adj1" fmla="val -112532"/>
              <a:gd name="adj2" fmla="val 1220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трока 255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720" y="515772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r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2:string[20]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51640" y="5084640"/>
            <a:ext cx="2305080" cy="936720"/>
          </a:xfrm>
          <a:prstGeom prst="wedgeRoundRectCallout">
            <a:avLst>
              <a:gd name="adj1" fmla="val -109226"/>
              <a:gd name="adj2" fmla="val -23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ока 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мена символов в строке                                                                                        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360" y="112536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2000" y="184464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64000" y="256536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A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4000" y="3789360"/>
            <a:ext cx="1512720" cy="57636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O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494172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720" y="836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4720" y="1557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84720" y="357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771280" y="4581360"/>
            <a:ext cx="15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71640" y="2133360"/>
            <a:ext cx="0" cy="24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71640" y="2133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2133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4360" y="2133720"/>
            <a:ext cx="0" cy="2590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4724280"/>
            <a:ext cx="143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48000" y="566100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472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57440" y="34290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8360" y="27082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2771280" y="306864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1413000"/>
            <a:ext cx="2663640" cy="1224000"/>
          </a:xfrm>
          <a:prstGeom prst="wedgeRoundRectCallout">
            <a:avLst>
              <a:gd name="adj1" fmla="val -60907"/>
              <a:gd name="adj2" fmla="val 11277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лок-схема к задаче замен буквы А на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33300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Задача 9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Удалить из строки введенной с клавиатуры все букв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латинские, заглавные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5960" y="1414440"/>
            <a:ext cx="83224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('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length(a) d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]&lt;&gt;‘R') then b:=b+a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: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76720" y="2852640"/>
            <a:ext cx="2879640" cy="1152720"/>
          </a:xfrm>
          <a:prstGeom prst="wedgeRoundRectCallout">
            <a:avLst>
              <a:gd name="adj1" fmla="val -95314"/>
              <a:gd name="adj2" fmla="val 124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бираем от 1 до последней бу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8360" y="4869000"/>
            <a:ext cx="352728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4437000"/>
            <a:ext cx="91440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32000" y="1341360"/>
            <a:ext cx="2737080" cy="1150920"/>
          </a:xfrm>
          <a:prstGeom prst="wedgeRoundRectCallout">
            <a:avLst>
              <a:gd name="adj1" fmla="val -116532"/>
              <a:gd name="adj2" fmla="val 218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готавливаем дополнительную переменну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95640" y="4869000"/>
            <a:ext cx="453708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35640" y="1989000"/>
            <a:ext cx="2808360" cy="1727280"/>
          </a:xfrm>
          <a:prstGeom prst="wedgeRoundRectCallout">
            <a:avLst>
              <a:gd name="adj1" fmla="val -57629"/>
              <a:gd name="adj2" fmla="val 1091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ом месте не стои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то прибавляем эту букву к тому, что есть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8360" y="5373720"/>
            <a:ext cx="914400" cy="431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43280" y="5589720"/>
            <a:ext cx="2737080" cy="936360"/>
          </a:xfrm>
          <a:prstGeom prst="wedgeRoundRectCallout">
            <a:avLst>
              <a:gd name="adj1" fmla="val -170129"/>
              <a:gd name="adj2" fmla="val -45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, что получилось в В перемещаем обратно в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даление символов из строки                                                                                 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476280"/>
            <a:ext cx="180000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981000"/>
            <a:ext cx="1511280" cy="43200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2205000"/>
            <a:ext cx="2305080" cy="57636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,1,length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35280" y="292428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&gt;'R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4149720"/>
            <a:ext cx="151308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=B+ A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780000" y="5589720"/>
            <a:ext cx="1511280" cy="4316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ывод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284720" y="836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84720" y="141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7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933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56000" y="4581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843280" y="4724280"/>
            <a:ext cx="151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843280" y="249228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43280" y="24922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08720" y="2492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6000" y="2492280"/>
            <a:ext cx="0" cy="23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79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6165720"/>
            <a:ext cx="180036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44500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8720" y="378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0000" y="2997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843280" y="3429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1413000"/>
            <a:ext cx="2663640" cy="1655640"/>
          </a:xfrm>
          <a:prstGeom prst="wedgeRoundRectCallout">
            <a:avLst>
              <a:gd name="adj1" fmla="val -64300"/>
              <a:gd name="adj2" fmla="val 98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ок-схема к задаче удаления бук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64000" y="1557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28472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51280" y="5013360"/>
            <a:ext cx="1512720" cy="431640"/>
          </a:xfrm>
          <a:prstGeom prst="flowChartProcess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4572000" y="479736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6021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.                                                                                                 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191628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i:=1 to length(s)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(s[i]='а') or (s[i]='б'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s[i]='а') then s[i]:='б' else s[i]:='а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47592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заданном тексте везде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заменить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  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б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на букв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"а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3933720"/>
            <a:ext cx="3671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1773360"/>
            <a:ext cx="3203640" cy="1657080"/>
          </a:xfrm>
          <a:prstGeom prst="wedgeRoundRectCallout">
            <a:avLst>
              <a:gd name="adj1" fmla="val -69277"/>
              <a:gd name="adj2" fmla="val 8189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 всей строки нам нужно выбрать только А и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8360" y="4365720"/>
            <a:ext cx="6696360" cy="57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5157720"/>
            <a:ext cx="3203640" cy="1295640"/>
          </a:xfrm>
          <a:prstGeom prst="wedgeRoundRectCallout">
            <a:avLst>
              <a:gd name="adj1" fmla="val -80722"/>
              <a:gd name="adj2" fmla="val -6384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олько после осуществлять за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условия                                         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476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280" y="981000"/>
            <a:ext cx="1657440" cy="3603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1484280"/>
            <a:ext cx="2160360" cy="504720"/>
          </a:xfrm>
          <a:prstGeom prst="flowChartPreparat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16360" y="2205000"/>
            <a:ext cx="143964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27640" y="3068640"/>
            <a:ext cx="143964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492360" y="4076640"/>
            <a:ext cx="115092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4076640"/>
            <a:ext cx="1152360" cy="50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87640" y="5734080"/>
            <a:ext cx="1657440" cy="36036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987640" y="6308640"/>
            <a:ext cx="1655640" cy="3603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8360" y="83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708360" y="134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28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2708280"/>
            <a:ext cx="79236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2708280"/>
            <a:ext cx="0" cy="36036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3573360"/>
            <a:ext cx="2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4066920" y="3573360"/>
            <a:ext cx="3603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06728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56360" y="357336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728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56360" y="4581360"/>
            <a:ext cx="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067280" y="4797360"/>
            <a:ext cx="20890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076720" y="4797360"/>
            <a:ext cx="0" cy="21600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2410920" y="2708280"/>
            <a:ext cx="5050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11280" y="2708280"/>
            <a:ext cx="0" cy="2305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5013360"/>
            <a:ext cx="2665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8000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80000" y="609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435640" y="692280"/>
            <a:ext cx="2735280" cy="345960"/>
          </a:xfr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'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97080" y="3187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96720" y="3213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57440" y="234936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2000" y="234936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76720" y="5805360"/>
            <a:ext cx="3888000" cy="863640"/>
          </a:xfrm>
          <a:prstGeom prst="wedgeRoundRectCallout">
            <a:avLst>
              <a:gd name="adj1" fmla="val 879"/>
              <a:gd name="adj2" fmla="val -8768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замены А на Б и наобо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908000" y="5229360"/>
            <a:ext cx="18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1908000" y="1773360"/>
            <a:ext cx="0" cy="345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08000" y="1736640"/>
            <a:ext cx="6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716360" y="1733400"/>
            <a:ext cx="2664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0360" y="177336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79640" y="5445000"/>
            <a:ext cx="360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80000" y="544500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-107640" y="1698840"/>
            <a:ext cx="9038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(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рок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'); readln(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1:=',.;:"!?-'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or i:=1 to length(s1)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k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length(s) do if (s[j]=s1[i]) then k:=k+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f (k&lt;&gt;0) then writeln(s1[i],' - ',k:5,'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раз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11120"/>
            <a:ext cx="8713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ана строка символов, содержащая знаки препинания. Подсчитать какие и сколько знаков препинания содержит ст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0920" y="3716280"/>
            <a:ext cx="532908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0920" y="5661000"/>
            <a:ext cx="1512720" cy="576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4653000"/>
            <a:ext cx="8675640" cy="576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2000" y="1557360"/>
            <a:ext cx="3132000" cy="2016000"/>
          </a:xfrm>
          <a:prstGeom prst="wedgeRoundRectCallout">
            <a:avLst>
              <a:gd name="adj1" fmla="val -70120"/>
              <a:gd name="adj2" fmla="val 5551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цикл, осуществляющий перебор знаков записанных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40360" y="1989000"/>
            <a:ext cx="3203640" cy="2448000"/>
          </a:xfrm>
          <a:prstGeom prst="wedgeRoundRectCallout">
            <a:avLst>
              <a:gd name="adj1" fmla="val -63083"/>
              <a:gd name="adj2" fmla="val 579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ло внешнего цикла содержит цикл, отвечающий за перебор символов введенной стро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ложенные циклы                                                                                                      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76360" y="62064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403280" y="1125360"/>
            <a:ext cx="1657440" cy="36072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16000" y="2205000"/>
            <a:ext cx="2160720" cy="504720"/>
          </a:xfrm>
          <a:prstGeom prst="flowChartPreparat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, 1, length(S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68360" y="981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68360" y="1486080"/>
            <a:ext cx="0" cy="14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1628640"/>
            <a:ext cx="187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=',.;:"!?-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268360" y="206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19280" y="2852640"/>
            <a:ext cx="1225440" cy="43200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68360" y="270972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260360" y="3429000"/>
            <a:ext cx="2160720" cy="504720"/>
          </a:xfrm>
          <a:prstGeom prst="flowChartPreparat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, 1, length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68360" y="3286080"/>
            <a:ext cx="0" cy="142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619280" y="4078440"/>
            <a:ext cx="1440000" cy="1008000"/>
          </a:xfrm>
          <a:prstGeom prst="flowChartDecisi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= S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59280" y="4581360"/>
            <a:ext cx="792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060360" y="422280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556720" y="486900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852720" y="4294080"/>
            <a:ext cx="1225800" cy="432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=K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393372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27640" y="4726080"/>
            <a:ext cx="0" cy="503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044360" y="5229360"/>
            <a:ext cx="33829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044720" y="3718080"/>
            <a:ext cx="0" cy="15112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44720" y="3681360"/>
            <a:ext cx="2156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19640" y="3681360"/>
            <a:ext cx="180000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19640" y="3718080"/>
            <a:ext cx="0" cy="17269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268360" y="5445000"/>
            <a:ext cx="2951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5445000"/>
            <a:ext cx="0" cy="14472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47640" y="5589720"/>
            <a:ext cx="1440000" cy="1008000"/>
          </a:xfrm>
          <a:prstGeom prst="flowChartDecision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&lt;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132000" y="5877000"/>
            <a:ext cx="2160720" cy="360360"/>
          </a:xfrm>
          <a:prstGeom prst="flowChartInputOutpu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987640" y="6093000"/>
            <a:ext cx="2890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95640" y="6237360"/>
            <a:ext cx="0" cy="43164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68360" y="6669000"/>
            <a:ext cx="352728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5084640"/>
            <a:ext cx="0" cy="144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68360" y="2492280"/>
            <a:ext cx="0" cy="4176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68360" y="2457360"/>
            <a:ext cx="6476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68360" y="6093000"/>
            <a:ext cx="10792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2360" y="5734080"/>
            <a:ext cx="63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917440" y="5734080"/>
            <a:ext cx="5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2457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16720" y="2492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651640" y="3500280"/>
            <a:ext cx="1655640" cy="36036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5516640"/>
            <a:ext cx="3672000" cy="1152360"/>
          </a:xfrm>
          <a:prstGeom prst="wedgeRoundRectCallout">
            <a:avLst>
              <a:gd name="adj1" fmla="val -51425"/>
              <a:gd name="adj2" fmla="val -11790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к-схема к задаче подсчета знаков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15092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ки равны только при одинаковом наборе символов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аковой длин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='ABC'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и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BC'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≠'abc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 происходит поэлементное сравнение 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х код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0'&lt;'1'&lt;...&lt;'9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...&lt;'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'&lt;символы кирил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ADS'&lt;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АДС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'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65+68+83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&lt;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192+196+209 (По таблице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SC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4920" y="260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равнение двух стро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3960720" cy="364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427640" y="981000"/>
            <a:ext cx="4032000" cy="37782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964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l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5084640"/>
            <a:ext cx="4105440" cy="1440000"/>
          </a:xfrm>
          <a:prstGeom prst="wedgeRoundRectCallout">
            <a:avLst>
              <a:gd name="adj1" fmla="val 12143"/>
              <a:gd name="adj2" fmla="val -178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умма кодов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строки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&gt;S2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8920" y="333360"/>
            <a:ext cx="507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Соединение двух строк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211640" y="907920"/>
            <a:ext cx="4595760" cy="3151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3141720"/>
            <a:ext cx="3745080" cy="340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981000"/>
            <a:ext cx="4105440" cy="1656000"/>
          </a:xfrm>
          <a:prstGeom prst="wedgeRoundRectCallout">
            <a:avLst>
              <a:gd name="adj1" fmla="val 62990"/>
              <a:gd name="adj2" fmla="val 4884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:=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2011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' + ' год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1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4292640"/>
            <a:ext cx="3384720" cy="2303280"/>
          </a:xfrm>
          <a:prstGeom prst="wedgeRoundRectCallout">
            <a:avLst>
              <a:gd name="adj1" fmla="val -113740"/>
              <a:gd name="adj2" fmla="val -233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1:='10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2:=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класс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'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3:=s1+'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'+s2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riteln(s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22320" y="188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515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определяет текущую длину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зультат — значение цел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637000"/>
            <a:ext cx="8351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 Dlina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') ;  Readln(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= Length (S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ово ',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n:5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' букв..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4797360"/>
            <a:ext cx="259272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2205000"/>
            <a:ext cx="3168720" cy="1728720"/>
          </a:xfrm>
          <a:prstGeom prst="wedgeRoundRectCallout">
            <a:avLst>
              <a:gd name="adj1" fmla="val -118736"/>
              <a:gd name="adj2" fmla="val 9903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сываем длину строки в переменную целого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360" y="2134080"/>
            <a:ext cx="889164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 Dlina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 S : 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’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) ;  Readln(S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’слово состоит из ’,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ngth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’букв. ’)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3860640"/>
            <a:ext cx="1943280" cy="503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941720"/>
            <a:ext cx="3600360" cy="1656000"/>
          </a:xfrm>
          <a:prstGeom prst="wedgeRoundRectCallout">
            <a:avLst>
              <a:gd name="adj1" fmla="val 21472"/>
              <a:gd name="adj2" fmla="val -83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водим на экран длину строки, как результат выполнения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632720" cy="4535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33360"/>
            <a:ext cx="9144000" cy="1495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Задача 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оставить программу подсчитывающую количество букв в сл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1216080"/>
            <a:ext cx="7777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,n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первую строку ');Readl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'ВВеди вторую строку ');Read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m:=Length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n:=Length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=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роки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вны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g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в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f (m&lt;n) then writeln('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торая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больше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96640"/>
            <a:ext cx="914400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равнить длину двух строк введенных с клави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4292640"/>
            <a:ext cx="2303640" cy="792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87640" y="2349360"/>
            <a:ext cx="2808360" cy="935280"/>
          </a:xfrm>
          <a:prstGeom prst="wedgeRoundRectCallout">
            <a:avLst>
              <a:gd name="adj1" fmla="val -81939"/>
              <a:gd name="adj2" fmla="val 1335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яем длину ст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5157720"/>
            <a:ext cx="6264360" cy="1295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4720" y="1484280"/>
            <a:ext cx="3059280" cy="1727280"/>
          </a:xfrm>
          <a:prstGeom prst="wedgeRoundRectCallout">
            <a:avLst>
              <a:gd name="adj1" fmla="val -83680"/>
              <a:gd name="adj2" fmla="val 1613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равниваем длины и выводим соответствующие пояс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равнение строк                                                                            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7680" y="332640"/>
            <a:ext cx="31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Times New Roman"/>
              </a:rPr>
              <a:t>Функция Сор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836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Функц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ру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N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деляет из строк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подстроку длиной N символов, начиная с позици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Здес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целочисленные выраж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ория                                          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465440" cy="2703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859280" y="2133720"/>
            <a:ext cx="3960720" cy="4032000"/>
          </a:xfrm>
          <a:prstGeom prst="wedgeRoundRectCallout">
            <a:avLst>
              <a:gd name="adj1" fmla="val -91361"/>
              <a:gd name="adj2" fmla="val -106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В фразе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МАМА МЫЛА РАМУ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 слово </a:t>
            </a:r>
            <a:r>
              <a:rPr b="1" lang="ru-RU" sz="3400" spc="-1" strike="noStrike">
                <a:solidFill>
                  <a:srgbClr val="0000ff"/>
                </a:solidFill>
                <a:latin typeface="Times New Roman"/>
              </a:rPr>
              <a:t>РАМУ 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начинается с 11 буквы и состоит из 4 бук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Times New Roman"/>
              </a:rPr>
              <a:t>COPY(s1,11,4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31560"/>
            <a:ext cx="914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3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программу осуществляющую вырезку из слов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НФОРМАТИ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кв так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что бы из них получилось слово Т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93760" y="1643040"/>
            <a:ext cx="4269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n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_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a,b,c,d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scr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='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:='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c:=copy(a,8,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d:=copy(a,4,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b:=c+d+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адача на составление строк                                                                      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4292640"/>
            <a:ext cx="2663640" cy="1728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2852640"/>
            <a:ext cx="2735280" cy="2664000"/>
          </a:xfrm>
          <a:prstGeom prst="wedgeRoundRectCallout">
            <a:avLst>
              <a:gd name="adj1" fmla="val 82615"/>
              <a:gd name="adj2" fmla="val 339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м функцию работы  с символьными перем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700280"/>
            <a:ext cx="5616720" cy="42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</a:rPr>
              <a:t>Второй вариан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Program n3_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ar a,b:str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lrsc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a:=‘информатика'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b:=a[8]+a[4]+a[5]+a[8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writeln(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6360" y="4653000"/>
            <a:ext cx="3960720" cy="5047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060640"/>
            <a:ext cx="3168720" cy="1728720"/>
          </a:xfrm>
          <a:prstGeom prst="wedgeRoundRectCallout">
            <a:avLst>
              <a:gd name="adj1" fmla="val -25449"/>
              <a:gd name="adj2" fmla="val 999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ем определение строки как массива симво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образование типов                                                                                                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720" y="260280"/>
            <a:ext cx="27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Функция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837000"/>
            <a:ext cx="8642160" cy="128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tr(x, S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преобразует число x в строковый формат. Где  x – любое числовое выражение, S – строковая переменн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04640"/>
            <a:ext cx="85899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Задача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ставьте программу которая выводит первую и последнюю цифру натурального числа, введенного с клави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1700280"/>
            <a:ext cx="896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ROGRAM  Prim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uses Cr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AR  S: ST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:INTEGE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веди число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Str(n,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ая цифра  -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1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Writeln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яя цифра - ',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S[length(S)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0720" y="2060640"/>
            <a:ext cx="3168360" cy="1728720"/>
          </a:xfrm>
          <a:prstGeom prst="wedgeRoundRectCallout">
            <a:avLst>
              <a:gd name="adj1" fmla="val -112023"/>
              <a:gd name="adj2" fmla="val 1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образуем натуральное число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653000"/>
            <a:ext cx="2016000" cy="576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65516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4T10:33:22Z</dcterms:created>
  <dc:creator>Юдины</dc:creator>
  <dc:description/>
  <dc:language>en-US</dc:language>
  <cp:lastModifiedBy>Юдины</cp:lastModifiedBy>
  <dcterms:modified xsi:type="dcterms:W3CDTF">2012-05-06T11:03:40Z</dcterms:modified>
  <cp:revision>103</cp:revision>
  <dc:subject/>
  <dc:title>Слайд 1</dc:title>
</cp:coreProperties>
</file>