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4E41-7CAA-417A-AF99-D7A8C9F93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88AF-BF2B-4E0B-9353-BD83161A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4D38-62E0-4296-BDC2-8A0E2D1A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4C5D-B159-4B86-AC14-6A06B5F4E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1024-05B5-45E3-ADC8-5B6832D9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C514-6775-4C34-9C86-E52BCED2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1788-FB4C-4F33-B5E5-5926EF38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0A9A-7097-4A32-86EF-6EC5D493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F279-E817-4F91-A34E-995FCB2B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3501-27AC-4C78-8783-32B1E81D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850C-150D-4110-BB4E-54EB5D47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9114-21C9-405F-84A5-BB6D50D7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5DD6-3B6A-4CF2-B278-5371628F4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13200" y="5229360"/>
            <a:ext cx="432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втор: учитель 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КОУ Плесской С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Юдин А.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85440" y="649116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780000" y="476280"/>
            <a:ext cx="511308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оки </a:t>
            </a:r>
            <a:endParaRPr b="0" lang="en-US" sz="1800" spc="1" strike="noStrike">
              <a:ln w="1584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Pascal</a:t>
            </a:r>
            <a:endParaRPr b="0" lang="en-US" sz="1800" spc="1" strike="noStrike">
              <a:ln w="1584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0920" y="678600"/>
            <a:ext cx="871380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дур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a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зволяет преобразовать цифровые символы (изображение числа) в число. В общем виде обращение к процедуре выглядит так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VAL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 (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Строка, Число, Код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) 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С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строковая константа или переменная, содержащая изображение числ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Ч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исло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менная целого или дробного типа, которой должно быть присвоено знач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Код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озвращаемый процедурой код ошибки (целое числ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720" y="333360"/>
            <a:ext cx="31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цедура 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4033800" cy="2617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356000" y="476280"/>
            <a:ext cx="417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1:='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2345678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(s1,n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573360"/>
            <a:ext cx="495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1:='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23456789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BC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(s1,n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4248360" cy="2822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56000" y="2133720"/>
            <a:ext cx="1295280" cy="358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27280" y="5516640"/>
            <a:ext cx="1295280" cy="358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465800" cy="3183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72000" y="692280"/>
            <a:ext cx="48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s1:='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ABCDE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123456789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val(s1,n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Write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11280" y="2565360"/>
            <a:ext cx="576360" cy="358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04640"/>
            <a:ext cx="9144000" cy="64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В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ascalABC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есть более развитый арсен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преобразований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как в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ELPHI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:=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IntToStr(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реобразует целое число к строк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:=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StrToInt(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образует строку в целое числ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:=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FloatToStr(r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образует вещественное число к стро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:=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StrToFloat(s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реобразует строку в вещественное числ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преобразование невозможно, то возникает ошибка времени выпол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417240"/>
            <a:ext cx="8496360" cy="191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5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ано строка символов  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. Где 1&lt;=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и 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=9.  Составить программу, вычисляющую это выражение. Измените программу так, что бы вместо знака «+» можно было писать «-», «*», «/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430200"/>
            <a:ext cx="8497800" cy="64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  S: STRING;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,b,c:rea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de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(‘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и выражение 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');read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val(s[1],a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val(s[3],b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(s[2]='+') then c:=a+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(s[2]='-') then c:=a-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(s[2]='*') then c:=a*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(s[2]='/') then c:=a/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ln(s,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72000" y="2708280"/>
            <a:ext cx="3672000" cy="2736720"/>
          </a:xfrm>
          <a:prstGeom prst="wedgeRoundRectCallout">
            <a:avLst>
              <a:gd name="adj1" fmla="val -97342"/>
              <a:gd name="adj2" fmla="val -3897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 строки берем первый и третий символ и преобразуем в чи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2492280"/>
            <a:ext cx="3024000" cy="936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47640" y="2108160"/>
            <a:ext cx="597708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имволы и их коды                                                                                                     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33360"/>
            <a:ext cx="48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Функции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ORD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 и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H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134136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rd(S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определяет порядковый номер симво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2349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hr(i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ределяет символ с порядковым номером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5280" y="3573360"/>
            <a:ext cx="3745080" cy="2986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132000" y="4653000"/>
            <a:ext cx="576360" cy="358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16360" y="3500280"/>
            <a:ext cx="3672000" cy="2233800"/>
          </a:xfrm>
          <a:prstGeom prst="wedgeRoundRectCallout">
            <a:avLst>
              <a:gd name="adj1" fmla="val -76287"/>
              <a:gd name="adj2" fmla="val 849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номеру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5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ыводим символ из кодовой таблицы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имволы  и их коды                                                                                                   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52440"/>
            <a:ext cx="914400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6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оставьте программу, которая по символу введенному с клавиатуры, выводит его номер в кодовой табли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1989000"/>
            <a:ext cx="8353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ROGRAM  Prim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AR  S: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ch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n,code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и символ  ');readln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мвол ', s 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меет код -',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ord(s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76720" y="1773360"/>
            <a:ext cx="3672000" cy="2233440"/>
          </a:xfrm>
          <a:prstGeom prst="wedgeRoundRectCallout">
            <a:avLst>
              <a:gd name="adj1" fmla="val -107287"/>
              <a:gd name="adj2" fmla="val 1453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ботает только символьным типом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79640" y="3068640"/>
            <a:ext cx="1008000" cy="504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756144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333000"/>
            <a:ext cx="9144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7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а строка символов. Определить сколько раз в ней встречается буква А (русская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1414440"/>
            <a:ext cx="842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s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,k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'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'); readln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k:=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length(s) do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s[i]='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А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') then k:=k+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'Буква А встречается = ', k:8,' раз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32000" y="2060640"/>
            <a:ext cx="3024360" cy="934920"/>
          </a:xfrm>
          <a:prstGeom prst="wedgeRoundRectCallout">
            <a:avLst>
              <a:gd name="adj1" fmla="val -67583"/>
              <a:gd name="adj2" fmla="val 24779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бираем от 1 до последней бу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12000" y="2781360"/>
            <a:ext cx="2952720" cy="1439640"/>
          </a:xfrm>
          <a:prstGeom prst="wedgeRoundRectCallout">
            <a:avLst>
              <a:gd name="adj1" fmla="val -51560"/>
              <a:gd name="adj2" fmla="val 9432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ом месте стоит А увеличиваем К на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4869000"/>
            <a:ext cx="345600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24360" y="4869000"/>
            <a:ext cx="3816360" cy="504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счет символов в строке                                                                                      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мечание                                                                                                                     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2275920"/>
            <a:ext cx="84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length(s) do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gi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s[i]=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s[i]=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476280"/>
            <a:ext cx="864216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Замечани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Если требуется поиск нескольких символов в строке, то условия заключаем в программные скоб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 …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счет символов в строке                                                                                     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19640" y="476280"/>
            <a:ext cx="180000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92360" y="1125360"/>
            <a:ext cx="1511280" cy="4320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03640" y="2492280"/>
            <a:ext cx="2305080" cy="576360"/>
          </a:xfrm>
          <a:prstGeom prst="flowChartPreparat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,1,length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35280" y="3213000"/>
            <a:ext cx="144000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A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5280" y="4437000"/>
            <a:ext cx="1513080" cy="43200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=К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64000" y="5589720"/>
            <a:ext cx="1511280" cy="43164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од 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84720" y="8366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84720" y="1557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56000" y="3068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56000" y="42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56000" y="486900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843280" y="5229360"/>
            <a:ext cx="151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843280" y="2781360"/>
            <a:ext cx="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7813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06920" y="278136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96000" y="2781360"/>
            <a:ext cx="0" cy="259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56000" y="537228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56000" y="5372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19640" y="6308640"/>
            <a:ext cx="180000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56000" y="6021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28720" y="407664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60000" y="335592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843280" y="371628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56360" y="1413000"/>
            <a:ext cx="2663640" cy="1655640"/>
          </a:xfrm>
          <a:prstGeom prst="wedgeRoundRectCallout">
            <a:avLst>
              <a:gd name="adj1" fmla="val -64300"/>
              <a:gd name="adj2" fmla="val 98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ок-схема к задаче подсчета букв А в ст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4000" y="1844640"/>
            <a:ext cx="1512720" cy="43200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84720" y="227664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мена символов в строке                                                                                      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33000"/>
            <a:ext cx="8964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8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а строка символов. Заменить в ней все буквы А на букву 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774440"/>
            <a:ext cx="8893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s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'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'); readln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length(s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s[i]='A') then s[i]:='O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87640" y="1628640"/>
            <a:ext cx="3090960" cy="1224000"/>
          </a:xfrm>
          <a:prstGeom prst="wedgeRoundRectCallout">
            <a:avLst>
              <a:gd name="adj1" fmla="val -64944"/>
              <a:gd name="adj2" fmla="val 20668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бираем от 1 до последней бу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4797360"/>
            <a:ext cx="352764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96000" y="2421000"/>
            <a:ext cx="3097080" cy="1584360"/>
          </a:xfrm>
          <a:prstGeom prst="wedgeRoundRectCallout">
            <a:avLst>
              <a:gd name="adj1" fmla="val -26574"/>
              <a:gd name="adj2" fmla="val 9939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ом месте стоит А ставим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е место 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067280" y="4797360"/>
            <a:ext cx="3960720" cy="503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4039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тро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это массив символов,  т.е.  элементов типа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har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 Паскале строке соответствует тип данных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rin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29400" y="2133000"/>
            <a:ext cx="7038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var</a:t>
            </a:r>
            <a:r>
              <a:rPr b="1" lang="ru-RU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Имя</a:t>
            </a:r>
            <a:r>
              <a:rPr b="1" lang="ru-RU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 : </a:t>
            </a:r>
            <a:r>
              <a:rPr b="1" lang="en-US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string</a:t>
            </a:r>
            <a:r>
              <a:rPr b="1" lang="ru-RU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 [</a:t>
            </a:r>
            <a:r>
              <a:rPr b="1" lang="ru-RU" sz="3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Длина</a:t>
            </a:r>
            <a:r>
              <a:rPr b="1" lang="ru-RU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2923200"/>
            <a:ext cx="806436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длина не указана, выделяется память под строку до 255 символов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4292640"/>
            <a:ext cx="365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r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s1:string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4076640"/>
            <a:ext cx="2305080" cy="936720"/>
          </a:xfrm>
          <a:prstGeom prst="wedgeRoundRectCallout">
            <a:avLst>
              <a:gd name="adj1" fmla="val -112532"/>
              <a:gd name="adj2" fmla="val 1220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рока 255 симв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720" y="5157720"/>
            <a:ext cx="41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r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s2:string[20];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51640" y="5084640"/>
            <a:ext cx="2305080" cy="936720"/>
          </a:xfrm>
          <a:prstGeom prst="wedgeRoundRectCallout">
            <a:avLst>
              <a:gd name="adj1" fmla="val -109226"/>
              <a:gd name="adj2" fmla="val -237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ока 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имв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мена символов в строке                                                                                         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19640" y="476280"/>
            <a:ext cx="180000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92360" y="1125360"/>
            <a:ext cx="1511280" cy="4320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32000" y="1844640"/>
            <a:ext cx="2305080" cy="576360"/>
          </a:xfrm>
          <a:prstGeom prst="flowChartPreparat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,1,length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4000" y="2565360"/>
            <a:ext cx="143964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A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64000" y="3789360"/>
            <a:ext cx="1512720" cy="57636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O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4941720"/>
            <a:ext cx="1511280" cy="4320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84720" y="8366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84720" y="1557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8472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84720" y="3573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84720" y="43657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771280" y="4581360"/>
            <a:ext cx="151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771640" y="2133360"/>
            <a:ext cx="0" cy="24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71640" y="213372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35640" y="213372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4360" y="2133720"/>
            <a:ext cx="0" cy="2590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84720" y="4724280"/>
            <a:ext cx="14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84720" y="4724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348000" y="5661000"/>
            <a:ext cx="180036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84720" y="537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357440" y="342900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88360" y="27082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771280" y="306864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56360" y="1413000"/>
            <a:ext cx="2663640" cy="1224000"/>
          </a:xfrm>
          <a:prstGeom prst="wedgeRoundRectCallout">
            <a:avLst>
              <a:gd name="adj1" fmla="val -60907"/>
              <a:gd name="adj2" fmla="val 11277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ок-схема к задаче замен буквы А на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333000"/>
            <a:ext cx="9144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Задача 9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далить из строки введенной с клавиатуры все букв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латинские, заглавные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5960" y="1414440"/>
            <a:ext cx="8322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a,b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'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');readln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='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length(a) 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a[i]&lt;&gt;‘R') then b:=b+a[i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=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2852640"/>
            <a:ext cx="2879640" cy="1152720"/>
          </a:xfrm>
          <a:prstGeom prst="wedgeRoundRectCallout">
            <a:avLst>
              <a:gd name="adj1" fmla="val -95314"/>
              <a:gd name="adj2" fmla="val 124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бираем от 1 до последней бу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4869000"/>
            <a:ext cx="352728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4437000"/>
            <a:ext cx="914400" cy="432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1341360"/>
            <a:ext cx="2737080" cy="1150920"/>
          </a:xfrm>
          <a:prstGeom prst="wedgeRoundRectCallout">
            <a:avLst>
              <a:gd name="adj1" fmla="val -116532"/>
              <a:gd name="adj2" fmla="val 218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готавливаем дополнительную перемен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95640" y="4869000"/>
            <a:ext cx="4537080" cy="504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335640" y="1989000"/>
            <a:ext cx="2808360" cy="1727280"/>
          </a:xfrm>
          <a:prstGeom prst="wedgeRoundRectCallout">
            <a:avLst>
              <a:gd name="adj1" fmla="val -57629"/>
              <a:gd name="adj2" fmla="val 1091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ом месте не стоит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то прибавляем эту букву к тому, что есть 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360" y="5373720"/>
            <a:ext cx="914400" cy="431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43280" y="5589720"/>
            <a:ext cx="2737080" cy="936360"/>
          </a:xfrm>
          <a:prstGeom prst="wedgeRoundRectCallout">
            <a:avLst>
              <a:gd name="adj1" fmla="val -170129"/>
              <a:gd name="adj2" fmla="val -45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, что получилось в В перемещаем обратно в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даление символов из строки                                                                             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даление символов из строки                                                                                 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19640" y="476280"/>
            <a:ext cx="180000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92360" y="981000"/>
            <a:ext cx="1511280" cy="4320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3640" y="2205000"/>
            <a:ext cx="2305080" cy="576360"/>
          </a:xfrm>
          <a:prstGeom prst="flowChartPreparat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,1,length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35280" y="2924280"/>
            <a:ext cx="144000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&gt;'R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635280" y="4149720"/>
            <a:ext cx="1513080" cy="43164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=B+ A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80000" y="5589720"/>
            <a:ext cx="1511280" cy="43164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од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284720" y="836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284720" y="1413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56000" y="278136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56000" y="39337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56000" y="458136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843280" y="4724280"/>
            <a:ext cx="151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843280" y="2492280"/>
            <a:ext cx="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43280" y="2492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08720" y="249228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96000" y="2492280"/>
            <a:ext cx="0" cy="23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797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35280" y="6165720"/>
            <a:ext cx="180036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44500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8720" y="378936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60000" y="299736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2843280" y="342900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56360" y="1413000"/>
            <a:ext cx="2663640" cy="1655640"/>
          </a:xfrm>
          <a:prstGeom prst="wedgeRoundRectCallout">
            <a:avLst>
              <a:gd name="adj1" fmla="val -64300"/>
              <a:gd name="adj2" fmla="val 98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лок-схема к задаче удаления бук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64000" y="1557360"/>
            <a:ext cx="1512720" cy="43164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'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84720" y="1989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51280" y="5013360"/>
            <a:ext cx="1512720" cy="43164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572000" y="4797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6021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оженные условия.                                                                                                 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191628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dln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i:=1 to length(s)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s[i]='а') or (s[i]='б'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f (s[i]='а') then s[i]:='б' else s[i]:='а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ln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475920"/>
            <a:ext cx="9144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заданном тексте везде букв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а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заменить на букв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б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  а букв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б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на букв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а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3933720"/>
            <a:ext cx="367164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32360" y="1773360"/>
            <a:ext cx="3203640" cy="1657080"/>
          </a:xfrm>
          <a:prstGeom prst="wedgeRoundRectCallout">
            <a:avLst>
              <a:gd name="adj1" fmla="val -69277"/>
              <a:gd name="adj2" fmla="val 8189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всей строки нам нужно выбрать только А и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68360" y="4365720"/>
            <a:ext cx="6696360" cy="57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76720" y="5157720"/>
            <a:ext cx="3203640" cy="1295640"/>
          </a:xfrm>
          <a:prstGeom prst="wedgeRoundRectCallout">
            <a:avLst>
              <a:gd name="adj1" fmla="val -80722"/>
              <a:gd name="adj2" fmla="val -6384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только после осуществлять зам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оженные условия                                                                                                  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16360" y="476280"/>
            <a:ext cx="165564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3280" y="981000"/>
            <a:ext cx="1657440" cy="36036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56000" y="1484280"/>
            <a:ext cx="2160360" cy="504720"/>
          </a:xfrm>
          <a:prstGeom prst="flowChartPrepara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, 1, length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16360" y="2205000"/>
            <a:ext cx="143964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27640" y="3068640"/>
            <a:ext cx="1439640" cy="1008000"/>
          </a:xfrm>
          <a:prstGeom prst="flowChartDecis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92360" y="4076640"/>
            <a:ext cx="115092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4076640"/>
            <a:ext cx="115236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87640" y="5734080"/>
            <a:ext cx="1657440" cy="3603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987640" y="6308640"/>
            <a:ext cx="1655640" cy="3603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08360" y="83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08360" y="134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280" y="1989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56000" y="2708280"/>
            <a:ext cx="79236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2708280"/>
            <a:ext cx="0" cy="36036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3573360"/>
            <a:ext cx="289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4066920" y="3573360"/>
            <a:ext cx="360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067280" y="3573360"/>
            <a:ext cx="0" cy="503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56360" y="3573360"/>
            <a:ext cx="0" cy="503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067280" y="4581360"/>
            <a:ext cx="0" cy="216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56360" y="4581360"/>
            <a:ext cx="0" cy="216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067280" y="4797360"/>
            <a:ext cx="2089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76720" y="4797360"/>
            <a:ext cx="0" cy="2160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410920" y="2708280"/>
            <a:ext cx="5050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411280" y="2708280"/>
            <a:ext cx="0" cy="23050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11280" y="5013360"/>
            <a:ext cx="266544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780000" y="5013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80000" y="609300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35640" y="692280"/>
            <a:ext cx="2735280" cy="34596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97080" y="318780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96720" y="321300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57440" y="234936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12000" y="234936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76720" y="5805360"/>
            <a:ext cx="3888000" cy="863640"/>
          </a:xfrm>
          <a:prstGeom prst="wedgeRoundRectCallout">
            <a:avLst>
              <a:gd name="adj1" fmla="val 879"/>
              <a:gd name="adj2" fmla="val -8768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ок-схема к задаче замены А на Б и наобор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1908000" y="5229360"/>
            <a:ext cx="18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908000" y="1773360"/>
            <a:ext cx="0" cy="345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908000" y="1736640"/>
            <a:ext cx="64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716360" y="1733400"/>
            <a:ext cx="266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380360" y="1773360"/>
            <a:ext cx="0" cy="36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3779640" y="5445000"/>
            <a:ext cx="360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780000" y="54450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оженные циклы                                                                                                      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-107640" y="1698840"/>
            <a:ext cx="9038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(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рок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'); readln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1:=',.;:"!?-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or i:=1 to length(s1)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k:=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or j:=1 to length(s) do if (s[j]=s1[i]) then k:=k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f (k&lt;&gt;0) then writeln(s1[i],' - ',k:5,'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аз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0920" y="411120"/>
            <a:ext cx="87138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Задача 1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ана строка символов, содержащая знаки препинания. Подсчитать какие и сколько знаков препинания содержит ст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0920" y="3716280"/>
            <a:ext cx="5329080" cy="576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50920" y="5661000"/>
            <a:ext cx="1512720" cy="576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68360" y="4653000"/>
            <a:ext cx="867564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12000" y="1557360"/>
            <a:ext cx="3132000" cy="2016000"/>
          </a:xfrm>
          <a:prstGeom prst="wedgeRoundRectCallout">
            <a:avLst>
              <a:gd name="adj1" fmla="val -70120"/>
              <a:gd name="adj2" fmla="val 5551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ий цикл, осуществляющий перебор знаков записанных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940360" y="1989000"/>
            <a:ext cx="3203640" cy="2448000"/>
          </a:xfrm>
          <a:prstGeom prst="wedgeRoundRectCallout">
            <a:avLst>
              <a:gd name="adj1" fmla="val -63083"/>
              <a:gd name="adj2" fmla="val 5797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ло внешнего цикла содержит цикл, отвечающий за перебор символов введенной стро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оженные циклы                                                                                                      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76360" y="620640"/>
            <a:ext cx="165564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403280" y="1125360"/>
            <a:ext cx="1657440" cy="3607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16000" y="2205000"/>
            <a:ext cx="2160720" cy="504720"/>
          </a:xfrm>
          <a:prstGeom prst="flowChartPreparat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, 1, length(S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68360" y="981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68360" y="148608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332000" y="1628640"/>
            <a:ext cx="187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1=',.;:"!?-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68360" y="206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19280" y="2852640"/>
            <a:ext cx="1225440" cy="432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268360" y="2709720"/>
            <a:ext cx="0" cy="142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260360" y="3429000"/>
            <a:ext cx="2160720" cy="504720"/>
          </a:xfrm>
          <a:prstGeom prst="flowChartPreparat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, 1, length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68360" y="3286080"/>
            <a:ext cx="0" cy="142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619280" y="4078440"/>
            <a:ext cx="1440000" cy="1008000"/>
          </a:xfrm>
          <a:prstGeom prst="flowChartDecis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j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= S1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59280" y="4581360"/>
            <a:ext cx="792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060360" y="422280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556720" y="486900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852720" y="4294080"/>
            <a:ext cx="122580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=K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40000" y="3933720"/>
            <a:ext cx="0" cy="144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27640" y="4726080"/>
            <a:ext cx="0" cy="503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1044360" y="5229360"/>
            <a:ext cx="33829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044720" y="3718080"/>
            <a:ext cx="0" cy="1511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044720" y="3681360"/>
            <a:ext cx="2156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19640" y="3681360"/>
            <a:ext cx="180000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219640" y="3718080"/>
            <a:ext cx="0" cy="17269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268360" y="5445000"/>
            <a:ext cx="2951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268360" y="5445000"/>
            <a:ext cx="0" cy="1447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547640" y="5589720"/>
            <a:ext cx="144000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K&lt;&gt;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132000" y="5877000"/>
            <a:ext cx="2160720" cy="360360"/>
          </a:xfrm>
          <a:prstGeom prst="flowChartInputOutpu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K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987640" y="6093000"/>
            <a:ext cx="28908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95640" y="6237360"/>
            <a:ext cx="0" cy="43164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468360" y="6669000"/>
            <a:ext cx="3527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340000" y="5084640"/>
            <a:ext cx="0" cy="144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468360" y="2492280"/>
            <a:ext cx="0" cy="41767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68360" y="2457360"/>
            <a:ext cx="64764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468360" y="6093000"/>
            <a:ext cx="107928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972360" y="57340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917440" y="573408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2457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16720" y="2492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651640" y="3500280"/>
            <a:ext cx="165564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292720" y="5516640"/>
            <a:ext cx="3672000" cy="1152360"/>
          </a:xfrm>
          <a:prstGeom prst="wedgeRoundRectCallout">
            <a:avLst>
              <a:gd name="adj1" fmla="val -51425"/>
              <a:gd name="adj2" fmla="val -11790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ок-схема к задаче подсчета знаков препи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150920"/>
            <a:ext cx="91440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и равны только при одинаковом наборе символов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аковой дли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ример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'ABC'='ABC'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и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'ABC'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≠'abc'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че происходит поэлементное сравнение  симв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х кода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0'&lt;'1'&lt;...&lt;'9'&lt;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&lt;...&lt;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&lt;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&lt;...&lt;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&lt;символы кирил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ример: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'ADS'&lt;'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АДС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'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65+68+83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192+196+209 (По таблице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SC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94920" y="26028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Сравнение двух стро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960720" cy="3648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427640" y="981000"/>
            <a:ext cx="4032000" cy="3778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9640" y="5084640"/>
            <a:ext cx="4105440" cy="1440000"/>
          </a:xfrm>
          <a:prstGeom prst="wedgeRoundRectCallout">
            <a:avLst>
              <a:gd name="adj1" fmla="val 12143"/>
              <a:gd name="adj2" fmla="val -178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умма кодов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троки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1&lt;S2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5084640"/>
            <a:ext cx="4105440" cy="1440000"/>
          </a:xfrm>
          <a:prstGeom prst="wedgeRoundRectCallout">
            <a:avLst>
              <a:gd name="adj1" fmla="val 12143"/>
              <a:gd name="adj2" fmla="val -178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умма кодов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троки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1&gt;S2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18920" y="333360"/>
            <a:ext cx="50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Соединение двух строк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211640" y="907920"/>
            <a:ext cx="4595760" cy="3151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3141720"/>
            <a:ext cx="3745080" cy="3403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9280" y="981000"/>
            <a:ext cx="4105440" cy="1656000"/>
          </a:xfrm>
          <a:prstGeom prst="wedgeRoundRectCallout">
            <a:avLst>
              <a:gd name="adj1" fmla="val 62990"/>
              <a:gd name="adj2" fmla="val 4884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1:=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'2011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' + ' год'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riteln(s1)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59280" y="4292640"/>
            <a:ext cx="3384720" cy="2303280"/>
          </a:xfrm>
          <a:prstGeom prst="wedgeRoundRectCallout">
            <a:avLst>
              <a:gd name="adj1" fmla="val -113740"/>
              <a:gd name="adj2" fmla="val -2339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1:='10'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2:='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'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3:=s1+'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'+s2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riteln(s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22320" y="188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Функция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515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определяет текущую длину стро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 — значение целого тип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2637000"/>
            <a:ext cx="8351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PROGRAM  Dlina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VAR  S : 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n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т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') ;  Readln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n:= Length (S)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ведит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ово ',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n:5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' букв..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4797360"/>
            <a:ext cx="2592720" cy="503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64000" y="2205000"/>
            <a:ext cx="3168720" cy="1728720"/>
          </a:xfrm>
          <a:prstGeom prst="wedgeRoundRectCallout">
            <a:avLst>
              <a:gd name="adj1" fmla="val -118736"/>
              <a:gd name="adj2" fmla="val 9903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исываем длину строки в переменную целого ти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360" y="2134080"/>
            <a:ext cx="889164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 Dlina_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 S : 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’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т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) ;  Readln(S)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’слово состоит из ’,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ength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’букв. ’)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92720" y="3860640"/>
            <a:ext cx="1943280" cy="503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941720"/>
            <a:ext cx="3600360" cy="1656000"/>
          </a:xfrm>
          <a:prstGeom prst="wedgeRoundRectCallout">
            <a:avLst>
              <a:gd name="adj1" fmla="val 21472"/>
              <a:gd name="adj2" fmla="val -8317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водим на экран длину строки, как результат выполнения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632720" cy="4535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333360"/>
            <a:ext cx="9144000" cy="1495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Задача 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оставить программу подсчитывающую количество букв в слов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5280" y="1216080"/>
            <a:ext cx="7777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a,b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,n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'ВВеди первую строку ');Readln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'ВВеди вторую строку ');Readln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m:=Length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:=Length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 (m=n) then writeln('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роки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вны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 (m&gt;n) then writeln('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ая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ольше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 (m&lt;n) then writeln('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торая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ольше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96640"/>
            <a:ext cx="9144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2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равнить длину двух строк введенных с клавиа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4292640"/>
            <a:ext cx="2303640" cy="792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87640" y="2349360"/>
            <a:ext cx="2808360" cy="935280"/>
          </a:xfrm>
          <a:prstGeom prst="wedgeRoundRectCallout">
            <a:avLst>
              <a:gd name="adj1" fmla="val -81939"/>
              <a:gd name="adj2" fmla="val 13353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числяем длину ст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5157720"/>
            <a:ext cx="6264360" cy="1295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84720" y="1484280"/>
            <a:ext cx="3059280" cy="1727280"/>
          </a:xfrm>
          <a:prstGeom prst="wedgeRoundRectCallout">
            <a:avLst>
              <a:gd name="adj1" fmla="val -83680"/>
              <a:gd name="adj2" fmla="val 16130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авниваем длины и выводим соответствующие пояс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дача на сравнение строк                                                                                  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67680" y="332640"/>
            <a:ext cx="31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Функция Сор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836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ру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N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выделяет из стро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дстроку длиной N символов, начиная с позиц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Здес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целочисленные выражен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4465440" cy="2703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859280" y="2133720"/>
            <a:ext cx="3960720" cy="4032000"/>
          </a:xfrm>
          <a:prstGeom prst="wedgeRoundRectCallout">
            <a:avLst>
              <a:gd name="adj1" fmla="val -91361"/>
              <a:gd name="adj2" fmla="val -106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В фразе </a:t>
            </a:r>
            <a:r>
              <a:rPr b="1" lang="ru-RU" sz="3400" spc="-1" strike="noStrike">
                <a:solidFill>
                  <a:srgbClr val="0000ff"/>
                </a:solidFill>
                <a:latin typeface="Times New Roman"/>
              </a:rPr>
              <a:t>МАМА МЫЛА РАМУ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слово </a:t>
            </a:r>
            <a:r>
              <a:rPr b="1" lang="ru-RU" sz="3400" spc="-1" strike="noStrike">
                <a:solidFill>
                  <a:srgbClr val="0000ff"/>
                </a:solidFill>
                <a:latin typeface="Times New Roman"/>
              </a:rPr>
              <a:t>РАМУ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начинается с 11 буквы и состоит из 4 бук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Times New Roman"/>
              </a:rPr>
              <a:t>COPY(s1,11,4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331560"/>
            <a:ext cx="91440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3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ить программу осуществляющую вырезку из слов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ФОРМАТИ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букв так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что бы из них получилось слово ТО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93760" y="1643040"/>
            <a:ext cx="42692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_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a,b,c,d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'информатика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:='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:=copy(a,8,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d:=copy(a,4,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:=c+d+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дача на составление строк                                                                                    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4292640"/>
            <a:ext cx="2663640" cy="1728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2852640"/>
            <a:ext cx="2735280" cy="2664000"/>
          </a:xfrm>
          <a:prstGeom prst="wedgeRoundRectCallout">
            <a:avLst>
              <a:gd name="adj1" fmla="val 82615"/>
              <a:gd name="adj2" fmla="val 339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м функцию работы  с символьными перемен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8000" y="1700280"/>
            <a:ext cx="5616720" cy="42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Второй вариан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Program n3_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var a,b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a:=‘информатика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b:=a[8]+a[4]+a[5]+a[8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writeln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16360" y="4653000"/>
            <a:ext cx="3960720" cy="504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96000" y="2060640"/>
            <a:ext cx="3168720" cy="1728720"/>
          </a:xfrm>
          <a:prstGeom prst="wedgeRoundRectCallout">
            <a:avLst>
              <a:gd name="adj1" fmla="val -25449"/>
              <a:gd name="adj2" fmla="val 999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уем определение строки как массива симво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2720" y="260280"/>
            <a:ext cx="27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Функция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T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837000"/>
            <a:ext cx="8642160" cy="12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Str(x, S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преобразует число x в строковый формат. Где  x – любое числовое выражение, S – строковая переменн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04640"/>
            <a:ext cx="85899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ьте программу которая выводит первую и последнюю цифру натурального числа, введенного с клави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1700280"/>
            <a:ext cx="896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ROGRAM  Prim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AR  S: STR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n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и число ');read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Str(n,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вая цифра  -',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S[1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ледняя цифра - ',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S[length(S)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2060640"/>
            <a:ext cx="3168360" cy="1728720"/>
          </a:xfrm>
          <a:prstGeom prst="wedgeRoundRectCallout">
            <a:avLst>
              <a:gd name="adj1" fmla="val -112023"/>
              <a:gd name="adj2" fmla="val 1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образуем натуральное число в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4653000"/>
            <a:ext cx="2016000" cy="576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655164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4T10:33:22Z</dcterms:created>
  <dc:creator>Юдины</dc:creator>
  <dc:description/>
  <dc:language>en-US</dc:language>
  <cp:lastModifiedBy>Юдины</cp:lastModifiedBy>
  <dcterms:modified xsi:type="dcterms:W3CDTF">2012-05-06T11:03:40Z</dcterms:modified>
  <cp:revision>103</cp:revision>
  <dc:subject/>
  <dc:title>Слайд 1</dc:title>
</cp:coreProperties>
</file>