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BF5-FC79-4D82-B487-CBE15C68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556-D851-47D1-803E-FA1CBC37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419-E13F-4477-9E55-70374568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EF6-8560-443D-A9EF-DF4607AC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1D2-CE08-4984-9543-89A3FED1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A3A-C509-4516-B55C-655F917D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E30-D1FE-4134-A76A-D656EC96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C4E-942C-41CA-A7C5-8A1B20BA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A63-2B53-48B5-B2B5-2820B66E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3B0-F270-4F60-8354-31F3656D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21A-FCC2-446D-BE01-0411EBB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439-8833-486A-A772-BF1F9AD7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AAF8-F60B-4CC8-8F8C-601B2750A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shopy.net/user/pushkinmdv/news/page/18/" TargetMode="External"/><Relationship Id="rId2" Type="http://schemas.openxmlformats.org/officeDocument/2006/relationships/hyperlink" Target="http://photoshopy.net/user/pushkinmdv/news/page/18/" TargetMode="External"/><Relationship Id="rId3" Type="http://schemas.openxmlformats.org/officeDocument/2006/relationships/hyperlink" Target="http://photoshopy.net/user/pushkinmdv/news/page/18/" TargetMode="External"/><Relationship Id="rId4" Type="http://schemas.openxmlformats.org/officeDocument/2006/relationships/hyperlink" Target="http://photoshopy.net/user/pushkinmdv/news/page/18/" TargetMode="External"/><Relationship Id="rId5" Type="http://schemas.openxmlformats.org/officeDocument/2006/relationships/hyperlink" Target="http://photoshopy.net/user/pushkinmdv/news/page/18/" TargetMode="External"/><Relationship Id="rId6" Type="http://schemas.openxmlformats.org/officeDocument/2006/relationships/hyperlink" Target="http://photoshopy.net/user/pushkinmdv/news/page/18/" TargetMode="External"/><Relationship Id="rId7" Type="http://schemas.openxmlformats.org/officeDocument/2006/relationships/hyperlink" Target="http://photoshopy.net/user/pushkinmdv/news/page/18/" TargetMode="External"/><Relationship Id="rId8" Type="http://schemas.openxmlformats.org/officeDocument/2006/relationships/hyperlink" Target="http://photoshopy.net/user/pushkinmdv/news/page/18/" TargetMode="External"/><Relationship Id="rId9" Type="http://schemas.openxmlformats.org/officeDocument/2006/relationships/hyperlink" Target="http://photoshopy.net/user/pushkinmdv/news/page/18/" TargetMode="External"/><Relationship Id="rId10" Type="http://schemas.openxmlformats.org/officeDocument/2006/relationships/hyperlink" Target="http://photoshopy.net/user/pushkinmdv/news/page/18/" TargetMode="External"/><Relationship Id="rId11" Type="http://schemas.openxmlformats.org/officeDocument/2006/relationships/hyperlink" Target="http://photoshopy.net/user/pushkinmdv/news/page/18/" TargetMode="External"/><Relationship Id="rId12" Type="http://schemas.openxmlformats.org/officeDocument/2006/relationships/hyperlink" Target="http://photoshopy.net/user/pushkinmdv/news/page/18/" TargetMode="External"/><Relationship Id="rId13" Type="http://schemas.openxmlformats.org/officeDocument/2006/relationships/hyperlink" Target="http://www.artsides.ru/big/item_5461.jpg" TargetMode="External"/><Relationship Id="rId14" Type="http://schemas.openxmlformats.org/officeDocument/2006/relationships/hyperlink" Target="http://www.artsides.ru/big/item_5461.jpg" TargetMode="External"/><Relationship Id="rId15" Type="http://schemas.openxmlformats.org/officeDocument/2006/relationships/hyperlink" Target="http://www.artsides.ru/big/item_5461.jpg" TargetMode="External"/><Relationship Id="rId16" Type="http://schemas.openxmlformats.org/officeDocument/2006/relationships/hyperlink" Target="http://www.artsides.ru/big/item_5461.jpg" TargetMode="External"/><Relationship Id="rId17" Type="http://schemas.openxmlformats.org/officeDocument/2006/relationships/hyperlink" Target="http://www.artsides.ru/big/item_5461.jpg" TargetMode="External"/><Relationship Id="rId18" Type="http://schemas.openxmlformats.org/officeDocument/2006/relationships/hyperlink" Target="http://www.artsides.ru/big/item_5461.jpg" TargetMode="External"/><Relationship Id="rId19" Type="http://schemas.openxmlformats.org/officeDocument/2006/relationships/hyperlink" Target="http://photoshablon.ru/news/33-0-15" TargetMode="External"/><Relationship Id="rId20" Type="http://schemas.openxmlformats.org/officeDocument/2006/relationships/hyperlink" Target="http://photoshablon.ru/news/33-0-15" TargetMode="External"/><Relationship Id="rId21" Type="http://schemas.openxmlformats.org/officeDocument/2006/relationships/hyperlink" Target="http://photoshablon.ru/news/33-0-15" TargetMode="External"/><Relationship Id="rId22" Type="http://schemas.openxmlformats.org/officeDocument/2006/relationships/hyperlink" Target="http://photoshablon.ru/news/33-0-15" TargetMode="External"/><Relationship Id="rId23" Type="http://schemas.openxmlformats.org/officeDocument/2006/relationships/hyperlink" Target="http://photoshablon.ru/news/33-0-15" TargetMode="External"/><Relationship Id="rId24" Type="http://schemas.openxmlformats.org/officeDocument/2006/relationships/hyperlink" Target="http://photoshablon.ru/news/33-0-15" TargetMode="External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573372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2100"/>
                </a:solidFill>
                <a:latin typeface="Arial"/>
              </a:rPr>
              <a:t>Бородина Т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ОУ СОШ №3 «ОЦ» 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244520"/>
            <a:ext cx="58006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минутка</a:t>
            </a:r>
            <a:endParaRPr b="1" lang="en-US" sz="4400" spc="1" strike="noStrike">
              <a:ln w="15840">
                <a:solidFill>
                  <a:srgbClr val="66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5960" y="39034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68360"/>
            <a:ext cx="1224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2000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20000" y="2276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9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45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363840" y="4818240"/>
            <a:ext cx="2414520" cy="203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724360" y="5634000"/>
            <a:ext cx="2349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397320" y="563400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042920" y="5634000"/>
            <a:ext cx="2349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5" repeatCount="10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8.09623E-007 L -0.00174 -0.70113 E">
                                      <p:cBhvr>
                                        <p:cTn id="1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2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3 L -0.00174 0.01226 E">
                                      <p:cBhvr>
                                        <p:cTn id="1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4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5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45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65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2.42887E-007 L 0 -0.70298 E"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5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5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65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19414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48360" y="1055520"/>
            <a:ext cx="1941480" cy="47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1052640"/>
            <a:ext cx="4752720" cy="47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1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5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4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8486" r="0" b="0"/>
          <a:stretch/>
        </p:blipFill>
        <p:spPr>
          <a:xfrm>
            <a:off x="1851120" y="2043000"/>
            <a:ext cx="5441760" cy="27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86080" y="260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4360" y="270828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700360" y="436572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59280" y="263700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4356000" y="47628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619280" y="40464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6372360" y="4915080"/>
            <a:ext cx="2571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path" presetID="26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-0.0007 C 1.38889E-006 0.07795 0.08177 0.14318 0.1816 0.14318 C 0.29913 0.14318 0.34167 0.07124 0.35955 0.02775 L 0.37795 -0.02938 C 0.39618 -0.07264 0.44132 -0.14389 0.57413 -0.14389 C 0.6592 -0.14389 0.7559 -0.07935 0.7559 -0.0007 C 0.7559 0.07795 0.6592 0.14318 0.57413 0.14318 C 0.44132 0.14318 0.39618 0.07124 0.37795 0.02775 L 0.35955 -0.02938 C 0.34167 -0.07264 0.29913 -0.14389 0.1816 -0.14389 C 0.08177 -0.14389 1.38889E-006 -0.07935 1.38889E-006 -0.0007 Z">
                                      <p:cBhvr>
                                        <p:cTn id="30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8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2102040" cy="396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30520" y="47242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30520" y="-1000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0238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57480" y="2544840"/>
            <a:ext cx="1229040" cy="17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260280"/>
            <a:ext cx="3960720" cy="2160720"/>
          </a:xfrm>
          <a:prstGeom prst="cloudCallout">
            <a:avLst>
              <a:gd name="adj1" fmla="val -38175"/>
              <a:gd name="adj2" fmla="val 68000"/>
            </a:avLst>
          </a:prstGeom>
          <a:solidFill>
            <a:srgbClr val="ffd393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path" presetID="37" repeatCount="1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3.01874E-006 L 0.19271 0.15406 C 0.23316 0.18992 0.29375 0.20981 0.35678 0.20981 C 0.42865 0.20981 0.48629 0.18992 0.52674 0.15406 L 0.71962 -3.01874E-006 E">
                                      <p:cBhvr>
                                        <p:cTn id="42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-0.15521 C 0.23316 -0.19038 0.29375 -0.20957 0.3566 -0.20957 C 0.42864 -0.20957 0.48611 -0.19038 0.52656 -0.15521 L 0.71962 0.00023 E">
                                      <p:cBhvr>
                                        <p:cTn id="4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2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7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45 C 0.23333 -0.19038 0.29375 -0.20957 0.35677 -0.20957 C 0.42882 -0.20957 0.48628 -0.19038 0.52673 -0.15545 L 0.71979 0.00023 E">
                                      <p:cBhvr>
                                        <p:cTn id="43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0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3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46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0.15522 C 0.23333 0.19038 0.29375 0.21004 0.35677 0.21004 C 0.42864 0.21004 0.48611 0.19038 0.52673 0.15522 L 0.71979 0.00023 E">
                                      <p:cBhvr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9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56836E-006 L 0.00017 -0.71154 E">
                                      <p:cBhvr>
                                        <p:cTn id="4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71154 L 0.00017 0.01249 E">
                                      <p:cBhvr>
                                        <p:cTn id="4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452E-006 L 0.78003 0.00185 E">
                                      <p:cBhvr>
                                        <p:cTn id="47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003 0.00185 L 0.00034 0.00185 E">
                                      <p:cBhvr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7837E-006 C 0.15486 4.47837E-006 0.28073 0.16192 0.28073 0.36155 C 0.28073 0.56141 0.15486 0.72403 2.22222E-006 0.72403 C -0.15469 0.72403 -0.28004 0.56141 -0.28004 0.36155 C -0.28004 0.16192 -0.15469 4.47837E-006 2.22222E-006 4.47837E-006 Z">
                                      <p:cBhvr>
                                        <p:cTn id="48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500"/>
                            </p:stCondLst>
                            <p:childTnLst>
                              <p:par>
                                <p:cTn id="494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5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7500"/>
                            </p:stCondLst>
                            <p:childTnLst>
                              <p:par>
                                <p:cTn id="497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hotoshopy.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us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ushkinmdv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a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18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egypt.goto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vel.ru/presentation/oboi/1280x960/oboi-egipta-1280x960-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artsides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ig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/item_5461.jp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hotoshablon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/33-0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hotoshablon.ru/news/29-0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dreamworlds.ru/uploads/posts/2009-09/1253596502_0_242ce_afc93ee0_xl.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овая дорожка с дис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igmatic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3:58Z</dcterms:created>
  <dc:creator>User</dc:creator>
  <dc:description/>
  <dc:language>en-US</dc:language>
  <cp:lastModifiedBy>User</cp:lastModifiedBy>
  <dcterms:modified xsi:type="dcterms:W3CDTF">2011-03-08T20:31:29Z</dcterms:modified>
  <cp:revision>48</cp:revision>
  <dc:subject/>
  <dc:title>Слайд 1</dc:title>
</cp:coreProperties>
</file>