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277E-F6FD-48A7-9F49-E1011E07C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E329-7B4C-4825-B29E-FFA76E1E1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6B25C3-9A7C-496F-85C8-A88A3DFA9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2B1825-F5C9-46D3-93D1-002E41F3B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1289F5-52C9-46E7-B3BE-AB1811CE7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5E4032-BA58-4BC2-8CD8-D7E4BCFA0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D722EA-3071-46E2-B415-B689DAD61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FB1ABF-411A-4CB7-88EA-B55E55AE3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DDFBF7-9B26-4281-A483-CCC7C5A94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9397D2-4E59-48D1-9201-BB721E87D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4FE77A-D933-4985-BA05-43BC467DD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A1E170-7B5C-451F-A7C0-179091684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E0A3-DFD4-45E4-918E-AA4FE785F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A4BA29-06D5-4544-A1FF-9DE0A4825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4A34F8-E7E0-493E-ADA3-B5A2C7DF1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F639FF-866C-4BA3-B504-3A89419B9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D3B746-D43C-4D6C-8A13-C78D25AB9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B112BB-034D-42F3-9971-FA2D1E092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A679BC-A255-495A-80F9-F14D75589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F3B543-C35E-4BD0-B861-29A4D1C07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A06778-6966-4E72-B320-3FB1073A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B7C9AB-4B45-41EF-A4BF-1E1B9DE9C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8F23D3-5109-41AB-950E-912DA68AD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01D8-AF60-40C5-B49E-EF3687A3B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AC5669-1302-4698-A43C-BEA9CFA9D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51EF72-B0C8-4D5B-9061-7FF31B6D6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9664D7-3A08-4C66-8CCA-E31E97B3E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5E7811-7F3A-491F-9E05-5009E2153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04BF05-1318-4450-A55E-49E3515A4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D0C623-207F-4939-BC2C-196E7087C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D4E508-5FF9-408C-BD6D-086C2A25B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85F4BD-80F0-4774-A124-B2FCC869E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CD540A-B14F-4777-9C25-7170D921A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6A27B0-AEA8-407B-9544-489E9A73D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B5663-E5EE-45D0-9621-37C53FE8C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B330BE-9A44-4474-8F2C-BB39C9200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9CC80A-C48C-48FA-8BF4-F1A2FA373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93E246-2212-4DE3-B9C8-733BF89E3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588D44-68CA-4E2D-8B7E-4DDF6BE72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C0F6CD-15B7-431F-8BDA-66E220355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22EBF8-E20D-4056-A3A8-4E4544E1D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704249-0654-4ACC-8044-E85193F7F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BE45A3-C380-4091-9A3E-EDE122280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7C1A28-108D-4FF7-AE26-249316EE8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954AB1-A1E8-4EC8-B222-DCEBEB6B6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7C629-8464-4057-AC40-329A21907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8FBC63-293C-4F99-91CE-53A452DF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5A5D3C-45E3-4955-8076-7EDD14ED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F2C506-A52E-4799-91FB-7A576379B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640FEC-9285-47B6-82DF-04D22FFD0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D317A7-D232-40F6-A47C-F2247396B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23752-22DE-43D5-9486-E82B2D487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034CF-8A77-46BC-9A2A-368CA5BDC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410DC-B56E-4A67-B472-97DAC18FF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D4AD6-2B24-41F3-9FFF-14B5A5134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511DA-D8CF-47F3-B04A-AAD333EEB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F346-816F-4D58-8CA4-CA0DFEDF3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5B855-5266-4706-929A-19F5072B3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28B15-0673-4AEA-B133-7B21273AD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453B5-1000-45E5-98CA-4C069F598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70382-84CF-4FFD-8435-5291C70FC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48730-A0B4-4669-B838-1C3605F85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9FEE9-F298-4194-A9D5-D682BC14D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7BC5D-66BE-45C5-997A-6049A2710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E3EDE-7263-458D-8E8E-EB115BAAD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D85A6-8C61-45EC-B3D9-90D338EFE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C8594-DF1D-46BE-A456-B8069C1A3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413B-0D0C-478F-898C-AEA1BE61D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2C7FA-5CEA-4497-9C9F-5545A6DE7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A3291-0B9E-4022-B0E0-9DCC25BA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D56BD-9AEA-49BE-B975-F83FC8EB5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D5218-3890-4DD0-A153-C609C03E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40147-B3B3-4C04-B2A6-F525FE919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FE3DA-7B6F-4210-8D1F-9BFA299CB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51FB1-FD39-44D8-B5D2-17461116A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DC264-7606-4F8B-927E-82C6861B3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D427C-E470-4AFD-B864-8D342FCCE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5D907-4495-48F9-B209-0ACB6988D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4A3B-D0AA-49AA-89E7-E08398D31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702FD-D3B0-4543-BB7D-2B7E52955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DA826-AEBD-4158-A895-E0F3E75E9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122F2-F6F2-498C-8447-C9DB4C6FE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2FDC1-1ED0-4468-953E-1C86DF908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1258D-17FE-4E87-911E-8FAC070B7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99A77-64D5-4521-A84C-03E5D8E9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EF72B-2BA1-4967-BDB9-0EFEEDF2B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01C7B-711F-465D-90AA-F0FD3FF06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01638-F4B9-453D-897E-A08ACF263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BC71C-FE69-4416-A7EF-A2A78CDC5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3B66-76F7-4E04-BD83-1224C1306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170D36-3316-459C-ABE4-5AC0C88C1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EDC97-F621-4F9A-9360-371DF4DED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6D77D-7E52-493E-B7BB-27082DA80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DE9C8-C8CF-4848-97DC-78587CD2B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FEEA9F-3B46-40FD-A882-3B531A5B0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01AE6-937B-4110-AE91-D33C6EC83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A58AC-CF2C-47D0-8E2E-22B8BD438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808E7A-1D20-44E3-957A-CE5CB5F1B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CE9063-972F-4AE5-AF92-423CAA5E3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312B62-BEF3-446C-93B8-2FA17CEA7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5992-5E6F-4391-A98D-DE744FCAD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6F072-A265-4703-8DD2-DA2B918BA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DD62BE-ECFF-4408-902D-652BC2E83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DB13BC-8FA7-4F5D-A403-41AB20EF8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CDF8DD-C3F5-4D6E-953D-8D548CC8E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F580E7-9647-4BCE-AEB7-45E154CC4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8CDD3A-56AD-498B-AC0E-9A678227C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C0F108-65B8-4F35-89F4-FDF47F62E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EBA9CB-B08E-4B05-AB64-388794DFF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76EDD0-124E-447B-9E16-5572D1D67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86C6F1-686B-4566-825D-A4C1FB937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A52E-E0C6-4CFF-80B5-B813D9FD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7E9300-48E5-4CB6-B00D-9E050533B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29CE7F-4717-4856-9BEA-CE73DC4BA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12B8F0-E1E7-4F73-867E-8DC90E5B5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EE320F-5858-432F-A15C-5A46EBB38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F9783A-E9ED-4FE0-8EAB-AD0F6000F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C50EA-0558-44AB-A575-373FA37A1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F4E006-9BF6-4548-87FB-53CB25789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CFF5DB-B4A0-4369-8179-3024AECF1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2A03E5-7924-4410-9CC7-000A43AAC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C5C17C-E548-4B3E-BDF0-A2E2C1A73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FC3F-7061-4B18-A0D9-04FEC3290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150ED2-BBE7-4457-9A64-70B5FD483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262880-BB0B-4568-A9B6-DC11D019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EE1E04-D393-4C4A-9F18-FCCC49762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4EC8F4-F7E2-459F-8B6F-FB8F7E9AB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B7B4F6-2DB0-42FA-8E05-662DED048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37830F-39BF-4FF5-B815-D9972E82E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8B86B9-3135-45AB-B390-78D64A4F0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C6C3DD-54A6-4C57-A853-01FF723F3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F00BE9-D7C8-431C-99C3-27AB714A7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88A3A9-5B51-4B12-AEEE-F0471A6AE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43C6-6823-4F50-808E-0DAD5DB1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BCD3F6-1E6F-4A1E-9697-6E043E438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3C97F8-7FB9-4412-8CCF-3B6CCFFF6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825A66-A3B1-48A7-9866-8CF9D2794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61D150-D921-4609-B21D-3F8CD439E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B41FDE-1DA5-42C7-AB4B-EA23F0CA5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5A6E5C-DF69-4009-AF74-79402AAEF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4CCBC6-4843-4FB7-BEF2-89223C29C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6BEF81-A4B4-488E-8C55-82DA70E4B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FAE089-1423-4891-88B2-71A40019E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B0805D-CD8C-4CD1-B526-62D0C3075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B8532-7279-46C7-A5E0-E367F4BDA112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20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1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1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1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19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1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11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12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2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CF09F-F3B2-4E1D-AB92-F8FC14974CCE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A4CDF-E286-45B8-8B6D-CEB7D6161549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1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1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1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1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1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D69B0-0070-406D-9449-57F904BF2C22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5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9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DB65C-F435-48C3-8D09-EF8469D8B125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F0E27-8FE2-4BD3-B762-22039B451B5C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5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1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1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1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7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1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D4416-CF29-4EAF-9A69-555C194F9096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7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EF841-53C8-424C-8F57-17FDC971B465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1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1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1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4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1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4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80C9F-4702-46B6-94FD-0CCBE76D2F0C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A6C68-E022-4EC3-8A7D-8A0C18E2BDD0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9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F5001-5DBA-4C61-8DCC-1438D0E6AC70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8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17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15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1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1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1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2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9BA38-3B6D-4488-9640-8C73B360793F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d16349"/>
                </a:solidFill>
                <a:latin typeface="Georgia"/>
              </a:rPr>
              <a:t>Технология обработки числов</a:t>
            </a:r>
            <a:r>
              <a:rPr b="0" lang="ru-RU" sz="3800" spc="-1" strike="noStrike">
                <a:solidFill>
                  <a:srgbClr val="d16349"/>
                </a:solidFill>
                <a:latin typeface="Arial"/>
              </a:rPr>
              <a:t>ых </a:t>
            </a:r>
            <a:r>
              <a:rPr b="0" lang="ru-RU" sz="3800" spc="-1" strike="noStrike">
                <a:solidFill>
                  <a:srgbClr val="d16349"/>
                </a:solidFill>
                <a:latin typeface="Georgia"/>
              </a:rPr>
              <a:t>данных</a:t>
            </a:r>
            <a:endParaRPr b="0" lang="en-US" sz="3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7" name="TextBox 2"/>
          <p:cNvSpPr/>
          <p:nvPr/>
        </p:nvSpPr>
        <p:spPr>
          <a:xfrm>
            <a:off x="4419720" y="51814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работчик презентаци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информат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СОШ №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Можайска Москов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45720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b9899"/>
                </a:solidFill>
                <a:latin typeface="Georgia"/>
              </a:rPr>
              <a:t>Встроенные функции</a:t>
            </a:r>
            <a:br>
              <a:rPr sz="3000"/>
            </a:b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301320" y="1526760"/>
            <a:ext cx="8504280" cy="33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Формулы могут состоять не только из арифметических операторов и адресов ячеек. Часто в вычислениях приходится использовать формулы, содержащие функции. Электронные таблицы имеют несколько сотен встроенных функций, которые подразделяются на категории: </a:t>
            </a:r>
            <a:r>
              <a:rPr b="0" i="1" lang="ru-RU" sz="2700" spc="-1" strike="noStrike">
                <a:solidFill>
                  <a:srgbClr val="000000"/>
                </a:solidFill>
                <a:latin typeface="Georgia"/>
              </a:rPr>
              <a:t>Математические, Статистические, Финансовые, Дата и время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и так далее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9" name="Picture 2" descr="C:\Work\11а\информатика1111\3058424.jpg"/>
          <p:cNvPicPr/>
          <p:nvPr/>
        </p:nvPicPr>
        <p:blipFill>
          <a:blip r:embed="rId1"/>
          <a:stretch/>
        </p:blipFill>
        <p:spPr>
          <a:xfrm>
            <a:off x="1752480" y="4572000"/>
            <a:ext cx="5105520" cy="200016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1" name="TextBox 3"/>
          <p:cNvSpPr/>
          <p:nvPr/>
        </p:nvSpPr>
        <p:spPr>
          <a:xfrm>
            <a:off x="2057400" y="19051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строенные функ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Box 4"/>
          <p:cNvSpPr/>
          <p:nvPr/>
        </p:nvSpPr>
        <p:spPr>
          <a:xfrm>
            <a:off x="838080" y="327672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Математические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Box 5"/>
          <p:cNvSpPr/>
          <p:nvPr/>
        </p:nvSpPr>
        <p:spPr>
          <a:xfrm>
            <a:off x="4876920" y="32767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Логические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4" name="Прямая со стрелкой 7"/>
          <p:cNvCxnSpPr/>
          <p:nvPr/>
        </p:nvCxnSpPr>
        <p:spPr>
          <a:xfrm flipH="1">
            <a:off x="2666520" y="2666880"/>
            <a:ext cx="610560" cy="534240"/>
          </a:xfrm>
          <a:prstGeom prst="straightConnector1">
            <a:avLst/>
          </a:prstGeom>
          <a:ln w="9360">
            <a:solidFill>
              <a:srgbClr val="d16349"/>
            </a:solidFill>
            <a:miter/>
            <a:tailEnd len="med" type="arrow" w="med"/>
          </a:ln>
        </p:spPr>
      </p:cxnSp>
      <p:cxnSp>
        <p:nvCxnSpPr>
          <p:cNvPr id="645" name="Прямая со стрелкой 9"/>
          <p:cNvCxnSpPr/>
          <p:nvPr/>
        </p:nvCxnSpPr>
        <p:spPr>
          <a:xfrm>
            <a:off x="4952520" y="2666880"/>
            <a:ext cx="762840" cy="534240"/>
          </a:xfrm>
          <a:prstGeom prst="straightConnector1">
            <a:avLst/>
          </a:prstGeom>
          <a:ln w="9360">
            <a:solidFill>
              <a:srgbClr val="d16349"/>
            </a:solidFill>
            <a:miter/>
            <a:tailEnd len="med" type="arrow" w="med"/>
          </a:ln>
        </p:spPr>
      </p:cxnSp>
      <p:sp>
        <p:nvSpPr>
          <p:cNvPr id="646" name="TextBox 10"/>
          <p:cNvSpPr/>
          <p:nvPr/>
        </p:nvSpPr>
        <p:spPr>
          <a:xfrm>
            <a:off x="1752480" y="57913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Математические функции</a:t>
            </a:r>
            <a:br>
              <a:rPr sz="3300"/>
            </a:b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дной из наиболее часто используемых операций является суммирование значений диапазона ячеек для расчета итоговых результатов. На панели инструментов </a:t>
            </a:r>
            <a:r>
              <a:rPr b="0" i="1" lang="ru-RU" sz="2700" spc="-1" strike="noStrike">
                <a:solidFill>
                  <a:srgbClr val="000000"/>
                </a:solidFill>
                <a:latin typeface="Georgia"/>
              </a:rPr>
              <a:t>Стандартная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расположена кнопка [х], </a:t>
            </a:r>
            <a:r>
              <a:rPr b="0" i="1" lang="ru-RU" sz="2700" spc="-1" strike="noStrike">
                <a:solidFill>
                  <a:srgbClr val="000000"/>
                </a:solidFill>
                <a:latin typeface="Georgia"/>
              </a:rPr>
              <a:t>Автосуммирование,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оторая используется для автоматического суммирования чисел с помощью функции СУММ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9" name="TextBox 3"/>
          <p:cNvSpPr/>
          <p:nvPr/>
        </p:nvSpPr>
        <p:spPr>
          <a:xfrm>
            <a:off x="2514600" y="59436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Логические функции</a:t>
            </a:r>
            <a:br>
              <a:rPr sz="3300"/>
            </a:b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Ранее были рассмотрены базовые логические операции (умножения, сложения, отрицания) и их таблицы истинно­сти. В электронных таблицах имеются соответствующие ло­гические функции, с помощью которых достаточно просто построить таблицы истинности логических операций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Аргументами логических функций являются логические значения ИСТИНА и ЛОЖЬ. Логические значения, в свою очередь, могут быть получены как результат определения значений логических выражений. Например, для логического выражения 10&gt;5 результатом будет логическое значе­ние ИСТИНА, а для логического выражения А1&lt;А2 (где в ячейке А1 хранится число 10, а в ячейке А2 — число 5) — значение ЛОЖЬ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ru-RU" sz="1900" spc="-1" strike="noStrike">
                <a:solidFill>
                  <a:srgbClr val="000000"/>
                </a:solidFill>
                <a:latin typeface="Georgia"/>
              </a:rPr>
              <a:t>Логическая функция «И»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имеет в качестве аргументов логические значения, которые могут быть истинными или ложными, и задается формулой </a:t>
            </a:r>
            <a:r>
              <a:rPr b="0" i="1" lang="ru-RU" sz="1900" spc="-1" strike="noStrike">
                <a:solidFill>
                  <a:srgbClr val="000000"/>
                </a:solidFill>
                <a:latin typeface="Georgia"/>
              </a:rPr>
              <a:t>=Щлог_знач1;лог_знач2;...).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Принимает значение ИСТИНА тогда и только тогда, когда все аргументы имеют значение ИСТИНА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Например, значение функции =И(10&gt;5;10&lt;5) — ЛОЖЬ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 txBox="1"/>
          <p:nvPr/>
        </p:nvSpPr>
        <p:spPr>
          <a:xfrm>
            <a:off x="228240" y="137160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lang="ru-RU" sz="2100" spc="-1" strike="noStrike">
                <a:solidFill>
                  <a:srgbClr val="000000"/>
                </a:solidFill>
                <a:latin typeface="Georgia"/>
              </a:rPr>
              <a:t>Логическая функция «ИЛИ» 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имеет в качестве аргументов логические значения и задается формулой =ИЛИ(лог</a:t>
            </a:r>
            <a:r>
              <a:rPr b="0" i="1" lang="ru-RU" sz="2100" spc="-1" strike="noStrike">
                <a:solidFill>
                  <a:srgbClr val="000000"/>
                </a:solidFill>
                <a:latin typeface="Georgia"/>
              </a:rPr>
              <a:t>_знач1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; </a:t>
            </a:r>
            <a:r>
              <a:rPr b="0" i="1" lang="ru-RU" sz="2100" spc="-1" strike="noStrike">
                <a:solidFill>
                  <a:srgbClr val="000000"/>
                </a:solidFill>
                <a:latin typeface="Georgia"/>
              </a:rPr>
              <a:t>лог_знач2; 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...). Принимает значение ИСТИНА, если хотя бы один из аргументов имеет значение ИСТИНА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Например, значение функции =ИЛИ(10&gt;5;10&lt;5) — ИСТИНА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ru-RU" sz="2100" spc="-1" strike="noStrike">
                <a:solidFill>
                  <a:srgbClr val="000000"/>
                </a:solidFill>
                <a:latin typeface="Georgia"/>
              </a:rPr>
              <a:t>Логическая функция «НЕ» 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имеет один аргумент и задается формулой </a:t>
            </a:r>
            <a:r>
              <a:rPr b="0" i="1" lang="ru-RU" sz="2100" spc="-1" strike="noStrike">
                <a:solidFill>
                  <a:srgbClr val="000000"/>
                </a:solidFill>
                <a:latin typeface="Georgia"/>
              </a:rPr>
              <a:t>=НЕ(лог_знач). 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Принимает значение ИСТИНА, если аргумент имеет значение ЛОЖЬ, и наоборот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Например, значение функции =НЕ(10&gt;5) — ЛОЖЬ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Построим с помощью электронных таблиц 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таблицу истинности операции логического 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умножения, используя логическую функцию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Georgia"/>
              </a:rPr>
              <a:t>«И»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53" name="Picture 2" descr="C:\Work\11а\информатика1111\520dff42-178a-11dd-9641-001f2908c552_enl.jpg"/>
          <p:cNvPicPr/>
          <p:nvPr/>
        </p:nvPicPr>
        <p:blipFill>
          <a:blip r:embed="rId1"/>
          <a:stretch/>
        </p:blipFill>
        <p:spPr>
          <a:xfrm>
            <a:off x="6095880" y="3886200"/>
            <a:ext cx="2787840" cy="2787480"/>
          </a:xfrm>
          <a:prstGeom prst="rect">
            <a:avLst/>
          </a:prstGeom>
          <a:ln w="0">
            <a:noFill/>
          </a:ln>
        </p:spPr>
      </p:pic>
      <p:sp>
        <p:nvSpPr>
          <p:cNvPr id="654" name="TextBox 4"/>
          <p:cNvSpPr/>
          <p:nvPr/>
        </p:nvSpPr>
        <p:spPr>
          <a:xfrm>
            <a:off x="838080" y="60199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b9899"/>
                </a:solidFill>
                <a:latin typeface="Georgia"/>
              </a:rPr>
              <a:t>Сортировка и поиск данных</a:t>
            </a:r>
            <a:br>
              <a:rPr sz="3000"/>
            </a:b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304560" y="1371240"/>
            <a:ext cx="8504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Электронные таблицы позволяют осуществлять сортировку данных, то есть производить их упорядочение. Данные (числа, текст, даты) в электронных таблицах можно сортировать по возрастанию или убыванию. При сортировке по возрастанию данные выстраиваются в следующем порядке: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- числа сортируются от наименьшего отрицательного до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наибольшего положительного числа;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- текст сортируется в следующем порядке: числа, знаки,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латинский алфавит, русский алфавит;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- пустые ячейки всегда помещаются в конец списка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Для сортировки строк таблицы необходимо выбрать столбец, данные которого будут упорядочиваться. После сортировки изменяется порядок следования строк, но сохраняется их целостность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Можно проводить вложенные сортировки, то есть сортировать данные последовательно по нескольким столбцам. При вложенной сортировке строки, имеющие одинаковые значения в ячейках первого столбца, будут упорядочены по значениям в ячейках второго столбца, а строки, имеющие одинаковые значения во втором столбце, будут упорядочены по значениям третьего столбца. Так, результат вложенной сортировки таблицы (исключая первую строку), содержащей данные о компьютерах, при сортировке столбца А по возрастанию, столбца В по убыванию и столбца С по возрас­танию будет таким, как показано на рис. 10.4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57" name=""/>
          <p:cNvGraphicFramePr/>
          <p:nvPr/>
        </p:nvGraphicFramePr>
        <p:xfrm>
          <a:off x="3200400" y="4495680"/>
          <a:ext cx="5181480" cy="1828800"/>
        </p:xfrm>
        <a:graphic>
          <a:graphicData uri="http://schemas.openxmlformats.org/drawingml/2006/table">
            <a:tbl>
              <a:tblPr/>
              <a:tblGrid>
                <a:gridCol w="592200"/>
                <a:gridCol w="1523880"/>
                <a:gridCol w="1698840"/>
                <a:gridCol w="1366560"/>
              </a:tblGrid>
              <a:tr h="371520">
                <a:tc gridSpan="4"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13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4748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5446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4046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9920">
                <a:tc>
                  <a:txBody>
                    <a:bodyPr lIns="25560" rIns="25560" tIns="0" bIns="0" anchor="t">
                      <a:noAutofit/>
                    </a:bodyPr>
                    <a:p>
                      <a:pPr marL="146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02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ип компьютер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984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цессо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амять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9560">
                <a:tc>
                  <a:txBody>
                    <a:bodyPr lIns="25560" rIns="25560" tIns="0" bIns="0" anchor="t">
                      <a:noAutofit/>
                    </a:bodyPr>
                    <a:p>
                      <a:pPr marL="1364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стольны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89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tium I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9920">
                <a:tc>
                  <a:txBody>
                    <a:bodyPr lIns="25560" rIns="25560" tIns="0" bIns="0" anchor="t">
                      <a:noAutofit/>
                    </a:bodyPr>
                    <a:p>
                      <a:pPr marL="1364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стольны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89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tium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9920">
                <a:tc>
                  <a:txBody>
                    <a:bodyPr lIns="25560" rIns="25560" tIns="0" bIns="0" anchor="t">
                      <a:noAutofit/>
                    </a:bodyPr>
                    <a:p>
                      <a:pPr marL="1364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стольны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89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tium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0440">
                <a:tc>
                  <a:txBody>
                    <a:bodyPr lIns="25560" rIns="25560" tIns="0" bIns="0" anchor="t">
                      <a:noAutofit/>
                    </a:bodyPr>
                    <a:p>
                      <a:pPr marL="1396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ртативны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89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tium I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9920">
                <a:tc>
                  <a:txBody>
                    <a:bodyPr lIns="25560" rIns="25560" tIns="0" bIns="0" anchor="t">
                      <a:noAutofit/>
                    </a:bodyPr>
                    <a:p>
                      <a:pPr marL="142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414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ртативны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95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tium I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6280">
                <a:tc>
                  <a:txBody>
                    <a:bodyPr lIns="25560" rIns="25560" tIns="0" bIns="0" anchor="t">
                      <a:noAutofit/>
                    </a:bodyPr>
                    <a:p>
                      <a:pPr marL="1396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44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ртативны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95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tium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7b9899"/>
                </a:solidFill>
                <a:latin typeface="Georgia"/>
              </a:rPr>
              <a:t>Поиск данных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301320" y="1527120"/>
            <a:ext cx="8504280" cy="495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В электронных таблицах можно осуществлять поиск данных (строк) в соответствии с  заданными условиями. Такие условия называются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фильтром.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В результате поиска будут найдены строки, удовлетворяющие заданному фильтру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Условия задаются с помощью операций сравнения. Для числовых данных это операции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равно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(знак =),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меньше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(знак &lt;),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больше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(знак &gt;),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меньше или равно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(знак &lt;=) и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больше или равно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(знак &gt;=). Для задания условия необхо­димо выбрать операцию сравнения и задать число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Для текстовых данных возможны операции сравнения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равно, начинается с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(сравниваются первые символы),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заканчивается на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(сравниваются последние символы),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содержит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(сравниваются символы в любой части текста). Для задания условия необходимо выбрать операцию сравнения и задать последовательность символов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Можно осуществлять поиск данных, вводя условия поиска для нескольких столбцов. В этом случае фильтр будет содержать несколько условий, которые должны выполняться одновременно. Например, если мы хотим в таблице, изображенной на рис. 10.4, найти данные о настольном компьютере с процессором 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Pentium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4 и памятью 128 Мб, то необходимо задать фильтр, состоящий из трех условий: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- для столбца «Компьютеры»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равно Настольный;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- для столбца «Процессор»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равно </a:t>
            </a:r>
            <a:r>
              <a:rPr b="0" i="1" lang="en-US" sz="1500" spc="-1" strike="noStrike">
                <a:solidFill>
                  <a:srgbClr val="000000"/>
                </a:solidFill>
                <a:latin typeface="Georgia"/>
              </a:rPr>
              <a:t>Pentium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4;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- для столбца «Память»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больше 64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0" name="TextBox 3"/>
          <p:cNvSpPr/>
          <p:nvPr/>
        </p:nvSpPr>
        <p:spPr>
          <a:xfrm>
            <a:off x="685800" y="59436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7b9899"/>
                </a:solidFill>
                <a:latin typeface="Georgia"/>
              </a:rPr>
              <a:t>Построение диаграмм и графиков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301320" y="1526760"/>
            <a:ext cx="8504280" cy="38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Типы диаграмм и графиков.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Электронные таблицы позволяют визуализировать данные, размещенные на рабочем листе, в виде диаграммы или графика. Диаграммы и графики наглядно отображают зависимости между данными, что облегчает восприятие и помогает при анализе и сравнении данных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Диаграммы могут быть различных типов и соответственно представлять данные в различной форме. Для каждого набора данных важно правильно подобрать тип создаваемой диаграммы. Для наглядного сравнения различных величин используются линейчатые диаграммы. Например, с помощью линейчатой диаграммы можно наглядно представить данные о численности населения различных стран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Для отображения величин частей от целого применяется круговая диаграмма. Круговая диаграмма позволяет, например, наглядно показать доли стоимости отдельных устройств компьютера в его цене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Для отображения изменения величин в зависимости от времени и построения графиков функций используются диаграммы типа «график» (рис. 10.5)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63" name="Picture 1" descr=""/>
          <p:cNvPicPr/>
          <p:nvPr/>
        </p:nvPicPr>
        <p:blipFill>
          <a:blip r:embed="rId1"/>
          <a:stretch/>
        </p:blipFill>
        <p:spPr>
          <a:xfrm>
            <a:off x="1905120" y="5105520"/>
            <a:ext cx="5105160" cy="1251000"/>
          </a:xfrm>
          <a:prstGeom prst="rect">
            <a:avLst/>
          </a:prstGeom>
          <a:ln w="0">
            <a:noFill/>
          </a:ln>
        </p:spPr>
      </p:pic>
      <p:sp>
        <p:nvSpPr>
          <p:cNvPr id="664" name="Rectangle 2"/>
          <p:cNvSpPr/>
          <p:nvPr/>
        </p:nvSpPr>
        <p:spPr>
          <a:xfrm>
            <a:off x="4416120" y="-267480"/>
            <a:ext cx="3117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Л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 txBox="1"/>
          <p:nvPr/>
        </p:nvSpPr>
        <p:spPr>
          <a:xfrm>
            <a:off x="301320" y="1447920"/>
            <a:ext cx="850428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Диаграммы могут располагаться как на листе с данными (внедренные диаграммы), так и на отдельных листах. Диаграммы связаны с исходными данными на рабочем листе и обновляются при обновлении данных на рабочем листе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Для создания диаграмм используется </a:t>
            </a:r>
            <a:r>
              <a:rPr b="0" i="1" lang="ru-RU" sz="1300" spc="-1" strike="noStrike">
                <a:solidFill>
                  <a:srgbClr val="000000"/>
                </a:solidFill>
                <a:latin typeface="Georgia"/>
              </a:rPr>
              <a:t>Мастер диаграмм. Мастер диаграмм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позволяет создавать диаграмму по шагам с помощью серии диалоговых панелей. В качестве примера рассмотрим таблицу «Цены устройств компьютера» и представим в наглядной форме долю цены каждого устройства в цене компьютера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Построение графиков. Построение графиков является частным случаем  построения диаграмм. Графики выбирают в тех случаях, когда хотят отобразить изменение данных с течением времени. Графики позволяют анализировать за­кономерности изменения величин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Представим с помощью графика динамику изменения цен по годам на различные модели компьютеров (на базе процессоров </a:t>
            </a:r>
            <a:r>
              <a:rPr b="0" lang="en-US" sz="1300" spc="-1" strike="noStrike">
                <a:solidFill>
                  <a:srgbClr val="000000"/>
                </a:solidFill>
                <a:latin typeface="Georgia"/>
              </a:rPr>
              <a:t>Pentium II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и </a:t>
            </a:r>
            <a:r>
              <a:rPr b="0" lang="en-US" sz="1300" spc="-1" strike="noStrike">
                <a:solidFill>
                  <a:srgbClr val="000000"/>
                </a:solidFill>
                <a:latin typeface="Georgia"/>
              </a:rPr>
              <a:t>Pentium III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) — рис. 10.6. 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Процесс построения графика с помощью </a:t>
            </a:r>
            <a:r>
              <a:rPr b="0" i="1" lang="ru-RU" sz="1300" spc="-1" strike="noStrike">
                <a:solidFill>
                  <a:srgbClr val="000000"/>
                </a:solidFill>
                <a:latin typeface="Georgia"/>
              </a:rPr>
              <a:t>Мастера диа­грамм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аналогичен рассмотренному выше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66" name=""/>
          <p:cNvGraphicFramePr/>
          <p:nvPr/>
        </p:nvGraphicFramePr>
        <p:xfrm>
          <a:off x="2133720" y="3733920"/>
          <a:ext cx="4419360" cy="990360"/>
        </p:xfrm>
        <a:graphic>
          <a:graphicData uri="http://schemas.openxmlformats.org/drawingml/2006/table">
            <a:tbl>
              <a:tblPr/>
              <a:tblGrid>
                <a:gridCol w="2896920"/>
                <a:gridCol w="541440"/>
                <a:gridCol w="527040"/>
                <a:gridCol w="453960"/>
              </a:tblGrid>
              <a:tr h="34920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507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05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Цена компьютера на базе процессора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tium 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96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857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06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Цена компьютера на базе процессора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tium I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46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857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667" name="Picture 1" descr="C:\Work\11а\информатика1111\IT3791_03_1.jpg"/>
          <p:cNvPicPr/>
          <p:nvPr/>
        </p:nvPicPr>
        <p:blipFill>
          <a:blip r:embed="rId1"/>
          <a:stretch/>
        </p:blipFill>
        <p:spPr>
          <a:xfrm>
            <a:off x="2590920" y="22860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2" descr="C:\Work\11а\информатика1111\KC6302_48.jpg"/>
          <p:cNvPicPr/>
          <p:nvPr/>
        </p:nvPicPr>
        <p:blipFill>
          <a:blip r:embed="rId2"/>
          <a:stretch/>
        </p:blipFill>
        <p:spPr>
          <a:xfrm>
            <a:off x="5105520" y="1522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669" name="TextBox 6"/>
          <p:cNvSpPr/>
          <p:nvPr/>
        </p:nvSpPr>
        <p:spPr>
          <a:xfrm>
            <a:off x="685800" y="59436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b9899"/>
                </a:solidFill>
                <a:latin typeface="Georgia"/>
              </a:rPr>
              <a:t>Надстройки в электронных таблицах</a:t>
            </a:r>
            <a:br>
              <a:rPr sz="3000"/>
            </a:b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301320" y="1526760"/>
            <a:ext cx="8504280" cy="22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Возможности электронных таблиц не ограничиваются вычислениями по формулам и построением диаграмм и графиков. С помощью надстроек электронных таблиц можно строить геоинформационные модели (выводить на географи­ческие карты данные), приближенно с заданной точностью решать уравнения методом подбора параметра, решать задачи оптимизационного моделирования методом поиска решений и так далее. Некоторые из надстроек не устанавливаются по умолчанию и требуют установки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2" name="Picture 1" descr="C:\Work\11а\информатика1111\calc.jpg"/>
          <p:cNvPicPr/>
          <p:nvPr/>
        </p:nvPicPr>
        <p:blipFill>
          <a:blip r:embed="rId1"/>
          <a:stretch/>
        </p:blipFill>
        <p:spPr>
          <a:xfrm>
            <a:off x="1981080" y="3429000"/>
            <a:ext cx="4489560" cy="3166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TextBox 3"/>
          <p:cNvSpPr/>
          <p:nvPr/>
        </p:nvSpPr>
        <p:spPr>
          <a:xfrm>
            <a:off x="2743200" y="304920"/>
            <a:ext cx="495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46d7a"/>
                </a:solidFill>
                <a:latin typeface="Georgia"/>
              </a:rPr>
              <a:t>Содержание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Box 4"/>
          <p:cNvSpPr/>
          <p:nvPr/>
        </p:nvSpPr>
        <p:spPr>
          <a:xfrm>
            <a:off x="380880" y="1676520"/>
            <a:ext cx="426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Электронные калькулят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Box 5"/>
          <p:cNvSpPr/>
          <p:nvPr/>
        </p:nvSpPr>
        <p:spPr>
          <a:xfrm>
            <a:off x="4419720" y="22096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Электронные табл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Box 6"/>
          <p:cNvSpPr/>
          <p:nvPr/>
        </p:nvSpPr>
        <p:spPr>
          <a:xfrm>
            <a:off x="380880" y="26668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строенные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Box 7"/>
          <p:cNvSpPr/>
          <p:nvPr/>
        </p:nvSpPr>
        <p:spPr>
          <a:xfrm>
            <a:off x="3733920" y="3276720"/>
            <a:ext cx="44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ортировка и поиск да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Box 8"/>
          <p:cNvSpPr/>
          <p:nvPr/>
        </p:nvSpPr>
        <p:spPr>
          <a:xfrm>
            <a:off x="457200" y="419112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остроение диаграмм и граф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Box 9"/>
          <p:cNvSpPr/>
          <p:nvPr/>
        </p:nvSpPr>
        <p:spPr>
          <a:xfrm>
            <a:off x="2971800" y="502920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адстройки в электронных таблиц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Поиск решения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301320" y="1526760"/>
            <a:ext cx="8504280" cy="27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i="1" lang="ru-RU" sz="1900" spc="-1" strike="noStrike">
                <a:solidFill>
                  <a:srgbClr val="000000"/>
                </a:solidFill>
                <a:latin typeface="Georgia"/>
              </a:rPr>
              <a:t>Поиск решения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является надстройкой, которая позволяет решать задачи оптимизационного моде­лирования. Процедура поиска решения позволяет найти оптимальное значение формулы, содержащейся в ячейке, которая называется целевой. Эта процедура работает с группой ячеек, прямо или косвенно связанных с формулой в целевой ячейке. Чтобы получить по формуле, содержащейся в целевой ячейке, искомый результат, процедура изменяет значения во влияющих ячейках. Чтобы сузить множество значений, используемых в модели, применяются ограничения. Эти ограничения могут содержать ссылки на другие влияющие ячейки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5" name="Picture 1" descr="C:\Work\11а\инфр\5.jpg"/>
          <p:cNvPicPr/>
          <p:nvPr/>
        </p:nvPicPr>
        <p:blipFill>
          <a:blip r:embed="rId1"/>
          <a:stretch/>
        </p:blipFill>
        <p:spPr>
          <a:xfrm>
            <a:off x="1143000" y="3962520"/>
            <a:ext cx="1771560" cy="236196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2" descr="C:\Work\11а\инфр\ноут.jpg"/>
          <p:cNvPicPr/>
          <p:nvPr/>
        </p:nvPicPr>
        <p:blipFill>
          <a:blip r:embed="rId2"/>
          <a:stretch/>
        </p:blipFill>
        <p:spPr>
          <a:xfrm>
            <a:off x="4648320" y="396252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Подбор параметра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i="1" lang="ru-RU" sz="2300" spc="-1" strike="noStrike">
                <a:solidFill>
                  <a:srgbClr val="000000"/>
                </a:solidFill>
                <a:latin typeface="Georgia"/>
              </a:rPr>
              <a:t>Подбор параметра 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является одним из инструментов анализа «что, если». Этот метод используется при поиске значения аргумента функции, который обеспечивает требуемое значение функции. При подборе параметра изменяется значение в ячейке аргумента функции до тех пор, пока значение в ячейке самой функции не будет возвращать нужный результат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В качестве примера рассмотрим поиск корня уравнения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х</a:t>
            </a:r>
            <a:r>
              <a:rPr b="0" lang="ru-RU" sz="2300" spc="-1" strike="noStrike" baseline="30000">
                <a:solidFill>
                  <a:srgbClr val="000000"/>
                </a:solidFill>
                <a:latin typeface="Georgia"/>
              </a:rPr>
              <a:t>3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 - 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sin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* - 0,5 = 0. Представим функцию в табличной форме, построим ее график, который позволит определить корень уравнения грубо приближенно. Для поиска решения с заданной точностью используем метод </a:t>
            </a:r>
            <a:r>
              <a:rPr b="0" i="1" lang="ru-RU" sz="2300" spc="-1" strike="noStrike">
                <a:solidFill>
                  <a:srgbClr val="000000"/>
                </a:solidFill>
                <a:latin typeface="Georgia"/>
              </a:rPr>
              <a:t>Подбор параметра. 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Точность подбора зависит от заданной точности представления чисел в ячейках таблицы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9" name="Picture 2" descr="C:\Work\11а\информатика1111\c465b.jpg"/>
          <p:cNvPicPr/>
          <p:nvPr/>
        </p:nvPicPr>
        <p:blipFill>
          <a:blip r:embed="rId1"/>
          <a:stretch/>
        </p:blipFill>
        <p:spPr>
          <a:xfrm>
            <a:off x="7086600" y="228600"/>
            <a:ext cx="1623960" cy="1219320"/>
          </a:xfrm>
          <a:prstGeom prst="rect">
            <a:avLst/>
          </a:prstGeom>
          <a:ln w="0">
            <a:noFill/>
          </a:ln>
        </p:spPr>
      </p:pic>
      <p:sp>
        <p:nvSpPr>
          <p:cNvPr id="680" name="TextBox 4"/>
          <p:cNvSpPr/>
          <p:nvPr/>
        </p:nvSpPr>
        <p:spPr>
          <a:xfrm>
            <a:off x="1219320" y="60199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546d7a"/>
                </a:solidFill>
                <a:latin typeface="Georgia"/>
              </a:rPr>
              <a:t>Электронные калькуляторы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320" y="1526760"/>
            <a:ext cx="850428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Электронные калькуляторы являются специализирован­ными программными приложениями, предназначенными для произведения вычислений. Электронные калькуляторы по своим функциональным возможностям соответствуют ап­паратным микрокалькуляторам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Аппаратные микрокалькуляторы могут существенно раз­личаться по своим возможностям и областям применения. Простые микрокалькуляторы позволяют осуществлять толь­ко арифметические операции над числами и используются в быту. Инженерные микрокалькуляторы позволяют также вычислять значения различных функций </a:t>
            </a: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(sin, cos 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и др.) и используются в процессе обучения и для инженерных расче­тов; программистские микрокалькуляторы позволяют про­водить вычисления в различных системах счисления и другие операции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Электронные калькуляторы гораздо удобнее, так как могут обладать возможностями всех вышеперечисленных типов ап­паратных микрокалькуляторов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7" name="Picture 2" descr="C:\Work\11а\информатика1111\4537_17.jpg"/>
          <p:cNvPicPr/>
          <p:nvPr/>
        </p:nvPicPr>
        <p:blipFill>
          <a:blip r:embed="rId1"/>
          <a:stretch/>
        </p:blipFill>
        <p:spPr>
          <a:xfrm>
            <a:off x="6324480" y="4114800"/>
            <a:ext cx="2210040" cy="200484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3" descr="C:\Work\11а\информатика1111\c476b.jpg"/>
          <p:cNvPicPr/>
          <p:nvPr/>
        </p:nvPicPr>
        <p:blipFill>
          <a:blip r:embed="rId2"/>
          <a:stretch/>
        </p:blipFill>
        <p:spPr>
          <a:xfrm>
            <a:off x="838080" y="4419720"/>
            <a:ext cx="2157480" cy="161928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4" descr="C:\Work\11а\информатика1111\c465b.jpg"/>
          <p:cNvPicPr/>
          <p:nvPr/>
        </p:nvPicPr>
        <p:blipFill>
          <a:blip r:embed="rId3"/>
          <a:stretch/>
        </p:blipFill>
        <p:spPr>
          <a:xfrm>
            <a:off x="3657600" y="4419720"/>
            <a:ext cx="215748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Электронный Калькулятор является стандартным приложением операционной системы 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Windows.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Одним из удачных элек­тронных калькуляторов является 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NumLock Calculator,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в процессе работы с которым легко выбрать требуемый тип калькулятора 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С помощью электронных калькуляторов можно: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- производить  арифметические  действия  над  целыми  и дробными числами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- переводить числа из одной системы счисления в другую(например, из десятичной в двоичную)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- вычислять значения математических функций  (например, </a:t>
            </a: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х</a:t>
            </a:r>
            <a:r>
              <a:rPr b="0" i="1" lang="ru-RU" sz="16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, 1/х)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- вычислять значения статистических функций (например, среднее арифметическое заданных чисел)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- вычислять значения финансовых  функций  (например, вычислять сумму банковского вклада с заданным процентом) и др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Электронные калькуляторы позволяют проводить сложные многоступенчатые вычисления с записью промежуточных результатов в ячейки памяти калькулятора. По мере необходимости такие результаты можно извлекать из памяти и использовать в дальнейших вычислениях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Электронные калькуляторы позволяют обмениваться числовыми данными с другими приложениями с использованием </a:t>
            </a: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буфера обмена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операционной системы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1" name="Picture 2" descr="C:\Work\11а\инфр\265.jpg"/>
          <p:cNvPicPr/>
          <p:nvPr/>
        </p:nvPicPr>
        <p:blipFill>
          <a:blip r:embed="rId1"/>
          <a:stretch/>
        </p:blipFill>
        <p:spPr>
          <a:xfrm>
            <a:off x="1066680" y="228600"/>
            <a:ext cx="6542280" cy="1066680"/>
          </a:xfrm>
          <a:prstGeom prst="rect">
            <a:avLst/>
          </a:prstGeom>
          <a:ln w="0">
            <a:noFill/>
          </a:ln>
        </p:spPr>
      </p:pic>
      <p:sp>
        <p:nvSpPr>
          <p:cNvPr id="622" name="TextBox 5"/>
          <p:cNvSpPr/>
          <p:nvPr/>
        </p:nvSpPr>
        <p:spPr>
          <a:xfrm>
            <a:off x="1676520" y="601992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Электронные таблицы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301320" y="1526760"/>
            <a:ext cx="8504280" cy="38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Электронные таблицы позволяют обрабатывать большие массивы числовых данных, например результаты экспериментов, статистические данные и так далее. Наибольшее распространение получили электронные таблицы 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Microsoft Excel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и 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StarCalc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Электронная таблица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— это работающее в диалоговом режиме приложение, хранящее и обрабатывающее данные в прямоугольных таблицах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Электронная таблица состоит из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столбцов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и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строк.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Заго­ловки столбцов обозначаются буквами или сочетаниями букв (А, С, АВ и т. п.), заголовки строк — числами (1, 2, 3 и далее).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Ячейка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— место пересечения столбца и строки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Каждая ячейка таблицы имеет свой собственный адрес.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Адрес ячейки электронной таблицы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составляется из заго­ловка столбца и заголовка строки, например 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Al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B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5, ЕЗ. Ячейка, с которой производятся какие-то действия, выделя­ется рамкой и называется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активной.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На рис. активной ячейкой является ячейка СЗ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25" name=""/>
          <p:cNvGraphicFramePr/>
          <p:nvPr/>
        </p:nvGraphicFramePr>
        <p:xfrm>
          <a:off x="3657600" y="4952880"/>
          <a:ext cx="3986280" cy="1051200"/>
        </p:xfrm>
        <a:graphic>
          <a:graphicData uri="http://schemas.openxmlformats.org/drawingml/2006/table">
            <a:tbl>
              <a:tblPr/>
              <a:tblGrid>
                <a:gridCol w="365040"/>
                <a:gridCol w="609840"/>
                <a:gridCol w="725400"/>
                <a:gridCol w="695160"/>
                <a:gridCol w="792360"/>
                <a:gridCol w="798480"/>
              </a:tblGrid>
              <a:tr h="17460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96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62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365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95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858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6400">
                <a:tc>
                  <a:txBody>
                    <a:bodyPr lIns="25560" rIns="25560" tIns="0" bIns="0" anchor="t">
                      <a:noAutofit/>
                    </a:bodyPr>
                    <a:p>
                      <a:pPr marL="106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25560" rIns="25560" tIns="0" bIns="0" anchor="t">
                      <a:noAutofit/>
                    </a:bodyPr>
                    <a:p>
                      <a:pPr marL="93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6040">
                <a:tc>
                  <a:txBody>
                    <a:bodyPr lIns="25560" rIns="25560" tIns="0" bIns="0" anchor="t">
                      <a:noAutofit/>
                    </a:bodyPr>
                    <a:p>
                      <a:pPr marL="93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960">
                <a:tc>
                  <a:txBody>
                    <a:bodyPr lIns="25560" rIns="25560" tIns="0" bIns="0" anchor="t">
                      <a:noAutofit/>
                    </a:bodyPr>
                    <a:p>
                      <a:pPr marL="93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25560" rIns="25560" tIns="0" bIns="0" anchor="t">
                      <a:noAutofit/>
                    </a:bodyPr>
                    <a:p>
                      <a:pPr marL="968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Электронные таблицы, с которыми работает пользователь в приложении, называются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рабочими листами.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Можно вво­дить и изменять данные одновременно на нескольких рабочих листах, а также выполнять вычисления на основе данных из нескольких листов. Документы электронных таблиц могут включать несколько рабочих листов и называются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рабочими книгами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Основные типы и форматы данных. В работе с электронными таблицами можно выделить три основных типа данных: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число, текст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и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формула.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В зависимости от решаемой задачи возникает необходимость применять различные форматы представления данных. В каждом конкретном случае важно выбрать наиболее подходящий формат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Для представления чисел по умолчанию электронные таблицы используют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числовой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формат, который отображает два десятичных знака после запятой (например, 195,20)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Экспоненциальный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формат применяется, если число, содержащее большое количество разрядов, не умещается в ячейке (например, число 2 000 000 000 в экспоненциальном формате будет записано в следующем виде: 2,00Е+09)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По умолчанию числа выравниваются в ячейке по правому краю. Это объясняется тем, что при размещении чисел друг под другом (в столбце таблицы) удобно иметь выравнивание по разрядам (единицы под единицами, десятки под десятками и так далее)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7" name="Picture 1" descr="C:\Work\11а\информатика1111\Photoentirepage.jpg"/>
          <p:cNvPicPr/>
          <p:nvPr/>
        </p:nvPicPr>
        <p:blipFill>
          <a:blip r:embed="rId1"/>
          <a:stretch/>
        </p:blipFill>
        <p:spPr>
          <a:xfrm>
            <a:off x="609480" y="152280"/>
            <a:ext cx="1752840" cy="116532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2" descr="C:\Work\11а\информатика1111\de754f679fdd.jpg"/>
          <p:cNvPicPr/>
          <p:nvPr/>
        </p:nvPicPr>
        <p:blipFill>
          <a:blip r:embed="rId2"/>
          <a:stretch/>
        </p:blipFill>
        <p:spPr>
          <a:xfrm>
            <a:off x="6400800" y="152280"/>
            <a:ext cx="1612800" cy="12780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Текстом в электронных таблицах является последовательность символов, состоящая из букв, цифр и пробелов, например, запись «32 Мбайт» является текстовой. По умолчанию текст выравнивается в ячейке по левому краю. Это объясняется традиционным способом письма (слева направо)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Формула должна начинаться со знака равенства и может включать в себя числа, имена ячеек, функции и знаки математических операций. В формулу не может входить текст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Например, формула =А1+В2 обеспечивает сложение чисел, хранящихся в ячейках А1 и В2, а формула =А1*5 — умножение числа, хранящегося в ячейке А1, на 5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При вводе формулы в ячейке отображается не сама формула, а результат вычислений по этой формуле. При изменении исходных значений, входящих в формулу, результат пересчитывается немедленно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Для представления данных можно использовать также специализированные форматы: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денежный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формат (12000,00р.) удобен для бухгалтерских расчетов, форматы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дата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и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время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позволяют хранить значения временных данных (15.01.2002    17:45:10)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0" name="Picture 1" descr="C:\Work\11а\информатика1111\clementoni_60303_1.jpg"/>
          <p:cNvPicPr/>
          <p:nvPr/>
        </p:nvPicPr>
        <p:blipFill>
          <a:blip r:embed="rId1"/>
          <a:stretch/>
        </p:blipFill>
        <p:spPr>
          <a:xfrm>
            <a:off x="3809880" y="228600"/>
            <a:ext cx="1376640" cy="10666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b9899"/>
                </a:solidFill>
                <a:latin typeface="Georgia"/>
              </a:rPr>
              <a:t>Относительные и абсолютные ссылки.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В формулах используются ссылки на адреса ячеек. Существуют два основных типа ссылок: </a:t>
            </a:r>
            <a:r>
              <a:rPr b="0" i="1" lang="ru-RU" sz="1900" spc="-1" strike="noStrike">
                <a:solidFill>
                  <a:srgbClr val="000000"/>
                </a:solidFill>
                <a:latin typeface="Georgia"/>
              </a:rPr>
              <a:t>относительные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и </a:t>
            </a:r>
            <a:r>
              <a:rPr b="0" i="1" lang="ru-RU" sz="1900" spc="-1" strike="noStrike">
                <a:solidFill>
                  <a:srgbClr val="000000"/>
                </a:solidFill>
                <a:latin typeface="Georgia"/>
              </a:rPr>
              <a:t>абсолютные.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Различия между относительными и абсолютными ссылками проявляются при копировании формулы из активной ячейки в другую ячейку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i="1" lang="ru-RU" sz="1900" spc="-1" strike="noStrike">
                <a:solidFill>
                  <a:srgbClr val="000000"/>
                </a:solidFill>
                <a:latin typeface="Georgia"/>
              </a:rPr>
              <a:t>Относительные ссылки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в формулах используются для указания адреса ячейки, вычисляемого относительно ячей­ки, в которой находится формула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При перемещении или копировании формулы из актив­ной ячейки относительные ссылки автоматически обновля­ются в зависимости от нового положения формулы. Относи­тельные ссылки имеют следующий вид: А1, ВЗ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При копировании формулы, содержащей только относи­тельные ссылки, из ячейки С1 в ячейку 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D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2 обозначения столбцов и строк в формуле изменятся на один шаг вправо и вниз (рис. 10.3)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33" name=""/>
          <p:cNvGraphicFramePr/>
          <p:nvPr/>
        </p:nvGraphicFramePr>
        <p:xfrm>
          <a:off x="2362320" y="5105520"/>
          <a:ext cx="4572000" cy="1218960"/>
        </p:xfrm>
        <a:graphic>
          <a:graphicData uri="http://schemas.openxmlformats.org/drawingml/2006/table">
            <a:tbl>
              <a:tblPr/>
              <a:tblGrid>
                <a:gridCol w="420480"/>
                <a:gridCol w="638280"/>
                <a:gridCol w="623880"/>
                <a:gridCol w="1065240"/>
                <a:gridCol w="1157400"/>
                <a:gridCol w="666720"/>
              </a:tblGrid>
              <a:tr h="2030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69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666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524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95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3400">
                <a:tc>
                  <a:txBody>
                    <a:bodyPr lIns="25560" rIns="25560" tIns="0" bIns="0" anchor="t">
                      <a:noAutofit/>
                    </a:bodyPr>
                    <a:p>
                      <a:pPr marL="1033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А1*В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3040">
                <a:tc>
                  <a:txBody>
                    <a:bodyPr lIns="25560" rIns="25560" tIns="0" bIns="0" anchor="t">
                      <a:noAutofit/>
                    </a:bodyPr>
                    <a:p>
                      <a:pPr marL="90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В2*С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3040">
                <a:tc>
                  <a:txBody>
                    <a:bodyPr lIns="25560" rIns="25560" tIns="0" bIns="0" anchor="t">
                      <a:noAutofit/>
                    </a:bodyPr>
                    <a:p>
                      <a:pPr marL="90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$А$1*$В$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3400">
                <a:tc>
                  <a:txBody>
                    <a:bodyPr lIns="25560" rIns="25560" tIns="0" bIns="0" anchor="t">
                      <a:noAutofit/>
                    </a:bodyPr>
                    <a:p>
                      <a:pPr marL="90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$А$1*$В$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3040">
                <a:tc>
                  <a:txBody>
                    <a:bodyPr lIns="25560" rIns="25560" tIns="0" bIns="0" anchor="t">
                      <a:noAutofit/>
                    </a:bodyPr>
                    <a:p>
                      <a:pPr marL="93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 txBox="1"/>
          <p:nvPr/>
        </p:nvSpPr>
        <p:spPr>
          <a:xfrm>
            <a:off x="301320" y="1526760"/>
            <a:ext cx="850428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Абсолютные ссылки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в формулах используются для указания фиксированного адреса ячейки. При перемещении или копировании формулы абсолютные ссылки не изменяются. В абсолютных ссылках перед неизменяемыми значе­ниями адреса ячейки ставится знак доллара (например, $А$1)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При копировании формулы, содержащей только абсолютные ссылки, из ячейки СЗ в ячейку 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D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4 обозначения столбцов и строк в формуле не изменятся (см. рис. 10.3)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Рассмотрим действие относительных и абсолютных ссылок на примере. Пусть нам необходимо вычислить стоимость комплектующих для компьютера в рублях, если известны их цены в долларах и курс доллара. Для вычисления цены в рублях необходимо умножить цену в долларах на величину курса доллара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5" name="Picture 2" descr="C:\Work\11а\информатика1111\1250152275.jpg"/>
          <p:cNvPicPr/>
          <p:nvPr/>
        </p:nvPicPr>
        <p:blipFill>
          <a:blip r:embed="rId1"/>
          <a:stretch/>
        </p:blipFill>
        <p:spPr>
          <a:xfrm>
            <a:off x="5334120" y="4038480"/>
            <a:ext cx="3033720" cy="2654280"/>
          </a:xfrm>
          <a:prstGeom prst="rect">
            <a:avLst/>
          </a:prstGeom>
          <a:ln w="0">
            <a:noFill/>
          </a:ln>
        </p:spPr>
      </p:pic>
      <p:sp>
        <p:nvSpPr>
          <p:cNvPr id="636" name="TextBox 4"/>
          <p:cNvSpPr/>
          <p:nvPr/>
        </p:nvSpPr>
        <p:spPr>
          <a:xfrm>
            <a:off x="609480" y="60199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8-27T15:44:30Z</dcterms:modified>
  <cp:revision>19</cp:revision>
  <dc:subject/>
  <dc:title>Слайд 1</dc:title>
</cp:coreProperties>
</file>