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88CE-61A8-4BC8-9977-B9536BD0B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B1D6-124E-471C-9319-BB721677F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576B1B-AA5F-4A19-82F2-110E319FC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E9D0A5-872F-4532-B7C9-91E2FE8BA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6BF520-36C4-4666-92E0-46EF76640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9A2E6D-BBB6-4E95-AF27-65139E35F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6B507E-A72D-4BF9-B554-D9BE91C79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D1C1B1-6B36-4776-947C-7B99AF12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16A928-D387-4FA8-93AF-6B5A7074B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71B7C3-0ED8-4FBB-9653-ABA3CF236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5F6B0D-6813-4D2C-A0E4-243B65799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7D2890-AFF7-43CB-8AE0-1C05CB11E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63A4-7951-4FE8-BE7F-0DB4B13B5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4E2E41-A42E-46D3-869B-02AFBCA53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614237-A821-44AA-A9CD-AED5B1C89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7F3103-209A-4765-A64F-95FAD3B5F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561D8F-2931-4653-85F2-E4C5781A4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C099B5-4520-4F2D-B6AF-805D2F4BF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E9E211-39D3-4738-AE6F-DAD8102EC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35419A-971D-437A-8A58-B0C2908D3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B2035A-4EE4-4C23-99F5-895FF4CBE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016E24-143A-41B4-B5EB-6058E8ADF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96F257-3636-454C-A521-DE23999CD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CA6F-D651-4014-988B-F599209A1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F3BC66-6A34-4D38-9FD6-1B8C6199F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9B48BB-7B10-4B03-806B-A5D51BADB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993BBD-66AD-4EB2-A7BE-3BC2E23F7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B230BA-1CD1-43DD-B76F-A38F11021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CC798A-C8C5-464B-84D4-9B80C8BC7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8E3F23-AB29-4A88-93D7-55A27D989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E0DAAC-9FF6-4B8C-8675-6B0B504AB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26FB71-9EC2-4D19-A863-10F151026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162AF5-B57F-4B9A-B7BC-F334DBB10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CC8E33-D9F0-44D0-896F-48434B5C1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53A13-1B33-49D7-B04C-935A6B9E9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98C064-65D2-434B-9515-C8572651E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CB5A56-83A1-47D4-8A42-DDCAF596B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4D7514-EFC9-4B42-A3BC-9B46469D2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2DA5B7-4D82-435E-9424-F352BE709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C0F746-4C22-4EC9-95FA-FEB279135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E92ABF-DE00-4940-A999-110C25777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9A1B0B-8A8F-4EF2-83FC-220A9F26E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CFE498-1ECB-4612-9652-631B8E964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A83D93-AAD3-4A44-9BB6-F4F4CE66B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50C475-16B6-4FE6-8793-AEBBC2656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811D4-1978-4E86-864C-0FEC5CDD7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D9D0FF-4664-474B-9FB1-44F89EFDE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7168E8-AA9E-4959-9AC5-48C5D419E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901668-CD7B-42D8-A03C-53435DC0C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30E110-013C-4CF3-99B4-E2E8C234B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DBDB70-9B6B-452A-9437-63F2F4516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37E1A-C868-4327-A39E-8234B446B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B14E2-01BD-4C8F-8A2C-70FF94E54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EA553-C983-4864-8A4E-DB9317A18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C33F7-44ED-409E-B347-E19661039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F3330-F3AC-47BE-A346-8F7693AD2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467C-E774-4B9B-8B4C-420C69610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002C3-95CA-446B-963C-21392F775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45299-339D-4836-B425-56560D4F4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93BEB-0098-4BA1-8CC3-DB6609C65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83879-B011-4E70-B03D-53A2F0B84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8B2C1-888F-42E2-89BF-36143C174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A2D85-EB6B-4595-88C7-CDCBDEE95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2DEF4-AA2A-4BFE-A33D-86997CBE6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EF543-383F-4121-82AE-4599B9F83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FADA6-95AE-4352-9089-6F36A0EA5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F3EF4-5E37-486E-BFCD-643F16CA3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8658-ABFE-4A83-9AD6-93D6ED8DA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E7A17-CF1E-4D9E-AF6B-DE9365572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F957D-3CA7-4B3B-B5DC-90C896E09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AECA5-9D22-4D9A-A944-97285CFBA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90C49-685F-4D00-BDB8-1924A1FB6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1F20C-64B9-404E-B9B4-4518BADFC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0047F-AE8B-4886-806B-2609F5EF8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B9804-FBCC-476F-B9AA-147C5994D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3C66C-B6BD-4DCC-A7D2-3EE9B0122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51FB4F-EE28-4AD4-AA8E-F38E60A34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10ABE-1CA5-4DD4-BF72-19B796691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6789-85E6-407F-B630-DA7BB216B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86699-80CE-4422-8BCC-00343B3C1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594C9-425E-4495-947A-27BD40305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DF33B-61CE-4D99-BE41-5886308EB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1F3135-852F-4F70-B526-4B1D17468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BF118-BFEF-44B2-8788-A8B1ABBAB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A9C94-8308-4E7C-A336-D6BCCE545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1BF68-02CF-41EE-9B8A-F7C6B1F5B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8E5B1-8C84-4CC2-B944-DBB639426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51AA1-29E7-45B0-9BD0-3559D8629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F96D55-F359-4B43-9C7D-AFA965543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DE53-7D48-46D2-85DA-73B426631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D049EE-D175-471E-AD6C-26213B136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A1E08B-3454-4F10-9D23-F4574573C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6CE793-792C-4688-93B1-4E2F704B9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4980C-F6B6-460B-962A-C1F2C2269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193D40-4087-42F9-BBF9-C9ACA9EAE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841E85-5B7B-4DF4-988A-F49AEFDF3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9C178F-095E-420D-B97B-8B12B5B1E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C26262-16A4-4678-BB4A-40482564D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3E5D3C-4F1F-4921-96D9-459BB3C38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C94FCB-5C7C-477B-9D18-248CE6DD8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4D79-B33A-48FC-A3AE-280920D1C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1798E4-C2EB-476E-9B22-196717149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0D82D7-BEBF-4CCB-9415-28836F939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835AAF-60FE-4D92-A20A-8165947D1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8D1C79-FBC4-462D-8E59-B6774008F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129DE7-1142-44DE-86D1-EA6EFE09F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C342A6-0A92-416F-B1CE-0376A58D1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52788F-0664-47A1-930F-B694198AA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347A21-8E5E-45D9-BE8C-F0591F167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5D84F0-44D1-404C-AB59-511C3887C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21EC5-109A-4146-B8E8-6A0B33B17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1588-C64B-4D4E-9434-04DFB1298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BDD6BB-50FE-4BBE-8B47-0A540699A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F98BBD-9022-4F31-B0D5-EE3C1723B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9BBA12-C500-4A73-B770-CECA243BE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339005-906F-4BF2-9E09-9A7CF39EB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D6A80E-910F-4BF0-92BA-B038FB8FE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9A1AED-7DA7-4527-A774-774071970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A7F197-45FD-4EFC-97C7-FB8506756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8ADBA5-BBAE-49B8-A80F-37C1C8285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8D12E4-3B7F-4C8C-83CF-0E9F4AF87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F4E161-6C41-46FF-A774-4DBF4A93E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92DC-B926-4FB6-8D4C-9F15E473C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250989-DBAF-47C1-B9DD-D7D3479AA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29621E-F78A-4656-BF85-8A9596E5C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18F19A-690D-4AE9-9844-EEA055753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C71F90-9F86-42B2-84EB-028127D59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3AB7CB-4E1B-4BFB-9A01-427F25DA4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0FDC67-E74B-492B-8E79-8F4ECDBB6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62C5ED-E402-4680-BFE0-DB0540677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D084F7-E1F8-4FA2-A678-B88759263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256EF6-5D82-4258-A051-72F1965E3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00EA6F-DBB2-4040-8742-D3957AE9A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7645-3C24-4D55-80F7-CF87370B9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F3B549-8BFA-4459-B6C8-697FF38D6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5D7B33-22DD-4361-AD28-1201471F9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935464-289D-4705-8010-01793520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2AB177-A455-4385-9826-B6F86892B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A2E92A-8D52-41CB-9B9A-D2223A4E8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EC7727-2023-4118-9C6E-F433AEFF0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FF1F5E-0EE1-4DAB-851F-B6B76236F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8600B8-C096-460B-A237-E8BB0A2E3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B65F3C-91D2-4C21-A03D-CA827ED6B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68FA6B-4A2F-4A7C-8984-73558E09D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E668F-E99E-4A6E-937B-7DFFA43FBD97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20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1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1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1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19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1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11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12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2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390D8-70BA-4DFE-A6F3-17763868D4B6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30971-9FB5-4AEA-A163-1588C542B38F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1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1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1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1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1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867BB-6587-4962-80C9-E49D65ABD117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5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9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03B19-A57E-45E6-BE7C-A439F81F59D2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8D776-6765-49CC-9AF3-0A08B69C180B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5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1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1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1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7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1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76481-8E18-4992-B575-E09B00E5EB73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7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04352-BF54-4130-AE90-4D34863CC000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1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1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1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4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1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4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30173-CA9D-4F9C-97C2-D2ADA1F7BBA8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8AD54-B74E-48FA-A604-146FB9E5C280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9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5C2B5-F979-4D6B-BD51-9AB267CA912E}" type="slidenum">
              <a:rPr b="0" lang="en-U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8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17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15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1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1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1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2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6E506-3579-4211-9009-DED8F7FC8AF2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d16349"/>
                </a:solidFill>
                <a:latin typeface="Georgia"/>
              </a:rPr>
              <a:t>Технология обработки числов</a:t>
            </a:r>
            <a:r>
              <a:rPr b="0" lang="ru-RU" sz="3800" spc="-1" strike="noStrike">
                <a:solidFill>
                  <a:srgbClr val="d16349"/>
                </a:solidFill>
                <a:latin typeface="Arial"/>
              </a:rPr>
              <a:t>ых </a:t>
            </a:r>
            <a:r>
              <a:rPr b="0" lang="ru-RU" sz="3800" spc="-1" strike="noStrike">
                <a:solidFill>
                  <a:srgbClr val="d16349"/>
                </a:solidFill>
                <a:latin typeface="Georgia"/>
              </a:rPr>
              <a:t>данных</a:t>
            </a:r>
            <a:endParaRPr b="0" lang="en-US" sz="3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7" name="TextBox 2"/>
          <p:cNvSpPr/>
          <p:nvPr/>
        </p:nvSpPr>
        <p:spPr>
          <a:xfrm>
            <a:off x="4419720" y="51814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работчик презентаци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информати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СОШ №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 Можайска Москов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45720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b9899"/>
                </a:solidFill>
                <a:latin typeface="Georgia"/>
              </a:rPr>
              <a:t>Встроенные функции</a:t>
            </a:r>
            <a:br>
              <a:rPr sz="3000"/>
            </a:b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301320" y="1526760"/>
            <a:ext cx="8504280" cy="33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Формулы могут состоять не только из арифметических операторов и адресов ячеек. Часто в вычислениях приходится использовать формулы, содержащие функции. Электронные таблицы имеют несколько сотен встроенных функций, которые подразделяются на категории: </a:t>
            </a:r>
            <a:r>
              <a:rPr b="0" i="1" lang="ru-RU" sz="2700" spc="-1" strike="noStrike">
                <a:solidFill>
                  <a:srgbClr val="000000"/>
                </a:solidFill>
                <a:latin typeface="Georgia"/>
              </a:rPr>
              <a:t>Математические, Статистические, Финансовые, Дата и время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и так далее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9" name="Picture 2" descr="C:\Work\11а\информатика1111\3058424.jpg"/>
          <p:cNvPicPr/>
          <p:nvPr/>
        </p:nvPicPr>
        <p:blipFill>
          <a:blip r:embed="rId1"/>
          <a:stretch/>
        </p:blipFill>
        <p:spPr>
          <a:xfrm>
            <a:off x="1752480" y="4572000"/>
            <a:ext cx="5105520" cy="200016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1" name="TextBox 3"/>
          <p:cNvSpPr/>
          <p:nvPr/>
        </p:nvSpPr>
        <p:spPr>
          <a:xfrm>
            <a:off x="2057400" y="19051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строенные функ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Box 4"/>
          <p:cNvSpPr/>
          <p:nvPr/>
        </p:nvSpPr>
        <p:spPr>
          <a:xfrm>
            <a:off x="838080" y="327672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Математические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Box 5"/>
          <p:cNvSpPr/>
          <p:nvPr/>
        </p:nvSpPr>
        <p:spPr>
          <a:xfrm>
            <a:off x="4876920" y="32767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Логические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4" name="Прямая со стрелкой 7"/>
          <p:cNvCxnSpPr/>
          <p:nvPr/>
        </p:nvCxnSpPr>
        <p:spPr>
          <a:xfrm flipH="1">
            <a:off x="2666520" y="2666880"/>
            <a:ext cx="610560" cy="534240"/>
          </a:xfrm>
          <a:prstGeom prst="straightConnector1">
            <a:avLst/>
          </a:prstGeom>
          <a:ln w="9360">
            <a:solidFill>
              <a:srgbClr val="d16349"/>
            </a:solidFill>
            <a:miter/>
            <a:tailEnd len="med" type="arrow" w="med"/>
          </a:ln>
        </p:spPr>
      </p:cxnSp>
      <p:cxnSp>
        <p:nvCxnSpPr>
          <p:cNvPr id="645" name="Прямая со стрелкой 9"/>
          <p:cNvCxnSpPr/>
          <p:nvPr/>
        </p:nvCxnSpPr>
        <p:spPr>
          <a:xfrm>
            <a:off x="4952520" y="2666880"/>
            <a:ext cx="762840" cy="534240"/>
          </a:xfrm>
          <a:prstGeom prst="straightConnector1">
            <a:avLst/>
          </a:prstGeom>
          <a:ln w="9360">
            <a:solidFill>
              <a:srgbClr val="d16349"/>
            </a:solidFill>
            <a:miter/>
            <a:tailEnd len="med" type="arrow" w="med"/>
          </a:ln>
        </p:spPr>
      </p:cxnSp>
      <p:sp>
        <p:nvSpPr>
          <p:cNvPr id="646" name="TextBox 10"/>
          <p:cNvSpPr/>
          <p:nvPr/>
        </p:nvSpPr>
        <p:spPr>
          <a:xfrm>
            <a:off x="1752480" y="57913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Математические функции</a:t>
            </a:r>
            <a:br>
              <a:rPr sz="3300"/>
            </a:b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Одной из наиболее часто используемых операций является суммирование значений диапазона ячеек для расчета итоговых результатов. На панели инструментов </a:t>
            </a:r>
            <a:r>
              <a:rPr b="0" i="1" lang="ru-RU" sz="2700" spc="-1" strike="noStrike">
                <a:solidFill>
                  <a:srgbClr val="000000"/>
                </a:solidFill>
                <a:latin typeface="Georgia"/>
              </a:rPr>
              <a:t>Стандартная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расположена кнопка [х], </a:t>
            </a:r>
            <a:r>
              <a:rPr b="0" i="1" lang="ru-RU" sz="2700" spc="-1" strike="noStrike">
                <a:solidFill>
                  <a:srgbClr val="000000"/>
                </a:solidFill>
                <a:latin typeface="Georgia"/>
              </a:rPr>
              <a:t>Автосуммирование,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оторая используется для автоматического суммирования чисел с помощью функции СУММ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9" name="TextBox 3"/>
          <p:cNvSpPr/>
          <p:nvPr/>
        </p:nvSpPr>
        <p:spPr>
          <a:xfrm>
            <a:off x="2514600" y="59436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Логические функции</a:t>
            </a:r>
            <a:br>
              <a:rPr sz="3300"/>
            </a:b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Ранее были рассмотрены базовые логические операции (умножения, сложения, отрицания) и их таблицы истинно­сти. В электронных таблицах имеются соответствующие ло­гические функции, с помощью которых достаточно просто построить таблицы истинности логических операций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Аргументами логических функций являются логические значения ИСТИНА и ЛОЖЬ. Логические значения, в свою очередь, могут быть получены как результат определения значений логических выражений. Например, для логического выражения 10&gt;5 результатом будет логическое значе­ние ИСТИНА, а для логического выражения А1&lt;А2 (где в ячейке А1 хранится число 10, а в ячейке А2 — число 5) — значение ЛОЖЬ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lang="ru-RU" sz="1900" spc="-1" strike="noStrike">
                <a:solidFill>
                  <a:srgbClr val="000000"/>
                </a:solidFill>
                <a:latin typeface="Georgia"/>
              </a:rPr>
              <a:t>Логическая функция «И»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имеет в качестве аргументов логические значения, которые могут быть истинными или ложными, и задается формулой </a:t>
            </a:r>
            <a:r>
              <a:rPr b="0" i="1" lang="ru-RU" sz="1900" spc="-1" strike="noStrike">
                <a:solidFill>
                  <a:srgbClr val="000000"/>
                </a:solidFill>
                <a:latin typeface="Georgia"/>
              </a:rPr>
              <a:t>=Щлог_знач1;лог_знач2;...).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Принимает значение ИСТИНА тогда и только тогда, когда все аргументы имеют значение ИСТИНА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Например, значение функции =И(10&gt;5;10&lt;5) — ЛОЖЬ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 txBox="1"/>
          <p:nvPr/>
        </p:nvSpPr>
        <p:spPr>
          <a:xfrm>
            <a:off x="228240" y="137160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lang="ru-RU" sz="2100" spc="-1" strike="noStrike">
                <a:solidFill>
                  <a:srgbClr val="000000"/>
                </a:solidFill>
                <a:latin typeface="Georgia"/>
              </a:rPr>
              <a:t>Логическая функция «ИЛИ» 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имеет в качестве аргументов логические значения и задается формулой =ИЛИ(лог</a:t>
            </a:r>
            <a:r>
              <a:rPr b="0" i="1" lang="ru-RU" sz="2100" spc="-1" strike="noStrike">
                <a:solidFill>
                  <a:srgbClr val="000000"/>
                </a:solidFill>
                <a:latin typeface="Georgia"/>
              </a:rPr>
              <a:t>_знач1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; </a:t>
            </a:r>
            <a:r>
              <a:rPr b="0" i="1" lang="ru-RU" sz="2100" spc="-1" strike="noStrike">
                <a:solidFill>
                  <a:srgbClr val="000000"/>
                </a:solidFill>
                <a:latin typeface="Georgia"/>
              </a:rPr>
              <a:t>лог_знач2; 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...). Принимает значение ИСТИНА, если хотя бы один из аргументов имеет значение ИСТИНА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Например, значение функции =ИЛИ(10&gt;5;10&lt;5) — ИСТИНА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lang="ru-RU" sz="2100" spc="-1" strike="noStrike">
                <a:solidFill>
                  <a:srgbClr val="000000"/>
                </a:solidFill>
                <a:latin typeface="Georgia"/>
              </a:rPr>
              <a:t>Логическая функция «НЕ» 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имеет один аргумент и задается формулой </a:t>
            </a:r>
            <a:r>
              <a:rPr b="0" i="1" lang="ru-RU" sz="2100" spc="-1" strike="noStrike">
                <a:solidFill>
                  <a:srgbClr val="000000"/>
                </a:solidFill>
                <a:latin typeface="Georgia"/>
              </a:rPr>
              <a:t>=НЕ(лог_знач). 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Принимает значение ИСТИНА, если аргумент имеет значение ЛОЖЬ, и наоборот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Например, значение функции =НЕ(10&gt;5) — ЛОЖЬ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Построим с помощью электронных таблиц 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таблицу истинности операции логического 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умножения, используя логическую функцию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Georgia"/>
              </a:rPr>
              <a:t>«И»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53" name="Picture 2" descr="C:\Work\11а\информатика1111\520dff42-178a-11dd-9641-001f2908c552_enl.jpg"/>
          <p:cNvPicPr/>
          <p:nvPr/>
        </p:nvPicPr>
        <p:blipFill>
          <a:blip r:embed="rId1"/>
          <a:stretch/>
        </p:blipFill>
        <p:spPr>
          <a:xfrm>
            <a:off x="6095880" y="3886200"/>
            <a:ext cx="2787840" cy="2787480"/>
          </a:xfrm>
          <a:prstGeom prst="rect">
            <a:avLst/>
          </a:prstGeom>
          <a:ln w="0">
            <a:noFill/>
          </a:ln>
        </p:spPr>
      </p:pic>
      <p:sp>
        <p:nvSpPr>
          <p:cNvPr id="654" name="TextBox 4"/>
          <p:cNvSpPr/>
          <p:nvPr/>
        </p:nvSpPr>
        <p:spPr>
          <a:xfrm>
            <a:off x="838080" y="60199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b9899"/>
                </a:solidFill>
                <a:latin typeface="Georgia"/>
              </a:rPr>
              <a:t>Сортировка и поиск данных</a:t>
            </a:r>
            <a:br>
              <a:rPr sz="3000"/>
            </a:b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304560" y="1371240"/>
            <a:ext cx="8504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Электронные таблицы позволяют осуществлять сортировку данных, то есть производить их упорядочение. Данные (числа, текст, даты) в электронных таблицах можно сортировать по возрастанию или убыванию. При сортировке по возрастанию данные выстраиваются в следующем порядке: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- числа сортируются от наименьшего отрицательного до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наибольшего положительного числа;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- текст сортируется в следующем порядке: числа, знаки,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латинский алфавит, русский алфавит;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- пустые ячейки всегда помещаются в конец списка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Для сортировки строк таблицы необходимо выбрать столбец, данные которого будут упорядочиваться. После сортировки изменяется порядок следования строк, но сохраняется их целостность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Можно проводить вложенные сортировки, то есть сортировать данные последовательно по нескольким столбцам. При вложенной сортировке строки, имеющие одинаковые значения в ячейках первого столбца, будут упорядочены по значениям в ячейках второго столбца, а строки, имеющие одинаковые значения во втором столбце, будут упорядочены по значениям третьего столбца. Так, результат вложенной сортировки таблицы (исключая первую строку), содержащей данные о компьютерах, при сортировке столбца А по возрастанию, столбца В по убыванию и столбца С по возрас­танию будет таким, как показано на рис. 10.4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657" name=""/>
          <p:cNvGraphicFramePr/>
          <p:nvPr/>
        </p:nvGraphicFramePr>
        <p:xfrm>
          <a:off x="3200400" y="4495680"/>
          <a:ext cx="5181480" cy="1828800"/>
        </p:xfrm>
        <a:graphic>
          <a:graphicData uri="http://schemas.openxmlformats.org/drawingml/2006/table">
            <a:tbl>
              <a:tblPr/>
              <a:tblGrid>
                <a:gridCol w="592200"/>
                <a:gridCol w="1523880"/>
                <a:gridCol w="1698840"/>
                <a:gridCol w="1366560"/>
              </a:tblGrid>
              <a:tr h="371520">
                <a:tc gridSpan="4"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13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4748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5446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4046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9920">
                <a:tc>
                  <a:txBody>
                    <a:bodyPr lIns="25560" rIns="25560" tIns="0" bIns="0" anchor="t">
                      <a:noAutofit/>
                    </a:bodyPr>
                    <a:p>
                      <a:pPr marL="146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02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ип компьютер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984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цессо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амять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9560">
                <a:tc>
                  <a:txBody>
                    <a:bodyPr lIns="25560" rIns="25560" tIns="0" bIns="0" anchor="t">
                      <a:noAutofit/>
                    </a:bodyPr>
                    <a:p>
                      <a:pPr marL="1364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стольны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89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ntium II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9920">
                <a:tc>
                  <a:txBody>
                    <a:bodyPr lIns="25560" rIns="25560" tIns="0" bIns="0" anchor="t">
                      <a:noAutofit/>
                    </a:bodyPr>
                    <a:p>
                      <a:pPr marL="1364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стольны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89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ntium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9920">
                <a:tc>
                  <a:txBody>
                    <a:bodyPr lIns="25560" rIns="25560" tIns="0" bIns="0" anchor="t">
                      <a:noAutofit/>
                    </a:bodyPr>
                    <a:p>
                      <a:pPr marL="1364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стольны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89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ntium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0440">
                <a:tc>
                  <a:txBody>
                    <a:bodyPr lIns="25560" rIns="25560" tIns="0" bIns="0" anchor="t">
                      <a:noAutofit/>
                    </a:bodyPr>
                    <a:p>
                      <a:pPr marL="1396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ртативны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89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ntium II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9920">
                <a:tc>
                  <a:txBody>
                    <a:bodyPr lIns="25560" rIns="25560" tIns="0" bIns="0" anchor="t">
                      <a:noAutofit/>
                    </a:bodyPr>
                    <a:p>
                      <a:pPr marL="142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414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ртативны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95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ntium II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6280">
                <a:tc>
                  <a:txBody>
                    <a:bodyPr lIns="25560" rIns="25560" tIns="0" bIns="0" anchor="t">
                      <a:noAutofit/>
                    </a:bodyPr>
                    <a:p>
                      <a:pPr marL="1396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44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ртативны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95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ntium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pull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7b9899"/>
                </a:solidFill>
                <a:latin typeface="Georgia"/>
              </a:rPr>
              <a:t>Поиск данных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301320" y="1527120"/>
            <a:ext cx="8504280" cy="495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В электронных таблицах можно осуществлять поиск данных (строк) в соответствии с  заданными условиями. Такие условия называются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фильтром.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В результате поиска будут найдены строки, удовлетворяющие заданному фильтру.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Условия задаются с помощью операций сравнения. Для числовых данных это операции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равно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(знак =),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меньше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(знак &lt;),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больше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(знак &gt;),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меньше или равно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(знак &lt;=) и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больше или равно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(знак &gt;=). Для задания условия необхо­димо выбрать операцию сравнения и задать число.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Для текстовых данных возможны операции сравнения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равно, начинается с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(сравниваются первые символы),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заканчивается на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(сравниваются последние символы),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содержит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(сравниваются символы в любой части текста). Для задания условия необходимо выбрать операцию сравнения и задать последовательность символов.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Можно осуществлять поиск данных, вводя условия поиска для нескольких столбцов. В этом случае фильтр будет содержать несколько условий, которые должны выполняться одновременно. Например, если мы хотим в таблице, изображенной на рис. 10.4, найти данные о настольном компьютере с процессором 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Pentium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4 и памятью 128 Мб, то необходимо задать фильтр, состоящий из трех условий: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- для столбца «Компьютеры»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равно Настольный;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- для столбца «Процессор»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равно </a:t>
            </a:r>
            <a:r>
              <a:rPr b="0" i="1" lang="en-US" sz="1500" spc="-1" strike="noStrike">
                <a:solidFill>
                  <a:srgbClr val="000000"/>
                </a:solidFill>
                <a:latin typeface="Georgia"/>
              </a:rPr>
              <a:t>Pentium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4;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- для столбца «Память»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больше 64.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0" name="TextBox 3"/>
          <p:cNvSpPr/>
          <p:nvPr/>
        </p:nvSpPr>
        <p:spPr>
          <a:xfrm>
            <a:off x="685800" y="59436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7b9899"/>
                </a:solidFill>
                <a:latin typeface="Georgia"/>
              </a:rPr>
              <a:t>Построение диаграмм и графиков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301320" y="1526760"/>
            <a:ext cx="8504280" cy="38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Типы диаграмм и графиков.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Электронные таблицы позволяют визуализировать данные, размещенные на рабочем листе, в виде диаграммы или графика. Диаграммы и графики наглядно отображают зависимости между данными, что облегчает восприятие и помогает при анализе и сравнении данных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Диаграммы могут быть различных типов и соответственно представлять данные в различной форме. Для каждого набора данных важно правильно подобрать тип создаваемой диаграммы. Для наглядного сравнения различных величин используются линейчатые диаграммы. Например, с помощью линейчатой диаграммы можно наглядно представить данные о численности населения различных стран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Для отображения величин частей от целого применяется круговая диаграмма. Круговая диаграмма позволяет, например, наглядно показать доли стоимости отдельных устройств компьютера в его цене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Для отображения изменения величин в зависимости от времени и построения графиков функций используются диаграммы типа «график» (рис. 10.5)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63" name="Picture 1" descr=""/>
          <p:cNvPicPr/>
          <p:nvPr/>
        </p:nvPicPr>
        <p:blipFill>
          <a:blip r:embed="rId1"/>
          <a:stretch/>
        </p:blipFill>
        <p:spPr>
          <a:xfrm>
            <a:off x="1905120" y="5105520"/>
            <a:ext cx="5105160" cy="1251000"/>
          </a:xfrm>
          <a:prstGeom prst="rect">
            <a:avLst/>
          </a:prstGeom>
          <a:ln w="0">
            <a:noFill/>
          </a:ln>
        </p:spPr>
      </p:pic>
      <p:sp>
        <p:nvSpPr>
          <p:cNvPr id="664" name="Rectangle 2"/>
          <p:cNvSpPr/>
          <p:nvPr/>
        </p:nvSpPr>
        <p:spPr>
          <a:xfrm>
            <a:off x="4416120" y="-267480"/>
            <a:ext cx="3117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Л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 txBox="1"/>
          <p:nvPr/>
        </p:nvSpPr>
        <p:spPr>
          <a:xfrm>
            <a:off x="301320" y="1447920"/>
            <a:ext cx="850428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Диаграммы могут располагаться как на листе с данными (внедренные диаграммы), так и на отдельных листах. Диаграммы связаны с исходными данными на рабочем листе и обновляются при обновлении данных на рабочем листе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Для создания диаграмм используется </a:t>
            </a:r>
            <a:r>
              <a:rPr b="0" i="1" lang="ru-RU" sz="1300" spc="-1" strike="noStrike">
                <a:solidFill>
                  <a:srgbClr val="000000"/>
                </a:solidFill>
                <a:latin typeface="Georgia"/>
              </a:rPr>
              <a:t>Мастер диаграмм. Мастер диаграмм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позволяет создавать диаграмму по шагам с помощью серии диалоговых панелей. В качестве примера рассмотрим таблицу «Цены устройств компьютера» и представим в наглядной форме долю цены каждого устройства в цене компьютера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Построение графиков. Построение графиков является частным случаем  построения диаграмм. Графики выбирают в тех случаях, когда хотят отобразить изменение данных с течением времени. Графики позволяют анализировать за­кономерности изменения величин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Представим с помощью графика динамику изменения цен по годам на различные модели компьютеров (на базе процессоров </a:t>
            </a:r>
            <a:r>
              <a:rPr b="0" lang="en-US" sz="1300" spc="-1" strike="noStrike">
                <a:solidFill>
                  <a:srgbClr val="000000"/>
                </a:solidFill>
                <a:latin typeface="Georgia"/>
              </a:rPr>
              <a:t>Pentium II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и </a:t>
            </a:r>
            <a:r>
              <a:rPr b="0" lang="en-US" sz="1300" spc="-1" strike="noStrike">
                <a:solidFill>
                  <a:srgbClr val="000000"/>
                </a:solidFill>
                <a:latin typeface="Georgia"/>
              </a:rPr>
              <a:t>Pentium III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) — рис. 10.6. 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Процесс построения графика с помощью </a:t>
            </a:r>
            <a:r>
              <a:rPr b="0" i="1" lang="ru-RU" sz="1300" spc="-1" strike="noStrike">
                <a:solidFill>
                  <a:srgbClr val="000000"/>
                </a:solidFill>
                <a:latin typeface="Georgia"/>
              </a:rPr>
              <a:t>Мастера диа­грамм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аналогичен рассмотренному выше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666" name=""/>
          <p:cNvGraphicFramePr/>
          <p:nvPr/>
        </p:nvGraphicFramePr>
        <p:xfrm>
          <a:off x="2133720" y="3733920"/>
          <a:ext cx="4419360" cy="990360"/>
        </p:xfrm>
        <a:graphic>
          <a:graphicData uri="http://schemas.openxmlformats.org/drawingml/2006/table">
            <a:tbl>
              <a:tblPr/>
              <a:tblGrid>
                <a:gridCol w="2896920"/>
                <a:gridCol w="541440"/>
                <a:gridCol w="527040"/>
                <a:gridCol w="453960"/>
              </a:tblGrid>
              <a:tr h="34920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507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05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Цена компьютера на базе процессора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ntium I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96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857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06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Цена компьютера на базе процессора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ntium II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46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857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667" name="Picture 1" descr="C:\Work\11а\информатика1111\IT3791_03_1.jpg"/>
          <p:cNvPicPr/>
          <p:nvPr/>
        </p:nvPicPr>
        <p:blipFill>
          <a:blip r:embed="rId1"/>
          <a:stretch/>
        </p:blipFill>
        <p:spPr>
          <a:xfrm>
            <a:off x="2590920" y="22860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2" descr="C:\Work\11а\информатика1111\KC6302_48.jpg"/>
          <p:cNvPicPr/>
          <p:nvPr/>
        </p:nvPicPr>
        <p:blipFill>
          <a:blip r:embed="rId2"/>
          <a:stretch/>
        </p:blipFill>
        <p:spPr>
          <a:xfrm>
            <a:off x="5105520" y="1522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669" name="TextBox 6"/>
          <p:cNvSpPr/>
          <p:nvPr/>
        </p:nvSpPr>
        <p:spPr>
          <a:xfrm>
            <a:off x="685800" y="59436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b9899"/>
                </a:solidFill>
                <a:latin typeface="Georgia"/>
              </a:rPr>
              <a:t>Надстройки в электронных таблицах</a:t>
            </a:r>
            <a:br>
              <a:rPr sz="3000"/>
            </a:b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301320" y="1526760"/>
            <a:ext cx="8504280" cy="22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Возможности электронных таблиц не ограничиваются вычислениями по формулам и построением диаграмм и графиков. С помощью надстроек электронных таблиц можно строить геоинформационные модели (выводить на географи­ческие карты данные), приближенно с заданной точностью решать уравнения методом подбора параметра, решать задачи оптимизационного моделирования методом поиска решений и так далее. Некоторые из надстроек не устанавливаются по умолчанию и требуют установки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72" name="Picture 1" descr="C:\Work\11а\информатика1111\calc.jpg"/>
          <p:cNvPicPr/>
          <p:nvPr/>
        </p:nvPicPr>
        <p:blipFill>
          <a:blip r:embed="rId1"/>
          <a:stretch/>
        </p:blipFill>
        <p:spPr>
          <a:xfrm>
            <a:off x="1981080" y="3429000"/>
            <a:ext cx="4489560" cy="3166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TextBox 3"/>
          <p:cNvSpPr/>
          <p:nvPr/>
        </p:nvSpPr>
        <p:spPr>
          <a:xfrm>
            <a:off x="2743200" y="304920"/>
            <a:ext cx="495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46d7a"/>
                </a:solidFill>
                <a:latin typeface="Georgia"/>
              </a:rPr>
              <a:t>Содержание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Box 4"/>
          <p:cNvSpPr/>
          <p:nvPr/>
        </p:nvSpPr>
        <p:spPr>
          <a:xfrm>
            <a:off x="380880" y="1676520"/>
            <a:ext cx="426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Электронные калькулят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Box 5"/>
          <p:cNvSpPr/>
          <p:nvPr/>
        </p:nvSpPr>
        <p:spPr>
          <a:xfrm>
            <a:off x="4419720" y="22096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Электронные табл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Box 6"/>
          <p:cNvSpPr/>
          <p:nvPr/>
        </p:nvSpPr>
        <p:spPr>
          <a:xfrm>
            <a:off x="380880" y="26668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строенные 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Box 7"/>
          <p:cNvSpPr/>
          <p:nvPr/>
        </p:nvSpPr>
        <p:spPr>
          <a:xfrm>
            <a:off x="3733920" y="3276720"/>
            <a:ext cx="441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ортировка и поиск да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Box 8"/>
          <p:cNvSpPr/>
          <p:nvPr/>
        </p:nvSpPr>
        <p:spPr>
          <a:xfrm>
            <a:off x="457200" y="419112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остроение диаграмм и граф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Box 9"/>
          <p:cNvSpPr/>
          <p:nvPr/>
        </p:nvSpPr>
        <p:spPr>
          <a:xfrm>
            <a:off x="2971800" y="502920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адстройки в электронных таблиц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Поиск решения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301320" y="1526760"/>
            <a:ext cx="8504280" cy="273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i="1" lang="ru-RU" sz="1900" spc="-1" strike="noStrike">
                <a:solidFill>
                  <a:srgbClr val="000000"/>
                </a:solidFill>
                <a:latin typeface="Georgia"/>
              </a:rPr>
              <a:t>Поиск решения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является надстройкой, которая позволяет решать задачи оптимизационного моде­лирования. Процедура поиска решения позволяет найти оптимальное значение формулы, содержащейся в ячейке, которая называется целевой. Эта процедура работает с группой ячеек, прямо или косвенно связанных с формулой в целевой ячейке. Чтобы получить по формуле, содержащейся в целевой ячейке, искомый результат, процедура изменяет значения во влияющих ячейках. Чтобы сузить множество значений, используемых в модели, применяются ограничения. Эти ограничения могут содержать ссылки на другие влияющие ячейки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75" name="Picture 1" descr="C:\Work\11а\инфр\5.jpg"/>
          <p:cNvPicPr/>
          <p:nvPr/>
        </p:nvPicPr>
        <p:blipFill>
          <a:blip r:embed="rId1"/>
          <a:stretch/>
        </p:blipFill>
        <p:spPr>
          <a:xfrm>
            <a:off x="1143000" y="3962520"/>
            <a:ext cx="1771560" cy="236196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2" descr="C:\Work\11а\инфр\ноут.jpg"/>
          <p:cNvPicPr/>
          <p:nvPr/>
        </p:nvPicPr>
        <p:blipFill>
          <a:blip r:embed="rId2"/>
          <a:stretch/>
        </p:blipFill>
        <p:spPr>
          <a:xfrm>
            <a:off x="4648320" y="396252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Подбор параметра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i="1" lang="ru-RU" sz="2300" spc="-1" strike="noStrike">
                <a:solidFill>
                  <a:srgbClr val="000000"/>
                </a:solidFill>
                <a:latin typeface="Georgia"/>
              </a:rPr>
              <a:t>Подбор параметра 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является одним из инструментов анализа «что, если». Этот метод используется при поиске значения аргумента функции, который обеспечивает требуемое значение функции. При подборе параметра изменяется значение в ячейке аргумента функции до тех пор, пока значение в ячейке самой функции не будет возвращать нужный результат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В качестве примера рассмотрим поиск корня уравнения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х</a:t>
            </a:r>
            <a:r>
              <a:rPr b="0" lang="ru-RU" sz="2300" spc="-1" strike="noStrike" baseline="30000">
                <a:solidFill>
                  <a:srgbClr val="000000"/>
                </a:solidFill>
                <a:latin typeface="Georgia"/>
              </a:rPr>
              <a:t>3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 - 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sin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* - 0,5 = 0. Представим функцию в табличной форме, построим ее график, который позволит определить корень уравнения грубо приближенно. Для поиска решения с заданной точностью используем метод </a:t>
            </a:r>
            <a:r>
              <a:rPr b="0" i="1" lang="ru-RU" sz="2300" spc="-1" strike="noStrike">
                <a:solidFill>
                  <a:srgbClr val="000000"/>
                </a:solidFill>
                <a:latin typeface="Georgia"/>
              </a:rPr>
              <a:t>Подбор параметра. 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Точность подбора зависит от заданной точности представления чисел в ячейках таблицы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79" name="Picture 2" descr="C:\Work\11а\информатика1111\c465b.jpg"/>
          <p:cNvPicPr/>
          <p:nvPr/>
        </p:nvPicPr>
        <p:blipFill>
          <a:blip r:embed="rId1"/>
          <a:stretch/>
        </p:blipFill>
        <p:spPr>
          <a:xfrm>
            <a:off x="7086600" y="228600"/>
            <a:ext cx="1623960" cy="1219320"/>
          </a:xfrm>
          <a:prstGeom prst="rect">
            <a:avLst/>
          </a:prstGeom>
          <a:ln w="0">
            <a:noFill/>
          </a:ln>
        </p:spPr>
      </p:pic>
      <p:sp>
        <p:nvSpPr>
          <p:cNvPr id="680" name="TextBox 4"/>
          <p:cNvSpPr/>
          <p:nvPr/>
        </p:nvSpPr>
        <p:spPr>
          <a:xfrm>
            <a:off x="1219320" y="60199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546d7a"/>
                </a:solidFill>
                <a:latin typeface="Georgia"/>
              </a:rPr>
              <a:t>Электронные калькуляторы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1320" y="1526760"/>
            <a:ext cx="850428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Электронные калькуляторы являются специализирован­ными программными приложениями, предназначенными для произведения вычислений. Электронные калькуляторы по своим функциональным возможностям соответствуют ап­паратным микрокалькуляторам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         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Аппаратные микрокалькуляторы могут существенно раз­личаться по своим возможностям и областям применения. Простые микрокалькуляторы позволяют осуществлять толь­ко арифметические операции над числами и используются в быту. Инженерные микрокалькуляторы позволяют также вычислять значения различных функций </a:t>
            </a: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(sin, cos 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и др.) и используются в процессе обучения и для инженерных расче­тов; программистские микрокалькуляторы позволяют про­водить вычисления в различных системах счисления и другие операции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Электронные калькуляторы гораздо удобнее, так как могут обладать возможностями всех вышеперечисленных типов ап­паратных микрокалькуляторов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7" name="Picture 2" descr="C:\Work\11а\информатика1111\4537_17.jpg"/>
          <p:cNvPicPr/>
          <p:nvPr/>
        </p:nvPicPr>
        <p:blipFill>
          <a:blip r:embed="rId1"/>
          <a:stretch/>
        </p:blipFill>
        <p:spPr>
          <a:xfrm>
            <a:off x="6324480" y="4114800"/>
            <a:ext cx="2210040" cy="200484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3" descr="C:\Work\11а\информатика1111\c476b.jpg"/>
          <p:cNvPicPr/>
          <p:nvPr/>
        </p:nvPicPr>
        <p:blipFill>
          <a:blip r:embed="rId2"/>
          <a:stretch/>
        </p:blipFill>
        <p:spPr>
          <a:xfrm>
            <a:off x="838080" y="4419720"/>
            <a:ext cx="2157480" cy="161928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4" descr="C:\Work\11а\информатика1111\c465b.jpg"/>
          <p:cNvPicPr/>
          <p:nvPr/>
        </p:nvPicPr>
        <p:blipFill>
          <a:blip r:embed="rId3"/>
          <a:stretch/>
        </p:blipFill>
        <p:spPr>
          <a:xfrm>
            <a:off x="3657600" y="4419720"/>
            <a:ext cx="215748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Электронный Калькулятор является стандартным приложением операционной системы 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Windows.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Одним из удачных элек­тронных калькуляторов является 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NumLock Calculator,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в процессе работы с которым легко выбрать требуемый тип калькулятора 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С помощью электронных калькуляторов можно: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- производить  арифметические  действия  над  целыми  и дробными числами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- переводить числа из одной системы счисления в другую(например, из десятичной в двоичную)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- вычислять значения математических функций  (например, </a:t>
            </a:r>
            <a:r>
              <a:rPr b="0" i="1" lang="ru-RU" sz="1600" spc="-1" strike="noStrike">
                <a:solidFill>
                  <a:srgbClr val="000000"/>
                </a:solidFill>
                <a:latin typeface="Georgia"/>
              </a:rPr>
              <a:t>х</a:t>
            </a:r>
            <a:r>
              <a:rPr b="0" i="1" lang="ru-RU" sz="16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0" i="1" lang="ru-RU" sz="1600" spc="-1" strike="noStrike">
                <a:solidFill>
                  <a:srgbClr val="000000"/>
                </a:solidFill>
                <a:latin typeface="Georgia"/>
              </a:rPr>
              <a:t>, 1/х)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- вычислять значения статистических функций (например, среднее арифметическое заданных чисел)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- вычислять значения финансовых  функций  (например, вычислять сумму банковского вклада с заданным процентом) и др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Электронные калькуляторы позволяют проводить сложные многоступенчатые вычисления с записью промежуточных результатов в ячейки памяти калькулятора. По мере необходимости такие результаты можно извлекать из памяти и использовать в дальнейших вычислениях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Электронные калькуляторы позволяют обмениваться числовыми данными с другими приложениями с использованием </a:t>
            </a:r>
            <a:r>
              <a:rPr b="0" i="1" lang="ru-RU" sz="1600" spc="-1" strike="noStrike">
                <a:solidFill>
                  <a:srgbClr val="000000"/>
                </a:solidFill>
                <a:latin typeface="Georgia"/>
              </a:rPr>
              <a:t>буфера обмена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операционной системы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1" name="Picture 2" descr="C:\Work\11а\инфр\265.jpg"/>
          <p:cNvPicPr/>
          <p:nvPr/>
        </p:nvPicPr>
        <p:blipFill>
          <a:blip r:embed="rId1"/>
          <a:stretch/>
        </p:blipFill>
        <p:spPr>
          <a:xfrm>
            <a:off x="1066680" y="228600"/>
            <a:ext cx="6542280" cy="1066680"/>
          </a:xfrm>
          <a:prstGeom prst="rect">
            <a:avLst/>
          </a:prstGeom>
          <a:ln w="0">
            <a:noFill/>
          </a:ln>
        </p:spPr>
      </p:pic>
      <p:sp>
        <p:nvSpPr>
          <p:cNvPr id="622" name="TextBox 5"/>
          <p:cNvSpPr/>
          <p:nvPr/>
        </p:nvSpPr>
        <p:spPr>
          <a:xfrm>
            <a:off x="1676520" y="601992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Электронные таблицы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301320" y="1526760"/>
            <a:ext cx="8504280" cy="38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Электронные таблицы позволяют обрабатывать большие массивы числовых данных, например результаты экспериментов, статистические данные и так далее. Наибольшее распространение получили электронные таблицы 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Microsoft Excel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и 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StarCalc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Электронная таблица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— это работающее в диалоговом режиме приложение, хранящее и обрабатывающее данные в прямоугольных таблицах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Электронная таблица состоит из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столбцов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и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строк.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Заго­ловки столбцов обозначаются буквами или сочетаниями букв (А, С, АВ и т. п.), заголовки строк — числами (1, 2, 3 и далее).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Ячейка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— место пересечения столбца и строки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Каждая ячейка таблицы имеет свой собственный адрес.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Адрес ячейки электронной таблицы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составляется из заго­ловка столбца и заголовка строки, например 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Al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B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5, ЕЗ. Ячейка, с которой производятся какие-то действия, выделя­ется рамкой и называется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активной.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На рис. активной ячейкой является ячейка СЗ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625" name=""/>
          <p:cNvGraphicFramePr/>
          <p:nvPr/>
        </p:nvGraphicFramePr>
        <p:xfrm>
          <a:off x="3657600" y="4952880"/>
          <a:ext cx="3986280" cy="1051200"/>
        </p:xfrm>
        <a:graphic>
          <a:graphicData uri="http://schemas.openxmlformats.org/drawingml/2006/table">
            <a:tbl>
              <a:tblPr/>
              <a:tblGrid>
                <a:gridCol w="365040"/>
                <a:gridCol w="609840"/>
                <a:gridCol w="725400"/>
                <a:gridCol w="695160"/>
                <a:gridCol w="792360"/>
                <a:gridCol w="798480"/>
              </a:tblGrid>
              <a:tr h="17460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96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62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365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95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858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6400">
                <a:tc>
                  <a:txBody>
                    <a:bodyPr lIns="25560" rIns="25560" tIns="0" bIns="0" anchor="t">
                      <a:noAutofit/>
                    </a:bodyPr>
                    <a:p>
                      <a:pPr marL="106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25560" rIns="25560" tIns="0" bIns="0" anchor="t">
                      <a:noAutofit/>
                    </a:bodyPr>
                    <a:p>
                      <a:pPr marL="93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6040">
                <a:tc>
                  <a:txBody>
                    <a:bodyPr lIns="25560" rIns="25560" tIns="0" bIns="0" anchor="t">
                      <a:noAutofit/>
                    </a:bodyPr>
                    <a:p>
                      <a:pPr marL="93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960">
                <a:tc>
                  <a:txBody>
                    <a:bodyPr lIns="25560" rIns="25560" tIns="0" bIns="0" anchor="t">
                      <a:noAutofit/>
                    </a:bodyPr>
                    <a:p>
                      <a:pPr marL="93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25560" rIns="25560" tIns="0" bIns="0" anchor="t">
                      <a:noAutofit/>
                    </a:bodyPr>
                    <a:p>
                      <a:pPr marL="968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Электронные таблицы, с которыми работает пользователь в приложении, называются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рабочими листами.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Можно вво­дить и изменять данные одновременно на нескольких рабочих листах, а также выполнять вычисления на основе данных из нескольких листов. Документы электронных таблиц могут включать несколько рабочих листов и называются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рабочими книгами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Основные типы и форматы данных. В работе с электронными таблицами можно выделить три основных типа данных: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число, текст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и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формула.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В зависимости от решаемой задачи возникает необходимость применять различные форматы представления данных. В каждом конкретном случае важно выбрать наиболее подходящий формат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Для представления чисел по умолчанию электронные таблицы используют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числовой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формат, который отображает два десятичных знака после запятой (например, 195,20)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Экспоненциальный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формат применяется, если число, содержащее большое количество разрядов, не умещается в ячейке (например, число 2 000 000 000 в экспоненциальном формате будет записано в следующем виде: 2,00Е+09)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По умолчанию числа выравниваются в ячейке по правому краю. Это объясняется тем, что при размещении чисел друг под другом (в столбце таблицы) удобно иметь выравнивание по разрядам (единицы под единицами, десятки под десятками и так далее)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7" name="Picture 1" descr="C:\Work\11а\информатика1111\Photoentirepage.jpg"/>
          <p:cNvPicPr/>
          <p:nvPr/>
        </p:nvPicPr>
        <p:blipFill>
          <a:blip r:embed="rId1"/>
          <a:stretch/>
        </p:blipFill>
        <p:spPr>
          <a:xfrm>
            <a:off x="609480" y="152280"/>
            <a:ext cx="1752840" cy="116532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2" descr="C:\Work\11а\информатика1111\de754f679fdd.jpg"/>
          <p:cNvPicPr/>
          <p:nvPr/>
        </p:nvPicPr>
        <p:blipFill>
          <a:blip r:embed="rId2"/>
          <a:stretch/>
        </p:blipFill>
        <p:spPr>
          <a:xfrm>
            <a:off x="6400800" y="152280"/>
            <a:ext cx="1612800" cy="12780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Текстом в электронных таблицах является последовательность символов, состоящая из букв, цифр и пробелов, например, запись «32 Мбайт» является текстовой. По умолчанию текст выравнивается в ячейке по левому краю. Это объясняется традиционным способом письма (слева направо)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Формула должна начинаться со знака равенства и может включать в себя числа, имена ячеек, функции и знаки математических операций. В формулу не может входить текст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Например, формула =А1+В2 обеспечивает сложение чисел, хранящихся в ячейках А1 и В2, а формула =А1*5 — умножение числа, хранящегося в ячейке А1, на 5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При вводе формулы в ячейке отображается не сама формула, а результат вычислений по этой формуле. При изменении исходных значений, входящих в формулу, результат пересчитывается немедленно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Для представления данных можно использовать также специализированные форматы: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денежный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формат (12000,00р.) удобен для бухгалтерских расчетов, форматы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дата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и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время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позволяют хранить значения временных данных (15.01.2002    17:45:10)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0" name="Picture 1" descr="C:\Work\11а\информатика1111\clementoni_60303_1.jpg"/>
          <p:cNvPicPr/>
          <p:nvPr/>
        </p:nvPicPr>
        <p:blipFill>
          <a:blip r:embed="rId1"/>
          <a:stretch/>
        </p:blipFill>
        <p:spPr>
          <a:xfrm>
            <a:off x="3809880" y="228600"/>
            <a:ext cx="1376640" cy="10666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b9899"/>
                </a:solidFill>
                <a:latin typeface="Georgia"/>
              </a:rPr>
              <a:t>Относительные и абсолютные ссылки.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В формулах используются ссылки на адреса ячеек. Существуют два основных типа ссылок: </a:t>
            </a:r>
            <a:r>
              <a:rPr b="0" i="1" lang="ru-RU" sz="1900" spc="-1" strike="noStrike">
                <a:solidFill>
                  <a:srgbClr val="000000"/>
                </a:solidFill>
                <a:latin typeface="Georgia"/>
              </a:rPr>
              <a:t>относительные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и </a:t>
            </a:r>
            <a:r>
              <a:rPr b="0" i="1" lang="ru-RU" sz="1900" spc="-1" strike="noStrike">
                <a:solidFill>
                  <a:srgbClr val="000000"/>
                </a:solidFill>
                <a:latin typeface="Georgia"/>
              </a:rPr>
              <a:t>абсолютные.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Различия между относительными и абсолютными ссылками проявляются при копировании формулы из активной ячейки в другую ячейку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i="1" lang="ru-RU" sz="1900" spc="-1" strike="noStrike">
                <a:solidFill>
                  <a:srgbClr val="000000"/>
                </a:solidFill>
                <a:latin typeface="Georgia"/>
              </a:rPr>
              <a:t>Относительные ссылки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в формулах используются для указания адреса ячейки, вычисляемого относительно ячей­ки, в которой находится формула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При перемещении или копировании формулы из актив­ной ячейки относительные ссылки автоматически обновля­ются в зависимости от нового положения формулы. Относи­тельные ссылки имеют следующий вид: А1, ВЗ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При копировании формулы, содержащей только относи­тельные ссылки, из ячейки С1 в ячейку 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D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2 обозначения столбцов и строк в формуле изменятся на один шаг вправо и вниз (рис. 10.3)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633" name=""/>
          <p:cNvGraphicFramePr/>
          <p:nvPr/>
        </p:nvGraphicFramePr>
        <p:xfrm>
          <a:off x="2362320" y="5105520"/>
          <a:ext cx="4572000" cy="1218960"/>
        </p:xfrm>
        <a:graphic>
          <a:graphicData uri="http://schemas.openxmlformats.org/drawingml/2006/table">
            <a:tbl>
              <a:tblPr/>
              <a:tblGrid>
                <a:gridCol w="420480"/>
                <a:gridCol w="638280"/>
                <a:gridCol w="623880"/>
                <a:gridCol w="1065240"/>
                <a:gridCol w="1157400"/>
                <a:gridCol w="666720"/>
              </a:tblGrid>
              <a:tr h="2030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69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666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524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95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3400">
                <a:tc>
                  <a:txBody>
                    <a:bodyPr lIns="25560" rIns="25560" tIns="0" bIns="0" anchor="t">
                      <a:noAutofit/>
                    </a:bodyPr>
                    <a:p>
                      <a:pPr marL="1033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А1*В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3040">
                <a:tc>
                  <a:txBody>
                    <a:bodyPr lIns="25560" rIns="25560" tIns="0" bIns="0" anchor="t">
                      <a:noAutofit/>
                    </a:bodyPr>
                    <a:p>
                      <a:pPr marL="90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В2*С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3040">
                <a:tc>
                  <a:txBody>
                    <a:bodyPr lIns="25560" rIns="25560" tIns="0" bIns="0" anchor="t">
                      <a:noAutofit/>
                    </a:bodyPr>
                    <a:p>
                      <a:pPr marL="90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$А$1*$В$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3400">
                <a:tc>
                  <a:txBody>
                    <a:bodyPr lIns="25560" rIns="25560" tIns="0" bIns="0" anchor="t">
                      <a:noAutofit/>
                    </a:bodyPr>
                    <a:p>
                      <a:pPr marL="90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$А$1*$В$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3040">
                <a:tc>
                  <a:txBody>
                    <a:bodyPr lIns="25560" rIns="25560" tIns="0" bIns="0" anchor="t">
                      <a:noAutofit/>
                    </a:bodyPr>
                    <a:p>
                      <a:pPr marL="93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 txBox="1"/>
          <p:nvPr/>
        </p:nvSpPr>
        <p:spPr>
          <a:xfrm>
            <a:off x="301320" y="1526760"/>
            <a:ext cx="850428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Абсолютные ссылки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в формулах используются для указания фиксированного адреса ячейки. При перемещении или копировании формулы абсолютные ссылки не изменяются. В абсолютных ссылках перед неизменяемыми значе­ниями адреса ячейки ставится знак доллара (например, $А$1)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При копировании формулы, содержащей только абсолютные ссылки, из ячейки СЗ в ячейку 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D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4 обозначения столбцов и строк в формуле не изменятся (см. рис. 10.3)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Рассмотрим действие относительных и абсолютных ссылок на примере. Пусть нам необходимо вычислить стоимость комплектующих для компьютера в рублях, если известны их цены в долларах и курс доллара. Для вычисления цены в рублях необходимо умножить цену в долларах на величину курса доллара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5" name="Picture 2" descr="C:\Work\11а\информатика1111\1250152275.jpg"/>
          <p:cNvPicPr/>
          <p:nvPr/>
        </p:nvPicPr>
        <p:blipFill>
          <a:blip r:embed="rId1"/>
          <a:stretch/>
        </p:blipFill>
        <p:spPr>
          <a:xfrm>
            <a:off x="5334120" y="4038480"/>
            <a:ext cx="3033720" cy="2654280"/>
          </a:xfrm>
          <a:prstGeom prst="rect">
            <a:avLst/>
          </a:prstGeom>
          <a:ln w="0">
            <a:noFill/>
          </a:ln>
        </p:spPr>
      </p:pic>
      <p:sp>
        <p:nvSpPr>
          <p:cNvPr id="636" name="TextBox 4"/>
          <p:cNvSpPr/>
          <p:nvPr/>
        </p:nvSpPr>
        <p:spPr>
          <a:xfrm>
            <a:off x="609480" y="60199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8-27T15:44:30Z</dcterms:modified>
  <cp:revision>19</cp:revision>
  <dc:subject/>
  <dc:title>Слайд 1</dc:title>
</cp:coreProperties>
</file>