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57B5-450B-4FEF-8AEC-CBE7E6DB0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542D-6AF2-4D30-AA9C-F796DBC2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04C8F7-AC3D-49D8-944B-195258E3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7013E2-62CA-4EE9-B78C-CAE669C8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0874F8-19CE-428C-9BA0-4403CC41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4A831D-60FC-4A51-B3DF-0E274A0F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5BCDE8-2C2E-478C-B59E-3A68C8D2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622761-B4EE-400D-89FE-29428B1E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CFAEBA-7E88-49D8-B242-4AE15148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84EFF6-7340-46F8-8220-BA0A5AA17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19B3C7-F350-485A-92BE-51E150DF5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17C9F2-BB01-423F-8A63-6D25B0C6D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EB91-92FA-44D8-B4E1-3B26B6519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728DEB-3A09-432B-BCF1-D1614888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B7A522-8A89-4F73-AF80-F2D81F0A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55FF3E-B89A-4D82-B7CD-69EB45F3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890C33-6DC0-4B52-9047-4B787739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E98569-4073-4A68-AA8C-69A79E9A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F2D56C-F56E-4BE9-9F60-13FBBD3A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C8D171-A23A-4C8A-97AF-231F3F91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9528CA-EC5F-43FE-9F1D-18599380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E97F9B-79A0-48EC-A901-71A03570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42F4BA-8B2A-4451-935B-B30CB80C7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04C8-52FD-4AFB-BF1D-D7524DC4C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8A5986-914D-4CC8-BAB3-B026D8DEF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53D58-A07B-4CA1-BBB7-1A23BBC7C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A1ADA-3319-4265-9E4D-0BC30F29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40CDF-9532-4CA6-9889-6BEEB4B9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446165-6E20-4476-8CA8-101DE5BF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B4E4E-3BD9-4131-8093-1ABD499F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2BA332-0E80-48D9-BCE1-EDF21A8A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215FE-CCC7-4319-BF18-E75EC047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3B4C1-B18F-476A-87D3-0864B59F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B2798-AA72-4F39-80EB-15B5B445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51DB-CE58-445E-B454-D13D319EA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BD6DA-9DCB-4F1F-A216-C772D18C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2D915B-FEB7-442F-90DE-C3AC78700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49D484-B1BB-40F9-BF03-0F0F36891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BC568D-235D-4F2D-B95F-0E7E9DF32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9375FA-1F1F-47DF-B885-91789FBB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9B26E8-7661-41D4-A123-71659DD5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6A1148-E4F4-4245-BC3E-27600F9E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B8CEB7-2BE2-4078-B61C-5FE16133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A40B70-1F45-482D-8830-592D6DA9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1B0B63-9EC9-473C-9366-E9EAE28F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B89B-BB77-45B9-A832-5D5DD0A1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B6A4BE-967C-4232-B2D8-606F8E32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6F6D00-0B6D-40B1-AA2A-F60307A2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509CCE-66DB-4186-BBA0-C7998FBD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A8DEEE-4EDC-4C62-B38F-EF9EDE9AB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5A0264-283C-4D77-B89F-65DBFDC0D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62BA-58A5-4495-ADF5-6B46EC99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55BA-0DA8-4549-B56D-F101B82B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D643-91D9-42FF-AB07-E56F197D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7F68-69EF-4588-945D-A3A01E85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6FF7-794A-4149-AE67-FA7611B5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24D3-8357-4DE8-B7E0-160DA16B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9F6C-4D3F-4F42-8EC0-7F86D770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4667-9DC8-45BA-BAC3-927CD5EF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54DD-FEB9-4B57-8EFF-85D85F3B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6E55-A27B-4C4E-8C02-F0589404D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9598F-240D-4CD9-B82B-1EC418C34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5A8CF-F71F-41C4-9482-58AC7A432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F6769-5795-46C1-8C26-F5468D1B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126AE-65A3-4CD8-8D26-31F5E13A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EA8D3-2E10-449A-9D0E-73D3AB24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954E0-5E64-431B-9B9F-748BC5B8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BB93-3AE6-478D-85F9-0D41A8365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CFD6C-734C-4744-8233-1DD16849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48D72-C3DD-4409-B25E-D95F7240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ADFF5-0147-4E7D-A02C-523E2668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96F9C-C650-4315-8AC4-D738C563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13091-BF95-4387-B67B-1B6BF390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3B286-B11A-423C-AFD9-59CABFE64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69233-3073-43EF-9A11-F0DC93849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F32A7-6E38-4D1F-BE84-6631A400A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01770-919C-40BB-903F-2347CC89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53D14-FB26-40A9-9F27-8ACA1179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2E15-AB06-406E-B64B-3E2526B6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07B76-3725-4F0E-89AB-F3187D92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DF4BB-6731-41AF-BEA2-FF6724F8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2376C-14BE-4FBC-9DE3-ECEB6237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DDDB9-6B6D-40AC-9526-1C2EF4A9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1A890-90CD-4326-84D1-0BDCBEFD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752F1-76C8-48A4-AD1E-19E84742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9B02F-EA5F-4872-902D-207B52D9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F1784-5C86-40C6-918C-5045515AE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24ECE-82E0-4E11-9CAB-38E3040DC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EC108-CAE0-4556-BB07-18F6A3E65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4258-7D6F-498A-BB6D-087C132F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C08D2-1435-4277-87D5-A1802EB2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6E99F-66F9-422D-B8AC-775195A0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A104E-7290-47C2-ACE4-80B9F6CD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36366-AAA8-4CB7-B082-FB1E5CC0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CB8DC-F814-44AC-8482-385349B4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B9969-371F-4893-962A-02C234D4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CA1D0-2335-4CD8-86F7-DBA1D6D7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4183E-701E-4FE8-995F-8C5CAE42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607E1-CE5F-4D8A-9FA9-D589DD3E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6CC3D-5870-4739-A432-A51AADE27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5624-DF9C-440C-BC0F-42E218FA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895B1-6930-4C65-A384-50933EEF7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1D2BC-9156-4D5A-9B30-F1CF991D2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0A5D3-12C6-49DB-92FC-DC413D48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F6E36-710B-432B-BFF3-6AC2821B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0FADF-1A49-4972-8B9E-9700F3F1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4B0C8-9537-46B7-BF90-4E453C98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D8CE2-5095-46C2-8BD9-1364A843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8EDF6-AE3F-48FC-8EB3-67DA49F9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C01D8-BAD3-4690-97EF-78AB99D5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9226F-AE33-4456-B3A8-B058158D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E456-8D48-40FE-A895-14B142EB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AAD39-21F3-4464-9F57-DD9067A1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6C08E-6423-4FD2-9CC0-FD065DA2F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1C4C9-54C5-405A-B766-1D27CC322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D65E4-374D-4B8A-A618-F0F549D71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59371-18C0-4B9A-BFA9-8765BE89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9476F-7C98-461F-BB09-B830497E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2A7FD-1EB7-4896-91D8-5EB7155F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4B51F-A945-4AFF-9BBF-3D23CF41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21BF5-6418-46F2-BE27-B5F314FE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B0422-6D4E-4FC9-9D1C-B8D3C58D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A07C-5AA1-4725-B781-B408C9E6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DCBEA-6FC1-4482-AB2E-5C24D2DB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A8805-85B3-479F-AA11-23163E1F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FAE5A-E70E-4F73-BD7C-B2B131D7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23577-65D4-4B27-8175-298B6EA0C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9B74B-4DA3-462C-A1A8-3FB2B383C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8CCAE-0E3F-4741-A303-F94680720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46990-9F52-467D-B44A-34735358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CAD07-1FEB-425D-B1A7-8DCD9EF6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3821B-02F6-4EDD-8ABD-2AFE66FB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FCA4F-EB73-44E6-AAC7-4F540F71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C526-B983-47A6-81BB-3233A4DA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A19B3-5440-4F01-8F66-708BDC4B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A2A1F-1C7C-4EFF-94C9-D807D58C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C85DA-23FB-455E-ADDF-4C9A9A6A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A34D0-7404-488E-9B56-707D5878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5109E-21E5-4F89-8DF8-237CFFCA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2C827-FD93-4261-AE08-549B45021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2BA2F-2C16-411C-A5D6-44C9F7F81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2020A3-2C49-479F-A89A-ED7C71260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A29119-A3F3-4FC8-B0AD-0CD54FF2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98BFCB-9464-4242-A2E1-6607E8B0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FFAE-39B9-4E39-B453-8D5691B7E43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20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1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1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19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1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11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12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B637-A05C-412C-B1EE-708C039967C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1824-AD81-4171-AE32-5CA2ABDA571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1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1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1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1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D685-B0E3-4DA6-8C74-97BB860D4DD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5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9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F3B8-F757-4D8E-979A-AD950DD4781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E272-E9E3-4810-838B-4574FB45D94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1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7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1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A8A5-EEC2-4F71-AB3B-D7468C3E739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7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E912-FF38-46F0-AD57-1609EDB2494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4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4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3167-126D-4E05-A975-EEE28C76BF6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1659-7B05-4F51-8578-DA86D7B365D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9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54E5-68EC-499B-8415-F4E001D8C9B8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8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17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15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1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1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4526-6AE2-455E-847F-0D5984FA3D9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d16349"/>
                </a:solidFill>
                <a:latin typeface="Georgia"/>
              </a:rPr>
              <a:t>Технология обработки числов</a:t>
            </a:r>
            <a:r>
              <a:rPr b="0" lang="ru-RU" sz="3800" spc="-1" strike="noStrike">
                <a:solidFill>
                  <a:srgbClr val="d16349"/>
                </a:solidFill>
                <a:latin typeface="Arial"/>
              </a:rPr>
              <a:t>ых </a:t>
            </a:r>
            <a:r>
              <a:rPr b="0" lang="ru-RU" sz="3800" spc="-1" strike="noStrike">
                <a:solidFill>
                  <a:srgbClr val="d16349"/>
                </a:solidFill>
                <a:latin typeface="Georgia"/>
              </a:rPr>
              <a:t>данных</a:t>
            </a:r>
            <a:endParaRPr b="0" lang="en-US" sz="3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TextBox 2"/>
          <p:cNvSpPr/>
          <p:nvPr/>
        </p:nvSpPr>
        <p:spPr>
          <a:xfrm>
            <a:off x="4419720" y="51814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отчик презентац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нфор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СОШ №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Можайска Моск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4572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Встроенные функции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6760"/>
            <a:ext cx="8504280" cy="33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Формулы могут состоять не только из арифметических операторов и адресов ячеек. Часто в вычислениях приходится использовать формулы, содержащие функции. Электронные таблицы имеют несколько сотен встроенных функций, которые подразделяются на категории: </a:t>
            </a: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Математические, Статистические, Финансовые, Дата и время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и так далее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9" name="Picture 2" descr="C:\Work\11а\информатика1111\3058424.jpg"/>
          <p:cNvPicPr/>
          <p:nvPr/>
        </p:nvPicPr>
        <p:blipFill>
          <a:blip r:embed="rId1"/>
          <a:stretch/>
        </p:blipFill>
        <p:spPr>
          <a:xfrm>
            <a:off x="1752480" y="4572000"/>
            <a:ext cx="5105520" cy="200016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TextBox 3"/>
          <p:cNvSpPr/>
          <p:nvPr/>
        </p:nvSpPr>
        <p:spPr>
          <a:xfrm>
            <a:off x="2057400" y="19051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строенные фун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4"/>
          <p:cNvSpPr/>
          <p:nvPr/>
        </p:nvSpPr>
        <p:spPr>
          <a:xfrm>
            <a:off x="838080" y="32767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атематическ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5"/>
          <p:cNvSpPr/>
          <p:nvPr/>
        </p:nvSpPr>
        <p:spPr>
          <a:xfrm>
            <a:off x="4876920" y="32767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Логическ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4" name="Прямая со стрелкой 7"/>
          <p:cNvCxnSpPr/>
          <p:nvPr/>
        </p:nvCxnSpPr>
        <p:spPr>
          <a:xfrm flipH="1">
            <a:off x="2666520" y="2666880"/>
            <a:ext cx="610560" cy="53424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  <p:cxnSp>
        <p:nvCxnSpPr>
          <p:cNvPr id="645" name="Прямая со стрелкой 9"/>
          <p:cNvCxnSpPr/>
          <p:nvPr/>
        </p:nvCxnSpPr>
        <p:spPr>
          <a:xfrm>
            <a:off x="4952520" y="2666880"/>
            <a:ext cx="762840" cy="53424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  <p:sp>
        <p:nvSpPr>
          <p:cNvPr id="646" name="TextBox 10"/>
          <p:cNvSpPr/>
          <p:nvPr/>
        </p:nvSpPr>
        <p:spPr>
          <a:xfrm>
            <a:off x="1752480" y="57913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Математические функции</a:t>
            </a:r>
            <a:br>
              <a:rPr sz="3300"/>
            </a:b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дной из наиболее часто используемых операций является суммирование значений диапазона ячеек для расчета итоговых результатов. На панели инструментов </a:t>
            </a: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Стандартная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асположена кнопка [х], </a:t>
            </a: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Автосуммирование,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оторая используется для автоматического суммирования чисел с помощью функции СУММ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TextBox 3"/>
          <p:cNvSpPr/>
          <p:nvPr/>
        </p:nvSpPr>
        <p:spPr>
          <a:xfrm>
            <a:off x="2514600" y="5943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Логические функции</a:t>
            </a:r>
            <a:br>
              <a:rPr sz="3300"/>
            </a:b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Ранее были рассмотрены базовые логические операции (умножения, сложения, отрицания) и их таблицы истинно­сти. В электронных таблицах имеются соответствующие ло­гические функции, с помощью которых достаточно просто построить таблицы истинности логических операций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Аргументами логических функций являются логические значения ИСТИНА и ЛОЖЬ. Логические значения, в свою очередь, могут быть получены как результат определения значений логических выражений. Например, для логического выражения 10&gt;5 результатом будет логическое значе­ние ИСТИНА, а для логического выражения А1&lt;А2 (где в ячейке А1 хранится число 10, а в ячейке А2 — число 5) — значение ЛОЖЬ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Логическая функция «И»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имеет в качестве аргументов логические значения, которые могут быть истинными или ложными, и задается формулой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=Щлог_знач1;лог_знач2;...).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ринимает значение ИСТИНА тогда и только тогда, когда все аргументы имеют значение ИСТИНА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Например, значение функции =И(10&gt;5;10&lt;5) — ЛОЖЬ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 txBox="1"/>
          <p:nvPr/>
        </p:nvSpPr>
        <p:spPr>
          <a:xfrm>
            <a:off x="228240" y="137160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Логическая функция «ИЛИ»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имеет в качестве аргументов логические значения и задается формулой =ИЛИ(лог</a:t>
            </a:r>
            <a:r>
              <a:rPr b="0" i="1" lang="ru-RU" sz="2100" spc="-1" strike="noStrike">
                <a:solidFill>
                  <a:srgbClr val="000000"/>
                </a:solidFill>
                <a:latin typeface="Georgia"/>
              </a:rPr>
              <a:t>_знач1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; </a:t>
            </a:r>
            <a:r>
              <a:rPr b="0" i="1" lang="ru-RU" sz="2100" spc="-1" strike="noStrike">
                <a:solidFill>
                  <a:srgbClr val="000000"/>
                </a:solidFill>
                <a:latin typeface="Georgia"/>
              </a:rPr>
              <a:t>лог_знач2;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...). Принимает значение ИСТИНА, если хотя бы один из аргументов имеет значение ИСТИНА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Например, значение функции =ИЛИ(10&gt;5;10&lt;5) — ИСТИНА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Логическая функция «НЕ»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имеет один аргумент и задается формулой </a:t>
            </a:r>
            <a:r>
              <a:rPr b="0" i="1" lang="ru-RU" sz="2100" spc="-1" strike="noStrike">
                <a:solidFill>
                  <a:srgbClr val="000000"/>
                </a:solidFill>
                <a:latin typeface="Georgia"/>
              </a:rPr>
              <a:t>=НЕ(лог_знач).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ринимает значение ИСТИНА, если аргумент имеет значение ЛОЖЬ, и наоборот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Например, значение функции =НЕ(10&gt;5) — ЛОЖЬ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остроим с помощью электронных таблиц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таблицу истинности операции логического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умножения, используя логическую функцию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«И»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3" name="Picture 2" descr="C:\Work\11а\информатика1111\520dff42-178a-11dd-9641-001f2908c552_enl.jpg"/>
          <p:cNvPicPr/>
          <p:nvPr/>
        </p:nvPicPr>
        <p:blipFill>
          <a:blip r:embed="rId1"/>
          <a:stretch/>
        </p:blipFill>
        <p:spPr>
          <a:xfrm>
            <a:off x="6095880" y="3886200"/>
            <a:ext cx="2787840" cy="2787480"/>
          </a:xfrm>
          <a:prstGeom prst="rect">
            <a:avLst/>
          </a:prstGeom>
          <a:ln w="0">
            <a:noFill/>
          </a:ln>
        </p:spPr>
      </p:pic>
      <p:sp>
        <p:nvSpPr>
          <p:cNvPr id="654" name="TextBox 4"/>
          <p:cNvSpPr/>
          <p:nvPr/>
        </p:nvSpPr>
        <p:spPr>
          <a:xfrm>
            <a:off x="838080" y="6019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Сортировка и поиск данных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304560" y="1371240"/>
            <a:ext cx="8504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Электронные таблицы позволяют осуществлять сортировку данных, то есть производить их упорядочение. Данные (числа, текст, даты) в электронных таблицах можно сортировать по возрастанию или убыванию. При сортировке по возрастанию данные выстраиваются в следующем порядке: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- числа сортируются от наименьшего отрицательного до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наибольшего положительного числа;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- текст сортируется в следующем порядке: числа, знаки,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латинский алфавит, русский алфавит;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- пустые ячейки всегда помещаются в конец списка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Для сортировки строк таблицы необходимо выбрать столбец, данные которого будут упорядочиваться. После сортировки изменяется порядок следования строк, но сохраняется их целостность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Можно проводить вложенные сортировки, то есть сортировать данные последовательно по нескольким столбцам. При вложенной сортировке строки, имеющие одинаковые значения в ячейках первого столбца, будут упорядочены по значениям в ячейках второго столбца, а строки, имеющие одинаковые значения во втором столбце, будут упорядочены по значениям третьего столбца. Так, результат вложенной сортировки таблицы (исключая первую строку), содержащей данные о компьютерах, при сортировке столбца А по возрастанию, столбца В по убыванию и столбца С по возрас­танию будет таким, как показано на рис. 10.4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57" name=""/>
          <p:cNvGraphicFramePr/>
          <p:nvPr/>
        </p:nvGraphicFramePr>
        <p:xfrm>
          <a:off x="3200400" y="4495680"/>
          <a:ext cx="5181480" cy="1828800"/>
        </p:xfrm>
        <a:graphic>
          <a:graphicData uri="http://schemas.openxmlformats.org/drawingml/2006/table">
            <a:tbl>
              <a:tblPr/>
              <a:tblGrid>
                <a:gridCol w="592200"/>
                <a:gridCol w="1523880"/>
                <a:gridCol w="1698840"/>
                <a:gridCol w="1366560"/>
              </a:tblGrid>
              <a:tr h="371520">
                <a:tc gridSpan="4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748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5446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04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25560" rIns="25560" tIns="0" bIns="0" anchor="t">
                      <a:noAutofit/>
                    </a:bodyPr>
                    <a:p>
                      <a:pPr marL="146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02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ип компьюте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98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цессо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мят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560">
                <a:tc>
                  <a:txBody>
                    <a:bodyPr lIns="25560" rIns="25560" tIns="0" bIns="0" anchor="t">
                      <a:noAutofit/>
                    </a:bodyPr>
                    <a:p>
                      <a:pPr marL="136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столь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9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25560" rIns="25560" tIns="0" bIns="0" anchor="t">
                      <a:noAutofit/>
                    </a:bodyPr>
                    <a:p>
                      <a:pPr marL="136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столь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9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25560" rIns="25560" tIns="0" bIns="0" anchor="t">
                      <a:noAutofit/>
                    </a:bodyPr>
                    <a:p>
                      <a:pPr marL="136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столь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9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0440">
                <a:tc>
                  <a:txBody>
                    <a:bodyPr lIns="25560" rIns="25560" tIns="0" bIns="0" anchor="t">
                      <a:noAutofit/>
                    </a:bodyPr>
                    <a:p>
                      <a:pPr marL="1396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ртатив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9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25560" rIns="25560" tIns="0" bIns="0" anchor="t">
                      <a:noAutofit/>
                    </a:bodyPr>
                    <a:p>
                      <a:pPr marL="142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14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ртатив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95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6280">
                <a:tc>
                  <a:txBody>
                    <a:bodyPr lIns="25560" rIns="25560" tIns="0" bIns="0" anchor="t">
                      <a:noAutofit/>
                    </a:bodyPr>
                    <a:p>
                      <a:pPr marL="1396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4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ртатив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95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b9899"/>
                </a:solidFill>
                <a:latin typeface="Georgia"/>
              </a:rPr>
              <a:t>Поиск данных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301320" y="1527120"/>
            <a:ext cx="850428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В электронных таблицах можно осуществлять поиск данных (строк) в соответствии с  заданными условиями. Такие условия называются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фильтром.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В результате поиска будут найдены строки, удовлетворяющие заданному фильтру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Условия задаются с помощью операций сравнения. Для числовых данных это операции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равно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=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меньше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&lt;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больше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&gt;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меньше или равно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&lt;=) и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больше или равно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&gt;=). Для задания условия необхо­димо выбрать операцию сравнения и задать число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Для текстовых данных возможны операции сравнения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равно, начинается с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сравниваются первые символы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заканчивается на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сравниваются последние символы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содержит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сравниваются символы в любой части текста). Для задания условия необходимо выбрать операцию сравнения и задать последовательность символов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Можно осуществлять поиск данных, вводя условия поиска для нескольких столбцов. В этом случае фильтр будет содержать несколько условий, которые должны выполняться одновременно. Например, если мы хотим в таблице, изображенной на рис. 10.4, найти данные о настольном компьютере с процессором 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Pentium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4 и памятью 128 Мб, то необходимо задать фильтр, состоящий из трех условий: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- для столбца «Компьютеры»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равно Настольный;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- для столбца «Процессор»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равно </a:t>
            </a:r>
            <a:r>
              <a:rPr b="0" i="1" lang="en-US" sz="1500" spc="-1" strike="noStrike">
                <a:solidFill>
                  <a:srgbClr val="000000"/>
                </a:solidFill>
                <a:latin typeface="Georgia"/>
              </a:rPr>
              <a:t>Pentium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4;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- для столбца «Память»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больше 64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TextBox 3"/>
          <p:cNvSpPr/>
          <p:nvPr/>
        </p:nvSpPr>
        <p:spPr>
          <a:xfrm>
            <a:off x="685800" y="5943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b9899"/>
                </a:solidFill>
                <a:latin typeface="Georgia"/>
              </a:rPr>
              <a:t>Построение диаграмм и графиков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301320" y="1526760"/>
            <a:ext cx="8504280" cy="38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Типы диаграмм и графиков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Электронные таблицы позволяют визуализировать данные, размещенные на рабочем листе, в виде диаграммы или графика. Диаграммы и графики наглядно отображают зависимости между данными, что облегчает восприятие и помогает при анализе и сравнении данных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иаграммы могут быть различных типов и соответственно представлять данные в различной форме. Для каждого набора данных важно правильно подобрать тип создаваемой диаграммы. Для наглядного сравнения различных величин используются линейчатые диаграммы. Например, с помощью линейчатой диаграммы можно наглядно представить данные о численности населения различных стран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ля отображения величин частей от целого применяется круговая диаграмма. Круговая диаграмма позволяет, например, наглядно показать доли стоимости отдельных устройств компьютера в его цене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ля отображения изменения величин в зависимости от времени и построения графиков функций используются диаграммы типа «график» (рис. 10.5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3" name="Picture 1" descr=""/>
          <p:cNvPicPr/>
          <p:nvPr/>
        </p:nvPicPr>
        <p:blipFill>
          <a:blip r:embed="rId1"/>
          <a:stretch/>
        </p:blipFill>
        <p:spPr>
          <a:xfrm>
            <a:off x="1905120" y="5105520"/>
            <a:ext cx="5105160" cy="125100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2"/>
          <p:cNvSpPr/>
          <p:nvPr/>
        </p:nvSpPr>
        <p:spPr>
          <a:xfrm>
            <a:off x="4416120" y="-267480"/>
            <a:ext cx="311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Л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 txBox="1"/>
          <p:nvPr/>
        </p:nvSpPr>
        <p:spPr>
          <a:xfrm>
            <a:off x="301320" y="1447920"/>
            <a:ext cx="850428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Диаграммы могут располагаться как на листе с данными (внедренные диаграммы), так и на отдельных листах. Диаграммы связаны с исходными данными на рабочем листе и обновляются при обновлении данных на рабочем листе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Для создания диаграмм используется </a:t>
            </a:r>
            <a:r>
              <a:rPr b="0" i="1" lang="ru-RU" sz="1300" spc="-1" strike="noStrike">
                <a:solidFill>
                  <a:srgbClr val="000000"/>
                </a:solidFill>
                <a:latin typeface="Georgia"/>
              </a:rPr>
              <a:t>Мастер диаграмм. Мастер диаграмм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озволяет создавать диаграмму по шагам с помощью серии диалоговых панелей. В качестве примера рассмотрим таблицу «Цены устройств компьютера» и представим в наглядной форме долю цены каждого устройства в цене компьютера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остроение графиков. Построение графиков является частным случаем  построения диаграмм. Графики выбирают в тех случаях, когда хотят отобразить изменение данных с течением времени. Графики позволяют анализировать за­кономерности изменения величин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редставим с помощью графика динамику изменения цен по годам на различные модели компьютеров (на базе процессоров </a:t>
            </a: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Pentium II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Pentium III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) — рис. 10.6. 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роцесс построения графика с помощью </a:t>
            </a:r>
            <a:r>
              <a:rPr b="0" i="1" lang="ru-RU" sz="1300" spc="-1" strike="noStrike">
                <a:solidFill>
                  <a:srgbClr val="000000"/>
                </a:solidFill>
                <a:latin typeface="Georgia"/>
              </a:rPr>
              <a:t>Мастера диа­грамм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аналогичен рассмотренному выше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2133720" y="3733920"/>
          <a:ext cx="4419360" cy="990360"/>
        </p:xfrm>
        <a:graphic>
          <a:graphicData uri="http://schemas.openxmlformats.org/drawingml/2006/table">
            <a:tbl>
              <a:tblPr/>
              <a:tblGrid>
                <a:gridCol w="2896920"/>
                <a:gridCol w="541440"/>
                <a:gridCol w="527040"/>
                <a:gridCol w="453960"/>
              </a:tblGrid>
              <a:tr h="3492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50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05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ена компьютера на базе процессора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96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85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06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ена компьютера на базе процессора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46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85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667" name="Picture 1" descr="C:\Work\11а\информатика1111\IT3791_03_1.jpg"/>
          <p:cNvPicPr/>
          <p:nvPr/>
        </p:nvPicPr>
        <p:blipFill>
          <a:blip r:embed="rId1"/>
          <a:stretch/>
        </p:blipFill>
        <p:spPr>
          <a:xfrm>
            <a:off x="2590920" y="2286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2" descr="C:\Work\11а\информатика1111\KC6302_48.jpg"/>
          <p:cNvPicPr/>
          <p:nvPr/>
        </p:nvPicPr>
        <p:blipFill>
          <a:blip r:embed="rId2"/>
          <a:stretch/>
        </p:blipFill>
        <p:spPr>
          <a:xfrm>
            <a:off x="5105520" y="1522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69" name="TextBox 6"/>
          <p:cNvSpPr/>
          <p:nvPr/>
        </p:nvSpPr>
        <p:spPr>
          <a:xfrm>
            <a:off x="685800" y="59436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Надстройки в электронных таблицах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301320" y="1526760"/>
            <a:ext cx="8504280" cy="22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озможности электронных таблиц не ограничиваются вычислениями по формулам и построением диаграмм и графиков. С помощью надстроек электронных таблиц можно строить геоинформационные модели (выводить на географи­ческие карты данные), приближенно с заданной точностью решать уравнения методом подбора параметра, решать задачи оптимизационного моделирования методом поиска решений и так далее. Некоторые из надстроек не устанавливаются по умолчанию и требуют установки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2" name="Picture 1" descr="C:\Work\11а\информатика1111\calc.jpg"/>
          <p:cNvPicPr/>
          <p:nvPr/>
        </p:nvPicPr>
        <p:blipFill>
          <a:blip r:embed="rId1"/>
          <a:stretch/>
        </p:blipFill>
        <p:spPr>
          <a:xfrm>
            <a:off x="1981080" y="3429000"/>
            <a:ext cx="4489560" cy="3166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Box 3"/>
          <p:cNvSpPr/>
          <p:nvPr/>
        </p:nvSpPr>
        <p:spPr>
          <a:xfrm>
            <a:off x="2743200" y="30492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6d7a"/>
                </a:solidFill>
                <a:latin typeface="Georgia"/>
              </a:rPr>
              <a:t>Содержан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4"/>
          <p:cNvSpPr/>
          <p:nvPr/>
        </p:nvSpPr>
        <p:spPr>
          <a:xfrm>
            <a:off x="380880" y="167652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лектронные калькуля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5"/>
          <p:cNvSpPr/>
          <p:nvPr/>
        </p:nvSpPr>
        <p:spPr>
          <a:xfrm>
            <a:off x="4419720" y="22096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лектронные табл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6"/>
          <p:cNvSpPr/>
          <p:nvPr/>
        </p:nvSpPr>
        <p:spPr>
          <a:xfrm>
            <a:off x="380880" y="26668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строенные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7"/>
          <p:cNvSpPr/>
          <p:nvPr/>
        </p:nvSpPr>
        <p:spPr>
          <a:xfrm>
            <a:off x="3733920" y="327672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ртировка и поиск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8"/>
          <p:cNvSpPr/>
          <p:nvPr/>
        </p:nvSpPr>
        <p:spPr>
          <a:xfrm>
            <a:off x="457200" y="41911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строение диаграмм и граф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9"/>
          <p:cNvSpPr/>
          <p:nvPr/>
        </p:nvSpPr>
        <p:spPr>
          <a:xfrm>
            <a:off x="2971800" y="502920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адстройки в электронных таблиц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оиск решения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01320" y="1526760"/>
            <a:ext cx="8504280" cy="27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Поиск решения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является надстройкой, которая позволяет решать задачи оптимизационного моде­лирования. Процедура поиска решения позволяет найти оптимальное значение формулы, содержащейся в ячейке, которая называется целевой. Эта процедура работает с группой ячеек, прямо или косвенно связанных с формулой в целевой ячейке. Чтобы получить по формуле, содержащейся в целевой ячейке, искомый результат, процедура изменяет значения во влияющих ячейках. Чтобы сузить множество значений, используемых в модели, применяются ограничения. Эти ограничения могут содержать ссылки на другие влияющие ячейки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5" name="Picture 1" descr="C:\Work\11а\инфр\5.jpg"/>
          <p:cNvPicPr/>
          <p:nvPr/>
        </p:nvPicPr>
        <p:blipFill>
          <a:blip r:embed="rId1"/>
          <a:stretch/>
        </p:blipFill>
        <p:spPr>
          <a:xfrm>
            <a:off x="1143000" y="3962520"/>
            <a:ext cx="1771560" cy="236196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C:\Work\11а\инфр\ноут.jpg"/>
          <p:cNvPicPr/>
          <p:nvPr/>
        </p:nvPicPr>
        <p:blipFill>
          <a:blip r:embed="rId2"/>
          <a:stretch/>
        </p:blipFill>
        <p:spPr>
          <a:xfrm>
            <a:off x="4648320" y="396252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одбор параметр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i="1" lang="ru-RU" sz="2300" spc="-1" strike="noStrike">
                <a:solidFill>
                  <a:srgbClr val="000000"/>
                </a:solidFill>
                <a:latin typeface="Georgia"/>
              </a:rPr>
              <a:t>Подбор параметра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является одним из инструментов анализа «что, если». Этот метод используется при поиске значения аргумента функции, который обеспечивает требуемое значение функции. При подборе параметра изменяется значение в ячейке аргумента функции до тех пор, пока значение в ячейке самой функции не будет возвращать нужный результат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В качестве примера рассмотрим поиск корня уравнения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х</a:t>
            </a:r>
            <a:r>
              <a:rPr b="0" lang="ru-RU" sz="23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- 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sin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* - 0,5 = 0. Представим функцию в табличной форме, построим ее график, который позволит определить корень уравнения грубо приближенно. Для поиска решения с заданной точностью используем метод </a:t>
            </a:r>
            <a:r>
              <a:rPr b="0" i="1" lang="ru-RU" sz="2300" spc="-1" strike="noStrike">
                <a:solidFill>
                  <a:srgbClr val="000000"/>
                </a:solidFill>
                <a:latin typeface="Georgia"/>
              </a:rPr>
              <a:t>Подбор параметра.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Точность подбора зависит от заданной точности представления чисел в ячейках таблицы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9" name="Picture 2" descr="C:\Work\11а\информатика1111\c465b.jpg"/>
          <p:cNvPicPr/>
          <p:nvPr/>
        </p:nvPicPr>
        <p:blipFill>
          <a:blip r:embed="rId1"/>
          <a:stretch/>
        </p:blipFill>
        <p:spPr>
          <a:xfrm>
            <a:off x="7086600" y="228600"/>
            <a:ext cx="1623960" cy="1219320"/>
          </a:xfrm>
          <a:prstGeom prst="rect">
            <a:avLst/>
          </a:prstGeom>
          <a:ln w="0">
            <a:noFill/>
          </a:ln>
        </p:spPr>
      </p:pic>
      <p:sp>
        <p:nvSpPr>
          <p:cNvPr id="680" name="TextBox 4"/>
          <p:cNvSpPr/>
          <p:nvPr/>
        </p:nvSpPr>
        <p:spPr>
          <a:xfrm>
            <a:off x="1219320" y="60199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546d7a"/>
                </a:solidFill>
                <a:latin typeface="Georgia"/>
              </a:rPr>
              <a:t>Электронные калькуляторы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6760"/>
            <a:ext cx="85042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Электронные калькуляторы являются специализирован­ными программными приложениями, предназначенными для произведения вычислений. Электронные калькуляторы по своим функциональным возможностям соответствуют ап­паратным микрокалькуляторам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Аппаратные микрокалькуляторы могут существенно раз­личаться по своим возможностям и областям применения. Простые микрокалькуляторы позволяют осуществлять толь­ко арифметические операции над числами и используются в быту. Инженерные микрокалькуляторы позволяют также вычислять значения различных функций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(sin, cos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и др.) и используются в процессе обучения и для инженерных расче­тов; программистские микрокалькуляторы позволяют про­водить вычисления в различных системах счисления и другие операции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Электронные калькуляторы гораздо удобнее, так как могут обладать возможностями всех вышеперечисленных типов ап­паратных микрокалькуляторов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7" name="Picture 2" descr="C:\Work\11а\информатика1111\4537_17.jpg"/>
          <p:cNvPicPr/>
          <p:nvPr/>
        </p:nvPicPr>
        <p:blipFill>
          <a:blip r:embed="rId1"/>
          <a:stretch/>
        </p:blipFill>
        <p:spPr>
          <a:xfrm>
            <a:off x="6324480" y="4114800"/>
            <a:ext cx="2210040" cy="20048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3" descr="C:\Work\11а\информатика1111\c476b.jpg"/>
          <p:cNvPicPr/>
          <p:nvPr/>
        </p:nvPicPr>
        <p:blipFill>
          <a:blip r:embed="rId2"/>
          <a:stretch/>
        </p:blipFill>
        <p:spPr>
          <a:xfrm>
            <a:off x="838080" y="4419720"/>
            <a:ext cx="2157480" cy="16192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4" descr="C:\Work\11а\информатика1111\c465b.jpg"/>
          <p:cNvPicPr/>
          <p:nvPr/>
        </p:nvPicPr>
        <p:blipFill>
          <a:blip r:embed="rId3"/>
          <a:stretch/>
        </p:blipFill>
        <p:spPr>
          <a:xfrm>
            <a:off x="3657600" y="4419720"/>
            <a:ext cx="21574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Электронный Калькулятор является стандартным приложением операционной системы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Windows.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Одним из удачных элек­тронных калькуляторов является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NumLock Calculator,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процессе работы с которым легко выбрать требуемый тип калькулятора 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 помощью электронных калькуляторов можно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производить  арифметические  действия  над  целыми  и дробными числами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переводить числа из одной системы счисления в другую(например, из десятичной в двоичную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вычислять значения математических функций  (например, 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х</a:t>
            </a:r>
            <a:r>
              <a:rPr b="0" i="1" lang="ru-RU" sz="1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, 1/х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вычислять значения статистических функций (например, среднее арифметическое заданных чисел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вычислять значения финансовых  функций  (например, вычислять сумму банковского вклада с заданным процентом) и др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Электронные калькуляторы позволяют проводить сложные многоступенчатые вычисления с записью промежуточных результатов в ячейки памяти калькулятора. По мере необходимости такие результаты можно извлекать из памяти и использовать в дальнейших вычислениях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Электронные калькуляторы позволяют обмениваться числовыми данными с другими приложениями с использованием 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буфера обмена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операционной системы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1" name="Picture 2" descr="C:\Work\11а\инфр\265.jpg"/>
          <p:cNvPicPr/>
          <p:nvPr/>
        </p:nvPicPr>
        <p:blipFill>
          <a:blip r:embed="rId1"/>
          <a:stretch/>
        </p:blipFill>
        <p:spPr>
          <a:xfrm>
            <a:off x="1066680" y="228600"/>
            <a:ext cx="6542280" cy="1066680"/>
          </a:xfrm>
          <a:prstGeom prst="rect">
            <a:avLst/>
          </a:prstGeom>
          <a:ln w="0">
            <a:noFill/>
          </a:ln>
        </p:spPr>
      </p:pic>
      <p:sp>
        <p:nvSpPr>
          <p:cNvPr id="622" name="TextBox 5"/>
          <p:cNvSpPr/>
          <p:nvPr/>
        </p:nvSpPr>
        <p:spPr>
          <a:xfrm>
            <a:off x="1676520" y="60199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Электронные таблицы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1320" y="1526760"/>
            <a:ext cx="8504280" cy="38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Электронные таблицы позволяют обрабатывать большие массивы числовых данных, например результаты экспериментов, статистические данные и так далее. Наибольшее распространение получили электронные таблицы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Microsoft Excel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StarCalc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Электронная таблица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— это работающее в диалоговом режиме приложение, хранящее и обрабатывающее данные в прямоугольных таблицах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Электронная таблица состоит из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столбцов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строк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Заго­ловки столбцов обозначаются буквами или сочетаниями букв (А, С, АВ и т. п.), заголовки строк — числами (1, 2, 3 и далее).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Ячейка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— место пересечения столбца и строки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Каждая ячейка таблицы имеет свой собственный адрес.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Адрес ячейки электронной таблицы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составляется из заго­ловка столбца и заголовка строки, например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Al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5, ЕЗ. Ячейка, с которой производятся какие-то действия, выделя­ется рамкой и называется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активной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На рис. активной ячейкой является ячейка СЗ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3657600" y="4952880"/>
          <a:ext cx="3986280" cy="1051200"/>
        </p:xfrm>
        <a:graphic>
          <a:graphicData uri="http://schemas.openxmlformats.org/drawingml/2006/table">
            <a:tbl>
              <a:tblPr/>
              <a:tblGrid>
                <a:gridCol w="365040"/>
                <a:gridCol w="609840"/>
                <a:gridCol w="725400"/>
                <a:gridCol w="695160"/>
                <a:gridCol w="792360"/>
                <a:gridCol w="798480"/>
              </a:tblGrid>
              <a:tr h="1746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96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62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365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95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58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6400">
                <a:tc>
                  <a:txBody>
                    <a:bodyPr lIns="25560" rIns="25560" tIns="0" bIns="0" anchor="t">
                      <a:noAutofit/>
                    </a:bodyPr>
                    <a:p>
                      <a:pPr marL="106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25560" rIns="25560" tIns="0" bIns="0" anchor="t">
                      <a:noAutofit/>
                    </a:bodyPr>
                    <a:p>
                      <a:pPr marL="93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6040">
                <a:tc>
                  <a:txBody>
                    <a:bodyPr lIns="25560" rIns="25560" tIns="0" bIns="0" anchor="t">
                      <a:noAutofit/>
                    </a:bodyPr>
                    <a:p>
                      <a:pPr marL="93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960">
                <a:tc>
                  <a:txBody>
                    <a:bodyPr lIns="25560" rIns="25560" tIns="0" bIns="0" anchor="t">
                      <a:noAutofit/>
                    </a:bodyPr>
                    <a:p>
                      <a:pPr marL="93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25560" rIns="25560" tIns="0" bIns="0" anchor="t">
                      <a:noAutofit/>
                    </a:bodyPr>
                    <a:p>
                      <a:pPr marL="968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Электронные таблицы, с которыми работает пользователь в приложении, называются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рабочими листами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Можно вво­дить и изменять данные одновременно на нескольких рабочих листах, а также выполнять вычисления на основе данных из нескольких листов. Документы электронных таблиц могут включать несколько рабочих листов и называются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рабочими книгами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Основные типы и форматы данных. В работе с электронными таблицами можно выделить три основных типа данных: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число, текст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формула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В зависимости от решаемой задачи возникает необходимость применять различные форматы представления данных. В каждом конкретном случае важно выбрать наиболее подходящий формат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ля представления чисел по умолчанию электронные таблицы используют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числовой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формат, который отображает два десятичных знака после запятой (например, 195,20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Экспоненциальный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формат применяется, если число, содержащее большое количество разрядов, не умещается в ячейке (например, число 2 000 000 000 в экспоненциальном формате будет записано в следующем виде: 2,00Е+09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По умолчанию числа выравниваются в ячейке по правому краю. Это объясняется тем, что при размещении чисел друг под другом (в столбце таблицы) удобно иметь выравнивание по разрядам (единицы под единицами, десятки под десятками и так далее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7" name="Picture 1" descr="C:\Work\11а\информатика1111\Photoentirepage.jpg"/>
          <p:cNvPicPr/>
          <p:nvPr/>
        </p:nvPicPr>
        <p:blipFill>
          <a:blip r:embed="rId1"/>
          <a:stretch/>
        </p:blipFill>
        <p:spPr>
          <a:xfrm>
            <a:off x="609480" y="152280"/>
            <a:ext cx="1752840" cy="116532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2" descr="C:\Work\11а\информатика1111\de754f679fdd.jpg"/>
          <p:cNvPicPr/>
          <p:nvPr/>
        </p:nvPicPr>
        <p:blipFill>
          <a:blip r:embed="rId2"/>
          <a:stretch/>
        </p:blipFill>
        <p:spPr>
          <a:xfrm>
            <a:off x="6400800" y="152280"/>
            <a:ext cx="1612800" cy="1278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Текстом в электронных таблицах является последовательность символов, состоящая из букв, цифр и пробелов, например, запись «32 Мбайт» является текстовой. По умолчанию текст выравнивается в ячейке по левому краю. Это объясняется традиционным способом письма (слева направо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Формула должна начинаться со знака равенства и может включать в себя числа, имена ячеек, функции и знаки математических операций. В формулу не может входить текст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Например, формула =А1+В2 обеспечивает сложение чисел, хранящихся в ячейках А1 и В2, а формула =А1*5 — умножение числа, хранящегося в ячейке А1, на 5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При вводе формулы в ячейке отображается не сама формула, а результат вычислений по этой формуле. При изменении исходных значений, входящих в формулу, результат пересчитывается немедленно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ля представления данных можно использовать также специализированные форматы: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денежный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формат (12000,00р.) удобен для бухгалтерских расчетов, форматы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дата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время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позволяют хранить значения временных данных (15.01.2002    17:45:10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0" name="Picture 1" descr="C:\Work\11а\информатика1111\clementoni_60303_1.jpg"/>
          <p:cNvPicPr/>
          <p:nvPr/>
        </p:nvPicPr>
        <p:blipFill>
          <a:blip r:embed="rId1"/>
          <a:stretch/>
        </p:blipFill>
        <p:spPr>
          <a:xfrm>
            <a:off x="3809880" y="228600"/>
            <a:ext cx="1376640" cy="1066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Относительные и абсолютные ссылки.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 формулах используются ссылки на адреса ячеек. Существуют два основных типа ссылок: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относительные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абсолютные.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Различия между относительными и абсолютными ссылками проявляются при копировании формулы из активной ячейки в другую ячейку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Относительные ссылки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 формулах используются для указания адреса ячейки, вычисляемого относительно ячей­ки, в которой находится формула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ри перемещении или копировании формулы из актив­ной ячейки относительные ссылки автоматически обновля­ются в зависимости от нового положения формулы. Относи­тельные ссылки имеют следующий вид: А1, ВЗ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ри копировании формулы, содержащей только относи­тельные ссылки, из ячейки С1 в ячейку 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2 обозначения столбцов и строк в формуле изменятся на один шаг вправо и вниз (рис. 10.3)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2362320" y="5105520"/>
          <a:ext cx="4572000" cy="1218960"/>
        </p:xfrm>
        <a:graphic>
          <a:graphicData uri="http://schemas.openxmlformats.org/drawingml/2006/table">
            <a:tbl>
              <a:tblPr/>
              <a:tblGrid>
                <a:gridCol w="420480"/>
                <a:gridCol w="638280"/>
                <a:gridCol w="623880"/>
                <a:gridCol w="1065240"/>
                <a:gridCol w="1157400"/>
                <a:gridCol w="666720"/>
              </a:tblGrid>
              <a:tr h="2030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69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666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52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95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400">
                <a:tc>
                  <a:txBody>
                    <a:bodyPr lIns="25560" rIns="25560" tIns="0" bIns="0" anchor="t">
                      <a:noAutofit/>
                    </a:bodyPr>
                    <a:p>
                      <a:pPr marL="1033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А1*В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040">
                <a:tc>
                  <a:txBody>
                    <a:bodyPr lIns="25560" rIns="25560" tIns="0" bIns="0" anchor="t">
                      <a:noAutofit/>
                    </a:bodyPr>
                    <a:p>
                      <a:pPr marL="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В2*С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040">
                <a:tc>
                  <a:txBody>
                    <a:bodyPr lIns="25560" rIns="25560" tIns="0" bIns="0" anchor="t">
                      <a:noAutofit/>
                    </a:bodyPr>
                    <a:p>
                      <a:pPr marL="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$А$1*$В$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400">
                <a:tc>
                  <a:txBody>
                    <a:bodyPr lIns="25560" rIns="25560" tIns="0" bIns="0" anchor="t">
                      <a:noAutofit/>
                    </a:bodyPr>
                    <a:p>
                      <a:pPr marL="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$А$1*$В$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040">
                <a:tc>
                  <a:txBody>
                    <a:bodyPr lIns="25560" rIns="25560" tIns="0" bIns="0" anchor="t">
                      <a:noAutofit/>
                    </a:bodyPr>
                    <a:p>
                      <a:pPr marL="93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 txBox="1"/>
          <p:nvPr/>
        </p:nvSpPr>
        <p:spPr>
          <a:xfrm>
            <a:off x="301320" y="1526760"/>
            <a:ext cx="850428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Абсолютные ссылки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в формулах используются для указания фиксированного адреса ячейки. При перемещении или копировании формулы абсолютные ссылки не изменяются. В абсолютных ссылках перед неизменяемыми значе­ниями адреса ячейки ставится знак доллара (например, $А$1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При копировании формулы, содержащей только абсолютные ссылки, из ячейки СЗ в ячейку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4 обозначения столбцов и строк в формуле не изменятся (см. рис. 10.3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Рассмотрим действие относительных и абсолютных ссылок на примере. Пусть нам необходимо вычислить стоимость комплектующих для компьютера в рублях, если известны их цены в долларах и курс доллара. Для вычисления цены в рублях необходимо умножить цену в долларах на величину курса доллара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5" name="Picture 2" descr="C:\Work\11а\информатика1111\1250152275.jpg"/>
          <p:cNvPicPr/>
          <p:nvPr/>
        </p:nvPicPr>
        <p:blipFill>
          <a:blip r:embed="rId1"/>
          <a:stretch/>
        </p:blipFill>
        <p:spPr>
          <a:xfrm>
            <a:off x="5334120" y="4038480"/>
            <a:ext cx="3033720" cy="2654280"/>
          </a:xfrm>
          <a:prstGeom prst="rect">
            <a:avLst/>
          </a:prstGeom>
          <a:ln w="0">
            <a:noFill/>
          </a:ln>
        </p:spPr>
      </p:pic>
      <p:sp>
        <p:nvSpPr>
          <p:cNvPr id="636" name="TextBox 4"/>
          <p:cNvSpPr/>
          <p:nvPr/>
        </p:nvSpPr>
        <p:spPr>
          <a:xfrm>
            <a:off x="609480" y="60199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8-27T15:44:30Z</dcterms:modified>
  <cp:revision>19</cp:revision>
  <dc:subject/>
  <dc:title>Слайд 1</dc:title>
</cp:coreProperties>
</file>