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34A-B4F9-448D-B50D-B57B3443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A3D-4D4C-46D7-871E-8111BAB1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5272A-411C-449E-9A81-2F2B24AE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E2A1E-0B72-4319-BB08-FA181B7B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1B0EC-B377-46C7-A6D2-80393771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39F85-A50E-42CD-AD27-2B34242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B008B-F8FE-4FD5-930E-A7B5CEA9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5234A-C2CB-4078-9726-6F7756C1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5B6D9-3A84-4E90-AF8B-99C962D2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8A169-C49A-4EE0-A360-A7BA6AF6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2E8EF-CE5E-40FB-9AC2-9DABAD97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15972-1AF2-4DEE-81AC-48001F30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472-3D97-494C-827B-5B4B677F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660C3-E50B-4EEF-A766-14BDC4F0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F8911-A011-4A27-B0FA-D6AE1BE2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AF985-9D4E-4F74-8F8D-32DB05EA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9C596-FAD1-4FE5-A4D6-72056D15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942D8-847A-405F-98A8-B69BEEAD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AF752-2998-4605-B1C3-DA76AA3D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1E729-129A-4984-9211-29ED6C9A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34C72-83BF-4767-AC67-1CEE58E4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F7298-49AB-44EC-93AD-D5AFF4A5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4BB26-8FF9-4E54-AD51-6B4E679E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2AA-2096-4496-84FC-B2E9ACBF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85B9B-14EC-4C4C-ADB8-1AEF9B56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CBC08-BF2B-427D-A8A7-C95BCBFD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E657D-2D79-4A73-839E-582D0E1F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0B5DB-43ED-4D88-889F-A1CE8A78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51DDB-3992-4005-993B-C01DD1F3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1CC76-BD83-466F-9E89-AFD6CBD5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08B83-2057-4576-8FB1-0D51C3AD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4B4D2-3E44-4915-A921-2BDDFA6C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18194-1C92-4DAB-90DF-1AD30E0F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262EB-6E84-4322-82B2-08745D85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3B26-FD9E-4C13-B482-B9DF5CBE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C466E-51C9-430E-A06D-1A391C8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BDC28-A50F-4D08-B9A6-C9173565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2F4CE-C828-4B94-9498-2A13D8A3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35E50-9832-4602-8587-F850854C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AE294-C3B7-4EB6-AA5C-8E14D2F7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9EE48-33E5-477A-8B10-F1E946C2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DDA9A-9A76-4123-A376-881BA629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D0C08-EB98-41AC-97A1-9BEBD8D3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500E9-2541-4D17-AA42-4538F066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B5E65-5BBE-4F65-ABFB-D74AB728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E29B-1E36-46C0-981A-2152C45F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37C4C-5B2B-4146-A44B-490C5DD0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5A1E8-871F-453A-9FFB-4C171EBD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50623-D78F-492E-9347-E2E3A1B1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009267-3206-495F-8AA0-47692609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4500E-6D28-46E7-990A-0E939143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B1A7-1E75-4359-824E-FFE17E6A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E55F-AF3B-4198-9157-F7DD7366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49CA-AC83-4F0A-BAFD-7FECE9E5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3D9F-FE54-4045-8235-CBE16183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5237-5579-404B-BA65-DC62C820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4CC-D7DD-49DD-A0CE-8E492757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DD37-0617-4496-8D9C-025EE076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996A-819C-48E8-B0A9-431A902A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40F2-D83D-4C47-8A37-2D6D6625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8D1A-58D3-4EF8-B99C-167874BA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D657-D789-4CC6-9745-8060D0A3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66C9D-3410-405B-A9B4-D3E4A8F0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D2A9-BF82-4F67-A152-8E12B44E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D00D9-1942-48DD-87CA-60AFEFBF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9CC21-AFBD-4D9D-B385-3C7D7B65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AB88-3FE7-49E1-BE9C-447A16AA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589-B13D-4FAA-8528-3F91085F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B955-77C0-46C1-901B-C34FB22E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973DA-0E21-467D-9F9D-33D46920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8A48-ACC0-43D2-A54E-A20CCE03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59C4-8AD9-4870-9839-A39EEAC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49F4-4C1F-4C0A-83BC-5DC0B78B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66CD-9456-404A-857D-EDB9095C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524B5-45A7-467F-9E74-69B456AF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8EFA-6A01-445C-8709-03AEC19C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2D8D1-FE5A-4CEA-8B71-C2AE289A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B18F9-FE4A-41F0-9DA7-C20D4D7F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0BD-047E-488A-BF7E-3589229E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2EBE2-3D84-45CB-86E1-4C05F3DC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BD43A-79A0-41EC-9E97-08C2D737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82A6D-5CB6-4CE9-B903-6194B9BB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4DA79-3731-4C36-AB55-3589C7F7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95785-32CE-4AC6-A544-ADF199AF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8BBEA-A421-4E21-90BE-4766F511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1C15E-D72D-411A-A604-879B661F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6CEB-3B68-4EED-B9CD-B9919985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B540-2C1F-4B05-9F01-A090E27A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72949-FC93-40AD-832F-14647EB9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DC3-BF96-42DA-83AA-1DA7C75F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1D5C3-B555-40BF-9FFF-5DF7EB4E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16014-C39E-441F-BEC1-71BD1D99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3C948-5FA5-428D-ACD3-3ADDA886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8EDCB-8860-42CF-B9B4-DBE956EF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679B8-46C8-44D9-97DF-30BD8509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9B424-CFA8-4153-9B1B-18DEC3AF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A7FA1-8A2F-408E-878B-40AEE1D2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E3CD3-2736-44E0-A1E5-B152DE1C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BE00B-8ED7-4B00-9132-CA875FA8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1B64F-0F52-4436-938D-EA3E460C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A69A-76E8-463A-8138-C321B04E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5AE06-0407-4B18-803B-5A1FCF54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E3CC1-B55C-4AD9-BF8D-69CF6074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6FD3-076C-4903-80BF-D9BE1C8A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E637C-975F-4078-8669-E1F28A4A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2FA31-A6E7-4914-9CDF-86B7503C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23CFB-9DED-4C54-AEA2-9EE79300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23329-9571-41F6-B515-6D647B10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1A8E1-56C7-41E1-9F51-C748B9F5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C682C-706F-4EDD-A3F0-D95C0420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54999-3056-4222-93FA-8A01A134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885-C204-4B49-88BD-6C64745C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A1EA8-C4B8-476B-A9C6-7F2B9CA4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2D71B-EE81-4ED3-8011-83F8A9C0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CF81B-072D-4389-938D-61410950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791B3-6525-4305-A692-FE677DBC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B1687-91DB-49E0-B827-4531B004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85237-D89F-46D7-AB99-2E200959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544F1-A605-40E7-830B-6D09E262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0F829-1B5C-4836-93F2-BD4EB29D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13109-99C1-4C57-9F36-52514015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48F41-3F90-4B49-809F-4087C39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A26-3895-4DA4-B11F-F28897E8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ACF58-A1D8-4D5E-ABEB-8B8BB02D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066B9-305D-4C8E-86FE-9CA14377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53057-3323-4F84-AE99-E3893507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9C16F-6DE3-406B-8A86-47CA4042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01010-32E1-4B0D-944B-D6CE4401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4E4DC-7E88-4541-97CE-DA2D573A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83A12-CB9B-4EEA-9B4F-F7834E57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04B4E-5D93-416F-B826-22CF7BF4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8514B-4526-4C5F-840D-52081B5F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902B5-2840-4CA0-9E5A-10C9FB98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D17-B309-43CF-9B48-C9F9F8EE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22EAE-F660-45A3-AC1D-6C5411B4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E637D-3F06-4DC1-BD71-F511EFF8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8A42B-555B-4316-B364-4388DA3E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6834E-F423-4598-B8BB-8CD9E97C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43296-01D9-49CA-BDE3-12D59271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A4BEB-DD14-48B8-BD96-B5383A68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F0489-0A61-488D-8806-D7865C8D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E70B9-7C94-4BB6-9715-725AB819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188A5-9645-486E-9D57-C5B0B426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05489-FB3A-46FC-945A-B9E07912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D1C6-37BD-4104-8A36-6E954943AED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1D7F-8194-4891-B071-8C17E316AD6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7777-E49D-450C-A960-94BE6BF26DF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502B-0448-47D9-B73D-737BF6D4FC5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D759-5DB6-4481-BC60-FDBAF7CEB7C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66D2-7C1B-4D1D-B60E-33DEEE6C8BD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BEF5-930E-4242-B7F1-21BF2C3B768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6310-3350-4494-B8D6-CDBEAE8DD33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F251-8A00-4560-81B8-BF3E438F2C4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C202-DBDA-43ED-9F08-120C5B3DE70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C389-60E1-41B1-9AEB-B2D4DB2F739B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0A46-2721-443F-9995-F078BCA9965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2057400" y="1905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5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6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7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808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44197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380880" y="2666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733920" y="3276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45720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29718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67652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6094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7T15:44:30Z</dcterms:modified>
  <cp:revision>19</cp:revision>
  <dc:subject/>
  <dc:title>Слайд 1</dc:title>
</cp:coreProperties>
</file>