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D311-A200-4DEA-AD1E-8E458E4C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334E-4097-45C0-8350-509EC476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6523BF-5D84-47D8-9857-A7FEF9DD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69F031-38B8-4CF1-9BF6-8D2A3DBA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25C8DD-C9E4-41F8-A3E6-7E06A98D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F7A2B0-4E36-4DD8-9B01-78ED87D8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495AB6-FC89-4C27-806E-7625B35B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AE498E-D15F-400A-BDE0-9A9E8DBA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5CC254-057C-403E-8268-C9C6EB81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619AD7-62A3-4382-8D7F-2D3E0681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EC46DE-7662-423C-BBB4-F99EC390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FC9426-54AD-41D3-A112-CAC91C27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32A5-AE8E-4DCE-A066-A5915D75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724D14-5046-4021-9274-DB32334B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81C2F4-E010-4E70-879E-D9DD19E2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93E8E8-D5B8-4A8F-B577-14301D8C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B62E1D-F7CB-4348-B5B2-4F189C5E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509F51-6795-4340-9053-21DF7CF3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8ADF05-D6C5-4BA5-9551-F54AEB97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9AD0CB-903D-49EF-A069-E450BAAB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66A62C-CFFC-4965-8723-EF3BAE93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951F96-E6E3-45DD-8612-75671516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B3DBA8-C6EA-48BC-8892-31F0C22C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2759-86B5-43D0-BD3A-2FFE2234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933588-8512-4C59-A9FB-285351D1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68885-BE20-4B66-8C0A-2ED7028B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B8220-B728-421B-A31A-A2CC56D9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4C518-27F7-49A2-B5B2-A0E5D60F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C0882-76AF-444F-802C-48CCEE89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A8701-F7B2-409C-8857-F2461393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320C4-4674-418A-B6CE-FB331851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E80A0-E80F-4402-914A-25E985A9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0C11C-3014-4487-8FF0-A8824BE3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6F460-26A7-48CF-AABC-885136B2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582E-EB51-4A0C-9C18-D2860CD1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44C4E-0ACC-42ED-A399-1DD70773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70A95-A6AD-4E6C-990B-B6C68A9F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77AD8-C378-43B7-861E-F0DBE6D2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7777BC-80D9-44C3-9994-A0618428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DB3D2A-B4DC-4E69-84AF-A9BE8442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8EDD4E-9EDC-41F8-90D2-4D370954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E0303F-8E40-446C-B7F9-EFB3741D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1BBA16-7353-41B2-8A99-05F8956A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FEB15F-F395-465E-A60E-9526D99D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26AC9E-4C40-45FA-AA66-0456E8D7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7BDA-A969-4E88-90D8-5370F29B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53078D-2366-42FD-BB19-55FA73CF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F9647-4D87-4895-B8F0-3E83AAC3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933B8E-C1E3-4526-BB88-89857D70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D7ACBB-ED5A-448F-9C2B-4E1AAC4C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A259B0-1E19-45AF-AE3E-A0207356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E81F-A03D-4FF5-9CFE-10016A51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19D4-B094-4DB9-8D2C-403B13D5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9986-4E0D-44FB-9643-F61C8F34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3583-C71F-4883-80E8-E015C024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7317-8EC3-40EB-9759-AD12F484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3633-84D7-4B94-A6A2-1549FF1C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05C2-4366-400D-ACC3-0DCEFB2C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BF43-CF43-4808-B9E2-3A61A106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4999-C259-4BDD-B081-1ABAC68E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B867-F135-40E5-ABFF-4872AC17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B232-B337-4AA5-A967-D4D4E6A4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F5E4A-8E39-4FAC-B092-F63A6F0B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06B21-A0CB-4398-9B1F-11DFC683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28D14-1D6A-469C-9C8C-D9847702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2B028-30C6-49F4-A946-7B200AC4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344D4-8CFD-4BFF-B711-092E7443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C67A-E652-4DF3-B6B3-52BEFBA1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77E03-C274-41EA-8080-B81E2D3C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A87C3-8A3F-417C-94E3-4929BE9A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1CAC5-B21F-4274-B340-E39B6DDA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D4B09-7A34-426D-A092-B169AD53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9BC2D-7F75-438C-BA33-4A07BEEA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A1DCE-B87B-4C96-86B0-13CF5801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20A67-9743-4B57-8BE0-173D4364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A413E-77DA-4BD5-A02B-1C2CCADE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BBB72-23F3-47CC-B5C5-9AE7FA12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FC377-2F24-43F7-AAA4-FB58D7B0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2996-749B-4570-AAA9-691B8D50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4F486-5BA9-43E9-AA8E-FDFB5277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B2843-6727-462E-8819-8E49691A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FF1C1-6AB2-4B7C-8E00-F23A7862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5E88A-2123-4924-8A0F-B6A4864F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D7AB3-04AB-4E9C-872D-CCA5E63C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0C688-7861-4856-AAFF-C47A43FF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247E7-27E1-4639-A4AA-CBCE8873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3850C-241C-4CA6-BA5D-2A6087F6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6476E-6614-4943-A3D4-98C2CE09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3CA37-7936-4697-AF81-EB1CF54B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B4F8-F732-4EDB-A288-CC66F45C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81C96-B095-4994-B090-33F3EF63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1C6B3-79DC-45B7-B9BE-13943296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A6322-A099-44CA-A387-6CF08228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17FBE-9658-47EB-87DF-F7B2D4E1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F0D4E-4D3A-4155-AA5E-0063CE64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1008F-BBAA-4794-A868-295529CE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C8141-AB2A-42DE-ACD8-72FEFB34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9E3BB-9696-4212-B937-EB6C41C8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A5820-5BB0-4B4A-9F11-3A119DC4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A97A6-4321-45D2-A71B-16783774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9EA4-CC72-4C24-990D-7BDB3042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9293D-762E-4D7E-A9A8-70406130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C91DC-48A7-4475-8A0B-A8216B44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0BED4-2644-481B-A725-3169A49A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B735E-B1BC-4901-984C-AB71BDB2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046F3-7FA3-4B4A-B8EE-DE242687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B30BB-1CF0-464B-A18B-6577CBE9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39D7E-6E4E-48D7-96EB-3364AF8D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28C9E-0172-48FB-A260-B71F7098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2D710-0B23-439B-834A-16EE98C4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F389A-30FA-40E2-96DD-C83A8C36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0E72-26B1-4E52-BFF4-49464E27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9F97E-7FB7-40B2-BC52-C3006735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A3F0D-14B5-43D3-8B6B-35D8E5E0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A0A9F-39D1-4083-8399-282C01E3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14885-C05F-4492-A76A-C65D5901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03B84-B06E-4D6D-A6D2-0C0AD034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991E1-2796-483F-8478-811FBC33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3F1BF-62E0-4655-844D-F445031F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C46A2-E73A-4A47-8506-213E7B84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C87C1-CA2E-4A2B-BF47-486E4A43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57AFB-348B-4733-9DC9-82D568F7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62A1-174C-4A0C-82D1-7D5B0EE9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3A27D-658B-4055-B8C1-59CB9A22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1B4E7-A4B1-4290-95D3-DC3EFFE0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D5FE7-AD7F-4607-9647-9CF51EEA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A519D-96FD-478C-A3EE-49B12EF8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20BE7-F98F-4A1F-86F6-AD54EE7D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94A26-9E44-49C4-8861-F93C1718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1B0C7-3B56-48C4-A143-EBEF4F86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872EF-406F-469B-9779-1E2698AE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9E48F-F761-4C66-A414-C9227220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79836-D14C-4385-8C58-7CEAA6D8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C00-4189-4550-9ABB-EB80DB63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78C5B-13C3-4B9C-B3BA-43A29257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938D4-4262-45CA-9277-A99D5E0F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545F6-84E9-40D9-822F-8EDF56FC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30196-6049-4CC8-B2F5-E04F5825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1A513-D018-4FC8-B556-23555D9B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9B216-AA87-4597-889D-3C0AB348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8A96F-2F64-41F5-8392-C707948E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BC33D2-8D2E-4204-ADF6-FB840BFC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A29CF2-CDDA-4B17-AB8A-61401BD4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8967E9-4AA1-49D5-88ED-E2E7A4B9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8101-EA71-4223-A400-19B16B9236A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9A16-BBEE-4252-A8B4-E56EFF7215A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8905-A41A-40FC-8133-E58D0B5A2AD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9374-03B3-4792-AA78-10602920396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9391-79AF-4DA5-9F8B-17CC55476EF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CE94-D72F-417F-8872-B9F058FC71B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3D42-A715-46FD-8AE7-F832EF41F7E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DED4-2442-4A91-8664-4B157398CCA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683D-826E-4614-821B-3DA5F86E17B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32FC-0103-49B4-B3B5-819F0A95E95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70AA-E2D0-4DEC-A7A3-390AAD58F88D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0593-EDD1-4F50-898B-C625E0CF16E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Технология обработки числов</a:t>
            </a:r>
            <a:r>
              <a:rPr b="0" lang="ru-RU" sz="3800" spc="-1" strike="noStrike">
                <a:solidFill>
                  <a:srgbClr val="d16349"/>
                </a:solidFill>
                <a:latin typeface="Arial"/>
              </a:rPr>
              <a:t>ых </a:t>
            </a: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данных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TextBox 2"/>
          <p:cNvSpPr/>
          <p:nvPr/>
        </p:nvSpPr>
        <p:spPr>
          <a:xfrm>
            <a:off x="4419720" y="5181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чик презента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Можайска Моск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4572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Встроенные функции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6760"/>
            <a:ext cx="8504280" cy="33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Формулы могут состоять не только из арифметических операторов и адресов ячеек. Часто в вычислениях приходится использовать формулы, содержащие функции. Электронные таблицы имеют несколько сотен встроенных функций, которые подразделяются на категории: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Математические, Статистические, Финансовые, Дата и время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 так дале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2" descr="C:\Work\11а\информатика1111\3058424.jpg"/>
          <p:cNvPicPr/>
          <p:nvPr/>
        </p:nvPicPr>
        <p:blipFill>
          <a:blip r:embed="rId1"/>
          <a:stretch/>
        </p:blipFill>
        <p:spPr>
          <a:xfrm>
            <a:off x="1752480" y="4572000"/>
            <a:ext cx="5105520" cy="20001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TextBox 3"/>
          <p:cNvSpPr/>
          <p:nvPr/>
        </p:nvSpPr>
        <p:spPr>
          <a:xfrm>
            <a:off x="2057400" y="19051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строенные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4"/>
          <p:cNvSpPr/>
          <p:nvPr/>
        </p:nvSpPr>
        <p:spPr>
          <a:xfrm>
            <a:off x="838080" y="3276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тематическ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5"/>
          <p:cNvSpPr/>
          <p:nvPr/>
        </p:nvSpPr>
        <p:spPr>
          <a:xfrm>
            <a:off x="48769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огическ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Прямая со стрелкой 7"/>
          <p:cNvCxnSpPr/>
          <p:nvPr/>
        </p:nvCxnSpPr>
        <p:spPr>
          <a:xfrm flipH="1">
            <a:off x="2666520" y="2666880"/>
            <a:ext cx="610560" cy="534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645" name="Прямая со стрелкой 9"/>
          <p:cNvCxnSpPr/>
          <p:nvPr/>
        </p:nvCxnSpPr>
        <p:spPr>
          <a:xfrm>
            <a:off x="4952520" y="2666880"/>
            <a:ext cx="762840" cy="534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sp>
        <p:nvSpPr>
          <p:cNvPr id="646" name="TextBox 10"/>
          <p:cNvSpPr/>
          <p:nvPr/>
        </p:nvSpPr>
        <p:spPr>
          <a:xfrm>
            <a:off x="1752480" y="5791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Математические функции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дной из наиболее часто используемых операций является суммирование значений диапазона ячеек для расчета итоговых результатов. На панели инструментов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Стандартная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сположена кнопка [х],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Автосуммирование,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торая используется для автоматического суммирования чисел с помощью функции СУМ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TextBox 3"/>
          <p:cNvSpPr/>
          <p:nvPr/>
        </p:nvSpPr>
        <p:spPr>
          <a:xfrm>
            <a:off x="251460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Логические функции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нее были рассмотрены базовые логические операции (умножения, сложения, отрицания) и их таблицы истинно­сти. В электронных таблицах имеются соответствующие ло­гические функции, с помощью которых достаточно просто построить таблицы истинности логических операций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ргументами логических функций являются логические значения ИСТИНА и ЛОЖЬ. Логические значения, в свою очередь, могут быть получены как результат определения значений логических выражений. Например, для логического выражения 10&gt;5 результатом будет логическое значе­ние ИСТИНА, а для логического выражения А1&lt;А2 (где в ячейке А1 хранится число 10, а в ячейке А2 — число 5) — значение ЛОЖЬ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Логическая функция «И»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меет в качестве аргументов логические значения, которые могут быть истинными или ложными, и задается формулой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=Щлог_знач1;лог_знач2;...).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нимает значение ИСТИНА тогда и только тогда, когда все аргументы имеют значение ИСТИН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Например, значение функции =И(10&gt;5;10&lt;5) — ЛОЖЬ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228240" y="13716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Логическая функция «ИЛИ»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меет в качестве аргументов логические значения и задается формулой =ИЛИ(лог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_знач1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; 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лог_знач2;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...). Принимает значение ИСТИНА, если хотя бы один из аргументов имеет значение ИСТИН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пример, значение функции =ИЛИ(10&gt;5;10&lt;5) — ИСТИН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Логическая функция «НЕ»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меет один аргумент и задается формулой 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=НЕ(лог_знач).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ринимает значение ИСТИНА, если аргумент имеет значение ЛОЖЬ, и наоборот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пример, значение функции =НЕ(10&gt;5) — ЛОЖЬ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остроим с помощью электронных таблиц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таблицу истинности операции логического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умножения, используя логическую функцию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«И»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3" name="Picture 2" descr="C:\Work\11а\информатика1111\520dff42-178a-11dd-9641-001f2908c552_enl.jpg"/>
          <p:cNvPicPr/>
          <p:nvPr/>
        </p:nvPicPr>
        <p:blipFill>
          <a:blip r:embed="rId1"/>
          <a:stretch/>
        </p:blipFill>
        <p:spPr>
          <a:xfrm>
            <a:off x="6095880" y="3886200"/>
            <a:ext cx="2787840" cy="2787480"/>
          </a:xfrm>
          <a:prstGeom prst="rect">
            <a:avLst/>
          </a:prstGeom>
          <a:ln w="0">
            <a:noFill/>
          </a:ln>
        </p:spPr>
      </p:pic>
      <p:sp>
        <p:nvSpPr>
          <p:cNvPr id="654" name="TextBox 4"/>
          <p:cNvSpPr/>
          <p:nvPr/>
        </p:nvSpPr>
        <p:spPr>
          <a:xfrm>
            <a:off x="838080" y="6019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Сортировка и поиск данных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4560" y="137124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осуществлять сортировку данных, то есть производить их упорядочение. Данные (числа, текст, даты) в электронных таблицах можно сортировать по возрастанию или убыванию. При сортировке по возрастанию данные выстраиваются в следующем порядке: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числа сортируются от наименьшего отрицательного до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наибольшего положительного числа;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текст сортируется в следующем порядке: числа, знаки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латинский алфавит, русский алфавит;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пустые ячейки всегда помещаются в конец списк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ля сортировки строк таблицы необходимо выбрать столбец, данные которого будут упорядочиваться. После сортировки изменяется порядок следования строк, но сохраняется их целостность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Можно проводить вложенные сортировки, то есть сортировать данные последовательно по нескольким столбцам. При вложенной сортировке строки, имеющие одинаковые значения в ячейках первого столбца, будут упорядочены по значениям в ячейках второго столбца, а строки, имеющие одинаковые значения во втором столбце, будут упорядочены по значениям третьего столбца. Так, результат вложенной сортировки таблицы (исключая первую строку), содержащей данные о компьютерах, при сортировке столбца А по возрастанию, столбца В по убыванию и столбца С по возрас­танию будет таким, как показано на рис. 10.4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3200400" y="4495680"/>
          <a:ext cx="5181480" cy="1828800"/>
        </p:xfrm>
        <a:graphic>
          <a:graphicData uri="http://schemas.openxmlformats.org/drawingml/2006/table">
            <a:tbl>
              <a:tblPr/>
              <a:tblGrid>
                <a:gridCol w="592200"/>
                <a:gridCol w="1523880"/>
                <a:gridCol w="1698840"/>
                <a:gridCol w="1366560"/>
              </a:tblGrid>
              <a:tr h="371520">
                <a:tc gridSpan="4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74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44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04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0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ип компьюте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8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цессо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мя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56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440">
                <a:tc>
                  <a:txBody>
                    <a:bodyPr lIns="25560" rIns="25560" tIns="0" bIns="0" anchor="t">
                      <a:noAutofit/>
                    </a:bodyPr>
                    <a:p>
                      <a:pPr marL="139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42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1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6280">
                <a:tc>
                  <a:txBody>
                    <a:bodyPr lIns="25560" rIns="25560" tIns="0" bIns="0" anchor="t">
                      <a:noAutofit/>
                    </a:bodyPr>
                    <a:p>
                      <a:pPr marL="139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иск данных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1320" y="1527120"/>
            <a:ext cx="85042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электронных таблицах можно осуществлять поиск данных (строк) в соответствии с  заданными условиями. Такие условия называются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фильтром.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результате поиска будут найдены строки, удовлетворяющие заданному фильтру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Условия задаются с помощью операций сравнения. Для числовых данных это операции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=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меньше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lt;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gt;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меньше или 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lt;=) и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или 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gt;=). Для задания условия необхо­димо выбрать операцию сравнения и задать число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Для текстовых данных возможны операции сравнения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, начинается с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первые символы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заканчивается на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последние символы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содержит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символы в любой части текста). Для задания условия необходимо выбрать операцию сравнения и задать последовательность символов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Можно осуществлять поиск данных, вводя условия поиска для нескольких столбцов. В этом случае фильтр будет содержать несколько условий, которые должны выполняться одновременно. Например, если мы хотим в таблице, изображенной на рис. 10.4, найти данные о настольном компьютере с процессором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Pentium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4 и памятью 128 Мб, то необходимо задать фильтр, состоящий из трех условий: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Компьютеры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Настольный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Процессор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Pentium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4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Память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64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TextBox 3"/>
          <p:cNvSpPr/>
          <p:nvPr/>
        </p:nvSpPr>
        <p:spPr>
          <a:xfrm>
            <a:off x="685800" y="5943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строение диаграмм и график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01320" y="1526760"/>
            <a:ext cx="85042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Типы диаграмм и графиков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визуализировать данные, размещенные на рабочем листе, в виде диаграммы или графика. Диаграммы и графики наглядно отображают зависимости между данными, что облегчает восприятие и помогает при анализе и сравнении данных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иаграммы могут быть различных типов и соответственно представлять данные в различной форме. Для каждого набора данных важно правильно подобрать тип создаваемой диаграммы. Для наглядного сравнения различных величин используются линейчатые диаграммы. Например, с помощью линейчатой диаграммы можно наглядно представить данные о численности населения различных стран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отображения величин частей от целого применяется круговая диаграмма. Круговая диаграмма позволяет, например, наглядно показать доли стоимости отдельных устройств компьютера в его цене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отображения изменения величин в зависимости от времени и построения графиков функций используются диаграммы типа «график» (рис. 10.5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3" name="Picture 1" descr=""/>
          <p:cNvPicPr/>
          <p:nvPr/>
        </p:nvPicPr>
        <p:blipFill>
          <a:blip r:embed="rId1"/>
          <a:stretch/>
        </p:blipFill>
        <p:spPr>
          <a:xfrm>
            <a:off x="1905120" y="5105520"/>
            <a:ext cx="5105160" cy="125100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2"/>
          <p:cNvSpPr/>
          <p:nvPr/>
        </p:nvSpPr>
        <p:spPr>
          <a:xfrm>
            <a:off x="4416120" y="-267480"/>
            <a:ext cx="3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Л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301320" y="1447920"/>
            <a:ext cx="85042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иаграммы могут располагаться как на листе с данными (внедренные диаграммы), так и на отдельных листах. Диаграммы связаны с исходными данными на рабочем листе и обновляются при обновлении данных на рабочем листе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ля создания диаграмм используется </a:t>
            </a:r>
            <a:r>
              <a:rPr b="0" i="1" lang="ru-RU" sz="1300" spc="-1" strike="noStrike">
                <a:solidFill>
                  <a:srgbClr val="000000"/>
                </a:solidFill>
                <a:latin typeface="Georgia"/>
              </a:rPr>
              <a:t>Мастер диаграмм. Мастер диаграмм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озволяет создавать диаграмму по шагам с помощью серии диалоговых панелей. В качестве примера рассмотрим таблицу «Цены устройств компьютера» и представим в наглядной форме долю цены каждого устройства в цене компьютер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остроение графиков. Построение графиков является частным случаем  построения диаграмм. Графики выбирают в тех случаях, когда хотят отобразить изменение данных с течением времени. Графики позволяют анализировать за­кономерности изменения величин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редставим с помощью графика динамику изменения цен по годам на различные модели компьютеров (на базе процессоров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Pentium II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Pentium III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) — рис. 10.6.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роцесс построения графика с помощью </a:t>
            </a:r>
            <a:r>
              <a:rPr b="0" i="1" lang="ru-RU" sz="1300" spc="-1" strike="noStrike">
                <a:solidFill>
                  <a:srgbClr val="000000"/>
                </a:solidFill>
                <a:latin typeface="Georgia"/>
              </a:rPr>
              <a:t>Мастера диа­грамм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аналогичен рассмотренному выше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2133720" y="3733920"/>
          <a:ext cx="4419360" cy="990360"/>
        </p:xfrm>
        <a:graphic>
          <a:graphicData uri="http://schemas.openxmlformats.org/drawingml/2006/table">
            <a:tbl>
              <a:tblPr/>
              <a:tblGrid>
                <a:gridCol w="2896920"/>
                <a:gridCol w="541440"/>
                <a:gridCol w="527040"/>
                <a:gridCol w="453960"/>
              </a:tblGrid>
              <a:tr h="3492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0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на компьютера на базе процессор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96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на компьютера на базе процессор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67" name="Picture 1" descr="C:\Work\11а\информатика1111\IT3791_03_1.jpg"/>
          <p:cNvPicPr/>
          <p:nvPr/>
        </p:nvPicPr>
        <p:blipFill>
          <a:blip r:embed="rId1"/>
          <a:stretch/>
        </p:blipFill>
        <p:spPr>
          <a:xfrm>
            <a:off x="2590920" y="228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2" descr="C:\Work\11а\информатика1111\KC6302_48.jpg"/>
          <p:cNvPicPr/>
          <p:nvPr/>
        </p:nvPicPr>
        <p:blipFill>
          <a:blip r:embed="rId2"/>
          <a:stretch/>
        </p:blipFill>
        <p:spPr>
          <a:xfrm>
            <a:off x="5105520" y="1522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9" name="TextBox 6"/>
          <p:cNvSpPr/>
          <p:nvPr/>
        </p:nvSpPr>
        <p:spPr>
          <a:xfrm>
            <a:off x="685800" y="5943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Надстройки в электронных таблицах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01320" y="1526760"/>
            <a:ext cx="850428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озможности электронных таблиц не ограничиваются вычислениями по формулам и построением диаграмм и графиков. С помощью надстроек электронных таблиц можно строить геоинформационные модели (выводить на географи­ческие карты данные), приближенно с заданной точностью решать уравнения методом подбора параметра, решать задачи оптимизационного моделирования методом поиска решений и так далее. Некоторые из надстроек не устанавливаются по умолчанию и требуют установк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2" name="Picture 1" descr="C:\Work\11а\информатика1111\calc.jpg"/>
          <p:cNvPicPr/>
          <p:nvPr/>
        </p:nvPicPr>
        <p:blipFill>
          <a:blip r:embed="rId1"/>
          <a:stretch/>
        </p:blipFill>
        <p:spPr>
          <a:xfrm>
            <a:off x="1981080" y="3429000"/>
            <a:ext cx="4489560" cy="316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Box 3"/>
          <p:cNvSpPr/>
          <p:nvPr/>
        </p:nvSpPr>
        <p:spPr>
          <a:xfrm>
            <a:off x="2743200" y="30492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d7a"/>
                </a:solidFill>
                <a:latin typeface="Georgia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4"/>
          <p:cNvSpPr/>
          <p:nvPr/>
        </p:nvSpPr>
        <p:spPr>
          <a:xfrm>
            <a:off x="380880" y="167652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лектронные калькуля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5"/>
          <p:cNvSpPr/>
          <p:nvPr/>
        </p:nvSpPr>
        <p:spPr>
          <a:xfrm>
            <a:off x="4419720" y="2209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лектронные 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6"/>
          <p:cNvSpPr/>
          <p:nvPr/>
        </p:nvSpPr>
        <p:spPr>
          <a:xfrm>
            <a:off x="380880" y="2666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строенны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7"/>
          <p:cNvSpPr/>
          <p:nvPr/>
        </p:nvSpPr>
        <p:spPr>
          <a:xfrm>
            <a:off x="3733920" y="3276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ртировка и поиск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8"/>
          <p:cNvSpPr/>
          <p:nvPr/>
        </p:nvSpPr>
        <p:spPr>
          <a:xfrm>
            <a:off x="457200" y="41911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строение диаграмм и граф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9"/>
          <p:cNvSpPr/>
          <p:nvPr/>
        </p:nvSpPr>
        <p:spPr>
          <a:xfrm>
            <a:off x="2971800" y="50292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дстройки в электронных таблиц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иск решен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6760"/>
            <a:ext cx="8504280" cy="27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Поиск решения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является надстройкой, которая позволяет решать задачи оптимизационного моде­лирования. Процедура поиска решения позволяет найти оптимальное значение формулы, содержащейся в ячейке, которая называется целевой. Эта процедура работает с группой ячеек, прямо или косвенно связанных с формулой в целевой ячейке. Чтобы получить по формуле, содержащейся в целевой ячейке, искомый результат, процедура изменяет значения во влияющих ячейках. Чтобы сузить множество значений, используемых в модели, применяются ограничения. Эти ограничения могут содержать ссылки на другие влияющие ячейк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5" name="Picture 1" descr="C:\Work\11а\инфр\5.jpg"/>
          <p:cNvPicPr/>
          <p:nvPr/>
        </p:nvPicPr>
        <p:blipFill>
          <a:blip r:embed="rId1"/>
          <a:stretch/>
        </p:blipFill>
        <p:spPr>
          <a:xfrm>
            <a:off x="1143000" y="3962520"/>
            <a:ext cx="1771560" cy="236196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C:\Work\11а\инфр\ноут.jpg"/>
          <p:cNvPicPr/>
          <p:nvPr/>
        </p:nvPicPr>
        <p:blipFill>
          <a:blip r:embed="rId2"/>
          <a:stretch/>
        </p:blipFill>
        <p:spPr>
          <a:xfrm>
            <a:off x="4648320" y="39625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дбор параметр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Подбор параметра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является одним из инструментов анализа «что, если». Этот метод используется при поиске значения аргумента функции, который обеспечивает требуемое значение функции. При подборе параметра изменяется значение в ячейке аргумента функции до тех пор, пока значение в ячейке самой функции не будет возвращать нужный результат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В качестве примера рассмотрим поиск корня уравнения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lang="ru-RU" sz="23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sin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* - 0,5 = 0. Представим функцию в табличной форме, построим ее график, который позволит определить корень уравнения грубо приближенно. Для поиска решения с заданной точностью используем метод 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Подбор параметра.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Точность подбора зависит от заданной точности представления чисел в ячейках таблицы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9" name="Picture 2" descr="C:\Work\11а\информатика1111\c465b.jpg"/>
          <p:cNvPicPr/>
          <p:nvPr/>
        </p:nvPicPr>
        <p:blipFill>
          <a:blip r:embed="rId1"/>
          <a:stretch/>
        </p:blipFill>
        <p:spPr>
          <a:xfrm>
            <a:off x="7086600" y="228600"/>
            <a:ext cx="1623960" cy="1219320"/>
          </a:xfrm>
          <a:prstGeom prst="rect">
            <a:avLst/>
          </a:prstGeom>
          <a:ln w="0">
            <a:noFill/>
          </a:ln>
        </p:spPr>
      </p:pic>
      <p:sp>
        <p:nvSpPr>
          <p:cNvPr id="680" name="TextBox 4"/>
          <p:cNvSpPr/>
          <p:nvPr/>
        </p:nvSpPr>
        <p:spPr>
          <a:xfrm>
            <a:off x="1219320" y="6019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46d7a"/>
                </a:solidFill>
                <a:latin typeface="Georgia"/>
              </a:rPr>
              <a:t>Электронные калькулятор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6760"/>
            <a:ext cx="85042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Электронные калькуляторы являются специализирован­ными программными приложениями, предназначенными для произведения вычислений. Электронные калькуляторы по своим функциональным возможностям соответствуют ап­паратным микрокалькуляторам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Аппаратные микрокалькуляторы могут существенно раз­личаться по своим возможностям и областям применения. Простые микрокалькуляторы позволяют осуществлять толь­ко арифметические операции над числами и используются в быту. Инженерные микрокалькуляторы позволяют также вычислять значения различных функций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(sin, cos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и др.) и используются в процессе обучения и для инженерных расче­тов; программистские микрокалькуляторы позволяют про­водить вычисления в различных системах счисления и другие операции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Электронные калькуляторы гораздо удобнее, так как могут обладать возможностями всех вышеперечисленных типов ап­паратных микрокалькуляторов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C:\Work\11а\информатика1111\4537_17.jpg"/>
          <p:cNvPicPr/>
          <p:nvPr/>
        </p:nvPicPr>
        <p:blipFill>
          <a:blip r:embed="rId1"/>
          <a:stretch/>
        </p:blipFill>
        <p:spPr>
          <a:xfrm>
            <a:off x="6324480" y="4114800"/>
            <a:ext cx="2210040" cy="20048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" descr="C:\Work\11а\информатика1111\c476b.jpg"/>
          <p:cNvPicPr/>
          <p:nvPr/>
        </p:nvPicPr>
        <p:blipFill>
          <a:blip r:embed="rId2"/>
          <a:stretch/>
        </p:blipFill>
        <p:spPr>
          <a:xfrm>
            <a:off x="838080" y="4419720"/>
            <a:ext cx="2157480" cy="16192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4" descr="C:\Work\11а\информатика1111\c465b.jpg"/>
          <p:cNvPicPr/>
          <p:nvPr/>
        </p:nvPicPr>
        <p:blipFill>
          <a:blip r:embed="rId3"/>
          <a:stretch/>
        </p:blipFill>
        <p:spPr>
          <a:xfrm>
            <a:off x="3657600" y="4419720"/>
            <a:ext cx="21574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й Калькулятор является стандартным приложением операционной системы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indows.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дним из удачных элек­тронных калькуляторов является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NumLock Calculator,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процессе работы с которым легко выбрать требуемый тип калькулятора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 помощью электронных калькуляторов можно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производить  арифметические  действия  над  целыми  и дробными числами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переводить числа из одной системы счисления в другую(например, из десятичной в двоичную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математических функций  (например,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i="1" lang="ru-RU" sz="1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, 1/х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статистических функций (например, среднее арифметическое заданных чисел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финансовых  функций  (например, вычислять сумму банковского вклада с заданным процентом) и др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е калькуляторы позволяют проводить сложные многоступенчатые вычисления с записью промежуточных результатов в ячейки памяти калькулятора. По мере необходимости такие результаты можно извлекать из памяти и использовать в дальнейших вычислениях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е калькуляторы позволяют обмениваться числовыми данными с другими приложениями с использованием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буфера обмена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перационной систем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Picture 2" descr="C:\Work\11а\инфр\265.jpg"/>
          <p:cNvPicPr/>
          <p:nvPr/>
        </p:nvPicPr>
        <p:blipFill>
          <a:blip r:embed="rId1"/>
          <a:stretch/>
        </p:blipFill>
        <p:spPr>
          <a:xfrm>
            <a:off x="1066680" y="228600"/>
            <a:ext cx="6542280" cy="1066680"/>
          </a:xfrm>
          <a:prstGeom prst="rect">
            <a:avLst/>
          </a:prstGeom>
          <a:ln w="0">
            <a:noFill/>
          </a:ln>
        </p:spPr>
      </p:pic>
      <p:sp>
        <p:nvSpPr>
          <p:cNvPr id="622" name="TextBox 5"/>
          <p:cNvSpPr/>
          <p:nvPr/>
        </p:nvSpPr>
        <p:spPr>
          <a:xfrm>
            <a:off x="1676520" y="60199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Электронные таблиц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6760"/>
            <a:ext cx="85042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обрабатывать большие массивы числовых данных, например результаты экспериментов, статистические данные и так далее. Наибольшее распространение получили электронные таблицы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Microsoft Excel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StarCalc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Электронная таблиц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— это работающее в диалоговом режиме приложение, хранящее и обрабатывающее данные в прямоугольных таблицах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ая таблица состоит из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столбцов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строк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Заго­ловки столбцов обозначаются буквами или сочетаниями букв (А, С, АВ и т. п.), заголовки строк — числами (1, 2, 3 и далее).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Ячейк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— место пересечения столбца и строк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Каждая ячейка таблицы имеет свой собственный адрес.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дрес ячейки электронной таблицы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составляется из заго­ловка столбца и заголовка строки, например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Al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5, ЕЗ. Ячейка, с которой производятся какие-то действия, выделя­ется рамкой и называе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ктивной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а рис. активной ячейкой является ячейка СЗ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657600" y="4952880"/>
          <a:ext cx="3986280" cy="1051200"/>
        </p:xfrm>
        <a:graphic>
          <a:graphicData uri="http://schemas.openxmlformats.org/drawingml/2006/table">
            <a:tbl>
              <a:tblPr/>
              <a:tblGrid>
                <a:gridCol w="365040"/>
                <a:gridCol w="609840"/>
                <a:gridCol w="725400"/>
                <a:gridCol w="695160"/>
                <a:gridCol w="792360"/>
                <a:gridCol w="798480"/>
              </a:tblGrid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96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62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36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5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400">
                <a:tc>
                  <a:txBody>
                    <a:bodyPr lIns="25560" rIns="25560" tIns="0" bIns="0" anchor="t">
                      <a:noAutofit/>
                    </a:bodyPr>
                    <a:p>
                      <a:pPr marL="106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04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 marL="96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, с которыми работает пользователь в приложении, называю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абочими листами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Можно вво­дить и изменять данные одновременно на нескольких рабочих листах, а также выполнять вычисления на основе данных из нескольких листов. Документы электронных таблиц могут включать несколько рабочих листов и называю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абочими книгам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Основные типы и форматы данных. В работе с электронными таблицами можно выделить три основных типа данных: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число, текст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формула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зависимости от решаемой задачи возникает необходимость применять различные форматы представления данных. В каждом конкретном случае важно выбрать наиболее подходящий формат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представления чисел по умолчанию электронные таблицы используют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числово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, который отображает два десятичных знака после запятой (например, 195,20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Экспоненциальны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 применяется, если число, содержащее большое количество разрядов, не умещается в ячейке (например, число 2 000 000 000 в экспоненциальном формате будет записано в следующем виде: 2,00Е+09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о умолчанию числа выравниваются в ячейке по правому краю. Это объясняется тем, что при размещении чисел друг под другом (в столбце таблицы) удобно иметь выравнивание по разрядам (единицы под единицами, десятки под десятками и так далее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1" descr="C:\Work\11а\информатика1111\Photoentirepage.jpg"/>
          <p:cNvPicPr/>
          <p:nvPr/>
        </p:nvPicPr>
        <p:blipFill>
          <a:blip r:embed="rId1"/>
          <a:stretch/>
        </p:blipFill>
        <p:spPr>
          <a:xfrm>
            <a:off x="609480" y="152280"/>
            <a:ext cx="1752840" cy="11653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2" descr="C:\Work\11а\информатика1111\de754f679fdd.jpg"/>
          <p:cNvPicPr/>
          <p:nvPr/>
        </p:nvPicPr>
        <p:blipFill>
          <a:blip r:embed="rId2"/>
          <a:stretch/>
        </p:blipFill>
        <p:spPr>
          <a:xfrm>
            <a:off x="6400800" y="152280"/>
            <a:ext cx="1612800" cy="127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Текстом в электронных таблицах является последовательность символов, состоящая из букв, цифр и пробелов, например, запись «32 Мбайт» является текстовой. По умолчанию текст выравнивается в ячейке по левому краю. Это объясняется традиционным способом письма (слева направо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ула должна начинаться со знака равенства и может включать в себя числа, имена ячеек, функции и знаки математических операций. В формулу не может входить текст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апример, формула =А1+В2 обеспечивает сложение чисел, хранящихся в ячейках А1 и В2, а формула =А1*5 — умножение числа, хранящегося в ячейке А1, на 5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ри вводе формулы в ячейке отображается не сама формула, а результат вычислений по этой формуле. При изменении исходных значений, входящих в формулу, результат пересчитывается немедленно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представления данных можно использовать также специализированные форматы: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енежны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 (12000,00р.) удобен для бухгалтерских расчетов, форматы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ат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время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озволяют хранить значения временных данных (15.01.2002    17:45:10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1" descr="C:\Work\11а\информатика1111\clementoni_60303_1.jpg"/>
          <p:cNvPicPr/>
          <p:nvPr/>
        </p:nvPicPr>
        <p:blipFill>
          <a:blip r:embed="rId1"/>
          <a:stretch/>
        </p:blipFill>
        <p:spPr>
          <a:xfrm>
            <a:off x="3809880" y="228600"/>
            <a:ext cx="1376640" cy="1066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Относительные и абсолютные ссылки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формулах используются ссылки на адреса ячеек. Существуют два основных типа ссылок: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относительные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абсолютные.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зличия между относительными и абсолютными ссылками проявляются при копировании формулы из активной ячейки в другую ячейку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Относительные ссылки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формулах используются для указания адреса ячейки, вычисляемого относительно ячей­ки, в которой находится формул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 перемещении или копировании формулы из актив­ной ячейки относительные ссылки автоматически обновля­ются в зависимости от нового положения формулы. Относи­тельные ссылки имеют следующий вид: А1, ВЗ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 копировании формулы, содержащей только относи­тельные ссылки, из ячейки С1 в ячейку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2 обозначения столбцов и строк в формуле изменятся на один шаг вправо и вниз (рис. 10.3)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2362320" y="5105520"/>
          <a:ext cx="4572000" cy="1218960"/>
        </p:xfrm>
        <a:graphic>
          <a:graphicData uri="http://schemas.openxmlformats.org/drawingml/2006/table">
            <a:tbl>
              <a:tblPr/>
              <a:tblGrid>
                <a:gridCol w="420480"/>
                <a:gridCol w="638280"/>
                <a:gridCol w="623880"/>
                <a:gridCol w="1065240"/>
                <a:gridCol w="1157400"/>
                <a:gridCol w="666720"/>
              </a:tblGrid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9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6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52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95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25560" rIns="25560" tIns="0" bIns="0" anchor="t">
                      <a:noAutofit/>
                    </a:bodyPr>
                    <a:p>
                      <a:pPr marL="1033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А1*В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В2*С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$А$1*$В$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$А$1*$В$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301320" y="1526760"/>
            <a:ext cx="850428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бсолютные ссылки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формулах используются для указания фиксированного адреса ячейки. При перемещении или копировании формулы абсолютные ссылки не изменяются. В абсолютных ссылках перед неизменяемыми значе­ниями адреса ячейки ставится знак доллара (например, $А$1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ри копировании формулы, содержащей только абсолютные ссылки, из ячейки СЗ в ячейку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4 обозначения столбцов и строк в формуле не изменятся (см. рис. 10.3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Рассмотрим действие относительных и абсолютных ссылок на примере. Пусть нам необходимо вычислить стоимость комплектующих для компьютера в рублях, если известны их цены в долларах и курс доллара. Для вычисления цены в рублях необходимо умножить цену в долларах на величину курса доллара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Picture 2" descr="C:\Work\11а\информатика1111\1250152275.jpg"/>
          <p:cNvPicPr/>
          <p:nvPr/>
        </p:nvPicPr>
        <p:blipFill>
          <a:blip r:embed="rId1"/>
          <a:stretch/>
        </p:blipFill>
        <p:spPr>
          <a:xfrm>
            <a:off x="5334120" y="4038480"/>
            <a:ext cx="3033720" cy="2654280"/>
          </a:xfrm>
          <a:prstGeom prst="rect">
            <a:avLst/>
          </a:prstGeom>
          <a:ln w="0">
            <a:noFill/>
          </a:ln>
        </p:spPr>
      </p:pic>
      <p:sp>
        <p:nvSpPr>
          <p:cNvPr id="636" name="TextBox 4"/>
          <p:cNvSpPr/>
          <p:nvPr/>
        </p:nvSpPr>
        <p:spPr>
          <a:xfrm>
            <a:off x="60948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8-27T15:44:30Z</dcterms:modified>
  <cp:revision>19</cp:revision>
  <dc:subject/>
  <dc:title>Слайд 1</dc:title>
</cp:coreProperties>
</file>