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gif" ContentType="image/gif"/>
  <Override PartName="/ppt/media/image6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8777-48DA-4A5D-878C-879199A97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E081-2C67-474C-918A-17ECE5787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83D4-3875-4253-A4E4-09D9324E3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1E63-0825-49D1-99BE-2BE8AE0C4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1B3C8-CA29-41B6-81C9-1C1F37831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76568-881B-4668-A802-F7981CEEF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361EF-3EB0-4E15-988D-3BD0D2B1C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81DBC-604A-458A-9CA0-47C42DFD1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6B0C2-7AED-4E1A-8295-BFEB6FDEA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BCE73-1D69-40DD-8C8A-F7CB47B8B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DC0DF-78F7-4CCD-870D-D5218998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5A46-8DBD-4F22-AFCE-C1FCA6873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CF009-BD2E-47B1-BFA6-744E4B82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3C9CD-220D-4768-BCDB-B243A68D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3F1EB-0ED4-4AC3-ABFE-99DB5D9C5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1F6AE-9BDD-45E5-BC93-46AF83AE4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EE505-247B-43FB-A195-4932E0F01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9C2E-686B-43A9-B29F-472C1D3C6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C27F-73E2-46C1-BD64-B71E70ED1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ACF1-797B-4E67-A13E-61A1D86C5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DE26-B73D-4E86-8F57-2FBC12586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9F50-C52A-4ECE-9916-C1EE6702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8F51-4927-4FFE-BEE1-9324EB48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219E-16CA-4791-B65D-1108A812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211BA-588A-4310-AB0B-BD67CF39A26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6FED1-3799-447D-9B11-F88D747C1DE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8" descr="Image008"/>
          <p:cNvPicPr/>
          <p:nvPr/>
        </p:nvPicPr>
        <p:blipFill>
          <a:blip r:embed="rId1"/>
          <a:stretch/>
        </p:blipFill>
        <p:spPr>
          <a:xfrm>
            <a:off x="1908000" y="2492280"/>
            <a:ext cx="5328000" cy="3996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9"/>
          <p:cNvSpPr/>
          <p:nvPr/>
        </p:nvSpPr>
        <p:spPr>
          <a:xfrm>
            <a:off x="720720" y="260280"/>
            <a:ext cx="842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0"/>
          <p:cNvSpPr/>
          <p:nvPr/>
        </p:nvSpPr>
        <p:spPr>
          <a:xfrm>
            <a:off x="555480" y="44280"/>
            <a:ext cx="8588520" cy="23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тор презен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шноков А.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ь математики и информат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КОУ «СОШ им. Х. Х. Долова» с. п. Хату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скенского района КБ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1">
            <a:hlinkClick r:id="" action="ppaction://hlinkshowjump?jump=nextslide"/>
          </p:cNvPr>
          <p:cNvSpPr/>
          <p:nvPr/>
        </p:nvSpPr>
        <p:spPr>
          <a:xfrm>
            <a:off x="8388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78920" y="981000"/>
            <a:ext cx="48243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овите некоторые форматы универсальных графических фай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овите некоторые форматы оригинальных графических фай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овите некоторые форматы растровых графических фай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тровым или векторным редактором является Pai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866920" y="1125360"/>
            <a:ext cx="2730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ВМР,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WMF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CD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TIFF,GIF,PNG,JPE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Растров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опрос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ы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752400" y="333360"/>
            <a:ext cx="8391600" cy="59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V.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Изучение новой темы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приемы работы в Pa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Paint является растровым графическим редактором, это значит что, изображение строится из точек различных цветов. Соответственно и инструменты для работы с графикой будут как у художника. Напомню, что векторная графика базируется на математических формул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39">
            <a:hlinkClick r:id="" action="ppaction://hlinkshowjump?jump=previousslide"/>
          </p:cNvPr>
          <p:cNvSpPr/>
          <p:nvPr/>
        </p:nvSpPr>
        <p:spPr>
          <a:xfrm>
            <a:off x="709308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1">
            <a:hlinkClick r:id="" action="ppaction://hlinkshowjump?jump=nextslide"/>
          </p:cNvPr>
          <p:cNvSpPr/>
          <p:nvPr/>
        </p:nvSpPr>
        <p:spPr>
          <a:xfrm>
            <a:off x="824400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42">
            <a:hlinkClick r:id="" action="ppaction://hlinkshowjump?jump=firstslide"/>
          </p:cNvPr>
          <p:cNvSpPr/>
          <p:nvPr/>
        </p:nvSpPr>
        <p:spPr>
          <a:xfrm>
            <a:off x="766764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324000" y="1341360"/>
            <a:ext cx="86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вайте подробно рассмотрим инструменты, которые предоставляет нам Pain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глаза"/>
          <p:cNvPicPr/>
          <p:nvPr/>
        </p:nvPicPr>
        <p:blipFill>
          <a:blip r:embed="rId1"/>
          <a:stretch/>
        </p:blipFill>
        <p:spPr>
          <a:xfrm>
            <a:off x="3348000" y="0"/>
            <a:ext cx="2381400" cy="98100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8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0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3" descr="Безымянный1"/>
          <p:cNvPicPr/>
          <p:nvPr/>
        </p:nvPicPr>
        <p:blipFill>
          <a:blip r:embed="rId2"/>
          <a:stretch/>
        </p:blipFill>
        <p:spPr>
          <a:xfrm>
            <a:off x="4356000" y="2205000"/>
            <a:ext cx="1608120" cy="436572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14"/>
          <p:cNvSpPr/>
          <p:nvPr/>
        </p:nvSpPr>
        <p:spPr>
          <a:xfrm>
            <a:off x="6948360" y="2060640"/>
            <a:ext cx="1800360" cy="647640"/>
          </a:xfrm>
          <a:prstGeom prst="wedgeRectCallout">
            <a:avLst>
              <a:gd name="adj1" fmla="val -101763"/>
              <a:gd name="adj2" fmla="val 5148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деляющие инстру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5"/>
          <p:cNvSpPr/>
          <p:nvPr/>
        </p:nvSpPr>
        <p:spPr>
          <a:xfrm>
            <a:off x="5867280" y="2276640"/>
            <a:ext cx="73080" cy="288720"/>
          </a:xfrm>
          <a:custGeom>
            <a:avLst/>
            <a:gdLst>
              <a:gd name="textAreaLeft" fmla="*/ 0 w 73080"/>
              <a:gd name="textAreaRight" fmla="*/ 26280 w 73080"/>
              <a:gd name="textAreaTop" fmla="*/ 7200 h 288720"/>
              <a:gd name="textAreaBottom" fmla="*/ 2815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6"/>
          <p:cNvSpPr/>
          <p:nvPr/>
        </p:nvSpPr>
        <p:spPr>
          <a:xfrm>
            <a:off x="5867280" y="3284640"/>
            <a:ext cx="73080" cy="431640"/>
          </a:xfrm>
          <a:custGeom>
            <a:avLst/>
            <a:gdLst>
              <a:gd name="textAreaLeft" fmla="*/ 0 w 73080"/>
              <a:gd name="textAreaRight" fmla="*/ 26280 w 73080"/>
              <a:gd name="textAreaTop" fmla="*/ 11160 h 431640"/>
              <a:gd name="textAreaBottom" fmla="*/ 42048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7"/>
          <p:cNvSpPr/>
          <p:nvPr/>
        </p:nvSpPr>
        <p:spPr>
          <a:xfrm>
            <a:off x="6948360" y="2924280"/>
            <a:ext cx="1800360" cy="649080"/>
          </a:xfrm>
          <a:prstGeom prst="wedgeRectCallout">
            <a:avLst>
              <a:gd name="adj1" fmla="val -102912"/>
              <a:gd name="adj2" fmla="val 38995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исующие инстру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8"/>
          <p:cNvSpPr/>
          <p:nvPr/>
        </p:nvSpPr>
        <p:spPr>
          <a:xfrm>
            <a:off x="5867280" y="5229360"/>
            <a:ext cx="144720" cy="863640"/>
          </a:xfrm>
          <a:custGeom>
            <a:avLst/>
            <a:gdLst>
              <a:gd name="textAreaLeft" fmla="*/ 0 w 144720"/>
              <a:gd name="textAreaRight" fmla="*/ 52200 w 14472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9"/>
          <p:cNvSpPr/>
          <p:nvPr/>
        </p:nvSpPr>
        <p:spPr>
          <a:xfrm>
            <a:off x="6948360" y="5300640"/>
            <a:ext cx="1800360" cy="649440"/>
          </a:xfrm>
          <a:prstGeom prst="wedgeRectCallout">
            <a:avLst>
              <a:gd name="adj1" fmla="val -100527"/>
              <a:gd name="adj2" fmla="val -12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деляющие инстру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20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6"/>
          <p:cNvSpPr/>
          <p:nvPr/>
        </p:nvSpPr>
        <p:spPr>
          <a:xfrm>
            <a:off x="5940360" y="4149720"/>
            <a:ext cx="73080" cy="792000"/>
          </a:xfrm>
          <a:custGeom>
            <a:avLst/>
            <a:gdLst>
              <a:gd name="textAreaLeft" fmla="*/ 0 w 73080"/>
              <a:gd name="textAreaRight" fmla="*/ 26280 w 7308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7"/>
          <p:cNvSpPr/>
          <p:nvPr/>
        </p:nvSpPr>
        <p:spPr>
          <a:xfrm>
            <a:off x="6948360" y="3933720"/>
            <a:ext cx="1800360" cy="935280"/>
          </a:xfrm>
          <a:prstGeom prst="wedgeRectCallout">
            <a:avLst>
              <a:gd name="adj1" fmla="val -102912"/>
              <a:gd name="adj2" fmla="val 11629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струменты создания объек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2556000" y="307800"/>
            <a:ext cx="640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деление и Выделение произвольной области – выделяют весь рисунок или его фрагмент, для последующих операций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астик/Цветной ластик – стирает либо все подряд , либо только выбранный цв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ливка – закрашивает выбранным цветом замкнутый участок рисун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бор цветов – позволяет уточнить тот или иной цвет в рисун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сштаб – позволяет увеличить рисун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5">
            <a:hlinkClick r:id="" action="ppaction://hlinkshowjump?jump=nextslide"/>
          </p:cNvPr>
          <p:cNvSpPr/>
          <p:nvPr/>
        </p:nvSpPr>
        <p:spPr>
          <a:xfrm>
            <a:off x="831708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7">
            <a:hlinkClick r:id="" action="ppaction://hlinkshowjump?jump=previousslide"/>
          </p:cNvPr>
          <p:cNvSpPr/>
          <p:nvPr/>
        </p:nvSpPr>
        <p:spPr>
          <a:xfrm>
            <a:off x="716436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9" descr="Безымянный1"/>
          <p:cNvPicPr/>
          <p:nvPr/>
        </p:nvPicPr>
        <p:blipFill>
          <a:blip r:embed="rId1"/>
          <a:srcRect l="0" t="0" r="7614" b="89536"/>
          <a:stretch/>
        </p:blipFill>
        <p:spPr>
          <a:xfrm>
            <a:off x="576360" y="692280"/>
            <a:ext cx="1331640" cy="576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Безымянный1"/>
          <p:cNvPicPr/>
          <p:nvPr/>
        </p:nvPicPr>
        <p:blipFill>
          <a:blip r:embed="rId2"/>
          <a:srcRect l="0" t="10474" r="50510" b="81682"/>
          <a:stretch/>
        </p:blipFill>
        <p:spPr>
          <a:xfrm>
            <a:off x="684360" y="2133720"/>
            <a:ext cx="1155600" cy="496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Безымянный1"/>
          <p:cNvPicPr/>
          <p:nvPr/>
        </p:nvPicPr>
        <p:blipFill>
          <a:blip r:embed="rId3"/>
          <a:srcRect l="42400" t="7853" r="7614" b="81682"/>
          <a:stretch/>
        </p:blipFill>
        <p:spPr>
          <a:xfrm>
            <a:off x="887400" y="3259080"/>
            <a:ext cx="1020600" cy="579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Безымянный1"/>
          <p:cNvPicPr/>
          <p:nvPr/>
        </p:nvPicPr>
        <p:blipFill>
          <a:blip r:embed="rId4"/>
          <a:srcRect l="0" t="15717" r="50262" b="71208"/>
          <a:stretch/>
        </p:blipFill>
        <p:spPr>
          <a:xfrm>
            <a:off x="755640" y="3932280"/>
            <a:ext cx="1152360" cy="720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3" descr="Безымянный1"/>
          <p:cNvPicPr/>
          <p:nvPr/>
        </p:nvPicPr>
        <p:blipFill>
          <a:blip r:embed="rId5"/>
          <a:srcRect l="42400" t="18328" r="7614" b="73819"/>
          <a:stretch/>
        </p:blipFill>
        <p:spPr>
          <a:xfrm>
            <a:off x="755640" y="4724280"/>
            <a:ext cx="1165320" cy="497160"/>
          </a:xfrm>
          <a:prstGeom prst="rect">
            <a:avLst/>
          </a:prstGeom>
          <a:ln w="0">
            <a:noFill/>
          </a:ln>
        </p:spPr>
      </p:pic>
      <p:sp>
        <p:nvSpPr>
          <p:cNvPr id="159" name="AutoShape 21">
            <a:hlinkClick r:id="" action="ppaction://hlinkshowjump?jump=firstslide"/>
          </p:cNvPr>
          <p:cNvSpPr/>
          <p:nvPr/>
        </p:nvSpPr>
        <p:spPr>
          <a:xfrm>
            <a:off x="773892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10808" y="3837"/>
                </a:moveTo>
                <a:lnTo>
                  <a:pt x="13384" y="6448"/>
                </a:lnTo>
                <a:lnTo>
                  <a:pt x="13384" y="4707"/>
                </a:lnTo>
                <a:lnTo>
                  <a:pt x="15160" y="4707"/>
                </a:lnTo>
                <a:lnTo>
                  <a:pt x="15160" y="8224"/>
                </a:lnTo>
                <a:lnTo>
                  <a:pt x="17771" y="10800"/>
                </a:lnTo>
                <a:lnTo>
                  <a:pt x="16117" y="10800"/>
                </a:lnTo>
                <a:lnTo>
                  <a:pt x="16117" y="17989"/>
                </a:lnTo>
                <a:lnTo>
                  <a:pt x="5498" y="17989"/>
                </a:lnTo>
                <a:lnTo>
                  <a:pt x="5498" y="10800"/>
                </a:lnTo>
                <a:lnTo>
                  <a:pt x="3845" y="10800"/>
                </a:lnTo>
                <a:close/>
              </a:path>
              <a:path fill="darkenLess" w="21615" h="21600">
                <a:moveTo>
                  <a:pt x="13384" y="6448"/>
                </a:moveTo>
                <a:lnTo>
                  <a:pt x="13384" y="4707"/>
                </a:lnTo>
                <a:lnTo>
                  <a:pt x="15160" y="4707"/>
                </a:lnTo>
                <a:lnTo>
                  <a:pt x="15160" y="8224"/>
                </a:lnTo>
                <a:close/>
              </a:path>
              <a:path fill="darkenLess" w="21615" h="21600">
                <a:moveTo>
                  <a:pt x="9885" y="14299"/>
                </a:moveTo>
                <a:lnTo>
                  <a:pt x="11730" y="14299"/>
                </a:lnTo>
                <a:lnTo>
                  <a:pt x="11730" y="17989"/>
                </a:lnTo>
                <a:lnTo>
                  <a:pt x="16117" y="17989"/>
                </a:lnTo>
                <a:lnTo>
                  <a:pt x="16117" y="10800"/>
                </a:lnTo>
                <a:lnTo>
                  <a:pt x="5498" y="10800"/>
                </a:lnTo>
                <a:lnTo>
                  <a:pt x="5498" y="17989"/>
                </a:lnTo>
                <a:lnTo>
                  <a:pt x="9885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56000" y="188640"/>
            <a:ext cx="658800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рандаш – имитирует карандаш любого цве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исть – имитирует кисть любого цвета и фор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пылитель – имитирует распылитель любого цве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дпись – позволяет вводить текст, который затем становится рисунк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ния, Кривая линия – позволяет рисовать прямые     линии (Линия), и кривые (Кривая линия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ямоугольник, Многоугольник, Эллипс, скругленный прямоугольник – эти инструменты позволяют рисовать соответствующие фигуры любого цвета и разм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4" descr="Безымянный1"/>
          <p:cNvPicPr/>
          <p:nvPr/>
        </p:nvPicPr>
        <p:blipFill>
          <a:blip r:embed="rId1"/>
          <a:srcRect l="7117" t="26191" r="57628" b="65966"/>
          <a:stretch/>
        </p:blipFill>
        <p:spPr>
          <a:xfrm>
            <a:off x="755640" y="260280"/>
            <a:ext cx="1008000" cy="522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5" descr="Безымянный1"/>
          <p:cNvPicPr/>
          <p:nvPr/>
        </p:nvPicPr>
        <p:blipFill>
          <a:blip r:embed="rId2"/>
          <a:srcRect l="42648" t="26191" r="7862" b="65966"/>
          <a:stretch/>
        </p:blipFill>
        <p:spPr>
          <a:xfrm>
            <a:off x="755640" y="1052640"/>
            <a:ext cx="1008000" cy="4982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7" descr="Безымянный1"/>
          <p:cNvPicPr/>
          <p:nvPr/>
        </p:nvPicPr>
        <p:blipFill>
          <a:blip r:embed="rId3"/>
          <a:srcRect l="7117" t="34044" r="57628" b="58112"/>
          <a:stretch/>
        </p:blipFill>
        <p:spPr>
          <a:xfrm>
            <a:off x="763560" y="1698480"/>
            <a:ext cx="1000080" cy="603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8" descr="Безымянный1"/>
          <p:cNvPicPr/>
          <p:nvPr/>
        </p:nvPicPr>
        <p:blipFill>
          <a:blip r:embed="rId4"/>
          <a:srcRect l="42648" t="34044" r="7862" b="58112"/>
          <a:stretch/>
        </p:blipFill>
        <p:spPr>
          <a:xfrm>
            <a:off x="826920" y="2492280"/>
            <a:ext cx="1079640" cy="465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9" descr="Безымянный1"/>
          <p:cNvPicPr/>
          <p:nvPr/>
        </p:nvPicPr>
        <p:blipFill>
          <a:blip r:embed="rId5"/>
          <a:srcRect l="7117" t="41898" r="7862" b="50249"/>
          <a:stretch/>
        </p:blipFill>
        <p:spPr>
          <a:xfrm>
            <a:off x="826920" y="3213000"/>
            <a:ext cx="1081080" cy="503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0" descr="Безымянный1"/>
          <p:cNvPicPr/>
          <p:nvPr/>
        </p:nvPicPr>
        <p:blipFill>
          <a:blip r:embed="rId6"/>
          <a:srcRect l="0" t="49761" r="7614" b="34542"/>
          <a:stretch/>
        </p:blipFill>
        <p:spPr>
          <a:xfrm>
            <a:off x="611280" y="4292640"/>
            <a:ext cx="14857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-27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боты учащихся прошлых лет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63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96560" cy="722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-649440" y="46080"/>
            <a:ext cx="9901440" cy="63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-1214280" y="-709560"/>
            <a:ext cx="11572560" cy="82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4"/>
          <p:cNvSpPr/>
          <p:nvPr/>
        </p:nvSpPr>
        <p:spPr>
          <a:xfrm>
            <a:off x="755640" y="476280"/>
            <a:ext cx="4753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900000" y="981000"/>
            <a:ext cx="1871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1006560" y="1773360"/>
            <a:ext cx="813744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бы воспользоваться инструментом, необходимо щелкнуть мышкой по значку с инструментом, затем перевести курсор мышки на поле для рисования, нажать и удерживать левую кнопку мышки. Пока кнопка нажата – рисует, отпущена – не рису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7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9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1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684360" y="2060640"/>
            <a:ext cx="84596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рок-это зеркало общей и педагогичес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ультуры учителя, мерило 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нтеллектуального богатст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казатель его кругозора и эруди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.Сухомлинск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6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8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0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61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гда работа над изображением закончена, нужно сохранить его. Для этого нужно в меню «Файл», выбрать команду «Сохранить», затем в диалоговом окне ввести имя файла и нажать на кнопку «Сохранить». Таким образом вы сохраните файл и сможете воспользоваться им в следующий раз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лавное дать правильное имя своему файлу – ведь если вы назовете его, допустим «Рисунок №1», то через какое-то время вы можете не вспомнить, что там нарисовано и вам придется открывать его. А если у вас несколько десятков таких рисунков 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. Закрепление материал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ктическая работа с программой «Paint».</a:t>
            </a: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80755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рузить приложение Paint. Для этого нужно кликнуть мышкой по кнопке «Пуск» — «Программы» — «Стандартные» — « Paint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исовать что-нибудь на свое усмотрение или воспользоваться предложенными образцами и создать их копии, добавить в рисунки свои фрагменты с использованием инструментов Заливка, Надпись и д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хранить рисунок в папке Мои документы в вложенной папке своего класса, дав в качестве имени свою фамилию и клас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рыть Pai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5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6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7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Образцы рисунков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979640" y="1268280"/>
            <a:ext cx="5654520" cy="51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128520"/>
            <a:ext cx="9144000" cy="660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100080"/>
            <a:ext cx="9144000" cy="66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468360" y="189000"/>
            <a:ext cx="8424720" cy="54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I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. Диагностика усво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) Для чего нам нужен Paint 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) Назовите основные инструменты Paint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I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.7.2.1 (Угринович Н. Д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здать  рисунок для дальнейшей работы над ним в среде MS Pa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ить упражнения: а) Выполнить переводы 69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→А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→А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→А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6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б)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ить уравнение 64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х-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бит = 128 мбай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Вопросы учеников.</a:t>
            </a:r>
            <a:br>
              <a:rPr sz="2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ы на вопросы учащихс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X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одведение итогов, выставление оцен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7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9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0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9040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Тема урока: Основные приемы  работы в Paint .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6" name="Picture 5" descr="animvasa.gif (244584 bytes)"/>
          <p:cNvPicPr/>
          <p:nvPr/>
        </p:nvPicPr>
        <p:blipFill>
          <a:blip r:embed="rId1"/>
          <a:stretch/>
        </p:blipFill>
        <p:spPr>
          <a:xfrm>
            <a:off x="3059280" y="2421000"/>
            <a:ext cx="3671640" cy="245736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6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8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9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59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Цели урока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1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торение темы «Системы счисления» (материал 10 класса, в плане подготовки к ЕГЭ)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бщение понятий по теме «Графические редакторы»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комство с графическим      редактором Paint 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ние навыков работы с графическим редактором Paint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действовать воспитанию интереса к предмету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развитие творческих способностей и познавательного интереса у учащихся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итание целеустремленности, умения работать в группе. 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AutoShape 5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6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7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9200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 u="sng">
                <a:solidFill>
                  <a:srgbClr val="000000"/>
                </a:solidFill>
                <a:uFillTx/>
                <a:latin typeface="Arial"/>
              </a:rPr>
              <a:t>Ход урока:</a:t>
            </a:r>
            <a:r>
              <a:rPr b="1" i="1" lang="ru-RU" sz="4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200"/>
            </a:br>
            <a:br>
              <a:rPr sz="4200"/>
            </a:br>
            <a:r>
              <a:rPr b="0" lang="en-US" sz="2800" spc="-1" strike="noStrike">
                <a:solidFill>
                  <a:srgbClr val="330033"/>
                </a:solidFill>
                <a:latin typeface="Arial"/>
              </a:rPr>
              <a:t>I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ационный</a:t>
            </a: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мент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826920" y="2997360"/>
            <a:ext cx="7777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ветствие, проверка присутствующих. Объяснение хода уро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вторение темы «Системы счисления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тная работ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просы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3640" y="1599840"/>
            <a:ext cx="4400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ие системы счисления бываю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 сколько раз увеличатся числа 12,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25,37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переносе запятой на один знак вправ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ие цифры используется в 5-й системе счисл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3280" y="1600200"/>
            <a:ext cx="450072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Позиционные и непозицион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В 3 и 8 р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0,1,2,3,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Упражнения на повторение темы </a:t>
            </a:r>
            <a:br>
              <a:rPr sz="2800"/>
            </a:b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«Системы счисления»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полнить переводы чисел 83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А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А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А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Ответ: 83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=123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=1010011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=53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16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 Решить уравнение Х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100001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55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Ответ: Х=2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395280" y="0"/>
            <a:ext cx="8353440" cy="14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Фронтальный опрос по предыдущей теме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прос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7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9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0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39640" y="1599840"/>
            <a:ext cx="418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зовите виды компьютерной граф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 формируются растровые изображения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 такое пикс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Растровая, векторная.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В процессе преобразования графической информации из аналоговой формы в цифрову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Минимальный участок изобра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прос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чем недостаток растровых изображен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 формируются векторные изображ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стоинства векторной граф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93120" indent="-39312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Чувствительность к масштабиров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3120" indent="-39312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Из графических объектов, которые хранятся в памяти компьютера в виде графических примитивов и описывающих их математических форму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3120" indent="-39312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Сравнительно небольшой объем и возможность масштабирования без потери качества изобра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5T05:33:30Z</dcterms:created>
  <dc:creator>Ошноков</dc:creator>
  <dc:description/>
  <dc:language>en-US</dc:language>
  <cp:lastModifiedBy>User</cp:lastModifiedBy>
  <dcterms:modified xsi:type="dcterms:W3CDTF">2012-08-27T05:58:09Z</dcterms:modified>
  <cp:revision>58</cp:revision>
  <dc:subject/>
  <dc:title>Слайд 1</dc:title>
</cp:coreProperties>
</file>