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F1A-C440-49E7-8429-47313899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6E0-D06C-4BBC-A7FA-CE11F208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A4A-5763-4C3D-837C-C3B0C90E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310-0A0B-4E5F-B689-B71EA5A74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48F8-9167-4889-A2B2-B6A3B607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FC0C-8D98-414A-B6D9-921A8B2D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5BFB-FC34-4C15-885E-E7F6403C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CEE0-A59D-41B7-854A-783128F2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7AD0-FD9F-4A45-B47F-2160A1DD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D5E02-223C-4B6D-95C7-660E67D3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10D5-36A6-4901-B353-DBEA4945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96C-89C0-494E-ABBB-56FF699F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8C9D-7FBD-4CD4-9BA9-F48EF40D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ECF9-52CB-41D1-9BDA-65E4A905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F625-EC15-4D65-B3CA-67A7935C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6B19-EE26-4258-B688-AC72D81B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7418-394B-4DB8-94DF-3F4D98AA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DD6-1B34-45D0-8776-2494C6F6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E56-4315-401A-B14C-1EA0F963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C22-DD20-436E-ACCA-635B8F99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AAC-5725-4D1E-88BB-8195DD33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A52-14C0-494A-8120-07907C61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257-C773-4567-922D-A73A609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F10-462C-45DD-A3E3-F91EAD66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1DA5-318A-4523-AE2F-A8C1A44A584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418C-9836-45C1-9531-F5C43939C2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8" descr="Image008"/>
          <p:cNvPicPr/>
          <p:nvPr/>
        </p:nvPicPr>
        <p:blipFill>
          <a:blip r:embed="rId1"/>
          <a:stretch/>
        </p:blipFill>
        <p:spPr>
          <a:xfrm>
            <a:off x="1908000" y="2492280"/>
            <a:ext cx="5328000" cy="3996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9"/>
          <p:cNvSpPr/>
          <p:nvPr/>
        </p:nvSpPr>
        <p:spPr>
          <a:xfrm>
            <a:off x="720720" y="260280"/>
            <a:ext cx="842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0"/>
          <p:cNvSpPr/>
          <p:nvPr/>
        </p:nvSpPr>
        <p:spPr>
          <a:xfrm>
            <a:off x="555480" y="44280"/>
            <a:ext cx="85885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шноков А.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математики и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КОУ «СОШ им. Х. Х. Долова» с. п. Хату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скенского района КБ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1">
            <a:hlinkClick r:id="" action="ppaction://hlinkshowjump?jump=nextslide"/>
          </p:cNvPr>
          <p:cNvSpPr/>
          <p:nvPr/>
        </p:nvSpPr>
        <p:spPr>
          <a:xfrm>
            <a:off x="8388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981000"/>
            <a:ext cx="48243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универс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оригинальн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овите некоторые форматы растровых графических фай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тровым или векторным редактором является Pa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866920" y="1125360"/>
            <a:ext cx="2730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ВМР,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WMF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D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TIFF,GIF,PNG,JPE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Растр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752400" y="333360"/>
            <a:ext cx="83916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V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зучение новой тем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иемы работы в Pa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Paint является растровым графическим редактором, это значит что, изображение строится из точек различных цветов. Соответственно и инструменты для работы с графикой будут как у художника. Напомню, что векторная графика базируется на математических форму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1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2">
            <a:hlinkClick r:id="" action="ppaction://hlinkshowjump?jump=firstslide"/>
          </p:cNvPr>
          <p:cNvSpPr/>
          <p:nvPr/>
        </p:nvSpPr>
        <p:spPr>
          <a:xfrm>
            <a:off x="766764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324000" y="1341360"/>
            <a:ext cx="86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вайте подробно рассмотрим инструменты, которые предоставляет нам Pa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глаза"/>
          <p:cNvPicPr/>
          <p:nvPr/>
        </p:nvPicPr>
        <p:blipFill>
          <a:blip r:embed="rId1"/>
          <a:stretch/>
        </p:blipFill>
        <p:spPr>
          <a:xfrm>
            <a:off x="3348000" y="0"/>
            <a:ext cx="2381400" cy="98100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Безымянный1"/>
          <p:cNvPicPr/>
          <p:nvPr/>
        </p:nvPicPr>
        <p:blipFill>
          <a:blip r:embed="rId2"/>
          <a:stretch/>
        </p:blipFill>
        <p:spPr>
          <a:xfrm>
            <a:off x="4356000" y="2205000"/>
            <a:ext cx="1608120" cy="43657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4"/>
          <p:cNvSpPr/>
          <p:nvPr/>
        </p:nvSpPr>
        <p:spPr>
          <a:xfrm>
            <a:off x="6948360" y="2060640"/>
            <a:ext cx="1800360" cy="647640"/>
          </a:xfrm>
          <a:prstGeom prst="wedgeRectCallout">
            <a:avLst>
              <a:gd name="adj1" fmla="val -101763"/>
              <a:gd name="adj2" fmla="val 514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867280" y="2276640"/>
            <a:ext cx="73080" cy="288720"/>
          </a:xfrm>
          <a:custGeom>
            <a:avLst/>
            <a:gdLst>
              <a:gd name="textAreaLeft" fmla="*/ 0 w 73080"/>
              <a:gd name="textAreaRight" fmla="*/ 26280 w 73080"/>
              <a:gd name="textAreaTop" fmla="*/ 7200 h 288720"/>
              <a:gd name="textAreaBottom" fmla="*/ 2815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>
            <a:off x="5867280" y="3284640"/>
            <a:ext cx="73080" cy="431640"/>
          </a:xfrm>
          <a:custGeom>
            <a:avLst/>
            <a:gdLst>
              <a:gd name="textAreaLeft" fmla="*/ 0 w 73080"/>
              <a:gd name="textAreaRight" fmla="*/ 26280 w 730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6948360" y="2924280"/>
            <a:ext cx="1800360" cy="649080"/>
          </a:xfrm>
          <a:prstGeom prst="wedgeRectCallout">
            <a:avLst>
              <a:gd name="adj1" fmla="val -102912"/>
              <a:gd name="adj2" fmla="val 3899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ису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5867280" y="5229360"/>
            <a:ext cx="144720" cy="863640"/>
          </a:xfrm>
          <a:custGeom>
            <a:avLst/>
            <a:gdLst>
              <a:gd name="textAreaLeft" fmla="*/ 0 w 144720"/>
              <a:gd name="textAreaRight" fmla="*/ 52200 w 1447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6948360" y="5300640"/>
            <a:ext cx="1800360" cy="649440"/>
          </a:xfrm>
          <a:prstGeom prst="wedgeRectCallout">
            <a:avLst>
              <a:gd name="adj1" fmla="val -100527"/>
              <a:gd name="adj2" fmla="val -12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еляющие 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5940360" y="4149720"/>
            <a:ext cx="73080" cy="792000"/>
          </a:xfrm>
          <a:custGeom>
            <a:avLst/>
            <a:gdLst>
              <a:gd name="textAreaLeft" fmla="*/ 0 w 73080"/>
              <a:gd name="textAreaRight" fmla="*/ 26280 w 7308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6948360" y="3933720"/>
            <a:ext cx="1800360" cy="935280"/>
          </a:xfrm>
          <a:prstGeom prst="wedgeRectCallout">
            <a:avLst>
              <a:gd name="adj1" fmla="val -102912"/>
              <a:gd name="adj2" fmla="val 1162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трументы создания объек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2556000" y="307800"/>
            <a:ext cx="640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деление и Выделение произвольной области – выделяют весь рисунок или его фрагмент, для последующих операций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стик/Цветной ластик – стирает либо все подряд , либо только выбранный цв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ливка – закрашивает выбранным цветом замкнутый участок рису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ор цветов – позволяет уточнить тот или иной цвет в рисун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сштаб – позволяет увеличить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Безымянный1"/>
          <p:cNvPicPr/>
          <p:nvPr/>
        </p:nvPicPr>
        <p:blipFill>
          <a:blip r:embed="rId1"/>
          <a:srcRect l="0" t="0" r="7614" b="89536"/>
          <a:stretch/>
        </p:blipFill>
        <p:spPr>
          <a:xfrm>
            <a:off x="576360" y="692280"/>
            <a:ext cx="1331640" cy="57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Безымянный1"/>
          <p:cNvPicPr/>
          <p:nvPr/>
        </p:nvPicPr>
        <p:blipFill>
          <a:blip r:embed="rId2"/>
          <a:srcRect l="0" t="10474" r="50510" b="81682"/>
          <a:stretch/>
        </p:blipFill>
        <p:spPr>
          <a:xfrm>
            <a:off x="684360" y="2133720"/>
            <a:ext cx="1155600" cy="496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Безымянный1"/>
          <p:cNvPicPr/>
          <p:nvPr/>
        </p:nvPicPr>
        <p:blipFill>
          <a:blip r:embed="rId3"/>
          <a:srcRect l="42400" t="7853" r="7614" b="81682"/>
          <a:stretch/>
        </p:blipFill>
        <p:spPr>
          <a:xfrm>
            <a:off x="887400" y="3259080"/>
            <a:ext cx="1020600" cy="579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Безымянный1"/>
          <p:cNvPicPr/>
          <p:nvPr/>
        </p:nvPicPr>
        <p:blipFill>
          <a:blip r:embed="rId4"/>
          <a:srcRect l="0" t="15717" r="50262" b="71208"/>
          <a:stretch/>
        </p:blipFill>
        <p:spPr>
          <a:xfrm>
            <a:off x="755640" y="3932280"/>
            <a:ext cx="1152360" cy="720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Безымянный1"/>
          <p:cNvPicPr/>
          <p:nvPr/>
        </p:nvPicPr>
        <p:blipFill>
          <a:blip r:embed="rId5"/>
          <a:srcRect l="42400" t="18328" r="7614" b="73819"/>
          <a:stretch/>
        </p:blipFill>
        <p:spPr>
          <a:xfrm>
            <a:off x="755640" y="4724280"/>
            <a:ext cx="1165320" cy="497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21">
            <a:hlinkClick r:id="" action="ppaction://hlinkshowjump?jump=firstslide"/>
          </p:cNvPr>
          <p:cNvSpPr/>
          <p:nvPr/>
        </p:nvSpPr>
        <p:spPr>
          <a:xfrm>
            <a:off x="773892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60" y="4707"/>
                </a:lnTo>
                <a:lnTo>
                  <a:pt x="15160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56000" y="188640"/>
            <a:ext cx="65880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рандаш – имитирует карандаш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исть – имитирует кисть любого цвета и фор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ылитель – имитирует распылитель любого цв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дпись – позволяет вводить текст, который затем становится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ия, Кривая линия – позволяет рисовать прямые     линии (Линия), и кривые (Кривая линия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ямоугольник, Многоугольник, Эллипс, скругленный прямоугольник – эти инструменты позволяют рисовать соответствующие фигуры любого цвета и разм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Безымянный1"/>
          <p:cNvPicPr/>
          <p:nvPr/>
        </p:nvPicPr>
        <p:blipFill>
          <a:blip r:embed="rId1"/>
          <a:srcRect l="7117" t="26191" r="57628" b="65966"/>
          <a:stretch/>
        </p:blipFill>
        <p:spPr>
          <a:xfrm>
            <a:off x="755640" y="260280"/>
            <a:ext cx="1008000" cy="522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Безымянный1"/>
          <p:cNvPicPr/>
          <p:nvPr/>
        </p:nvPicPr>
        <p:blipFill>
          <a:blip r:embed="rId2"/>
          <a:srcRect l="42648" t="26191" r="7862" b="65966"/>
          <a:stretch/>
        </p:blipFill>
        <p:spPr>
          <a:xfrm>
            <a:off x="755640" y="1052640"/>
            <a:ext cx="1008000" cy="49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Безымянный1"/>
          <p:cNvPicPr/>
          <p:nvPr/>
        </p:nvPicPr>
        <p:blipFill>
          <a:blip r:embed="rId3"/>
          <a:srcRect l="7117" t="34044" r="57628" b="58112"/>
          <a:stretch/>
        </p:blipFill>
        <p:spPr>
          <a:xfrm>
            <a:off x="763560" y="1698480"/>
            <a:ext cx="1000080" cy="603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Безымянный1"/>
          <p:cNvPicPr/>
          <p:nvPr/>
        </p:nvPicPr>
        <p:blipFill>
          <a:blip r:embed="rId4"/>
          <a:srcRect l="42648" t="34044" r="7862" b="58112"/>
          <a:stretch/>
        </p:blipFill>
        <p:spPr>
          <a:xfrm>
            <a:off x="826920" y="2492280"/>
            <a:ext cx="1079640" cy="46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Безымянный1"/>
          <p:cNvPicPr/>
          <p:nvPr/>
        </p:nvPicPr>
        <p:blipFill>
          <a:blip r:embed="rId5"/>
          <a:srcRect l="7117" t="41898" r="7862" b="50249"/>
          <a:stretch/>
        </p:blipFill>
        <p:spPr>
          <a:xfrm>
            <a:off x="826920" y="3213000"/>
            <a:ext cx="1081080" cy="50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Безымянный1"/>
          <p:cNvPicPr/>
          <p:nvPr/>
        </p:nvPicPr>
        <p:blipFill>
          <a:blip r:embed="rId6"/>
          <a:srcRect l="0" t="49761" r="7614" b="34542"/>
          <a:stretch/>
        </p:blipFill>
        <p:spPr>
          <a:xfrm>
            <a:off x="611280" y="4292640"/>
            <a:ext cx="1485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-27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ы учащихся прошлых лет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96560" cy="72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-649440" y="46080"/>
            <a:ext cx="9901440" cy="63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1214280" y="-709560"/>
            <a:ext cx="11572560" cy="82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755640" y="476280"/>
            <a:ext cx="47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00000" y="981000"/>
            <a:ext cx="187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006560" y="1773360"/>
            <a:ext cx="813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бы воспользоваться инструментом, необходимо щелкнуть мышкой по значку с инструментом, затем перевести курсор мышки на поле для рисования, нажать и удерживать левую кнопку мышки. Пока кнопка нажата – рисует, отпущена – не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1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684360" y="2060640"/>
            <a:ext cx="84596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-это зеркало общей и педагогиче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льтуры учителя, мерило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нтеллектуального богат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казатель его кругозора и эруди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.Сухомлинс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гда работа над изображением закончена, нужно сохранить его. Для этого нужно в меню «Файл», выбрать команду «Сохранить», затем в диалоговом окне ввести имя файла и нажать на кнопку «Сохранить». Таким образом вы сохраните файл и сможете воспользоваться им в следующий раз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лавное дать правильное имя своему файлу – ведь если вы назовете его, допустим «Рисунок №1», то через какое-то время вы можете не вспомнить, что там нарисовано и вам придется открывать его. А если у вас несколько десятков таких рисунков 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Закрепление материала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работа с программой «Paint».</a:t>
            </a: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075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зить приложение Paint. Для этого нужно кликнуть мышкой по кнопке «Пуск» — «Программы» — «Стандартные» — « Paint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исовать что-нибудь на свое усмотрение или воспользоваться предложенными образцами и создать их копии, добавить в рисунки свои фрагменты с использованием инструментов Заливка, Надпись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ить рисунок в папке Мои документы в вложенной папке своего класса, дав в качестве имени свою фамилию и кла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ь Pa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Образцы рисунков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65452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68360" y="189000"/>
            <a:ext cx="84247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I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. Диагностика усво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Для чего нам нужен Pai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Назовите основные инструменты Pain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.7.2.1 (Угринович Н. Д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здать  рисунок для дальнейшей работы над ним в среде MS Pa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пражнения: а) Выполнить переводы 69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б)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ить уравнение 64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х-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бит = 128 мбай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Вопросы учеников.</a:t>
            </a:r>
            <a:br>
              <a:rPr sz="2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 на вопросы учащих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дведение итогов, выставление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4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Тема урока: Основные приемы  работы в Paint 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Picture 5" descr="animvasa.gif (244584 bytes)"/>
          <p:cNvPicPr/>
          <p:nvPr/>
        </p:nvPicPr>
        <p:blipFill>
          <a:blip r:embed="rId1"/>
          <a:stretch/>
        </p:blipFill>
        <p:spPr>
          <a:xfrm>
            <a:off x="3059280" y="2421000"/>
            <a:ext cx="3671640" cy="24573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и урок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 (материал 10 класса, в плане подготовки к ЕГЭ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онятий по теме «Графические редакторы»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омство с графическим      редактором Paint 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выков работы с графическим редактором Paint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йствовать воспитанию интереса к предмету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развитие творческих способностей и познавательного интереса у учащихся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целеустремленности, умения работать в группе.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AutoShape 5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920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000000"/>
                </a:solidFill>
                <a:uFillTx/>
                <a:latin typeface="Arial"/>
              </a:rPr>
              <a:t>Ход урока:</a:t>
            </a:r>
            <a:r>
              <a:rPr b="1" i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200"/>
            </a:br>
            <a:br>
              <a:rPr sz="42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I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й</a:t>
            </a: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мент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ветствие, проверка присутствующих. Объяснение хода уро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ение темы «Системы счисления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ы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1599840"/>
            <a:ext cx="440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системы счисления быв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сколько раз увеличатся числа 12,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5,3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ереносе запятой на один знак впра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е цифры используется в 5-й системе счисл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280" y="1600200"/>
            <a:ext cx="450072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Позиционные и непозицион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В 3 и 8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0,1,2,3,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Упражнения на повторение темы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Arial"/>
              </a:rPr>
              <a:t>«Системы счисления»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ть переводы чисел 8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→А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8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2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1010011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=53</a:t>
            </a:r>
            <a:r>
              <a:rPr b="0" lang="en-US" sz="2800" spc="-1" strike="noStrike" baseline="-25000">
                <a:solidFill>
                  <a:srgbClr val="0099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Решить уравнение Х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00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Ответ: Х=2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95280" y="0"/>
            <a:ext cx="835344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Фронтальный опрос по предыдущей тем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3794" y="10831"/>
                </a:moveTo>
                <a:lnTo>
                  <a:pt x="17806" y="3824"/>
                </a:lnTo>
                <a:lnTo>
                  <a:pt x="17806" y="17837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9">
            <a:hlinkClick r:id="" action="ppaction://hlinkshowjump?jump=nextslide"/>
          </p:cNvPr>
          <p:cNvSpPr/>
          <p:nvPr/>
        </p:nvSpPr>
        <p:spPr>
          <a:xfrm>
            <a:off x="8172360" y="6093000"/>
            <a:ext cx="505080" cy="50472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0">
            <a:hlinkClick r:id="" action="ppaction://hlinkshowjump?jump=firstslide"/>
          </p:cNvPr>
          <p:cNvSpPr/>
          <p:nvPr/>
        </p:nvSpPr>
        <p:spPr>
          <a:xfrm>
            <a:off x="7596360" y="609300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39640" y="1599840"/>
            <a:ext cx="418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овите виды компьюте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растровые изображения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такое пик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Растровая, векторная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В процессе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Минимальный участок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чем недостаток растровых изобра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 формируются векторные изображ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оинства векторной граф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Чувствительность к масштабир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Из графических объектов, которые хранятся в памяти компьютера в виде графических примитивов и описывающих их математических форм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3120" indent="-393120"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Сравнительно небольшой объем и возможность масштабирования без потери качества изобр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5:33:30Z</dcterms:created>
  <dc:creator>Ошноков</dc:creator>
  <dc:description/>
  <dc:language>en-US</dc:language>
  <cp:lastModifiedBy>User</cp:lastModifiedBy>
  <dcterms:modified xsi:type="dcterms:W3CDTF">2012-08-27T05:58:09Z</dcterms:modified>
  <cp:revision>58</cp:revision>
  <dc:subject/>
  <dc:title>Слайд 1</dc:title>
</cp:coreProperties>
</file>