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DF48-A709-4FAE-A532-20CEE58F2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C96B-2F4A-47AF-828E-0C55404F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2B45-620E-43E6-B756-1EF7C0F4C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E268-E6FC-4937-9C6B-605107566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4AE0-25CB-4FFB-BC65-CCEF71E89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F65D-1BDF-41BC-A9AE-FC1F1D34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0948-EAA0-46BD-AC39-ED946021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7768-2681-43BD-A7DE-2022C301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65D5-A437-4795-94BB-0A2D85EC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7B76-E5CF-4CC3-BEBC-D4F38ECE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E4E0-CF25-40F8-83E3-8151E529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AE7E-4ABB-49E4-9C2D-74604D15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B373-54C9-4B8C-BA4D-EFBC5CD4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5412-56EB-4984-865D-60C9FBE8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13F7-C353-455B-8A9C-15E3EB00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E2E6-434D-4E43-AFB8-23E1296F0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0386-2B8F-4F4C-9E93-8284D2CDC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CE04-DB1C-487C-8EB3-24BDECB1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ABEF-BFCD-4FEC-8D95-7029526A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D3CE-C001-4FF3-8513-8C6CFB34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10C0-5A9C-49B6-B810-F0833E5C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EEA6-028B-4E32-B8F1-3B121A3F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55ED-9BFF-496B-BF2F-71C515E6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D078-719C-422B-9C89-B3121127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2DCB-5A10-433B-8A08-A0DA2CC7322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50A0-6B77-4BAD-BD17-DC4E6F4820F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8" descr="Image008"/>
          <p:cNvPicPr/>
          <p:nvPr/>
        </p:nvPicPr>
        <p:blipFill>
          <a:blip r:embed="rId1"/>
          <a:stretch/>
        </p:blipFill>
        <p:spPr>
          <a:xfrm>
            <a:off x="1908000" y="2492280"/>
            <a:ext cx="5328000" cy="3996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9"/>
          <p:cNvSpPr/>
          <p:nvPr/>
        </p:nvSpPr>
        <p:spPr>
          <a:xfrm>
            <a:off x="720720" y="260280"/>
            <a:ext cx="842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0"/>
          <p:cNvSpPr/>
          <p:nvPr/>
        </p:nvSpPr>
        <p:spPr>
          <a:xfrm>
            <a:off x="555480" y="44280"/>
            <a:ext cx="8588520" cy="23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 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шноков А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математики и инфор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КОУ «СОШ им. Х. Х. Долова» с. п. Хату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скенского района КБ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1">
            <a:hlinkClick r:id="" action="ppaction://hlinkshowjump?jump=nextslide"/>
          </p:cNvPr>
          <p:cNvSpPr/>
          <p:nvPr/>
        </p:nvSpPr>
        <p:spPr>
          <a:xfrm>
            <a:off x="8388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981000"/>
            <a:ext cx="48243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некоторые форматы универсальных графических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некоторые форматы оригинальных графических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некоторые форматы растровых графических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ровым или векторным редактором является Pai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866920" y="1125360"/>
            <a:ext cx="2730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ВМР,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WMF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CD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IFF,GIF,PNG,JP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Растро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752400" y="333360"/>
            <a:ext cx="8391600" cy="59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V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зучение новой темы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риемы работы в Pa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aint является растровым графическим редактором, это значит что, изображение строится из точек различных цветов. Соответственно и инструменты для работы с графикой будут как у художника. Напомню, что векторная графика базируется на математических формул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9">
            <a:hlinkClick r:id="" action="ppaction://hlinkshowjump?jump=previousslide"/>
          </p:cNvPr>
          <p:cNvSpPr/>
          <p:nvPr/>
        </p:nvSpPr>
        <p:spPr>
          <a:xfrm>
            <a:off x="709308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1">
            <a:hlinkClick r:id="" action="ppaction://hlinkshowjump?jump=nextslide"/>
          </p:cNvPr>
          <p:cNvSpPr/>
          <p:nvPr/>
        </p:nvSpPr>
        <p:spPr>
          <a:xfrm>
            <a:off x="824400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2">
            <a:hlinkClick r:id="" action="ppaction://hlinkshowjump?jump=firstslide"/>
          </p:cNvPr>
          <p:cNvSpPr/>
          <p:nvPr/>
        </p:nvSpPr>
        <p:spPr>
          <a:xfrm>
            <a:off x="766764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324000" y="1341360"/>
            <a:ext cx="86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вайте подробно рассмотрим инструменты, которые предоставляет нам Pain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глаза"/>
          <p:cNvPicPr/>
          <p:nvPr/>
        </p:nvPicPr>
        <p:blipFill>
          <a:blip r:embed="rId1"/>
          <a:stretch/>
        </p:blipFill>
        <p:spPr>
          <a:xfrm>
            <a:off x="3348000" y="0"/>
            <a:ext cx="2381400" cy="98100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8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Безымянный1"/>
          <p:cNvPicPr/>
          <p:nvPr/>
        </p:nvPicPr>
        <p:blipFill>
          <a:blip r:embed="rId2"/>
          <a:stretch/>
        </p:blipFill>
        <p:spPr>
          <a:xfrm>
            <a:off x="4356000" y="2205000"/>
            <a:ext cx="1608120" cy="43657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14"/>
          <p:cNvSpPr/>
          <p:nvPr/>
        </p:nvSpPr>
        <p:spPr>
          <a:xfrm>
            <a:off x="6948360" y="2060640"/>
            <a:ext cx="1800360" cy="647640"/>
          </a:xfrm>
          <a:prstGeom prst="wedgeRectCallout">
            <a:avLst>
              <a:gd name="adj1" fmla="val -101763"/>
              <a:gd name="adj2" fmla="val 514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еляющи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5"/>
          <p:cNvSpPr/>
          <p:nvPr/>
        </p:nvSpPr>
        <p:spPr>
          <a:xfrm>
            <a:off x="5867280" y="2276640"/>
            <a:ext cx="73080" cy="288720"/>
          </a:xfrm>
          <a:custGeom>
            <a:avLst/>
            <a:gdLst>
              <a:gd name="textAreaLeft" fmla="*/ 0 w 73080"/>
              <a:gd name="textAreaRight" fmla="*/ 26280 w 73080"/>
              <a:gd name="textAreaTop" fmla="*/ 7200 h 288720"/>
              <a:gd name="textAreaBottom" fmla="*/ 2815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6"/>
          <p:cNvSpPr/>
          <p:nvPr/>
        </p:nvSpPr>
        <p:spPr>
          <a:xfrm>
            <a:off x="5867280" y="3284640"/>
            <a:ext cx="73080" cy="431640"/>
          </a:xfrm>
          <a:custGeom>
            <a:avLst/>
            <a:gdLst>
              <a:gd name="textAreaLeft" fmla="*/ 0 w 73080"/>
              <a:gd name="textAreaRight" fmla="*/ 26280 w 7308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7"/>
          <p:cNvSpPr/>
          <p:nvPr/>
        </p:nvSpPr>
        <p:spPr>
          <a:xfrm>
            <a:off x="6948360" y="2924280"/>
            <a:ext cx="1800360" cy="649080"/>
          </a:xfrm>
          <a:prstGeom prst="wedgeRectCallout">
            <a:avLst>
              <a:gd name="adj1" fmla="val -102912"/>
              <a:gd name="adj2" fmla="val 3899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ующи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8"/>
          <p:cNvSpPr/>
          <p:nvPr/>
        </p:nvSpPr>
        <p:spPr>
          <a:xfrm>
            <a:off x="5867280" y="5229360"/>
            <a:ext cx="144720" cy="863640"/>
          </a:xfrm>
          <a:custGeom>
            <a:avLst/>
            <a:gdLst>
              <a:gd name="textAreaLeft" fmla="*/ 0 w 144720"/>
              <a:gd name="textAreaRight" fmla="*/ 52200 w 1447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9"/>
          <p:cNvSpPr/>
          <p:nvPr/>
        </p:nvSpPr>
        <p:spPr>
          <a:xfrm>
            <a:off x="6948360" y="5300640"/>
            <a:ext cx="1800360" cy="649440"/>
          </a:xfrm>
          <a:prstGeom prst="wedgeRectCallout">
            <a:avLst>
              <a:gd name="adj1" fmla="val -100527"/>
              <a:gd name="adj2" fmla="val -12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еляющи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5940360" y="4149720"/>
            <a:ext cx="73080" cy="792000"/>
          </a:xfrm>
          <a:custGeom>
            <a:avLst/>
            <a:gdLst>
              <a:gd name="textAreaLeft" fmla="*/ 0 w 73080"/>
              <a:gd name="textAreaRight" fmla="*/ 26280 w 73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6948360" y="3933720"/>
            <a:ext cx="1800360" cy="935280"/>
          </a:xfrm>
          <a:prstGeom prst="wedgeRectCallout">
            <a:avLst>
              <a:gd name="adj1" fmla="val -102912"/>
              <a:gd name="adj2" fmla="val 1162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струменты создания объек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2556000" y="307800"/>
            <a:ext cx="640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ение и Выделение произвольной области – выделяют весь рисунок или его фрагмент, для последующих операций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стик/Цветной ластик – стирает либо все подряд , либо только выбранный цв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ливка – закрашивает выбранным цветом замкнутый участок рису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ор цветов – позволяет уточнить тот или иной цвет в рисун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сштаб – позволяет увеличить рисун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">
            <a:hlinkClick r:id="" action="ppaction://hlinkshowjump?jump=nextslide"/>
          </p:cNvPr>
          <p:cNvSpPr/>
          <p:nvPr/>
        </p:nvSpPr>
        <p:spPr>
          <a:xfrm>
            <a:off x="831708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>
            <a:hlinkClick r:id="" action="ppaction://hlinkshowjump?jump=previousslide"/>
          </p:cNvPr>
          <p:cNvSpPr/>
          <p:nvPr/>
        </p:nvSpPr>
        <p:spPr>
          <a:xfrm>
            <a:off x="716436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Безымянный1"/>
          <p:cNvPicPr/>
          <p:nvPr/>
        </p:nvPicPr>
        <p:blipFill>
          <a:blip r:embed="rId1"/>
          <a:srcRect l="0" t="0" r="7614" b="89536"/>
          <a:stretch/>
        </p:blipFill>
        <p:spPr>
          <a:xfrm>
            <a:off x="576360" y="692280"/>
            <a:ext cx="1331640" cy="576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Безымянный1"/>
          <p:cNvPicPr/>
          <p:nvPr/>
        </p:nvPicPr>
        <p:blipFill>
          <a:blip r:embed="rId2"/>
          <a:srcRect l="0" t="10474" r="50510" b="81682"/>
          <a:stretch/>
        </p:blipFill>
        <p:spPr>
          <a:xfrm>
            <a:off x="684360" y="2133720"/>
            <a:ext cx="1155600" cy="496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Безымянный1"/>
          <p:cNvPicPr/>
          <p:nvPr/>
        </p:nvPicPr>
        <p:blipFill>
          <a:blip r:embed="rId3"/>
          <a:srcRect l="42400" t="7853" r="7614" b="81682"/>
          <a:stretch/>
        </p:blipFill>
        <p:spPr>
          <a:xfrm>
            <a:off x="887400" y="3259080"/>
            <a:ext cx="1020600" cy="579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Безымянный1"/>
          <p:cNvPicPr/>
          <p:nvPr/>
        </p:nvPicPr>
        <p:blipFill>
          <a:blip r:embed="rId4"/>
          <a:srcRect l="0" t="15717" r="50262" b="71208"/>
          <a:stretch/>
        </p:blipFill>
        <p:spPr>
          <a:xfrm>
            <a:off x="755640" y="3932280"/>
            <a:ext cx="1152360" cy="720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Безымянный1"/>
          <p:cNvPicPr/>
          <p:nvPr/>
        </p:nvPicPr>
        <p:blipFill>
          <a:blip r:embed="rId5"/>
          <a:srcRect l="42400" t="18328" r="7614" b="73819"/>
          <a:stretch/>
        </p:blipFill>
        <p:spPr>
          <a:xfrm>
            <a:off x="755640" y="4724280"/>
            <a:ext cx="1165320" cy="49716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21">
            <a:hlinkClick r:id="" action="ppaction://hlinkshowjump?jump=firstslide"/>
          </p:cNvPr>
          <p:cNvSpPr/>
          <p:nvPr/>
        </p:nvSpPr>
        <p:spPr>
          <a:xfrm>
            <a:off x="773892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10808" y="3837"/>
                </a:moveTo>
                <a:lnTo>
                  <a:pt x="13384" y="6448"/>
                </a:ln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lnTo>
                  <a:pt x="17771" y="10800"/>
                </a:lnTo>
                <a:lnTo>
                  <a:pt x="16117" y="10800"/>
                </a:lnTo>
                <a:lnTo>
                  <a:pt x="16117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5" y="10800"/>
                </a:lnTo>
                <a:close/>
              </a:path>
              <a:path fill="darkenLess" w="21615" h="21600">
                <a:moveTo>
                  <a:pt x="13384" y="6448"/>
                </a:move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close/>
              </a:path>
              <a:path fill="darkenLess" w="21615" h="21600">
                <a:moveTo>
                  <a:pt x="9885" y="14299"/>
                </a:moveTo>
                <a:lnTo>
                  <a:pt x="11730" y="14299"/>
                </a:lnTo>
                <a:lnTo>
                  <a:pt x="11730" y="17989"/>
                </a:lnTo>
                <a:lnTo>
                  <a:pt x="16117" y="17989"/>
                </a:lnTo>
                <a:lnTo>
                  <a:pt x="16117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5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56000" y="188640"/>
            <a:ext cx="65880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рандаш – имитирует карандаш любого ц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исть – имитирует кисть любого цвета и фор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ылитель – имитирует распылитель любого ц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дпись – позволяет вводить текст, который затем становится рисун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ния, Кривая линия – позволяет рисовать прямые     линии (Линия), и кривые (Кривая лин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ямоугольник, Многоугольник, Эллипс, скругленный прямоугольник – эти инструменты позволяют рисовать соответствующие фигуры любого цвета и разм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4" descr="Безымянный1"/>
          <p:cNvPicPr/>
          <p:nvPr/>
        </p:nvPicPr>
        <p:blipFill>
          <a:blip r:embed="rId1"/>
          <a:srcRect l="7117" t="26191" r="57628" b="65966"/>
          <a:stretch/>
        </p:blipFill>
        <p:spPr>
          <a:xfrm>
            <a:off x="755640" y="260280"/>
            <a:ext cx="1008000" cy="522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Безымянный1"/>
          <p:cNvPicPr/>
          <p:nvPr/>
        </p:nvPicPr>
        <p:blipFill>
          <a:blip r:embed="rId2"/>
          <a:srcRect l="42648" t="26191" r="7862" b="65966"/>
          <a:stretch/>
        </p:blipFill>
        <p:spPr>
          <a:xfrm>
            <a:off x="755640" y="1052640"/>
            <a:ext cx="1008000" cy="498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Безымянный1"/>
          <p:cNvPicPr/>
          <p:nvPr/>
        </p:nvPicPr>
        <p:blipFill>
          <a:blip r:embed="rId3"/>
          <a:srcRect l="7117" t="34044" r="57628" b="58112"/>
          <a:stretch/>
        </p:blipFill>
        <p:spPr>
          <a:xfrm>
            <a:off x="763560" y="1698480"/>
            <a:ext cx="1000080" cy="603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Безымянный1"/>
          <p:cNvPicPr/>
          <p:nvPr/>
        </p:nvPicPr>
        <p:blipFill>
          <a:blip r:embed="rId4"/>
          <a:srcRect l="42648" t="34044" r="7862" b="58112"/>
          <a:stretch/>
        </p:blipFill>
        <p:spPr>
          <a:xfrm>
            <a:off x="826920" y="2492280"/>
            <a:ext cx="1079640" cy="46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9" descr="Безымянный1"/>
          <p:cNvPicPr/>
          <p:nvPr/>
        </p:nvPicPr>
        <p:blipFill>
          <a:blip r:embed="rId5"/>
          <a:srcRect l="7117" t="41898" r="7862" b="50249"/>
          <a:stretch/>
        </p:blipFill>
        <p:spPr>
          <a:xfrm>
            <a:off x="826920" y="3213000"/>
            <a:ext cx="1081080" cy="503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0" descr="Безымянный1"/>
          <p:cNvPicPr/>
          <p:nvPr/>
        </p:nvPicPr>
        <p:blipFill>
          <a:blip r:embed="rId6"/>
          <a:srcRect l="0" t="49761" r="7614" b="34542"/>
          <a:stretch/>
        </p:blipFill>
        <p:spPr>
          <a:xfrm>
            <a:off x="611280" y="4292640"/>
            <a:ext cx="14857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-27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боты учащихся прошлых лет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96560" cy="72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-649440" y="46080"/>
            <a:ext cx="9901440" cy="63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1214280" y="-709560"/>
            <a:ext cx="11572560" cy="82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755640" y="476280"/>
            <a:ext cx="475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900000" y="981000"/>
            <a:ext cx="187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006560" y="1773360"/>
            <a:ext cx="81374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бы воспользоваться инструментом, необходимо щелкнуть мышкой по значку с инструментом, затем перевести курсор мышки на поле для рисования, нажать и удерживать левую кнопку мышки. Пока кнопка нажата – рисует, отпущена – не рису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1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684360" y="2060640"/>
            <a:ext cx="84596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ок-это зеркало общей и педагогиче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ультуры учителя, мерило 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теллектуального богат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казатель его кругозора и эруди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.Сухомлин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8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гда работа над изображением закончена, нужно сохранить его. Для этого нужно в меню «Файл», выбрать команду «Сохранить», затем в диалоговом окне ввести имя файла и нажать на кнопку «Сохранить». Таким образом вы сохраните файл и сможете воспользоваться им в следующий раз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авное дать правильное имя своему файлу – ведь если вы назовете его, допустим «Рисунок №1», то через какое-то время вы можете не вспомнить, что там нарисовано и вам придется открывать его. А если у вас несколько десятков таких рисунков 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 Закрепление материал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ктическая работа с программой «Paint».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075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узить приложение Paint. Для этого нужно кликнуть мышкой по кнопке «Пуск» — «Программы» — «Стандартные» — « Paint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исовать что-нибудь на свое усмотрение или воспользоваться предложенными образцами и создать их копии, добавить в рисунки свои фрагменты с использованием инструментов Заливка, Надпись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ить рисунок в папке Мои документы в вложенной папке своего класса, дав в качестве имени свою фамилию и клас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ыть Pai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Образцы рисунк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65452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6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68360" y="189000"/>
            <a:ext cx="842472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I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 Диагностика усво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Для чего нам нужен Paint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Назовите основные инструменты Paint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I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7.2.1 (Угринович Н. 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ть  рисунок для дальнейшей работы над ним в среде MS Pa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ить упражнения: а) Выполнить переводы 69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6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б)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ить уравнение 64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х-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ит = 128 мбай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Вопросы учеников.</a:t>
            </a: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ы на вопросы учащихс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X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дведение итогов, выставление оц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04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Тема урока: Основные приемы  работы в Paint .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6" name="Picture 5" descr="animvasa.gif (244584 bytes)"/>
          <p:cNvPicPr/>
          <p:nvPr/>
        </p:nvPicPr>
        <p:blipFill>
          <a:blip r:embed="rId1"/>
          <a:stretch/>
        </p:blipFill>
        <p:spPr>
          <a:xfrm>
            <a:off x="3059280" y="2421000"/>
            <a:ext cx="3671640" cy="24573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6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9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59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и урока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1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торение темы «Системы счисления» (материал 10 класса, в плане подготовки к ЕГЭ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бщение понятий по теме «Графические редакторы»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комство с графическим      редактором Paint 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навыков работы с графическим редактором Paint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йствовать воспитанию интереса к предмету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звитие творческих способностей и познавательного интереса у учащихся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ние целеустремленности, умения работать в группе. 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AutoShape 5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920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000000"/>
                </a:solidFill>
                <a:uFillTx/>
                <a:latin typeface="Arial"/>
              </a:rPr>
              <a:t>Ход урока:</a:t>
            </a:r>
            <a:r>
              <a:rPr b="1" i="1" lang="ru-RU" sz="4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200"/>
            </a:br>
            <a:br>
              <a:rPr sz="4200"/>
            </a:b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I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онный</a:t>
            </a: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мент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6920" y="2997360"/>
            <a:ext cx="7777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ветствие, проверка присутствующих. Объяснение хода уро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торение темы «Системы счисления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ная работ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440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системы счисления быва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сколько раз увеличатся числа 12,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5,3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ереносе запятой на один знак впра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цифры используется в 5-й системе счисл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3280" y="1600200"/>
            <a:ext cx="450072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Позиционные и непозицио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В 3 и 8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0,1,2,3,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Упражнения на повторение темы </a:t>
            </a: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«Системы счисления»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ить переводы чисел 83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Ответ: 83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123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1010011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53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Решить уравнение Х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00001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5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Ответ: Х=2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95280" y="0"/>
            <a:ext cx="835344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ронтальный опрос по предыдущей тем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прос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9640" y="1599840"/>
            <a:ext cx="418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овите виды компьютерной граф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формируются растровые изображения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такое пикс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Растровая, векторная.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В процессе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Минимальный участок изоб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прос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чем недостаток растровых изображ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формируются векторные изображ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оинства векторной граф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-3931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Чувствительность к масштабир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Из графических объектов, которые хранятся в памяти компьютера в виде графических примитивов и описывающих их математических форм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Сравнительно небольшой объем и возможность масштабирования без потери качества изоб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05:33:30Z</dcterms:created>
  <dc:creator>Ошноков</dc:creator>
  <dc:description/>
  <dc:language>en-US</dc:language>
  <cp:lastModifiedBy>User</cp:lastModifiedBy>
  <dcterms:modified xsi:type="dcterms:W3CDTF">2012-08-27T05:58:09Z</dcterms:modified>
  <cp:revision>58</cp:revision>
  <dc:subject/>
  <dc:title>Слайд 1</dc:title>
</cp:coreProperties>
</file>