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CCB1-5C3A-4322-886D-CB8586E0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250-D0EC-4071-9078-45B0DDA8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88A-0F17-4013-9CAE-E968DC1C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9C85-21E7-4398-88BD-CF130252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2682-7AC5-4F63-8602-7C50A151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3982-E57E-4CBA-B98A-AB82663A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05A8-066D-499B-9B6F-F998682E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754A-4C3A-479C-A953-75671407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EF4B-70FA-4355-9DC0-EAF36CB3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95AB-10B8-4E22-8FF7-AB46DD84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0E2C-48A9-44EF-B58C-501CC001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4032-4CB4-47D7-B26E-1360D997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C95B-337F-4B99-BFE5-86986842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9635-8819-4DBC-8777-E3AC7595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0D16-DD7D-4270-8A9F-9F14CBFB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F6BF-9DD4-4801-B9E3-21BEA78D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55F9-B534-4A7C-9327-2A644209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5C1C-DFF9-48DF-A743-1B252DB7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12AE-8D82-4C3B-861F-15F2A8DA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7E2-7E53-4B22-8083-6C809EFA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8327-2E14-4F15-BDA3-394BE638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BEE9-E347-4FCF-9D5B-89587A46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6722-2E8E-48B8-9FE0-FA4F7199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A368-2D71-48BB-B8A7-6D4772D8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2DAA-98E3-44A8-9FCE-8C77191097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D098-1E75-4472-8385-E83DD8562C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23.xml"/><Relationship Id="rId7" Type="http://schemas.openxmlformats.org/officeDocument/2006/relationships/hyperlink" Target="file:///&#1058;&#1077;&#1093;&#1085;&#1086;&#1083;&#1086;&#1075;&#1080;&#1103;%20&#1086;&#1073;&#1088;&#1072;&#1073;&#1086;&#1090;&#1082;&#1080;%20&#1090;&#1077;&#1082;&#1089;&#1090;&#1086;&#1074;&#1086;&#1081;%20&#1080;%20&#1075;&#1088;&#1072;&#1092;&#1080;&#1095;&#1077;&#1089;&#1082;&#1086;&#1081;%20&#1080;&#1085;&#1092;&#1086;&#1088;&#1084;&#1072;&#1094;&#1080;&#1080;.%20&#1064;&#1072;&#1084;&#1089;&#1091;&#1090;&#1076;&#1080;&#1085;&#1086;&#1074;&#1072;%20&#1070;.%2011&#1072;.ppt" TargetMode="Externa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19280" y="1483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ехнология обработки текстовой информа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7" descr="j0292982"/>
          <p:cNvPicPr/>
          <p:nvPr/>
        </p:nvPicPr>
        <p:blipFill>
          <a:blip r:embed="rId1"/>
          <a:stretch/>
        </p:blipFill>
        <p:spPr>
          <a:xfrm>
            <a:off x="0" y="3357720"/>
            <a:ext cx="1843200" cy="18190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0" y="5380200"/>
            <a:ext cx="46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готовил презентацию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У СОШ № 1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. Можайска Московской обл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Шлямина Е.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Organization Chart 5"/>
          <p:cNvGrpSpPr/>
          <p:nvPr/>
        </p:nvGrpSpPr>
        <p:grpSpPr>
          <a:xfrm>
            <a:off x="0" y="189000"/>
            <a:ext cx="9142560" cy="6479280"/>
            <a:chOff x="0" y="189000"/>
            <a:chExt cx="9142560" cy="6479280"/>
          </a:xfrm>
        </p:grpSpPr>
        <p:cxnSp>
          <p:nvCxnSpPr>
            <p:cNvPr id="199" name="_s3076"/>
            <p:cNvCxnSpPr>
              <a:stCxn id="200" idx="1"/>
              <a:endCxn id="201" idx="2"/>
            </p:cNvCxnSpPr>
            <p:nvPr/>
          </p:nvCxnSpPr>
          <p:spPr>
            <a:xfrm rot="10800000">
              <a:off x="2742120" y="950400"/>
              <a:ext cx="914760" cy="533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077"/>
            <p:cNvCxnSpPr>
              <a:stCxn id="203" idx="1"/>
              <a:endCxn id="201" idx="2"/>
            </p:cNvCxnSpPr>
            <p:nvPr/>
          </p:nvCxnSpPr>
          <p:spPr>
            <a:xfrm rot="10800000">
              <a:off x="2742120" y="950400"/>
              <a:ext cx="914760" cy="419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4" name="_s3078"/>
            <p:cNvCxnSpPr>
              <a:stCxn id="205" idx="1"/>
              <a:endCxn id="201" idx="2"/>
            </p:cNvCxnSpPr>
            <p:nvPr/>
          </p:nvCxnSpPr>
          <p:spPr>
            <a:xfrm rot="10800000">
              <a:off x="2742120" y="950400"/>
              <a:ext cx="914760" cy="30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6" name="_s3079"/>
            <p:cNvCxnSpPr>
              <a:stCxn id="207" idx="1"/>
              <a:endCxn id="201" idx="2"/>
            </p:cNvCxnSpPr>
            <p:nvPr/>
          </p:nvCxnSpPr>
          <p:spPr>
            <a:xfrm rot="10800000">
              <a:off x="2742120" y="950400"/>
              <a:ext cx="914760" cy="190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8" name="_s3080"/>
            <p:cNvCxnSpPr>
              <a:stCxn id="209" idx="1"/>
              <a:endCxn id="201" idx="2"/>
            </p:cNvCxnSpPr>
            <p:nvPr/>
          </p:nvCxnSpPr>
          <p:spPr>
            <a:xfrm rot="10800000">
              <a:off x="2742120" y="950400"/>
              <a:ext cx="914760" cy="76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1" name="_s3081"/>
            <p:cNvSpPr/>
            <p:nvPr/>
          </p:nvSpPr>
          <p:spPr>
            <a:xfrm>
              <a:off x="0" y="18900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mic Sans MS"/>
                </a:rPr>
                <a:t>Наиболее распространенны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mic Sans MS"/>
                </a:rPr>
                <a:t>форматы текстовых файлов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_s3082"/>
            <p:cNvSpPr/>
            <p:nvPr/>
          </p:nvSpPr>
          <p:spPr>
            <a:xfrm>
              <a:off x="3656880" y="133236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олько текст (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xt Only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) (</a:t>
              </a: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TXT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_s3083"/>
            <p:cNvSpPr/>
            <p:nvPr/>
          </p:nvSpPr>
          <p:spPr>
            <a:xfrm>
              <a:off x="3656880" y="247572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Текст в формате 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RTF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Rich Text Format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_s3084"/>
            <p:cNvSpPr/>
            <p:nvPr/>
          </p:nvSpPr>
          <p:spPr>
            <a:xfrm>
              <a:off x="3656880" y="361944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Документ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d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DOC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_s3085"/>
            <p:cNvSpPr/>
            <p:nvPr/>
          </p:nvSpPr>
          <p:spPr>
            <a:xfrm>
              <a:off x="3656880" y="476280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 4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.0 для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indows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WP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_s3086"/>
            <p:cNvSpPr/>
            <p:nvPr/>
          </p:nvSpPr>
          <p:spPr>
            <a:xfrm>
              <a:off x="3656880" y="590616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TML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-документ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HTM, HTML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AutoShape 20">
              <a:hlinkClick r:id="rId1" action="ppaction://hlinksldjump"/>
            </p:cNvPr>
            <p:cNvSpPr/>
            <p:nvPr/>
          </p:nvSpPr>
          <p:spPr>
            <a:xfrm>
              <a:off x="1333080" y="3934440"/>
              <a:ext cx="1001880" cy="502920"/>
            </a:xfrm>
            <a:prstGeom prst="rightArrow">
              <a:avLst>
                <a:gd name="adj1" fmla="val 50000"/>
                <a:gd name="adj2" fmla="val 49803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1" name="AutoShape 19">
            <a:hlinkClick r:id="rId2" action="ppaction://hlinksldjump"/>
          </p:cNvPr>
          <p:cNvSpPr/>
          <p:nvPr/>
        </p:nvSpPr>
        <p:spPr>
          <a:xfrm>
            <a:off x="468360" y="314172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Сохранение и открытие документа в определенном форма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вести команду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Файл – Сохранить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как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своить документу им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брать в перечне требуемый форм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4">
            <a:hlinkClick r:id="rId1" action="ppaction://hlinksldjump"/>
          </p:cNvPr>
          <p:cNvSpPr/>
          <p:nvPr/>
        </p:nvSpPr>
        <p:spPr>
          <a:xfrm>
            <a:off x="3276720" y="602136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5" descr="j0195812"/>
          <p:cNvPicPr/>
          <p:nvPr/>
        </p:nvPicPr>
        <p:blipFill>
          <a:blip r:embed="rId2"/>
          <a:stretch/>
        </p:blipFill>
        <p:spPr>
          <a:xfrm>
            <a:off x="6588000" y="4869000"/>
            <a:ext cx="1773360" cy="18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AutoShape 4">
            <a:hlinkClick r:id="rId1" action="ppaction://hlinksldjump"/>
          </p:cNvPr>
          <p:cNvSpPr/>
          <p:nvPr/>
        </p:nvSpPr>
        <p:spPr>
          <a:xfrm rot="10800000"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8" name="Diagram 6"/>
          <p:cNvGrpSpPr/>
          <p:nvPr/>
        </p:nvGrpSpPr>
        <p:grpSpPr>
          <a:xfrm>
            <a:off x="307800" y="0"/>
            <a:ext cx="8530560" cy="5653440"/>
            <a:chOff x="307800" y="0"/>
            <a:chExt cx="8530560" cy="5653440"/>
          </a:xfrm>
        </p:grpSpPr>
        <p:sp>
          <p:nvSpPr>
            <p:cNvPr id="219" name="_s4100"/>
            <p:cNvSpPr/>
            <p:nvPr/>
          </p:nvSpPr>
          <p:spPr>
            <a:xfrm flipH="1" flipV="1">
              <a:off x="2466720" y="2575440"/>
              <a:ext cx="1054080" cy="23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_s4101"/>
            <p:cNvSpPr/>
            <p:nvPr/>
          </p:nvSpPr>
          <p:spPr>
            <a:xfrm>
              <a:off x="307800" y="157572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2" action="ppaction://hlinksldjump"/>
                </a:rPr>
                <a:t>Форматирование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3" action="ppaction://hlinksldjump"/>
                </a:rPr>
                <a:t> символо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_s4102"/>
            <p:cNvSpPr/>
            <p:nvPr/>
          </p:nvSpPr>
          <p:spPr>
            <a:xfrm flipH="1">
              <a:off x="3270960" y="3659760"/>
              <a:ext cx="649800" cy="61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_s4103"/>
            <p:cNvSpPr/>
            <p:nvPr/>
          </p:nvSpPr>
          <p:spPr>
            <a:xfrm>
              <a:off x="1508760" y="412740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4" action="ppaction://hlinksldjump"/>
                </a:rPr>
                <a:t>Таблицы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_s4104"/>
            <p:cNvSpPr/>
            <p:nvPr/>
          </p:nvSpPr>
          <p:spPr>
            <a:xfrm>
              <a:off x="5221800" y="3659760"/>
              <a:ext cx="649800" cy="61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_s4105"/>
            <p:cNvSpPr/>
            <p:nvPr/>
          </p:nvSpPr>
          <p:spPr>
            <a:xfrm>
              <a:off x="5414400" y="413028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5" action="ppaction://hlinksldjump"/>
                </a:rPr>
                <a:t>Списки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_s4106"/>
            <p:cNvSpPr/>
            <p:nvPr/>
          </p:nvSpPr>
          <p:spPr>
            <a:xfrm flipV="1">
              <a:off x="5622120" y="2575440"/>
              <a:ext cx="1054080" cy="23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_s4107"/>
            <p:cNvSpPr/>
            <p:nvPr/>
          </p:nvSpPr>
          <p:spPr>
            <a:xfrm>
              <a:off x="6622200" y="157824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6" action="ppaction://hlinksldjump"/>
                </a:rPr>
                <a:t>Форматирование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7" action="ppaction://hlinksldjump"/>
                </a:rPr>
                <a:t> абзаце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_s4108"/>
            <p:cNvSpPr/>
            <p:nvPr/>
          </p:nvSpPr>
          <p:spPr>
            <a:xfrm flipV="1">
              <a:off x="4571640" y="1522800"/>
              <a:ext cx="0" cy="76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_s4109"/>
            <p:cNvSpPr/>
            <p:nvPr/>
          </p:nvSpPr>
          <p:spPr>
            <a:xfrm>
              <a:off x="3463200" y="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8" action="ppaction://hlinksldjump"/>
                </a:rPr>
                <a:t>Выбор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9" action="ppaction://hlinksldjump"/>
                </a:rPr>
                <a:t>параметров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10" action="ppaction://hlinksldjump"/>
                </a:rPr>
                <a:t>страницы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_s4110"/>
            <p:cNvSpPr/>
            <p:nvPr/>
          </p:nvSpPr>
          <p:spPr>
            <a:xfrm>
              <a:off x="3463200" y="2284560"/>
              <a:ext cx="2216160" cy="15231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Comic Sans MS"/>
                </a:rPr>
                <a:t>Форматирование 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Comic Sans MS"/>
                </a:rPr>
                <a:t>документа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28036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Выбор параметров страниц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ществуют две возможные ориентации страницы: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книжна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альбомна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странице можно устанавливать требуемые размеры полей, использовать колонтитулы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Файл – Параметры страницы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раницы документа требуется нумерова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Вставка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Номера страниц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4">
            <a:hlinkClick r:id="rId1" action="ppaction://hlinksldjump"/>
          </p:cNvPr>
          <p:cNvSpPr/>
          <p:nvPr/>
        </p:nvSpPr>
        <p:spPr>
          <a:xfrm>
            <a:off x="2556000" y="602136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9898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Форматирование абзаце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846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компьютерных документах 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абзац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любой текст, заканчивающийся управляющим символом (маркером) конца абзаца. Ввод конца абзаца обеспечивается нажатием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{Enter}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AutoShape 4">
            <a:hlinkClick r:id="rId1" action="ppaction://hlinksldjump"/>
          </p:cNvPr>
          <p:cNvSpPr/>
          <p:nvPr/>
        </p:nvSpPr>
        <p:spPr>
          <a:xfrm>
            <a:off x="4859280" y="5877000"/>
            <a:ext cx="1003320" cy="503280"/>
          </a:xfrm>
          <a:prstGeom prst="rightArrow">
            <a:avLst>
              <a:gd name="adj1" fmla="val 50000"/>
              <a:gd name="adj2" fmla="val 4983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AutoShape 5">
            <a:hlinkClick r:id="rId2" action="ppaction://hlinksldjump"/>
          </p:cNvPr>
          <p:cNvSpPr/>
          <p:nvPr/>
        </p:nvSpPr>
        <p:spPr>
          <a:xfrm>
            <a:off x="3132000" y="5877000"/>
            <a:ext cx="1008360" cy="485640"/>
          </a:xfrm>
          <a:prstGeom prst="leftArrow">
            <a:avLst>
              <a:gd name="adj1" fmla="val 50000"/>
              <a:gd name="adj2" fmla="val 5190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6" descr="j0199805"/>
          <p:cNvPicPr/>
          <p:nvPr/>
        </p:nvPicPr>
        <p:blipFill>
          <a:blip r:embed="rId3"/>
          <a:stretch/>
        </p:blipFill>
        <p:spPr>
          <a:xfrm>
            <a:off x="6732720" y="4869000"/>
            <a:ext cx="1687320" cy="169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Выравнивание абзаце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7991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равнивание отражает расположение текста относительно границ полей страницы. Чаще всего используют четыре способа выравнивания абзаце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левому кра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левый край ровный, а правый рва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центру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оба края имеют неровные очертания, однако каждая строка абзаца симметрична относительно середи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правому кра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правый край ровный, а левый рва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ширин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оба края ровные, то есть располагаются точно по границам страницы. В этом случае последняя строка абзаца ведет себя как при левостороннем выравниван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AutoShape 4">
            <a:hlinkClick r:id="rId1" action="ppaction://hlinksldjump"/>
          </p:cNvPr>
          <p:cNvSpPr/>
          <p:nvPr/>
        </p:nvSpPr>
        <p:spPr>
          <a:xfrm>
            <a:off x="3276720" y="609300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AutoShape 5">
            <a:hlinkClick r:id="rId2" action="ppaction://hlinksldjump"/>
          </p:cNvPr>
          <p:cNvSpPr/>
          <p:nvPr/>
        </p:nvSpPr>
        <p:spPr>
          <a:xfrm>
            <a:off x="5003640" y="6093000"/>
            <a:ext cx="1003320" cy="5029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6" descr="j0205582"/>
          <p:cNvPicPr/>
          <p:nvPr/>
        </p:nvPicPr>
        <p:blipFill>
          <a:blip r:embed="rId3"/>
          <a:stretch/>
        </p:blipFill>
        <p:spPr>
          <a:xfrm>
            <a:off x="7451640" y="5730840"/>
            <a:ext cx="1511280" cy="112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5582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Отступы и интервал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аще всего абзац начинается отступом первой строки. Весь абзац целиком может иметь отступы слева и справа, которые отмеряются от границ полей страниц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выравнивания абзаца ввести команду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Формат – Абзац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4">
            <a:hlinkClick r:id="rId1" action="ppaction://hlinksldjump"/>
          </p:cNvPr>
          <p:cNvSpPr/>
          <p:nvPr/>
        </p:nvSpPr>
        <p:spPr>
          <a:xfrm>
            <a:off x="428472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Спис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582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иски применяются для размещения в документе различных перечней. Существуют списки различных типо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omic Sans MS"/>
              </a:rPr>
              <a:t>Нумерованные 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гда элементы списка сопровождаются арабскими или римскими числами и буква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omic Sans MS"/>
              </a:rPr>
              <a:t>Маркированные 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гда элементы списка отмечаются с помощью специальных символов-маркер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зможно создание и вложенных списков, причем вкладываемый список может по своему типу отличаться от основного. Ввести команду </a:t>
            </a: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000" spc="-1" strike="noStrike">
                <a:solidFill>
                  <a:srgbClr val="33cc33"/>
                </a:solidFill>
                <a:latin typeface="Comic Sans MS"/>
              </a:rPr>
              <a:t>Формат-Список</a:t>
            </a: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на диалоговой панели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на вкладке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Многоуровневы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ыбрать требуемый тип многоуровневого списк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AutoShape 4">
            <a:hlinkClick r:id="rId1" action="ppaction://hlinksldjump"/>
          </p:cNvPr>
          <p:cNvSpPr/>
          <p:nvPr/>
        </p:nvSpPr>
        <p:spPr>
          <a:xfrm>
            <a:off x="4067280" y="595008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8706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Таблиц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7920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Таблиц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объект, состоящий из строк и столбцов, на пересечен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торых образуются ячейки. С помощью таблиц можн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атировать документы. При размещении в таблице чисе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производить над ними вычисления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образовать имеющийся текст в таблиц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с помощью команд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-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Преобразовать в таблицу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тавить документ в таблицу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Вставить в таблицу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втоматически отформатировать внешний вид таблицы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Автоформат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атирование таблицы вручную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Формат – Границы и заливка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дать точную ширину столбца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Высота и ширина ячейки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4">
            <a:hlinkClick r:id="rId1" action="ppaction://hlinksldjump"/>
          </p:cNvPr>
          <p:cNvSpPr/>
          <p:nvPr/>
        </p:nvSpPr>
        <p:spPr>
          <a:xfrm>
            <a:off x="539640" y="306864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948360" y="4941720"/>
          <a:ext cx="1908360" cy="1554480"/>
        </p:xfrm>
        <a:graphic>
          <a:graphicData uri="http://schemas.openxmlformats.org/drawingml/2006/table">
            <a:tbl>
              <a:tblPr/>
              <a:tblGrid>
                <a:gridCol w="954360"/>
                <a:gridCol w="95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2472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Форматирование симво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898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волы являются теми основными объектами, из которых состоит докумен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Символ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это буквы, цифры, пробелы, знаки пунктуации, специальные символ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волы можно форматиров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ные свойства символов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рифт, размер, начертание и цв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4">
            <a:hlinkClick r:id="rId1" action="ppaction://hlinksldjump"/>
          </p:cNvPr>
          <p:cNvSpPr/>
          <p:nvPr/>
        </p:nvSpPr>
        <p:spPr>
          <a:xfrm>
            <a:off x="3780000" y="580536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4981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Технология обработки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Создание и редактирование док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Форматы текстовых файл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Форматирование докумен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Гипертекс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Компьютерные словари и системы машинного перевода текс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Системы оптического распознания док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4">
            <a:hlinkClick r:id="rId7"/>
          </p:cNvPr>
          <p:cNvSpPr/>
          <p:nvPr/>
        </p:nvSpPr>
        <p:spPr>
          <a:xfrm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6" descr="j0205466"/>
          <p:cNvPicPr/>
          <p:nvPr/>
        </p:nvPicPr>
        <p:blipFill>
          <a:blip r:embed="rId8"/>
          <a:stretch/>
        </p:blipFill>
        <p:spPr>
          <a:xfrm>
            <a:off x="6804000" y="4797360"/>
            <a:ext cx="1819440" cy="180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mic Sans MS"/>
              </a:rPr>
              <a:t>Гипер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пертекст позволяет структурировать документ путем выделения в нем слов-ссылок (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гиперссыло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перссылка состоит из двух частей: указателя ссылки и адресной части ссылк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Указатель ссылк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объект, который визуально выделяется в документ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Адресная ча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гиперссылки представляет собой название закладки в документе, на который указывает ссыл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создания гиперссылки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вести команду 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Вставка-Гиперссылка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AutoShape 4">
            <a:hlinkClick r:id="rId1" action="ppaction://hlinksldjump"/>
          </p:cNvPr>
          <p:cNvSpPr/>
          <p:nvPr/>
        </p:nvSpPr>
        <p:spPr>
          <a:xfrm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6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Компьютерные словари 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и системы машинного перевода текс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236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мпьютерные словари могут содержать переводы сотен тысяч слов и словосочетаний, а также предоставляют пользователю дополнительные возможност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являться многоязычны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кроме основного словаря общеупотребительных слов содержать десятки специализированных словарей по областям зна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обеспечивают быстрый поиск словарных стате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являться мультимедийны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реди российских словарей следует выделить словарь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Lingvo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торый содержит более 1,2 миллиона слов и словосочетаний, систему электронных словарей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Контекст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словарь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Мультилекс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2556000" y="6165720"/>
            <a:ext cx="936360" cy="486000"/>
          </a:xfrm>
          <a:prstGeom prst="leftArrow">
            <a:avLst>
              <a:gd name="adj1" fmla="val 50000"/>
              <a:gd name="adj2" fmla="val 481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43640" y="6093000"/>
            <a:ext cx="1003320" cy="5029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Picture 6" descr="j0285444"/>
          <p:cNvPicPr/>
          <p:nvPr/>
        </p:nvPicPr>
        <p:blipFill>
          <a:blip r:embed="rId1"/>
          <a:stretch/>
        </p:blipFill>
        <p:spPr>
          <a:xfrm>
            <a:off x="4211640" y="6021360"/>
            <a:ext cx="1712880" cy="83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6756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Системы </a:t>
            </a:r>
            <a:br>
              <a:rPr sz="4000"/>
            </a:b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машинного перевод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стемы машинного перевода осуществляют перевод текстов, основываясь на формальном «знании» языка и использовании словар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учшими среди российских систем машинного перевода считаю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ROMT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«Сократ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3276720" y="5877000"/>
            <a:ext cx="1079280" cy="558720"/>
          </a:xfrm>
          <a:prstGeom prst="leftArrow">
            <a:avLst>
              <a:gd name="adj1" fmla="val 50000"/>
              <a:gd name="adj2" fmla="val 4829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Picture 6" descr="j0299125"/>
          <p:cNvPicPr/>
          <p:nvPr/>
        </p:nvPicPr>
        <p:blipFill>
          <a:blip r:embed="rId1"/>
          <a:stretch/>
        </p:blipFill>
        <p:spPr>
          <a:xfrm>
            <a:off x="468360" y="476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4"/>
          <p:cNvSpPr/>
          <p:nvPr/>
        </p:nvSpPr>
        <p:spPr>
          <a:xfrm>
            <a:off x="971640" y="0"/>
            <a:ext cx="1008000" cy="260280"/>
          </a:xfrm>
          <a:prstGeom prst="leftArrow">
            <a:avLst>
              <a:gd name="adj1" fmla="val 100000"/>
              <a:gd name="adj2" fmla="val 872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9" name="Organization Chart 6"/>
          <p:cNvGrpSpPr/>
          <p:nvPr/>
        </p:nvGrpSpPr>
        <p:grpSpPr>
          <a:xfrm>
            <a:off x="0" y="260280"/>
            <a:ext cx="9142560" cy="6596640"/>
            <a:chOff x="0" y="260280"/>
            <a:chExt cx="9142560" cy="6596640"/>
          </a:xfrm>
        </p:grpSpPr>
        <p:cxnSp>
          <p:nvCxnSpPr>
            <p:cNvPr id="270" name="_s5124"/>
            <p:cNvCxnSpPr>
              <a:stCxn id="271" idx="3"/>
              <a:endCxn id="272" idx="2"/>
            </p:cNvCxnSpPr>
            <p:nvPr/>
          </p:nvCxnSpPr>
          <p:spPr>
            <a:xfrm flipV="1">
              <a:off x="5485320" y="1458720"/>
              <a:ext cx="914760" cy="479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5125"/>
            <p:cNvCxnSpPr>
              <a:stCxn id="274" idx="3"/>
              <a:endCxn id="272" idx="2"/>
            </p:cNvCxnSpPr>
            <p:nvPr/>
          </p:nvCxnSpPr>
          <p:spPr>
            <a:xfrm flipV="1">
              <a:off x="5485320" y="1458720"/>
              <a:ext cx="914760" cy="299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5126"/>
            <p:cNvCxnSpPr>
              <a:stCxn id="276" idx="3"/>
              <a:endCxn id="272" idx="2"/>
            </p:cNvCxnSpPr>
            <p:nvPr/>
          </p:nvCxnSpPr>
          <p:spPr>
            <a:xfrm flipV="1">
              <a:off x="5485320" y="1458720"/>
              <a:ext cx="914760" cy="1199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2" name="_s5127"/>
            <p:cNvSpPr/>
            <p:nvPr/>
          </p:nvSpPr>
          <p:spPr>
            <a:xfrm>
              <a:off x="3656880" y="26028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Системы оптического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распознавания документо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_s5128"/>
            <p:cNvSpPr/>
            <p:nvPr/>
          </p:nvSpPr>
          <p:spPr>
            <a:xfrm>
              <a:off x="0" y="205920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стемы оптического 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распознавания 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мволов (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FineReader,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CuneiForm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_s5129"/>
            <p:cNvSpPr/>
            <p:nvPr/>
          </p:nvSpPr>
          <p:spPr>
            <a:xfrm>
              <a:off x="0" y="385848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Системы оптического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распознавания форм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_s5130"/>
            <p:cNvSpPr/>
            <p:nvPr/>
          </p:nvSpPr>
          <p:spPr>
            <a:xfrm>
              <a:off x="0" y="565776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стемы распознавания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рукописного текста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продукты фирмы 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Apple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77" name="Picture 20" descr=""/>
            <p:cNvPicPr/>
            <p:nvPr/>
          </p:nvPicPr>
          <p:blipFill>
            <a:blip r:embed="rId1"/>
            <a:stretch/>
          </p:blipFill>
          <p:spPr>
            <a:xfrm>
              <a:off x="0" y="5603760"/>
              <a:ext cx="5510160" cy="10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8" name="Picture 18" descr="BD21370_"/>
          <p:cNvPicPr/>
          <p:nvPr/>
        </p:nvPicPr>
        <p:blipFill>
          <a:blip r:embed="rId2"/>
          <a:stretch/>
        </p:blipFill>
        <p:spPr>
          <a:xfrm>
            <a:off x="0" y="6764400"/>
            <a:ext cx="5575320" cy="93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9" descr="BD21370_"/>
          <p:cNvPicPr/>
          <p:nvPr/>
        </p:nvPicPr>
        <p:blipFill>
          <a:blip r:embed="rId3"/>
          <a:stretch/>
        </p:blipFill>
        <p:spPr>
          <a:xfrm>
            <a:off x="0" y="3789360"/>
            <a:ext cx="5508720" cy="92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1" descr="BD21370_"/>
          <p:cNvPicPr/>
          <p:nvPr/>
        </p:nvPicPr>
        <p:blipFill>
          <a:blip r:embed="rId4"/>
          <a:stretch/>
        </p:blipFill>
        <p:spPr>
          <a:xfrm>
            <a:off x="0" y="5013360"/>
            <a:ext cx="5715000" cy="950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2" descr="BD21370_"/>
          <p:cNvPicPr/>
          <p:nvPr/>
        </p:nvPicPr>
        <p:blipFill>
          <a:blip r:embed="rId5"/>
          <a:stretch/>
        </p:blipFill>
        <p:spPr>
          <a:xfrm>
            <a:off x="0" y="3213000"/>
            <a:ext cx="5508720" cy="92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3" descr="BD21370_"/>
          <p:cNvPicPr/>
          <p:nvPr/>
        </p:nvPicPr>
        <p:blipFill>
          <a:blip r:embed="rId6"/>
          <a:stretch/>
        </p:blipFill>
        <p:spPr>
          <a:xfrm>
            <a:off x="0" y="1989000"/>
            <a:ext cx="5533920" cy="92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5" descr="BD21370_"/>
          <p:cNvPicPr/>
          <p:nvPr/>
        </p:nvPicPr>
        <p:blipFill>
          <a:blip r:embed="rId7"/>
          <a:stretch/>
        </p:blipFill>
        <p:spPr>
          <a:xfrm>
            <a:off x="3708360" y="225360"/>
            <a:ext cx="5484960" cy="92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7" descr="BD21325_"/>
          <p:cNvPicPr/>
          <p:nvPr/>
        </p:nvPicPr>
        <p:blipFill>
          <a:blip r:embed="rId8"/>
          <a:stretch/>
        </p:blipFill>
        <p:spPr>
          <a:xfrm>
            <a:off x="3635280" y="1341360"/>
            <a:ext cx="5508720" cy="149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8" descr="BD21325_"/>
          <p:cNvPicPr/>
          <p:nvPr/>
        </p:nvPicPr>
        <p:blipFill>
          <a:blip r:embed="rId9"/>
          <a:stretch/>
        </p:blipFill>
        <p:spPr>
          <a:xfrm>
            <a:off x="3635280" y="260280"/>
            <a:ext cx="5508720" cy="1494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6" descr="BD18215_"/>
          <p:cNvPicPr/>
          <p:nvPr/>
        </p:nvPicPr>
        <p:blipFill>
          <a:blip r:embed="rId10"/>
          <a:stretch/>
        </p:blipFill>
        <p:spPr>
          <a:xfrm>
            <a:off x="6732720" y="5013360"/>
            <a:ext cx="1895400" cy="144792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47"/>
          <p:cNvSpPr/>
          <p:nvPr/>
        </p:nvSpPr>
        <p:spPr>
          <a:xfrm rot="10800000">
            <a:off x="2124000" y="-360"/>
            <a:ext cx="1008000" cy="260280"/>
          </a:xfrm>
          <a:prstGeom prst="leftArrow">
            <a:avLst>
              <a:gd name="adj1" fmla="val 100000"/>
              <a:gd name="adj2" fmla="val 872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755640" y="2492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99ff"/>
                </a:solidFill>
                <a:latin typeface="Comic Sans MS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Создание и редактирование докумен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обработки текстовой информации на компьютере используют приложения общего назначения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текстовые редактор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торые позволяют создавать, редактировать, форматировать, сохранять и распечатывать текс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4">
            <a:hlinkClick r:id="rId1" action="ppaction://hlinksldjump"/>
          </p:cNvPr>
          <p:cNvSpPr/>
          <p:nvPr/>
        </p:nvSpPr>
        <p:spPr>
          <a:xfrm>
            <a:off x="3492360" y="6165720"/>
            <a:ext cx="1008360" cy="486000"/>
          </a:xfrm>
          <a:prstGeom prst="leftArrow">
            <a:avLst>
              <a:gd name="adj1" fmla="val 50000"/>
              <a:gd name="adj2" fmla="val 5187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5076720" y="6165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Organization Chart 5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62" name="_s1028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29"/>
            <p:cNvCxnSpPr>
              <a:stCxn id="166" idx="0"/>
              <a:endCxn id="164" idx="2"/>
            </p:cNvCxnSpPr>
            <p:nvPr/>
          </p:nvCxnSpPr>
          <p:spPr>
            <a:xfrm flipV="1">
              <a:off x="4571280" y="2741760"/>
              <a:ext cx="3240" cy="137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0"/>
            <p:cNvCxnSpPr>
              <a:stCxn id="168" idx="0"/>
              <a:endCxn id="164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1031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Comic Sans MS"/>
                </a:rPr>
                <a:t>Текстовые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Comic Sans MS"/>
                </a:rPr>
                <a:t>редакторы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_s1032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Простые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текстовые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редакторы: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простейше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форматировани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шрифта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Windows </a:t>
              </a: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Блокнот)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_s1033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Текстовы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процессоры: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вставка списков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и таблиц, проверка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орфографии и т.д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icrosoft Word 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и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tarOffice Writer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_s1034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Настольны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издательски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системы: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подготовка к изданию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журналов и газет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dobe PageMaker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AutoShape 14">
            <a:hlinkClick r:id="rId1" action="ppaction://hlinksldjump"/>
          </p:cNvPr>
          <p:cNvSpPr/>
          <p:nvPr/>
        </p:nvSpPr>
        <p:spPr>
          <a:xfrm>
            <a:off x="1116000" y="170028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15">
            <a:hlinkClick r:id="rId2" action="ppaction://hlinksldjump"/>
          </p:cNvPr>
          <p:cNvSpPr/>
          <p:nvPr/>
        </p:nvSpPr>
        <p:spPr>
          <a:xfrm>
            <a:off x="7308720" y="170028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Создание докумен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здание документа начинае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 выбора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шабло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создания документов со сложной структурой используют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асте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процессе создания документа в текстовом редакторе пользовател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водит символы с клавиатур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>
            <a:off x="5292720" y="6093000"/>
            <a:ext cx="790560" cy="433080"/>
          </a:xfrm>
          <a:prstGeom prst="rightArrow">
            <a:avLst>
              <a:gd name="adj1" fmla="val 50000"/>
              <a:gd name="adj2" fmla="val 456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5">
            <a:hlinkClick r:id="rId2" action="ppaction://hlinksldjump"/>
          </p:cNvPr>
          <p:cNvSpPr/>
          <p:nvPr/>
        </p:nvSpPr>
        <p:spPr>
          <a:xfrm>
            <a:off x="3780000" y="6093000"/>
            <a:ext cx="863280" cy="477720"/>
          </a:xfrm>
          <a:prstGeom prst="leftArrow">
            <a:avLst>
              <a:gd name="adj1" fmla="val 50000"/>
              <a:gd name="adj2" fmla="val 4517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j0195384"/>
          <p:cNvPicPr/>
          <p:nvPr/>
        </p:nvPicPr>
        <p:blipFill>
          <a:blip r:embed="rId3"/>
          <a:stretch/>
        </p:blipFill>
        <p:spPr>
          <a:xfrm>
            <a:off x="6732720" y="479736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7025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Редактирование докумен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дактирование документа производится путём копирования, перемещения или удаления выделенных символов или фрагментов тек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бы заменить одно многократно встречающееся слово на друго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Правка – Заменить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4">
            <a:hlinkClick r:id="rId1" action="ppaction://hlinksldjump"/>
          </p:cNvPr>
          <p:cNvSpPr/>
          <p:nvPr/>
        </p:nvSpPr>
        <p:spPr>
          <a:xfrm>
            <a:off x="5580000" y="602136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5">
            <a:hlinkClick r:id="rId2" action="ppaction://hlinksldjump"/>
          </p:cNvPr>
          <p:cNvSpPr/>
          <p:nvPr/>
        </p:nvSpPr>
        <p:spPr>
          <a:xfrm>
            <a:off x="3708360" y="602136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Вставка объектов в докумен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560" y="1828800"/>
            <a:ext cx="6985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еханизм встраиван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внедрения объектов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OLE – Object Linking Embedd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озволяет копировать и вставлять объекты из одного приложения в друг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Вставка – Объект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5580000" y="602136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5">
            <a:hlinkClick r:id="rId1" action="ppaction://hlinksldjump"/>
          </p:cNvPr>
          <p:cNvSpPr/>
          <p:nvPr/>
        </p:nvSpPr>
        <p:spPr>
          <a:xfrm>
            <a:off x="3564000" y="602136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38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Проверка орфографии и синтаксис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проверки орфографии и синтаксиса используются специальные программные модули, которые включаются в состав текстовых процессоров и редакционно-издательских сист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иболее часто встречающиеся опечатки исправляет функция </a:t>
            </a:r>
            <a:r>
              <a:rPr b="0" i="1" lang="ru-RU" sz="2800" spc="-1" strike="noStrike">
                <a:solidFill>
                  <a:srgbClr val="ff3300"/>
                </a:solidFill>
                <a:latin typeface="Comic Sans MS"/>
              </a:rPr>
              <a:t>Автозаме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4">
            <a:hlinkClick r:id="rId1" action="ppaction://hlinksldjump"/>
          </p:cNvPr>
          <p:cNvSpPr/>
          <p:nvPr/>
        </p:nvSpPr>
        <p:spPr>
          <a:xfrm>
            <a:off x="2268360" y="6165720"/>
            <a:ext cx="863640" cy="478080"/>
          </a:xfrm>
          <a:prstGeom prst="leftArrow">
            <a:avLst>
              <a:gd name="adj1" fmla="val 50000"/>
              <a:gd name="adj2" fmla="val 4516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5">
            <a:hlinkClick r:id="rId2" action="ppaction://hlinksldjump"/>
          </p:cNvPr>
          <p:cNvSpPr/>
          <p:nvPr/>
        </p:nvSpPr>
        <p:spPr>
          <a:xfrm>
            <a:off x="6443640" y="616572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omic Sans MS"/>
              </a:rPr>
              <a:t>Форматы текстовых фай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3927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ат файла определяет способ хранения текста в файл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преобразования текстового файла из одного формата в другой использую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программы - конверто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305928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Organization Chart 9"/>
          <p:cNvGrpSpPr/>
          <p:nvPr/>
        </p:nvGrpSpPr>
        <p:grpSpPr>
          <a:xfrm>
            <a:off x="4716360" y="1484280"/>
            <a:ext cx="4059000" cy="4391280"/>
            <a:chOff x="4716360" y="1484280"/>
            <a:chExt cx="4059000" cy="4391280"/>
          </a:xfrm>
        </p:grpSpPr>
        <p:cxnSp>
          <p:nvCxnSpPr>
            <p:cNvPr id="192" name="_s2052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6852960" y="3132720"/>
              <a:ext cx="878760" cy="1093320"/>
            </a:xfrm>
            <a:prstGeom prst="bentConnector3">
              <a:avLst>
                <a:gd name="adj1" fmla="val 15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2053"/>
            <p:cNvCxnSpPr>
              <a:stCxn id="196" idx="0"/>
              <a:endCxn id="194" idx="2"/>
            </p:cNvCxnSpPr>
            <p:nvPr/>
          </p:nvCxnSpPr>
          <p:spPr>
            <a:xfrm flipH="1" flipV="1" rot="5400000">
              <a:off x="5760720" y="3133800"/>
              <a:ext cx="878760" cy="1091160"/>
            </a:xfrm>
            <a:prstGeom prst="bentConnector3">
              <a:avLst>
                <a:gd name="adj1" fmla="val 15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4" name="_s2054"/>
            <p:cNvSpPr/>
            <p:nvPr/>
          </p:nvSpPr>
          <p:spPr>
            <a:xfrm>
              <a:off x="5808960" y="148428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Форматы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текстовых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файлов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_s2055"/>
            <p:cNvSpPr/>
            <p:nvPr/>
          </p:nvSpPr>
          <p:spPr>
            <a:xfrm>
              <a:off x="4716360" y="411912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>
                <a:alpha val="54000"/>
              </a:srgbClr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mic Sans MS"/>
                </a:rPr>
                <a:t>Универсальные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могут быть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прочитаны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большинством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редакторов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_s2056"/>
            <p:cNvSpPr/>
            <p:nvPr/>
          </p:nvSpPr>
          <p:spPr>
            <a:xfrm>
              <a:off x="6901920" y="411912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>
                <a:alpha val="60000"/>
              </a:srgbClr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mic Sans MS"/>
                </a:rPr>
                <a:t>Оригинальные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используются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отдельными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текстовыми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редакторами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AutoShape 18">
            <a:hlinkClick r:id="rId2" action="ppaction://hlinksldjump"/>
          </p:cNvPr>
          <p:cNvSpPr/>
          <p:nvPr/>
        </p:nvSpPr>
        <p:spPr>
          <a:xfrm>
            <a:off x="5076720" y="6165720"/>
            <a:ext cx="1008000" cy="433440"/>
          </a:xfrm>
          <a:prstGeom prst="rightArrow">
            <a:avLst>
              <a:gd name="adj1" fmla="val 50000"/>
              <a:gd name="adj2" fmla="val 5814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7:27:05Z</dcterms:created>
  <dc:creator>Ученик</dc:creator>
  <dc:description/>
  <dc:language>en-US</dc:language>
  <cp:lastModifiedBy>Admin</cp:lastModifiedBy>
  <dcterms:modified xsi:type="dcterms:W3CDTF">2012-08-27T16:01:28Z</dcterms:modified>
  <cp:revision>10</cp:revision>
  <dc:subject/>
  <dc:title>Технология обработки текстовой и графической информации</dc:title>
</cp:coreProperties>
</file>