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314A-684F-4EB8-9E7E-E30F0467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456-56B2-4993-8C91-20898C00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710-368E-433F-B4B0-83A0B74C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064-44C1-435A-85EB-6DA3F0C0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3B92-A54E-40C0-833B-508E6372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AFE7-8168-4BFC-9E6E-E22ACAD2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35FE-635E-4F6D-84AB-DF643678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D7BD-535E-4399-8924-9C8C2959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5098-4DE0-494A-AA5F-C1CC9A9A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D492-99DF-4935-B867-61ED4E00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9B5C-D706-45C0-9A84-E3AFA76E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60A-26F9-49F0-AC95-78F86877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E167-FC14-4656-9B88-4DE21138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E9C5-E997-4855-B259-A5D793C6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7938-9073-4DA4-8756-DF438F9D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85AD-55BD-4CA4-A17F-FFC64D40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6CC0-8B15-4C53-842A-DB1B3B71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824-AB34-4D1F-8D77-FB4772E5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7A3-0D45-440D-B7F6-054E93BD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105-5731-40C7-875D-70D1AD97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B70-5FF5-4837-92DD-A2FB783B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332-5D99-41C6-96CE-8A1E80A9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F6A-B2F4-4E5B-AFE7-D7AEBD70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B1E-00ED-43A5-8D0F-73361117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E00E-B664-444B-861C-FEDA26F4E9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E2F6-B5A5-496C-88DD-BC37B19368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hyperlink" Target="file:///&#1058;&#1077;&#1093;&#1085;&#1086;&#1083;&#1086;&#1075;&#1080;&#1103;%20&#1086;&#1073;&#1088;&#1072;&#1073;&#1086;&#1090;&#1082;&#1080;%20&#1090;&#1077;&#1082;&#1089;&#1090;&#1086;&#1074;&#1086;&#1081;%20&#1080;%20&#1075;&#1088;&#1072;&#1092;&#1080;&#1095;&#1077;&#1089;&#1082;&#1086;&#1081;%20&#1080;&#1085;&#1092;&#1086;&#1088;&#1084;&#1072;&#1094;&#1080;&#1080;.%20&#1064;&#1072;&#1084;&#1089;&#1091;&#1090;&#1076;&#1080;&#1085;&#1086;&#1074;&#1072;%20&#1070;.%2011&#1072;.ppt" TargetMode="Externa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7" descr="j0292982"/>
          <p:cNvPicPr/>
          <p:nvPr/>
        </p:nvPicPr>
        <p:blipFill>
          <a:blip r:embed="rId1"/>
          <a:stretch/>
        </p:blipFill>
        <p:spPr>
          <a:xfrm>
            <a:off x="0" y="335772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0" y="538020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 презентацию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СОШ № 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 Можайска Московской об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лямина Е.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5"/>
          <p:cNvGrpSpPr/>
          <p:nvPr/>
        </p:nvGrpSpPr>
        <p:grpSpPr>
          <a:xfrm>
            <a:off x="0" y="189000"/>
            <a:ext cx="9142560" cy="6479280"/>
            <a:chOff x="0" y="189000"/>
            <a:chExt cx="9142560" cy="6479280"/>
          </a:xfrm>
        </p:grpSpPr>
        <p:cxnSp>
          <p:nvCxnSpPr>
            <p:cNvPr id="199" name="_s3076"/>
            <p:cNvCxnSpPr>
              <a:stCxn id="200" idx="1"/>
              <a:endCxn id="201" idx="2"/>
            </p:cNvCxnSpPr>
            <p:nvPr/>
          </p:nvCxnSpPr>
          <p:spPr>
            <a:xfrm rot="10800000">
              <a:off x="2742120" y="950400"/>
              <a:ext cx="914760" cy="533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077"/>
            <p:cNvCxnSpPr>
              <a:stCxn id="203" idx="1"/>
              <a:endCxn id="201" idx="2"/>
            </p:cNvCxnSpPr>
            <p:nvPr/>
          </p:nvCxnSpPr>
          <p:spPr>
            <a:xfrm rot="10800000">
              <a:off x="2742120" y="950400"/>
              <a:ext cx="914760" cy="419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3078"/>
            <p:cNvCxnSpPr>
              <a:stCxn id="205" idx="1"/>
              <a:endCxn id="201" idx="2"/>
            </p:cNvCxnSpPr>
            <p:nvPr/>
          </p:nvCxnSpPr>
          <p:spPr>
            <a:xfrm rot="10800000">
              <a:off x="2742120" y="950400"/>
              <a:ext cx="914760" cy="30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3079"/>
            <p:cNvCxnSpPr>
              <a:stCxn id="207" idx="1"/>
              <a:endCxn id="201" idx="2"/>
            </p:cNvCxnSpPr>
            <p:nvPr/>
          </p:nvCxnSpPr>
          <p:spPr>
            <a:xfrm rot="10800000">
              <a:off x="2742120" y="950400"/>
              <a:ext cx="914760" cy="19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3080"/>
            <p:cNvCxnSpPr>
              <a:stCxn id="209" idx="1"/>
              <a:endCxn id="201" idx="2"/>
            </p:cNvCxnSpPr>
            <p:nvPr/>
          </p:nvCxnSpPr>
          <p:spPr>
            <a:xfrm rot="10800000">
              <a:off x="2742120" y="950400"/>
              <a:ext cx="914760" cy="76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3081"/>
            <p:cNvSpPr/>
            <p:nvPr/>
          </p:nvSpPr>
          <p:spPr>
            <a:xfrm>
              <a:off x="0" y="1890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Наиболее распространен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форматы текстовых файлов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_s3082"/>
            <p:cNvSpPr/>
            <p:nvPr/>
          </p:nvSpPr>
          <p:spPr>
            <a:xfrm>
              <a:off x="3656880" y="13323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олько текст (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xt Only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 (</a:t>
              </a: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TXT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_s3083"/>
            <p:cNvSpPr/>
            <p:nvPr/>
          </p:nvSpPr>
          <p:spPr>
            <a:xfrm>
              <a:off x="3656880" y="247572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Текст в формате 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RTF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Rich Text Format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_s3084"/>
            <p:cNvSpPr/>
            <p:nvPr/>
          </p:nvSpPr>
          <p:spPr>
            <a:xfrm>
              <a:off x="3656880" y="361944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Документ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d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DOC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_s3085"/>
            <p:cNvSpPr/>
            <p:nvPr/>
          </p:nvSpPr>
          <p:spPr>
            <a:xfrm>
              <a:off x="3656880" y="47628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 4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.0 для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ndows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WP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_s3086"/>
            <p:cNvSpPr/>
            <p:nvPr/>
          </p:nvSpPr>
          <p:spPr>
            <a:xfrm>
              <a:off x="3656880" y="59061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-документ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HTM, 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AutoShape 20">
              <a:hlinkClick r:id="rId1" action="ppaction://hlinksldjump"/>
            </p:cNvPr>
            <p:cNvSpPr/>
            <p:nvPr/>
          </p:nvSpPr>
          <p:spPr>
            <a:xfrm>
              <a:off x="1333080" y="3934440"/>
              <a:ext cx="1001880" cy="502920"/>
            </a:xfrm>
            <a:prstGeom prst="rightArrow">
              <a:avLst>
                <a:gd name="adj1" fmla="val 50000"/>
                <a:gd name="adj2" fmla="val 4980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1" name="AutoShape 19">
            <a:hlinkClick r:id="rId2" action="ppaction://hlinksldjump"/>
          </p:cNvPr>
          <p:cNvSpPr/>
          <p:nvPr/>
        </p:nvSpPr>
        <p:spPr>
          <a:xfrm>
            <a:off x="468360" y="314172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охранение и открытие документа в определенном форма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айл – Сохранить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как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своить документу им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брать в перечне требуемый форм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327672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5" descr="j0195812"/>
          <p:cNvPicPr/>
          <p:nvPr/>
        </p:nvPicPr>
        <p:blipFill>
          <a:blip r:embed="rId2"/>
          <a:stretch/>
        </p:blipFill>
        <p:spPr>
          <a:xfrm>
            <a:off x="6588000" y="486900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4">
            <a:hlinkClick r:id="rId1" action="ppaction://hlinksldjump"/>
          </p:cNvPr>
          <p:cNvSpPr/>
          <p:nvPr/>
        </p:nvSpPr>
        <p:spPr>
          <a:xfrm rot="10800000"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" name="Diagram 6"/>
          <p:cNvGrpSpPr/>
          <p:nvPr/>
        </p:nvGrpSpPr>
        <p:grpSpPr>
          <a:xfrm>
            <a:off x="307800" y="0"/>
            <a:ext cx="8530560" cy="5653440"/>
            <a:chOff x="307800" y="0"/>
            <a:chExt cx="8530560" cy="5653440"/>
          </a:xfrm>
        </p:grpSpPr>
        <p:sp>
          <p:nvSpPr>
            <p:cNvPr id="219" name="_s4100"/>
            <p:cNvSpPr/>
            <p:nvPr/>
          </p:nvSpPr>
          <p:spPr>
            <a:xfrm flipH="1" flipV="1">
              <a:off x="2466720" y="2575440"/>
              <a:ext cx="1054080" cy="23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_s4101"/>
            <p:cNvSpPr/>
            <p:nvPr/>
          </p:nvSpPr>
          <p:spPr>
            <a:xfrm>
              <a:off x="307800" y="157572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2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3" action="ppaction://hlinksldjump"/>
                </a:rPr>
                <a:t> символ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_s4102"/>
            <p:cNvSpPr/>
            <p:nvPr/>
          </p:nvSpPr>
          <p:spPr>
            <a:xfrm flipH="1">
              <a:off x="327096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_s4103"/>
            <p:cNvSpPr/>
            <p:nvPr/>
          </p:nvSpPr>
          <p:spPr>
            <a:xfrm>
              <a:off x="1508760" y="412740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4" action="ppaction://hlinksldjump"/>
                </a:rPr>
                <a:t>Табл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_s4104"/>
            <p:cNvSpPr/>
            <p:nvPr/>
          </p:nvSpPr>
          <p:spPr>
            <a:xfrm>
              <a:off x="522180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_s4105"/>
            <p:cNvSpPr/>
            <p:nvPr/>
          </p:nvSpPr>
          <p:spPr>
            <a:xfrm>
              <a:off x="5414400" y="413028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5" action="ppaction://hlinksldjump"/>
                </a:rPr>
                <a:t>Списки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_s4106"/>
            <p:cNvSpPr/>
            <p:nvPr/>
          </p:nvSpPr>
          <p:spPr>
            <a:xfrm flipV="1">
              <a:off x="5622120" y="2575440"/>
              <a:ext cx="105408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_s4107"/>
            <p:cNvSpPr/>
            <p:nvPr/>
          </p:nvSpPr>
          <p:spPr>
            <a:xfrm>
              <a:off x="6622200" y="157824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6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7" action="ppaction://hlinksldjump"/>
                </a:rPr>
                <a:t> абзаце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_s4108"/>
            <p:cNvSpPr/>
            <p:nvPr/>
          </p:nvSpPr>
          <p:spPr>
            <a:xfrm flipV="1">
              <a:off x="4571640" y="152280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_s4109"/>
            <p:cNvSpPr/>
            <p:nvPr/>
          </p:nvSpPr>
          <p:spPr>
            <a:xfrm>
              <a:off x="3463200" y="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8" action="ppaction://hlinksldjump"/>
                </a:rPr>
                <a:t>Выбор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9" action="ppaction://hlinksldjump"/>
                </a:rPr>
                <a:t>параметров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10" action="ppaction://hlinksldjump"/>
                </a:rPr>
                <a:t>стран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_s4110"/>
            <p:cNvSpPr/>
            <p:nvPr/>
          </p:nvSpPr>
          <p:spPr>
            <a:xfrm>
              <a:off x="3463200" y="2284560"/>
              <a:ext cx="2216160" cy="1523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Форматирование 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документа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803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ыбор параметров стран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ют две возможные ориентации страницы: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книж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альбом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странице можно устанавливать требуемые размеры полей, использовать колонтитул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Файл – Параметры страницы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ицы документа требуется нумерова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Вставка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Номера страниц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4">
            <a:hlinkClick r:id="rId1" action="ppaction://hlinksldjump"/>
          </p:cNvPr>
          <p:cNvSpPr/>
          <p:nvPr/>
        </p:nvSpPr>
        <p:spPr>
          <a:xfrm>
            <a:off x="255600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абзац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мпьютерных документах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абзац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любой текст, заканчивающийся управляющим символом (маркером) конца абзаца. Ввод конца абзаца обеспечивается нажатием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{Enter}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4859280" y="5877000"/>
            <a:ext cx="1003320" cy="503280"/>
          </a:xfrm>
          <a:prstGeom prst="rightArrow">
            <a:avLst>
              <a:gd name="adj1" fmla="val 50000"/>
              <a:gd name="adj2" fmla="val 4983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5">
            <a:hlinkClick r:id="rId2" action="ppaction://hlinksldjump"/>
          </p:cNvPr>
          <p:cNvSpPr/>
          <p:nvPr/>
        </p:nvSpPr>
        <p:spPr>
          <a:xfrm>
            <a:off x="3132000" y="5877000"/>
            <a:ext cx="1008360" cy="485640"/>
          </a:xfrm>
          <a:prstGeom prst="leftArrow">
            <a:avLst>
              <a:gd name="adj1" fmla="val 50000"/>
              <a:gd name="adj2" fmla="val 5190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6" descr="j0199805"/>
          <p:cNvPicPr/>
          <p:nvPr/>
        </p:nvPicPr>
        <p:blipFill>
          <a:blip r:embed="rId3"/>
          <a:stretch/>
        </p:blipFill>
        <p:spPr>
          <a:xfrm>
            <a:off x="6732720" y="4869000"/>
            <a:ext cx="1687320" cy="169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Выравнивание абзаце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79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равнивание отражает расположение текста относительно границ полей страницы. Чаще всего используют четыре способа выравнивания абзаце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ле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левый край ровный, а пра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центр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имеют неровные очертания, однако каждая строка абзаца симметрична относительно серед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пра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правый край ровный, а ле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ширин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ровные, то есть располагаются точно по границам страницы. В этом случае последняя строка абзаца ведет себя как при левостороннем выравнива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276720" y="609300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5">
            <a:hlinkClick r:id="rId2" action="ppaction://hlinksldjump"/>
          </p:cNvPr>
          <p:cNvSpPr/>
          <p:nvPr/>
        </p:nvSpPr>
        <p:spPr>
          <a:xfrm>
            <a:off x="500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6" descr="j0205582"/>
          <p:cNvPicPr/>
          <p:nvPr/>
        </p:nvPicPr>
        <p:blipFill>
          <a:blip r:embed="rId3"/>
          <a:stretch/>
        </p:blipFill>
        <p:spPr>
          <a:xfrm>
            <a:off x="7451640" y="5730840"/>
            <a:ext cx="1511280" cy="11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582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Отступы и интерва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ще всего абзац начинается отступом первой строки. Весь абзац целиком может иметь отступы слева и справа, которые отмеряются от границ полей стран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выравнивания абзаца 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ормат – Абзац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428472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58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иски применяются для размещения в документе различных перечней. Существуют списки различных типо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Нуме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сопровождаются арабскими или римскими числами и букв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Марки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отмечаются с помощью специальных символов-маркер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можно создание и вложенных списков, причем вкладываемый список может по своему типу отличаться от основного. Ввести команду 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000" spc="-1" strike="noStrike">
                <a:solidFill>
                  <a:srgbClr val="33cc33"/>
                </a:solidFill>
                <a:latin typeface="Comic Sans MS"/>
              </a:rPr>
              <a:t>Формат-Список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на диалоговой панел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 вкладке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ногоуровневы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ыбрать требуемый тип многоуровневого спис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4067280" y="595008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79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объект, состоящий из строк и столбцов, на пересечен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торых образуются ячейки. С помощью таблиц мож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ть документы. При размещении в таблице чисе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роизводить над ними вычислени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образовать имеющийся текст в таблиц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с помощью команд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Преобразова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тавить документ в таблицу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стави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матически отформатировать внешний вид таблицы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Автоформат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ние таблицы вручную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Формат – Границы и заливк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дать точную ширину столбца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ысота и ширина ячейки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4">
            <a:hlinkClick r:id="rId1" action="ppaction://hlinksldjump"/>
          </p:cNvPr>
          <p:cNvSpPr/>
          <p:nvPr/>
        </p:nvSpPr>
        <p:spPr>
          <a:xfrm>
            <a:off x="539640" y="306864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948360" y="4941720"/>
          <a:ext cx="1908360" cy="1554480"/>
        </p:xfrm>
        <a:graphic>
          <a:graphicData uri="http://schemas.openxmlformats.org/drawingml/2006/table">
            <a:tbl>
              <a:tblPr/>
              <a:tblGrid>
                <a:gridCol w="954360"/>
                <a:gridCol w="95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симв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898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являются теми основными объектами, из которых состоит докумен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Символ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буквы, цифры, пробелы, знаки пунктуации, специальные символ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можно форматиро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свойства символов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рифт, размер, начертание и ц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>
            <a:hlinkClick r:id="rId1" action="ppaction://hlinksldjump"/>
          </p:cNvPr>
          <p:cNvSpPr/>
          <p:nvPr/>
        </p:nvSpPr>
        <p:spPr>
          <a:xfrm>
            <a:off x="3780000" y="580536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4981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Создание и редактирование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Форматы текстовых фай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Форматирование докумен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Гипертекс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Компьютерные словари и системы машинного перевода текс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истемы оптического распознания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4">
            <a:hlinkClick r:id="rId7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j0205466"/>
          <p:cNvPicPr/>
          <p:nvPr/>
        </p:nvPicPr>
        <p:blipFill>
          <a:blip r:embed="rId8"/>
          <a:stretch/>
        </p:blipFill>
        <p:spPr>
          <a:xfrm>
            <a:off x="6804000" y="479736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Гипер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текст позволяет структурировать документ путем выделения в нем слов-ссылок (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гиперссыло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ссылка состоит из двух частей: указателя ссылки и адресной части ссылк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Указатель ссыл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объект, который визуально выделяется в документ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Адресная ча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гиперссылки представляет собой название закладки в документе, на который указывает ссыл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создания гиперссылки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Вставка-Гиперссылка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AutoShape 4">
            <a:hlinkClick r:id="rId1" action="ppaction://hlinksldjump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Компьютерные словари 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и системы машинного перевода тек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236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мпьютерные словари могут содержать переводы сотен тысяч слов и словосочетаний, а также предоставляют пользователю дополнительные возможност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ногоязычны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кроме основного словаря общеупотребительных слов содержать десятки специализированных словарей по областям зна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обеспечивают быстрый поиск словарных ста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ультимедийны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реди российских словарей следует выделить словарь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ingvo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торый содержит более 1,2 миллиона слов и словосочетаний, систему электронных словарей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Контекст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словарь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Мультилекс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2556000" y="6165720"/>
            <a:ext cx="936360" cy="486000"/>
          </a:xfrm>
          <a:prstGeom prst="leftArrow">
            <a:avLst>
              <a:gd name="adj1" fmla="val 50000"/>
              <a:gd name="adj2" fmla="val 481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4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6" descr="j0285444"/>
          <p:cNvPicPr/>
          <p:nvPr/>
        </p:nvPicPr>
        <p:blipFill>
          <a:blip r:embed="rId1"/>
          <a:stretch/>
        </p:blipFill>
        <p:spPr>
          <a:xfrm>
            <a:off x="4211640" y="6021360"/>
            <a:ext cx="171288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6756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истемы </a:t>
            </a:r>
            <a:br>
              <a:rPr sz="4000"/>
            </a:b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машинного перево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стемы машинного перевода осуществляют перевод текстов, основываясь на формальном «знании» языка и использовании словар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чшими среди российских систем машинного перевода считаю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MT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«Сократ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3276720" y="5877000"/>
            <a:ext cx="1079280" cy="558720"/>
          </a:xfrm>
          <a:prstGeom prst="leftArrow">
            <a:avLst>
              <a:gd name="adj1" fmla="val 50000"/>
              <a:gd name="adj2" fmla="val 4829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6" descr="j0299125"/>
          <p:cNvPicPr/>
          <p:nvPr/>
        </p:nvPicPr>
        <p:blipFill>
          <a:blip r:embed="rId1"/>
          <a:stretch/>
        </p:blipFill>
        <p:spPr>
          <a:xfrm>
            <a:off x="468360" y="476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4"/>
          <p:cNvSpPr/>
          <p:nvPr/>
        </p:nvSpPr>
        <p:spPr>
          <a:xfrm>
            <a:off x="971640" y="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Organization Chart 6"/>
          <p:cNvGrpSpPr/>
          <p:nvPr/>
        </p:nvGrpSpPr>
        <p:grpSpPr>
          <a:xfrm>
            <a:off x="0" y="260280"/>
            <a:ext cx="9142560" cy="6596640"/>
            <a:chOff x="0" y="260280"/>
            <a:chExt cx="9142560" cy="6596640"/>
          </a:xfrm>
        </p:grpSpPr>
        <p:cxnSp>
          <p:nvCxnSpPr>
            <p:cNvPr id="270" name="_s5124"/>
            <p:cNvCxnSpPr>
              <a:stCxn id="271" idx="3"/>
              <a:endCxn id="272" idx="2"/>
            </p:cNvCxnSpPr>
            <p:nvPr/>
          </p:nvCxnSpPr>
          <p:spPr>
            <a:xfrm flipV="1">
              <a:off x="5485320" y="1458720"/>
              <a:ext cx="914760" cy="479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5125"/>
            <p:cNvCxnSpPr>
              <a:stCxn id="274" idx="3"/>
              <a:endCxn id="272" idx="2"/>
            </p:cNvCxnSpPr>
            <p:nvPr/>
          </p:nvCxnSpPr>
          <p:spPr>
            <a:xfrm flipV="1">
              <a:off x="5485320" y="1458720"/>
              <a:ext cx="914760" cy="299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5126"/>
            <p:cNvCxnSpPr>
              <a:stCxn id="276" idx="3"/>
              <a:endCxn id="272" idx="2"/>
            </p:cNvCxnSpPr>
            <p:nvPr/>
          </p:nvCxnSpPr>
          <p:spPr>
            <a:xfrm flipV="1">
              <a:off x="5485320" y="1458720"/>
              <a:ext cx="914760" cy="119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2" name="_s5127"/>
            <p:cNvSpPr/>
            <p:nvPr/>
          </p:nvSpPr>
          <p:spPr>
            <a:xfrm>
              <a:off x="3656880" y="2602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распознавания документ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_s5128"/>
            <p:cNvSpPr/>
            <p:nvPr/>
          </p:nvSpPr>
          <p:spPr>
            <a:xfrm>
              <a:off x="0" y="205920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аспознавания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мволов (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FineReader,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CuneiForm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_s5129"/>
            <p:cNvSpPr/>
            <p:nvPr/>
          </p:nvSpPr>
          <p:spPr>
            <a:xfrm>
              <a:off x="0" y="38584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распознавания форм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_s5130"/>
            <p:cNvSpPr/>
            <p:nvPr/>
          </p:nvSpPr>
          <p:spPr>
            <a:xfrm>
              <a:off x="0" y="565776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распознавания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укописного текста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продукты фирмы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Apple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77" name="Picture 20" descr=""/>
            <p:cNvPicPr/>
            <p:nvPr/>
          </p:nvPicPr>
          <p:blipFill>
            <a:blip r:embed="rId1"/>
            <a:stretch/>
          </p:blipFill>
          <p:spPr>
            <a:xfrm>
              <a:off x="0" y="5603760"/>
              <a:ext cx="5510160" cy="1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Picture 18" descr="BD21370_"/>
          <p:cNvPicPr/>
          <p:nvPr/>
        </p:nvPicPr>
        <p:blipFill>
          <a:blip r:embed="rId2"/>
          <a:stretch/>
        </p:blipFill>
        <p:spPr>
          <a:xfrm>
            <a:off x="0" y="6764400"/>
            <a:ext cx="5575320" cy="93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" descr="BD21370_"/>
          <p:cNvPicPr/>
          <p:nvPr/>
        </p:nvPicPr>
        <p:blipFill>
          <a:blip r:embed="rId3"/>
          <a:stretch/>
        </p:blipFill>
        <p:spPr>
          <a:xfrm>
            <a:off x="0" y="378936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BD21370_"/>
          <p:cNvPicPr/>
          <p:nvPr/>
        </p:nvPicPr>
        <p:blipFill>
          <a:blip r:embed="rId4"/>
          <a:stretch/>
        </p:blipFill>
        <p:spPr>
          <a:xfrm>
            <a:off x="0" y="501336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BD21370_"/>
          <p:cNvPicPr/>
          <p:nvPr/>
        </p:nvPicPr>
        <p:blipFill>
          <a:blip r:embed="rId5"/>
          <a:stretch/>
        </p:blipFill>
        <p:spPr>
          <a:xfrm>
            <a:off x="0" y="321300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BD21370_"/>
          <p:cNvPicPr/>
          <p:nvPr/>
        </p:nvPicPr>
        <p:blipFill>
          <a:blip r:embed="rId6"/>
          <a:stretch/>
        </p:blipFill>
        <p:spPr>
          <a:xfrm>
            <a:off x="0" y="1989000"/>
            <a:ext cx="5533920" cy="92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5" descr="BD21370_"/>
          <p:cNvPicPr/>
          <p:nvPr/>
        </p:nvPicPr>
        <p:blipFill>
          <a:blip r:embed="rId7"/>
          <a:stretch/>
        </p:blipFill>
        <p:spPr>
          <a:xfrm>
            <a:off x="3708360" y="225360"/>
            <a:ext cx="5484960" cy="92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7" descr="BD21325_"/>
          <p:cNvPicPr/>
          <p:nvPr/>
        </p:nvPicPr>
        <p:blipFill>
          <a:blip r:embed="rId8"/>
          <a:stretch/>
        </p:blipFill>
        <p:spPr>
          <a:xfrm>
            <a:off x="3635280" y="134136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8" descr="BD21325_"/>
          <p:cNvPicPr/>
          <p:nvPr/>
        </p:nvPicPr>
        <p:blipFill>
          <a:blip r:embed="rId9"/>
          <a:stretch/>
        </p:blipFill>
        <p:spPr>
          <a:xfrm>
            <a:off x="3635280" y="26028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6" descr="BD18215_"/>
          <p:cNvPicPr/>
          <p:nvPr/>
        </p:nvPicPr>
        <p:blipFill>
          <a:blip r:embed="rId10"/>
          <a:stretch/>
        </p:blipFill>
        <p:spPr>
          <a:xfrm>
            <a:off x="6732720" y="5013360"/>
            <a:ext cx="1895400" cy="1447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47"/>
          <p:cNvSpPr/>
          <p:nvPr/>
        </p:nvSpPr>
        <p:spPr>
          <a:xfrm rot="10800000">
            <a:off x="2124000" y="-36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5564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99ff"/>
                </a:solidFill>
                <a:latin typeface="Comic Sans MS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оздание и редактирование докум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обработки текстовой информации на компьютере используют приложения общего назначения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кстовые редактор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ые позволяют создавать, редактировать, форматировать, сохранять и распечатывать тек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3492360" y="6165720"/>
            <a:ext cx="1008360" cy="486000"/>
          </a:xfrm>
          <a:prstGeom prst="leftArrow">
            <a:avLst>
              <a:gd name="adj1" fmla="val 50000"/>
              <a:gd name="adj2" fmla="val 518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0767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5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Текстовые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редакторы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ст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редакт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простейше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форматировани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шрифта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Windows </a:t>
              </a: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Блокнот)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цесс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вставка списков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таблиц, проверка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орфографии и т.д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icrosoft Word 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rOffice Writer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астоль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здательски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истемы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подготовка к изданию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журналов и газет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dobe PageMaker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AutoShape 14">
            <a:hlinkClick r:id="rId1" action="ppaction://hlinksldjump"/>
          </p:cNvPr>
          <p:cNvSpPr/>
          <p:nvPr/>
        </p:nvSpPr>
        <p:spPr>
          <a:xfrm>
            <a:off x="1116000" y="170028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5">
            <a:hlinkClick r:id="rId2" action="ppaction://hlinksldjump"/>
          </p:cNvPr>
          <p:cNvSpPr/>
          <p:nvPr/>
        </p:nvSpPr>
        <p:spPr>
          <a:xfrm>
            <a:off x="7308720" y="170028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оздание докумен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ние документа начин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выбор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шабло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создания документов со сложной структурой используют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асте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роцессе создания документа в текстовом редакторе пользовател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водит символы с клавиату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5292720" y="6093000"/>
            <a:ext cx="790560" cy="433080"/>
          </a:xfrm>
          <a:prstGeom prst="rightArrow">
            <a:avLst>
              <a:gd name="adj1" fmla="val 50000"/>
              <a:gd name="adj2" fmla="val 456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5">
            <a:hlinkClick r:id="rId2" action="ppaction://hlinksldjump"/>
          </p:cNvPr>
          <p:cNvSpPr/>
          <p:nvPr/>
        </p:nvSpPr>
        <p:spPr>
          <a:xfrm>
            <a:off x="3780000" y="6093000"/>
            <a:ext cx="863280" cy="477720"/>
          </a:xfrm>
          <a:prstGeom prst="leftArrow">
            <a:avLst>
              <a:gd name="adj1" fmla="val 50000"/>
              <a:gd name="adj2" fmla="val 4517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j0195384"/>
          <p:cNvPicPr/>
          <p:nvPr/>
        </p:nvPicPr>
        <p:blipFill>
          <a:blip r:embed="rId3"/>
          <a:stretch/>
        </p:blipFill>
        <p:spPr>
          <a:xfrm>
            <a:off x="6732720" y="4797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Редактирование докумен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дактирование документа производится путём копирования, перемещения или удаления выделенных символов или фрагментов тек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бы заменить одно многократно встречающееся слово на друго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Правка – Заменить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370836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ставка объектов в докум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1828800"/>
            <a:ext cx="698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ханизм встраив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внедрения объект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LE – Object Linking Embed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зволяет копировать и вставлять объекты из одного приложения в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Вставка – Объект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356400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Проверка орфографии и синтакси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проверки орфографии и синтаксиса используются специальные программные модули, которые включаются в состав текстовых процессоров и редакционно-издательских сист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иболее часто встречающиеся опечатки исправляет функция </a:t>
            </a:r>
            <a:r>
              <a:rPr b="0" i="1" lang="ru-RU" sz="2800" spc="-1" strike="noStrike">
                <a:solidFill>
                  <a:srgbClr val="ff3300"/>
                </a:solidFill>
                <a:latin typeface="Comic Sans MS"/>
              </a:rPr>
              <a:t>Автозам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>
            <a:hlinkClick r:id="rId1" action="ppaction://hlinksldjump"/>
          </p:cNvPr>
          <p:cNvSpPr/>
          <p:nvPr/>
        </p:nvSpPr>
        <p:spPr>
          <a:xfrm>
            <a:off x="2268360" y="6165720"/>
            <a:ext cx="863640" cy="478080"/>
          </a:xfrm>
          <a:prstGeom prst="leftArrow">
            <a:avLst>
              <a:gd name="adj1" fmla="val 50000"/>
              <a:gd name="adj2" fmla="val 451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>
            <a:hlinkClick r:id="rId2" action="ppaction://hlinksldjump"/>
          </p:cNvPr>
          <p:cNvSpPr/>
          <p:nvPr/>
        </p:nvSpPr>
        <p:spPr>
          <a:xfrm>
            <a:off x="6443640" y="616572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Форматы текстовых фай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392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ат файла определяет способ хранения текста в файл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преобразования текстового файла из одного формата в другой использую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программы - конвер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305928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Organization Chart 9"/>
          <p:cNvGrpSpPr/>
          <p:nvPr/>
        </p:nvGrpSpPr>
        <p:grpSpPr>
          <a:xfrm>
            <a:off x="4716360" y="1484280"/>
            <a:ext cx="4059000" cy="4391280"/>
            <a:chOff x="4716360" y="1484280"/>
            <a:chExt cx="4059000" cy="4391280"/>
          </a:xfrm>
        </p:grpSpPr>
        <p:cxnSp>
          <p:nvCxnSpPr>
            <p:cNvPr id="192" name="_s2052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6852960" y="3132720"/>
              <a:ext cx="878760" cy="109332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2053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5760720" y="3133800"/>
              <a:ext cx="878760" cy="109116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2054"/>
            <p:cNvSpPr/>
            <p:nvPr/>
          </p:nvSpPr>
          <p:spPr>
            <a:xfrm>
              <a:off x="5808960" y="148428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орматы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текстовых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айлов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_s2055"/>
            <p:cNvSpPr/>
            <p:nvPr/>
          </p:nvSpPr>
          <p:spPr>
            <a:xfrm>
              <a:off x="471636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54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Универс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могут быть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прочитаны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большинством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ов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690192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60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Оригин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используются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отдельным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текстовым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ами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AutoShape 18">
            <a:hlinkClick r:id="rId2" action="ppaction://hlinksldjump"/>
          </p:cNvPr>
          <p:cNvSpPr/>
          <p:nvPr/>
        </p:nvSpPr>
        <p:spPr>
          <a:xfrm>
            <a:off x="5076720" y="616572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7:27:05Z</dcterms:created>
  <dc:creator>Ученик</dc:creator>
  <dc:description/>
  <dc:language>en-US</dc:language>
  <cp:lastModifiedBy>Admin</cp:lastModifiedBy>
  <dcterms:modified xsi:type="dcterms:W3CDTF">2012-08-27T16:01:28Z</dcterms:modified>
  <cp:revision>10</cp:revision>
  <dc:subject/>
  <dc:title>Технология обработки текстовой и графической информации</dc:title>
</cp:coreProperties>
</file>