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4.gif" ContentType="image/gif"/>
  <Override PartName="/ppt/media/image9.gif" ContentType="image/gif"/>
  <Override PartName="/ppt/media/image4.wmf" ContentType="image/x-wmf"/>
  <Override PartName="/ppt/media/image2.gif" ContentType="image/gif"/>
  <Override PartName="/ppt/media/image6.png" ContentType="image/png"/>
  <Override PartName="/ppt/media/image8.gif" ContentType="image/gif"/>
  <Override PartName="/ppt/media/image13.gif" ContentType="image/gif"/>
  <Override PartName="/ppt/media/image16.wmf" ContentType="image/x-wmf"/>
  <Override PartName="/ppt/media/image5.gif" ContentType="image/gif"/>
  <Override PartName="/ppt/media/image10.gif" ContentType="image/gif"/>
  <Override PartName="/ppt/media/image1.jpeg" ContentType="image/jpeg"/>
  <Override PartName="/ppt/media/image7.png" ContentType="image/png"/>
  <Override PartName="/ppt/media/image1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7768-6D4C-44A3-9849-00A5B383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A3CB-B496-4C21-B013-148E4825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93AA-A45A-4FE7-A17D-883DB6F2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A178-8F1D-4A2D-B6A8-35E5B4D8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7BF9-935B-47BF-B5A3-675BABA2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AFF9-DA6C-4B54-92A0-422D3C96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C3EE-8ECB-4D23-929C-A13F2610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AB05-9962-48D8-90D2-E5E1EBD0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1DE5-520B-4826-B433-FDDEBF53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75E0-11FF-4298-B125-A94E865B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44F3-B6A0-4D92-823B-0F55A4EF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CAEE-9462-4CF0-8964-7D9837E1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0A50-C612-4583-BBF2-E6314FC8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F49B-10C3-4A97-AF0D-8E4F9970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FE61-7411-4C88-B6F0-61A83744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6ED2-9DD6-4E25-A622-F1D11FF2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2C94-9AEA-4B30-9A48-4F36BB9D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AF5A8-2E55-4BE4-8CF2-5A541477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AFE00-1922-47C0-9BA0-B9538DCF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B8F77-EA5E-45B4-BBEE-E575C11A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997D3-C9A9-4F81-B095-08204632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7D3D9-155B-4429-BC3A-DCF5C99F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3532-4427-48E4-AEC9-65DB2EEF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24423-A8BA-40B0-8FBB-C18ACDDC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878B7-5968-4187-B9B7-B74CFB0B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65396-7661-4465-98F8-FF959482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01824-D22C-43A4-A38B-844AF746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A64B6-ED29-4AFC-AF9D-3BF7265E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D6B51-E1CA-4584-BF24-D59E7D75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130D8-4B1F-4C09-BD1F-01675A44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7E8AF-6C69-4D5E-8658-AA8F2853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B3B60-E6FD-4550-BE1E-F8E46666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54839-0F09-4B58-A129-57B4363E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5660-6EBB-46EF-8A85-2E20D572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A41E3-BC22-417C-85E9-89B155A3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36FA6-3515-42C6-99ED-28BD87E0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FDA10-49FA-44A7-ADFA-17005C11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49DD6-E6E2-489B-AD8E-50E90B1D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87EBD-83E8-43F4-9347-247385F6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6846C-6038-4DD6-BB7F-799FC29B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AA587-6D5F-4963-B45F-A77515EE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C3658-1603-4768-9FA8-8FDC3037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52E00-D878-4470-9C22-4EE9082C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7BFC-E517-4891-962E-A0192032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6C76-66A3-4D46-A95F-17C7B26D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2571-DFF1-438A-8AF3-BAD17216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54F-4AB0-4B76-8AA8-044E952C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2E8E-13F0-42F3-A540-85CA14A3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76D9-3250-48E6-88F1-8FC8D0F49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712F-32BF-4FA0-AD72-EB4D6B8BB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9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1EE3-3A4B-473E-9454-2F8F627C403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6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6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8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8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9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9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CA40-9432-4381-B30D-628D8A6C617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2.xml"/><Relationship Id="rId3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slide2.xml"/><Relationship Id="rId3" Type="http://schemas.openxmlformats.org/officeDocument/2006/relationships/slideLayout" Target="../slideLayouts/slideLayout3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1.gif"/><Relationship Id="rId6" Type="http://schemas.openxmlformats.org/officeDocument/2006/relationships/slide" Target="slide2.xml"/><Relationship Id="rId7" Type="http://schemas.openxmlformats.org/officeDocument/2006/relationships/slideLayout" Target="../slideLayouts/slideLayout3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2.xml"/><Relationship Id="rId4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ccff"/>
                </a:solidFill>
                <a:uFillTx/>
                <a:latin typeface="Arial"/>
              </a:rPr>
              <a:t>Тем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03280" y="2060280"/>
            <a:ext cx="6840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Алгорит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Виды алгорит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войства алгорит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62160" y="5300640"/>
            <a:ext cx="38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«СОШ № 46 г.Белгорода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лубятникова Т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сполнител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Центральным объектом в схеме является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Исполнитель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– это тот объект (или субъект) для управления которым составляется алгорит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2252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СК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208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сновной характеристикой исполнителя, с точки зрения управления, является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система команд исполнителя (СКИ)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конечное множество команд, которые понимает исполнитель, т.е. умеет их выполнять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7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Для выполнения всякой работы, решения поставленной задачи исполнитель на входе получает алгоритм и исходные данные, а на выходе  - требуемые  результаты. Алгоритм может включать в себя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600" spc="-1" strike="noStrike">
                <a:solidFill>
                  <a:srgbClr val="ff6699"/>
                </a:solidFill>
                <a:latin typeface="Verdana"/>
              </a:rPr>
              <a:t>только команды,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99"/>
                </a:solidFill>
                <a:latin typeface="Verdana"/>
              </a:rPr>
              <a:t>входящие в СКИ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003640" y="4699080"/>
            <a:ext cx="3600720" cy="215892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Результативность</a:t>
            </a: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или конечность) – выполнение алгоритма должно приводить к результату за конечное число шагов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Дискретность</a:t>
            </a:r>
            <a:r>
              <a:rPr b="0" lang="ru-RU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или детализация) – алгоритм поддаётся расчленению на элементарные (дискретные) шаги, которые могут быть исполнены при помощи системы команд исполнителя;</a:t>
            </a:r>
            <a:r>
              <a:rPr b="0" lang="ru-RU" sz="36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 u="sng">
                <a:solidFill>
                  <a:srgbClr val="cc99ff"/>
                </a:solidFill>
                <a:uFillTx/>
                <a:latin typeface="Times New Roman"/>
                <a:hlinkClick r:id="rId1" action="ppaction://hlinksldjump"/>
              </a:rPr>
              <a:t>начал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Однозначность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– каждый шаг исполнителя может и должен быть истолкован одним и только одним способом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Понятность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– алгоритм должен быть составлен только из команд, входящих в систему команд исполнителя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           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20016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7715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8640" algn="just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imes New Roman"/>
              </a:rPr>
              <a:t>Массовость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–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лгоритм должен решать однотипные задачи с различными исходными данными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8640" algn="just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imes New Roman"/>
              </a:rPr>
              <a:t>Переносимость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или совместимость) – алгоритм не должен зависеть от типа используемой вычислительной техники или выбранного языка программирования;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1" action="ppaction://hlinksldjump"/>
              </a:rPr>
              <a:t>начал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7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Виды алгоритм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уществует три основных  вида алгоритмов, которые и являются базовыми при написании програм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924360" y="3933720"/>
            <a:ext cx="1590480" cy="180972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</a:rPr>
              <a:t>Линейный алгоритм</a:t>
            </a:r>
            <a:r>
              <a:rPr b="0" lang="en-US" sz="4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–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это алгоритм, в котором все действия выполняются в строгом порядке, последовательно, одно за другим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0" y="404280"/>
            <a:ext cx="86486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Первый тип алгоритмов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492360" y="4581360"/>
            <a:ext cx="1944720" cy="17114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5580000" y="486900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Например: включение персонального компью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10920" y="836640"/>
            <a:ext cx="7848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Алгоритм,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отором осуществляется выбор действий в зависимости от какого-то условия, называют</a:t>
            </a:r>
            <a:r>
              <a:rPr b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Monotype Corsiva"/>
                <a:ea typeface="Times New Roman"/>
              </a:rPr>
              <a:t>разветвляющимся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684000" y="88560"/>
            <a:ext cx="84596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 u="sng">
                <a:solidFill>
                  <a:srgbClr val="006666"/>
                </a:solidFill>
                <a:uFillTx/>
                <a:latin typeface="Verdana"/>
              </a:rPr>
              <a:t>Второй тип алгоритма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695088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971800" y="2057400"/>
            <a:ext cx="3352680" cy="1523880"/>
          </a:xfrm>
          <a:prstGeom prst="flowChartDecision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стро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хороше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30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324480" y="2819520"/>
            <a:ext cx="762120" cy="533160"/>
            <a:chOff x="6324480" y="2819520"/>
            <a:chExt cx="762120" cy="533160"/>
          </a:xfrm>
        </p:grpSpPr>
        <p:sp>
          <p:nvSpPr>
            <p:cNvPr id="333" name=""/>
            <p:cNvSpPr/>
            <p:nvPr/>
          </p:nvSpPr>
          <p:spPr>
            <a:xfrm>
              <a:off x="6324480" y="2819520"/>
              <a:ext cx="7621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8660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5410080" y="3352680"/>
            <a:ext cx="3276720" cy="838440"/>
          </a:xfrm>
          <a:prstGeom prst="rect">
            <a:avLst/>
          </a:prstGeom>
          <a:solidFill>
            <a:srgbClr val="f2dffd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звонить дру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3080" y="3352680"/>
            <a:ext cx="3276360" cy="838440"/>
          </a:xfrm>
          <a:prstGeom prst="rect">
            <a:avLst/>
          </a:prstGeom>
          <a:solidFill>
            <a:srgbClr val="ffcccc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гул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38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571640" y="4191120"/>
            <a:ext cx="2514960" cy="457200"/>
            <a:chOff x="4571640" y="4191120"/>
            <a:chExt cx="2514960" cy="457200"/>
          </a:xfrm>
        </p:grpSpPr>
        <p:sp>
          <p:nvSpPr>
            <p:cNvPr id="342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571640" y="4648320"/>
              <a:ext cx="25146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685800"/>
            <a:ext cx="2971800" cy="91440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5029200"/>
            <a:ext cx="2971800" cy="91440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1600200"/>
            <a:ext cx="0" cy="53352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51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54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60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63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324480" y="2819520"/>
            <a:ext cx="762120" cy="533160"/>
            <a:chOff x="6324480" y="2819520"/>
            <a:chExt cx="762120" cy="533160"/>
          </a:xfrm>
        </p:grpSpPr>
        <p:sp>
          <p:nvSpPr>
            <p:cNvPr id="368" name=""/>
            <p:cNvSpPr/>
            <p:nvPr/>
          </p:nvSpPr>
          <p:spPr>
            <a:xfrm>
              <a:off x="6324480" y="2819520"/>
              <a:ext cx="762120" cy="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86600" y="2819520"/>
              <a:ext cx="0" cy="53316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571640" y="4191120"/>
            <a:ext cx="2514960" cy="457200"/>
            <a:chOff x="4571640" y="4191120"/>
            <a:chExt cx="2514960" cy="457200"/>
          </a:xfrm>
        </p:grpSpPr>
        <p:sp>
          <p:nvSpPr>
            <p:cNvPr id="371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571640" y="4648320"/>
              <a:ext cx="2514600" cy="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95280" y="-111240"/>
            <a:ext cx="482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мер разветвляющегося алгоритма</a:t>
            </a:r>
            <a:endParaRPr b="1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одерж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нные, величина, команд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стоянная и переменная величи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Характеристика величин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нятие «алгоритм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1" action="ppaction://hlinksldjump"/>
              </a:rPr>
              <a:t>Исполнитель алго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2" action="ppaction://hlinksldjump"/>
              </a:rPr>
              <a:t>СКИ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3" action="ppaction://hlinksldjump"/>
              </a:rPr>
              <a:t>Свойства алго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4" action="ppaction://hlinksldjump"/>
              </a:rPr>
              <a:t>Линейный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5" action="ppaction://hlinksldjump"/>
              </a:rPr>
              <a:t>Разветвляющийся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6" action="ppaction://hlinksldjump"/>
              </a:rPr>
              <a:t>Циклический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7" action="ppaction://hlinksldjump"/>
              </a:rPr>
              <a:t>Понятие «цикл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993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Третий тип алгоритмов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394920" y="1268280"/>
            <a:ext cx="8497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Verdana"/>
                <a:ea typeface="Times New Roman"/>
              </a:rPr>
              <a:t>Циклический алгоритм</a:t>
            </a:r>
            <a:r>
              <a:rPr b="1" lang="en-US" sz="3600" spc="-1" strike="noStrike">
                <a:solidFill>
                  <a:srgbClr val="cc0099"/>
                </a:solidFill>
                <a:latin typeface="Verdana"/>
                <a:ea typeface="Times New Roman"/>
              </a:rPr>
              <a:t> –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алгоритм, содержащий повторяющие действия с какой–либо изменяющейся величиной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 (</a:t>
            </a:r>
            <a:r>
              <a:rPr b="0" lang="en-US" sz="3600" spc="-1" strike="noStrike">
                <a:solidFill>
                  <a:srgbClr val="ff66ff"/>
                </a:solidFill>
                <a:latin typeface="Verdana"/>
                <a:ea typeface="Times New Roman"/>
              </a:rPr>
              <a:t>параметром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)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352680" y="48769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003640" y="4941720"/>
            <a:ext cx="505080" cy="4003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7236000" y="3284640"/>
            <a:ext cx="730080" cy="5778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3492360" y="4365720"/>
            <a:ext cx="505080" cy="4363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539640" y="620640"/>
            <a:ext cx="730440" cy="577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902520" y="5877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6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вторяющаяся последовательность действий называется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66ff"/>
                </a:solidFill>
                <a:latin typeface="Verdana"/>
                <a:ea typeface="Times New Roman"/>
              </a:rPr>
              <a:t>циклом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br>
              <a:rPr sz="4400"/>
            </a:b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 </a:t>
            </a:r>
            <a:br>
              <a:rPr sz="4400"/>
            </a:br>
            <a:r>
              <a:rPr b="0" i="1" lang="en-US" sz="44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а эти действия –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66ff"/>
                </a:solidFill>
                <a:latin typeface="Verdana"/>
                <a:ea typeface="Times New Roman"/>
              </a:rPr>
              <a:t>циклическими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755640" y="3141720"/>
            <a:ext cx="1222560" cy="10065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045440" y="5661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3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200400" y="685800"/>
            <a:ext cx="2209680" cy="38088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666880" y="1447920"/>
            <a:ext cx="3353040" cy="1066680"/>
          </a:xfrm>
          <a:prstGeom prst="flowChartDecision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Яго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собра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2895480"/>
            <a:ext cx="3276720" cy="609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Сорви я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3886200"/>
            <a:ext cx="327636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ложи в корз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895480" y="5257800"/>
            <a:ext cx="3276720" cy="6094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Унеси корз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29000" y="6248520"/>
            <a:ext cx="2209680" cy="38088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4771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4771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399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4343400" y="1066680"/>
            <a:ext cx="0" cy="3812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572000" y="1981080"/>
            <a:ext cx="1905120" cy="3276720"/>
            <a:chOff x="4572000" y="1981080"/>
            <a:chExt cx="1905120" cy="3276720"/>
          </a:xfrm>
        </p:grpSpPr>
        <p:sp>
          <p:nvSpPr>
            <p:cNvPr id="405" name=""/>
            <p:cNvSpPr/>
            <p:nvPr/>
          </p:nvSpPr>
          <p:spPr>
            <a:xfrm>
              <a:off x="6095880" y="1981080"/>
              <a:ext cx="3812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7120" y="1981080"/>
              <a:ext cx="0" cy="29718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4572000" y="4952520"/>
              <a:ext cx="1905120" cy="324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2000" y="4952880"/>
              <a:ext cx="0" cy="3049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5867280"/>
            <a:ext cx="0" cy="3812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7010280" y="3276720"/>
          <a:ext cx="182880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276720"/>
                    <a:ext cx="18288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421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4572000" y="1981080"/>
            <a:ext cx="1905120" cy="3276720"/>
            <a:chOff x="4572000" y="1981080"/>
            <a:chExt cx="1905120" cy="3276720"/>
          </a:xfrm>
        </p:grpSpPr>
        <p:sp>
          <p:nvSpPr>
            <p:cNvPr id="426" name=""/>
            <p:cNvSpPr/>
            <p:nvPr/>
          </p:nvSpPr>
          <p:spPr>
            <a:xfrm>
              <a:off x="6095880" y="1981080"/>
              <a:ext cx="3812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77120" y="1981080"/>
              <a:ext cx="0" cy="2971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4572000" y="4952520"/>
              <a:ext cx="1905120" cy="32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72000" y="4952880"/>
              <a:ext cx="0" cy="304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7620120" y="506736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7772400" y="506736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7848720" y="491508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7620120" y="491508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>
            <a:off x="7848720" y="5067360"/>
            <a:ext cx="457200" cy="2635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6629400" y="2590920"/>
            <a:ext cx="228600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438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343400" y="1219320"/>
            <a:ext cx="0" cy="22860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43400" y="1219320"/>
            <a:ext cx="0" cy="22860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95640" y="-111240"/>
            <a:ext cx="48243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мер циклического алгорит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"/>
                            </p:stCondLst>
                            <p:childTnLst>
                              <p:par>
                                <p:cTn id="2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7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8500"/>
                            </p:stCondLst>
                            <p:childTnLst>
                              <p:par>
                                <p:cTn id="2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9000"/>
                            </p:stCondLst>
                            <p:childTnLst>
                              <p:par>
                                <p:cTn id="28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9500"/>
                            </p:stCondLst>
                            <p:childTnLst>
                              <p:par>
                                <p:cTn id="29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500"/>
                            </p:stCondLst>
                            <p:childTnLst>
                              <p:par>
                                <p:cTn id="3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сё, что бы мы ни делали, чаще всего имеет какую-либо цель. И не всегда эта цель достигается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сли точно и правильно сформулировать желаемый результат, а потом продумать чёткий план его содержания, то эта цель будет достигнут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403280" y="5300640"/>
            <a:ext cx="1133640" cy="1279440"/>
          </a:xfrm>
          <a:prstGeom prst="rect">
            <a:avLst/>
          </a:prstGeom>
          <a:ln w="0">
            <a:noFill/>
          </a:ln>
        </p:spPr>
      </p:pic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9052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042920" y="475920"/>
            <a:ext cx="7058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99"/>
                </a:solidFill>
                <a:latin typeface="Verdana"/>
              </a:rPr>
              <a:t>Данные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это информация, обрабатываемая компьютером.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99"/>
                </a:solidFill>
                <a:latin typeface="Verdana"/>
              </a:rPr>
              <a:t>Величина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это отдельная единица данных.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Verdana"/>
              </a:rPr>
              <a:t>Команды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позволяют определить действия в компьютерной программе над величинами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начал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о отношению к программе данные могут быть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340000" y="2491920"/>
            <a:ext cx="489744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исходны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ромежуточны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1888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Постоянна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величи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личина, значение которой не изменяется в процессе исполнения алгоритма, а остается одним и тем же, указанным в тексте алгоритм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Переменна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 величи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 величина, значение которой меняется в процессе исполнения алгоритм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581960" y="2276640"/>
            <a:ext cx="1562040" cy="1628640"/>
          </a:xfrm>
          <a:prstGeom prst="rect">
            <a:avLst/>
          </a:prstGeom>
          <a:ln w="0">
            <a:noFill/>
          </a:ln>
        </p:spPr>
      </p:pic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1924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Verdana"/>
              </a:rPr>
              <a:t>Характеристики величины: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71640" y="1197000"/>
            <a:ext cx="7632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Имя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(идентификатор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— это обозначение величины и место в памяти.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Тип</a:t>
            </a:r>
            <a:r>
              <a:rPr b="0" i="1" lang="en-US" sz="32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множество допустимых значений и множество применимых операций к величине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Значение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— характеристика, может меняться многократно в ходе исполнения алгоритм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1888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785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 Black"/>
              </a:rPr>
              <a:t>           </a:t>
            </a:r>
            <a:r>
              <a:rPr b="1" lang="en-US" sz="4000" spc="-1" strike="noStrike">
                <a:solidFill>
                  <a:srgbClr val="ff6699"/>
                </a:solidFill>
                <a:latin typeface="Arial Black"/>
              </a:rPr>
              <a:t>Алгоритм</a:t>
            </a:r>
            <a:r>
              <a:rPr b="1" lang="en-US" sz="3200" spc="-1" strike="noStrike">
                <a:solidFill>
                  <a:srgbClr val="ff6699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–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это последовательность действий, приводящая к достижению результат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635280" y="4581360"/>
            <a:ext cx="2665440" cy="1773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443640" y="623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915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 определении «алгоритм» содержатся основные понятия, связанные с ним и его главные свойства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3635280" y="2565360"/>
            <a:ext cx="1800360" cy="64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58920" y="35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62640" y="3192480"/>
            <a:ext cx="0" cy="431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64000" y="3645000"/>
            <a:ext cx="1800000" cy="136836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35280" y="4005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Исполн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440" y="4005360"/>
            <a:ext cx="1800360" cy="64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25920" y="4365720"/>
            <a:ext cx="648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27640" y="4149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Результ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42920" y="3213000"/>
            <a:ext cx="1513080" cy="208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16000" y="3357720"/>
            <a:ext cx="1513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Алгорит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1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2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………………</a:t>
            </a: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37040" y="2708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76520" y="4344840"/>
            <a:ext cx="9572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66400" y="547380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6699"/>
                </a:solidFill>
                <a:uFillTx/>
                <a:latin typeface="Arial"/>
              </a:rPr>
              <a:t>Взаимосвязь понят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0652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0:18Z</dcterms:created>
  <dc:creator>Голубятникова</dc:creator>
  <dc:description/>
  <dc:language>en-US</dc:language>
  <cp:lastModifiedBy>Admin</cp:lastModifiedBy>
  <dcterms:modified xsi:type="dcterms:W3CDTF">2012-02-16T15:41:58Z</dcterms:modified>
  <cp:revision>37</cp:revision>
  <dc:subject/>
  <dc:title>Тема:</dc:title>
</cp:coreProperties>
</file>