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4.gif" ContentType="image/gif"/>
  <Override PartName="/ppt/media/image9.gif" ContentType="image/gif"/>
  <Override PartName="/ppt/media/image4.wmf" ContentType="image/x-wmf"/>
  <Override PartName="/ppt/media/image2.gif" ContentType="image/gif"/>
  <Override PartName="/ppt/media/image6.png" ContentType="image/png"/>
  <Override PartName="/ppt/media/image8.gif" ContentType="image/gif"/>
  <Override PartName="/ppt/media/image13.gif" ContentType="image/gif"/>
  <Override PartName="/ppt/media/image16.wmf" ContentType="image/x-wmf"/>
  <Override PartName="/ppt/media/image5.gif" ContentType="image/gif"/>
  <Override PartName="/ppt/media/image10.gif" ContentType="image/gif"/>
  <Override PartName="/ppt/media/image1.jpeg" ContentType="image/jpeg"/>
  <Override PartName="/ppt/media/image7.png" ContentType="image/pn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E53-3373-4888-A990-45E05975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5D5-0D08-4309-A569-29338E20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AC8-346E-4155-8A75-0AE91568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3F2-BEF8-4479-AC7A-B0B863FF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69B1-0930-44E2-85F6-5D7F5C59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DF75-D620-4D86-AC84-30CC068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F9BD-35B1-46A1-8C83-B5995246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733E-A64C-4C02-9DD4-D20C631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6131-B0E1-48C7-858D-C6C98049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8584-C30A-46B3-8C31-1ECF5E7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23B9-7E1A-488C-9F73-8815B60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DA2-990E-4642-BF53-CE51A368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B230-E92A-491D-B3F5-BB7C478F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87EC-0932-4435-8592-5142AB0A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4EE-467A-48AC-814B-494A753F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215-E089-470F-A010-1D70C7EA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05B5-9F96-45E6-8B23-B73F65DE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C4F5-3B52-4B4C-9B95-A3517D99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E8B7-23E4-4B76-88AB-4C85706E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C8667-AD50-403A-A09C-FAAAD526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8DA2-0543-470D-9FF3-7A1BD46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1CB6-D001-44A9-931F-239A2511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2C3-BD73-46A4-9475-F63519D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F42C-AC57-48E6-BC70-F31982A7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B86A-46CB-4BD6-8A27-E6FF819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ECF3-7451-4B75-8EC1-6C01ACC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5254-6501-462C-A9D2-EF4705F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C9B7-7E17-4E4E-BD95-A9FF7B0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3F16-3D29-403F-97D1-99E7EF96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95A5-F182-4DC5-84BF-F0AF5415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0E0B-BBC4-40A9-846F-8896B93C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C6A7-F0C6-4C79-A0E2-589D9421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5830-3F6E-40EC-B7E6-50C42D34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D813-DAB6-4FA6-A9CA-FB99455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85E6-288E-444C-B882-6305B039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CB6B5-61F7-420B-B28C-E8E5C79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7DA1-3C1F-4995-8297-D6FC872A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7D88-8CA3-48C4-87AF-7C86ADD8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8201-91C8-4E45-979C-72E78A6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69FE-EA59-4955-A526-7AE47CD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66956-4011-41B8-8754-02CE8AD3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9DA5-9EEB-47EE-80A1-2D5C6DA5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33AD4-BD06-4B38-B029-DC1E2D14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A02-AAF6-43F4-9B41-660E20B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589-FD28-49BA-8D87-CC9C3DC3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9E2-0F30-4EC4-89BA-F6CC7DD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2AF-4A9B-4B23-A373-56659F7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4A2-4E26-4FF7-8A67-7B31C88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9C00-3F63-49B9-B964-7A81D321E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B7E5-AF37-4947-980C-27A2C2A31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9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9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11E-BDBF-41F0-A46E-9C414A918A7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6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8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8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9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9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7D5-589B-4D78-971C-7429DFA753BC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2.xml"/><Relationship Id="rId3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1.gif"/><Relationship Id="rId6" Type="http://schemas.openxmlformats.org/officeDocument/2006/relationships/slide" Target="slide2.xml"/><Relationship Id="rId7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2.xml"/><Relationship Id="rId4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ff"/>
                </a:solidFill>
                <a:uFillTx/>
                <a:latin typeface="Arial"/>
              </a:rPr>
              <a:t>Те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2060280"/>
            <a:ext cx="6840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Виды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Свойства алгорит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62160" y="5300640"/>
            <a:ext cx="38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СОШ № 46 г.Белгорода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лубятникова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Исполните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Центральным объектом в схеме являетс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Исполнитель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– это тот объект (или субъект) для управления которым составляется алгорит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22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СК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сновной характеристикой исполнителя, с точки зрения управления, являет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система команд исполнителя (СКИ)</a:t>
            </a:r>
            <a:r>
              <a:rPr b="1" lang="en-US" sz="3600" spc="-1" strike="noStrike">
                <a:solidFill>
                  <a:srgbClr val="ff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конечное множество команд, которые понимает исполнитель, т.е. умеет их выполнят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Для выполнения всякой работы, решения поставленной задачи исполнитель на входе получает алгоритм и исходные данные, а на выходе  - требуемые  результаты. Алгоритм может включать в себя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только команды,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99"/>
                </a:solidFill>
                <a:latin typeface="Verdana"/>
              </a:rPr>
              <a:t>входящие в СКИ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003640" y="4699080"/>
            <a:ext cx="3600720" cy="215892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Результативность</a:t>
            </a: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конечность) – выполнение алгоритма должно приводить к результату за конечное число шагов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Times New Roman"/>
              </a:rPr>
              <a:t>Дискретность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или детализация) – алгоритм поддаётся расчленению на элементарные (дискретные) шаги, которые могут быть исполнены при помощи системы команд исполнителя;</a:t>
            </a:r>
            <a:r>
              <a:rPr b="0" lang="ru-RU" sz="36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imes New Roman"/>
              </a:rPr>
              <a:t>                                                       </a:t>
            </a:r>
            <a:r>
              <a:rPr b="0" lang="ru-RU" sz="2000" spc="-1" strike="noStrike" u="sng">
                <a:solidFill>
                  <a:srgbClr val="cc99ff"/>
                </a:solidFill>
                <a:uFillTx/>
                <a:latin typeface="Times New Roman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Однознач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каждый шаг исполнителя может и должен быть истолкован одним и только одним способом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Verdana"/>
              </a:rPr>
              <a:t>Понятность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лгоритм должен быть составлен только из команд, входящих в систему команд исполнителя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2001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Свойства алгоритмов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77151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Массов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лгоритм должен решать однотипные задачи с различными исходными данными;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8640" algn="just">
              <a:lnSpc>
                <a:spcPct val="100000"/>
              </a:lnSpc>
              <a:spcBef>
                <a:spcPts val="901"/>
              </a:spcBef>
              <a:buClr>
                <a:srgbClr val="ff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Переносимость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или совместимость) – алгоритм не должен зависеть от типа используемой вычислительной техники или выбранного языка программирования;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начал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Виды алгоритм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уществует три основных  вида алгоритмов, которые и являются базовыми при написании програм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924360" y="3933720"/>
            <a:ext cx="159048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684000" y="1484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99"/>
                </a:solidFill>
                <a:latin typeface="Verdana"/>
              </a:rPr>
              <a:t>Линейный алгоритм</a:t>
            </a:r>
            <a:r>
              <a:rPr b="0" lang="en-US" sz="4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алгоритм, в котором все действия выполняются в строгом порядке, последовательно, одно за другим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0" y="404280"/>
            <a:ext cx="86486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Первы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92360" y="4581360"/>
            <a:ext cx="1944720" cy="17114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5580000" y="486900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Например: включение персонального компьют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7960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10920" y="836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ом осуществляется выбор действий в зависимости от какого-то условия, называют</a:t>
            </a:r>
            <a:r>
              <a:rPr b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Monotype Corsiva"/>
                <a:ea typeface="Times New Roman"/>
              </a:rPr>
              <a:t>разветвляющимся</a:t>
            </a:r>
            <a:endParaRPr b="1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684000" y="88560"/>
            <a:ext cx="845964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200" spc="-1" strike="noStrike" u="sng">
                <a:solidFill>
                  <a:srgbClr val="006666"/>
                </a:solidFill>
                <a:uFillTx/>
                <a:latin typeface="Verdana"/>
              </a:rPr>
              <a:t>Второй тип алгоритма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695088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971800" y="2057400"/>
            <a:ext cx="3352680" cy="1523880"/>
          </a:xfrm>
          <a:prstGeom prst="flowChartDecision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стро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хорош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3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33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5410080" y="3352680"/>
            <a:ext cx="3276720" cy="838440"/>
          </a:xfrm>
          <a:prstGeom prst="rect">
            <a:avLst/>
          </a:prstGeom>
          <a:solidFill>
            <a:srgbClr val="f2dffd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звонить дру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3080" y="3352680"/>
            <a:ext cx="3276360" cy="838440"/>
          </a:xfrm>
          <a:prstGeom prst="rect">
            <a:avLst/>
          </a:prstGeom>
          <a:solidFill>
            <a:srgbClr val="ffcccc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гул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38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42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6858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124080" y="5029200"/>
            <a:ext cx="2971800" cy="91440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1600200"/>
            <a:ext cx="0" cy="53352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51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54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362320" y="1981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81080" y="2819520"/>
            <a:ext cx="1067040" cy="533160"/>
            <a:chOff x="1981080" y="2819520"/>
            <a:chExt cx="1067040" cy="533160"/>
          </a:xfrm>
        </p:grpSpPr>
        <p:sp>
          <p:nvSpPr>
            <p:cNvPr id="360" name=""/>
            <p:cNvSpPr/>
            <p:nvPr/>
          </p:nvSpPr>
          <p:spPr>
            <a:xfrm flipH="1">
              <a:off x="1981080" y="2819520"/>
              <a:ext cx="10670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81080" y="2819520"/>
              <a:ext cx="0" cy="53316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191120"/>
            <a:ext cx="2590920" cy="457200"/>
            <a:chOff x="1981080" y="4191120"/>
            <a:chExt cx="2590920" cy="457200"/>
          </a:xfrm>
        </p:grpSpPr>
        <p:sp>
          <p:nvSpPr>
            <p:cNvPr id="363" name=""/>
            <p:cNvSpPr/>
            <p:nvPr/>
          </p:nvSpPr>
          <p:spPr>
            <a:xfrm>
              <a:off x="1981080" y="4191120"/>
              <a:ext cx="0" cy="4572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648320"/>
              <a:ext cx="259092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2057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324480" y="2819520"/>
            <a:ext cx="762120" cy="533160"/>
            <a:chOff x="6324480" y="2819520"/>
            <a:chExt cx="762120" cy="533160"/>
          </a:xfrm>
        </p:grpSpPr>
        <p:sp>
          <p:nvSpPr>
            <p:cNvPr id="368" name=""/>
            <p:cNvSpPr/>
            <p:nvPr/>
          </p:nvSpPr>
          <p:spPr>
            <a:xfrm>
              <a:off x="6324480" y="2819520"/>
              <a:ext cx="76212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86600" y="2819520"/>
              <a:ext cx="0" cy="53316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571640" y="4191120"/>
            <a:ext cx="2514960" cy="457200"/>
            <a:chOff x="4571640" y="4191120"/>
            <a:chExt cx="2514960" cy="457200"/>
          </a:xfrm>
        </p:grpSpPr>
        <p:sp>
          <p:nvSpPr>
            <p:cNvPr id="371" name=""/>
            <p:cNvSpPr/>
            <p:nvPr/>
          </p:nvSpPr>
          <p:spPr>
            <a:xfrm>
              <a:off x="7086600" y="4191120"/>
              <a:ext cx="0" cy="45720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571640" y="4648320"/>
              <a:ext cx="2514600" cy="0"/>
            </a:xfrm>
            <a:prstGeom prst="line">
              <a:avLst/>
            </a:prstGeom>
            <a:ln w="5724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9528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разветвляющегося алгоритма</a:t>
            </a:r>
            <a:endParaRPr b="1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одерж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, величина, коман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стоянная и переменная величи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Характеристика величин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нятие «алгоритм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1" action="ppaction://hlinksldjump"/>
              </a:rPr>
              <a:t>Исполнитель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2" action="ppaction://hlinksldjump"/>
              </a:rPr>
              <a:t>СКИ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3" action="ppaction://hlinksldjump"/>
              </a:rPr>
              <a:t>Свойства алгоритм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4" action="ppaction://hlinksldjump"/>
              </a:rPr>
              <a:t>Линейны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5" action="ppaction://hlinksldjump"/>
              </a:rPr>
              <a:t>Разветвляющийся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6" action="ppaction://hlinksldjump"/>
              </a:rPr>
              <a:t>Циклический алгорит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ff"/>
                </a:solidFill>
                <a:uFillTx/>
                <a:latin typeface="Verdana"/>
                <a:hlinkClick r:id="rId7" action="ppaction://hlinksldjump"/>
              </a:rPr>
              <a:t>Понятие «цикл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993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6666"/>
                </a:solidFill>
                <a:uFillTx/>
                <a:latin typeface="Verdana"/>
              </a:rPr>
              <a:t>Третий тип алгоритмов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497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Verdana"/>
                <a:ea typeface="Times New Roman"/>
              </a:rPr>
              <a:t>Циклический алгоритм</a:t>
            </a:r>
            <a:r>
              <a:rPr b="1" lang="en-US" sz="3600" spc="-1" strike="noStrike">
                <a:solidFill>
                  <a:srgbClr val="cc0099"/>
                </a:solidFill>
                <a:latin typeface="Verdana"/>
                <a:ea typeface="Times New Roman"/>
              </a:rPr>
              <a:t> –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о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алгоритм, содержащий повторяющие действия с какой–либо изменяющейся величиной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 (</a:t>
            </a:r>
            <a:r>
              <a:rPr b="0" lang="en-US" sz="3600" spc="-1" strike="noStrike">
                <a:solidFill>
                  <a:srgbClr val="ff66ff"/>
                </a:solidFill>
                <a:latin typeface="Verdana"/>
                <a:ea typeface="Times New Roman"/>
              </a:rPr>
              <a:t>параметром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  <a:ea typeface="Times New Roman"/>
              </a:rPr>
              <a:t>) </a:t>
            </a:r>
            <a:endParaRPr b="1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352680" y="48769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5003640" y="4941720"/>
            <a:ext cx="505080" cy="400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7236000" y="3284640"/>
            <a:ext cx="730080" cy="5778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3492360" y="4365720"/>
            <a:ext cx="505080" cy="4363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539640" y="620640"/>
            <a:ext cx="730440" cy="577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02520" y="5877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6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торяющаяся последовательность действий называется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ом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 </a:t>
            </a:r>
            <a:br>
              <a:rPr sz="4400"/>
            </a:br>
            <a:r>
              <a:rPr b="0" i="1" lang="en-US" sz="4400" spc="-1" strike="noStrike">
                <a:solidFill>
                  <a:srgbClr val="006699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действия –</a:t>
            </a:r>
            <a:r>
              <a:rPr b="0" i="1" lang="en-US" sz="4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66ff"/>
                </a:solidFill>
                <a:latin typeface="Verdana"/>
                <a:ea typeface="Times New Roman"/>
              </a:rPr>
              <a:t>циклическими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755640" y="3141720"/>
            <a:ext cx="1222560" cy="10065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045440" y="56610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200400" y="68580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666880" y="1447920"/>
            <a:ext cx="3353040" cy="1066680"/>
          </a:xfrm>
          <a:prstGeom prst="flowChartDecision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Яг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бра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2895480"/>
            <a:ext cx="3276720" cy="6098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Сорви я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886200"/>
            <a:ext cx="327636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Положи в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95480" y="5257800"/>
            <a:ext cx="3276720" cy="6094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Унеси корзи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29000" y="6248520"/>
            <a:ext cx="2209680" cy="380880"/>
          </a:xfrm>
          <a:prstGeom prst="flowChartTerminator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4771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399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4343400" y="10666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05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5867280"/>
            <a:ext cx="0" cy="38124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f7ff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7010280" y="3276720"/>
          <a:ext cx="182880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276720"/>
                    <a:ext cx="18288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43400" y="251460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505320"/>
            <a:ext cx="0" cy="38088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21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ebf7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572000" y="1981080"/>
            <a:ext cx="1905120" cy="3276720"/>
            <a:chOff x="4572000" y="1981080"/>
            <a:chExt cx="1905120" cy="3276720"/>
          </a:xfrm>
        </p:grpSpPr>
        <p:sp>
          <p:nvSpPr>
            <p:cNvPr id="426" name=""/>
            <p:cNvSpPr/>
            <p:nvPr/>
          </p:nvSpPr>
          <p:spPr>
            <a:xfrm>
              <a:off x="6095880" y="1981080"/>
              <a:ext cx="3812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77120" y="1981080"/>
              <a:ext cx="0" cy="2971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4572000" y="4952520"/>
              <a:ext cx="1905120" cy="3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952880"/>
              <a:ext cx="0" cy="304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9718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762012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"/>
          <a:stretch/>
        </p:blipFill>
        <p:spPr>
          <a:xfrm>
            <a:off x="7772400" y="506736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8487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6"/>
          <a:stretch/>
        </p:blipFill>
        <p:spPr>
          <a:xfrm>
            <a:off x="7620120" y="4915080"/>
            <a:ext cx="457200" cy="263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7"/>
          <a:stretch/>
        </p:blipFill>
        <p:spPr>
          <a:xfrm>
            <a:off x="7848720" y="5067360"/>
            <a:ext cx="457200" cy="26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629400" y="2590920"/>
            <a:ext cx="2286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057400" y="1219320"/>
            <a:ext cx="2286000" cy="3581280"/>
            <a:chOff x="2057400" y="1219320"/>
            <a:chExt cx="2286000" cy="3581280"/>
          </a:xfrm>
        </p:grpSpPr>
        <p:sp>
          <p:nvSpPr>
            <p:cNvPr id="438" name=""/>
            <p:cNvSpPr/>
            <p:nvPr/>
          </p:nvSpPr>
          <p:spPr>
            <a:xfrm>
              <a:off x="4343400" y="4495680"/>
              <a:ext cx="0" cy="29052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057400" y="480060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057400" y="1219320"/>
              <a:ext cx="0" cy="358128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7400" y="1219320"/>
              <a:ext cx="228600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ebf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1219320"/>
            <a:ext cx="0" cy="22860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95640" y="-111240"/>
            <a:ext cx="48243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Пример циклического алгорит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5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сё, что бы мы ни делали, чаще всего имеет какую-либо цель. И не всегда эта цель достигается.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точно и правильно сформулировать желаемый результат, а потом продумать чёткий план его содержания, то эта цель будет достигнута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1133640" cy="1279440"/>
          </a:xfrm>
          <a:prstGeom prst="rect">
            <a:avLst/>
          </a:prstGeom>
          <a:ln w="0">
            <a:noFill/>
          </a:ln>
        </p:spPr>
      </p:pic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90520" y="6237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42920" y="475920"/>
            <a:ext cx="7058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Данные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информация, обрабатываемая компьютером.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99"/>
                </a:solidFill>
                <a:latin typeface="Verdana"/>
              </a:rPr>
              <a:t>Величина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это отдельная единица данных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 algn="just">
              <a:spcBef>
                <a:spcPts val="799"/>
              </a:spcBef>
              <a:buClr>
                <a:srgbClr val="ff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Verdana"/>
              </a:rPr>
              <a:t>Команды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позволяют определить действия в компьютерной программе над величина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 отношению к программе данные могут быть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40000" y="2491920"/>
            <a:ext cx="489744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исход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омежуточны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остоя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личина, значение которой не изменяется в процессе исполнения алгоритма, а остается одним и тем же, указанным в тексте алгоритм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Переменна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величин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величина, значение которой меняется в процессе исполнения алгоритм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581960" y="2276640"/>
            <a:ext cx="1562040" cy="1628640"/>
          </a:xfrm>
          <a:prstGeom prst="rect">
            <a:avLst/>
          </a:prstGeom>
          <a:ln w="0">
            <a:noFill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924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Verdana"/>
              </a:rPr>
              <a:t>Характеристики величины:</a:t>
            </a:r>
            <a:endParaRPr b="1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71640" y="1197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мя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идентификатор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— это обозначение величины и место в памяти.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Тип</a:t>
            </a:r>
            <a:r>
              <a:rPr b="0" i="1" lang="en-US" sz="3200" spc="-1" strike="noStrike">
                <a:solidFill>
                  <a:srgbClr val="cc99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множество допустимых значений и множество применимых операций к величине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Значение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— характеристика, может меняться многократно в ходе исполнения алгоритм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1888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78598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           </a:t>
            </a:r>
            <a:r>
              <a:rPr b="1" lang="en-US" sz="4000" spc="-1" strike="noStrike">
                <a:solidFill>
                  <a:srgbClr val="ff6699"/>
                </a:solidFill>
                <a:latin typeface="Arial Black"/>
              </a:rPr>
              <a:t>Алгоритм</a:t>
            </a:r>
            <a:r>
              <a:rPr b="1" lang="en-US" sz="3200" spc="-1" strike="noStrike">
                <a:solidFill>
                  <a:srgbClr val="ff6699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–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это последовательность действий, приводящая к достижению результата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635280" y="4581360"/>
            <a:ext cx="2665440" cy="1773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443640" y="623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 определении «алгоритм» содержатся основные понятия, связанные с ним и его главные свойства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56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62640" y="3192480"/>
            <a:ext cx="0" cy="43164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3645000"/>
            <a:ext cx="1800000" cy="136836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35280" y="4005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Исполн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4005360"/>
            <a:ext cx="1800360" cy="64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25920" y="4365720"/>
            <a:ext cx="648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4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Результ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3213000"/>
            <a:ext cx="1513080" cy="2087640"/>
          </a:xfrm>
          <a:prstGeom prst="rect">
            <a:avLst/>
          </a:prstGeom>
          <a:solidFill>
            <a:srgbClr val="edfad2"/>
          </a:solidFill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16000" y="3357720"/>
            <a:ext cx="1513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Алгорит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1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2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………………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6699"/>
                </a:solidFill>
                <a:latin typeface="Arial"/>
              </a:rPr>
              <a:t>-ая коман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704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Д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76520" y="4344840"/>
            <a:ext cx="957240" cy="0"/>
          </a:xfrm>
          <a:prstGeom prst="line">
            <a:avLst/>
          </a:prstGeom>
          <a:ln w="9360">
            <a:solidFill>
              <a:srgbClr val="0066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6400" y="547380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6699"/>
                </a:solidFill>
                <a:uFillTx/>
                <a:latin typeface="Arial"/>
              </a:rPr>
              <a:t>Взаимосвязь понят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971640" cy="431640"/>
          </a:xfrm>
          <a:custGeom>
            <a:avLst/>
            <a:gdLst>
              <a:gd name="textAreaLeft" fmla="*/ 27720 w 971640"/>
              <a:gd name="textAreaRight" fmla="*/ 943920 w 97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06520" y="63086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0:18Z</dcterms:created>
  <dc:creator>Голубятникова</dc:creator>
  <dc:description/>
  <dc:language>en-US</dc:language>
  <cp:lastModifiedBy>Admin</cp:lastModifiedBy>
  <dcterms:modified xsi:type="dcterms:W3CDTF">2012-02-16T15:41:58Z</dcterms:modified>
  <cp:revision>37</cp:revision>
  <dc:subject/>
  <dc:title>Тема:</dc:title>
</cp:coreProperties>
</file>