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4.gif" ContentType="image/gif"/>
  <Override PartName="/ppt/media/image9.gif" ContentType="image/gif"/>
  <Override PartName="/ppt/media/image4.wmf" ContentType="image/x-wmf"/>
  <Override PartName="/ppt/media/image2.gif" ContentType="image/gif"/>
  <Override PartName="/ppt/media/image6.png" ContentType="image/png"/>
  <Override PartName="/ppt/media/image8.gif" ContentType="image/gif"/>
  <Override PartName="/ppt/media/image13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.jpeg" ContentType="image/jpeg"/>
  <Override PartName="/ppt/media/image7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400-93D4-4A74-9508-157E46DF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298-DCB2-4A08-AEBB-500B88DE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8C8-44FD-4AC9-BFF9-CD4223F2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EFA-1873-4886-8D7F-8D578F6B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F1C1-1B07-42DB-A11A-269BD9CC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FB10-BAB0-4B88-A5A8-8C52B6FB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F1F1-CE5A-46A2-915C-4179AD40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8FE3-2672-4A9A-A427-0924F5A4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EB88-F128-432A-9E70-2B762826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096B-07F0-4982-8C54-ABC69A8A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C5A7-33FF-45A5-8B5D-2626A226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A07-B7BF-4F65-A134-2B0EFD3B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DEE6-81EE-4639-BD94-48F17437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7AAF-8664-4278-9954-B94CD3E0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8396-4B4B-4CEC-834B-C4860FCB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DB40-79E1-4B6B-8CEE-9D85B8A2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13D2-C35B-473C-BF08-92207BD2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B0541-D09F-4C5B-9A56-EEE91F85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849D4-046B-44D4-B827-DB03C37C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D5D41-DC54-4168-AF10-C8C2E227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16BF9-E27B-4C73-B56A-2B52F68B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479D-14C0-41D7-BCC7-20B6AA58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573-E029-4A54-882A-3AA81CA6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5925-D544-4613-B96F-29F83E78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3DBE-C742-4BC2-B77E-5E227C4E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F0BB-0FAD-4914-865E-CD34C3E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B8AA-42A1-4D8E-B127-BAAB2AAA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8530-9ECA-4D7D-BD34-B9392CE0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4693-2E9A-400C-94F9-96014E92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CE182-5280-465A-B1BA-04BB8F17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758F3-D379-4B9F-AC43-73BAE3B1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D09D4-EF6E-47E3-AB4E-365703EC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6F285-4CD0-4CBD-897F-28E9CBDB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BC9-ED3C-4291-BD2C-EFE30606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F8D41-9EFB-48B2-8876-ABCB2A59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22DF-46C3-424F-A8B8-D6882AC9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39DB6-447A-4CB3-9D3F-1CBB131C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70C00-EB3D-473F-B57D-3B1188D8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7879B-0CE1-4D38-B9B1-E4459F7E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10181-E5E9-43DD-88A5-14FE8299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36CFB-87C8-4107-9974-B399B994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F591-11C2-41A1-93DF-F74650D5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BB71-1736-4518-84BA-9707C1FC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78A-98FC-43C8-9B11-D8C5F278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771-D15E-487F-8547-EA2F5204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48E-E7A9-4B17-94F7-9DBDD0E4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363-2B9D-4510-86C4-F605F945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B86-AB02-4B23-8559-B36756C1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85B9-CD57-4D6F-B92B-C241A1BC3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004C-AB57-42EF-97A9-A5C12874F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9382-19FA-42A7-9826-C27AA97E635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968A-EF7B-4A8E-8C93-55503778B58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ff"/>
                </a:solidFill>
                <a:uFillTx/>
                <a:latin typeface="Arial"/>
              </a:rPr>
              <a:t>Те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84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иды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войства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2160" y="5300640"/>
            <a:ext cx="38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СОШ № 46 г.Белгоро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убятников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нтральным объектом в схеме являетс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Исполнител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– это тот объект (или субъект) для управления которым составляется алгорит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2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характеристикой исполнителя, с точки зрения управления, являет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система команд исполнителя (СКИ)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конечное множество команд, которые понимает исполнитель, т.е. умеет их выполнят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я выполнения всякой работы, решения поставленной задачи исполнитель на входе получает алгоритм и исходные данные, а на выходе  - требуемые  результаты. Алгоритм может включать в себ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только команды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входящие в СКИ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03640" y="4699080"/>
            <a:ext cx="3600720" cy="215892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Результативность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конечность) – выполнение алгоритма должно приводить к результату за конечное число шагов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Дискретность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детализация) – алгоритм поддаётся расчленению на элементарные (дискретные) шаги, которые могут быть исполнены при помощи системы команд исполнителя;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Однознач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каждый шаг исполнителя может и должен быть истолкован одним и только одним способом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Понят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лгоритм должен быть составлен только из команд, входящих в систему команд исполнителя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771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Массов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горитм должен решать однотипные задачи с различными исходными данными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Переносим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или совместимость) – алгоритм не должен зависеть от типа используемой вычислительной техники или выбранного языка программирования;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Виды алгоритм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уществует три основных  вида алгоритмов, которые и являются базовыми при написании програ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159048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Линейный алгоритм</a:t>
            </a: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алгоритм, в котором все действия выполняются в строгом порядке, последовательно, одно за другим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86486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Первы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1944720" cy="171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580000" y="486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Например: включение персонального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ом осуществляется выбор действий в зависимости от какого-то условия, называют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Monotype Corsiva"/>
                <a:ea typeface="Times New Roman"/>
              </a:rPr>
              <a:t>разветвляющимся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4000" y="88560"/>
            <a:ext cx="8459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Второй тип алгоритм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695088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71800" y="2057400"/>
            <a:ext cx="3352680" cy="1523880"/>
          </a:xfrm>
          <a:prstGeom prst="flowChartDecision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стро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хорош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3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33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410080" y="3352680"/>
            <a:ext cx="3276720" cy="838440"/>
          </a:xfrm>
          <a:prstGeom prst="rect">
            <a:avLst/>
          </a:prstGeom>
          <a:solidFill>
            <a:srgbClr val="f2dffd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звонить дру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080" y="3352680"/>
            <a:ext cx="3276360" cy="8384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гул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38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42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858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0292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51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54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6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63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68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71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разветвляющегося алгоритма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, величина, коман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тоянная и переменная величи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арактеристика велич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нятие «алгоритм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Исполнитель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Свойства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нейны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5" action="ppaction://hlinksldjump"/>
              </a:rPr>
              <a:t>Разветвляющийся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6" action="ppaction://hlinksldjump"/>
              </a:rPr>
              <a:t>Циклически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7" action="ppaction://hlinksldjump"/>
              </a:rPr>
              <a:t>Понятие «цикл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Трети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Verdana"/>
                <a:ea typeface="Times New Roman"/>
              </a:rPr>
              <a:t>Циклический алгоритм</a:t>
            </a:r>
            <a:r>
              <a:rPr b="1" lang="en-US" sz="3600" spc="-1" strike="noStrike">
                <a:solidFill>
                  <a:srgbClr val="cc0099"/>
                </a:solidFill>
                <a:latin typeface="Verdana"/>
                <a:ea typeface="Times New Roman"/>
              </a:rPr>
              <a:t> –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 содержащий повторяющие действия с какой–либо изменяющейся величиной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ff66ff"/>
                </a:solidFill>
                <a:latin typeface="Verdana"/>
                <a:ea typeface="Times New Roman"/>
              </a:rPr>
              <a:t>параметром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)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505080" cy="4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730080" cy="577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05080" cy="436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30440" cy="577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02520" y="5877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6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торяющаяся последовательность действий называется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ом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действия –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ическими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2256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544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00400" y="68580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447920"/>
            <a:ext cx="3353040" cy="1066680"/>
          </a:xfrm>
          <a:prstGeom prst="flowChartDecision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Я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б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895480"/>
            <a:ext cx="327672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рви я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886200"/>
            <a:ext cx="327636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ложи в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257800"/>
            <a:ext cx="3276720" cy="609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неси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624852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399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05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3276720"/>
          <a:ext cx="18288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276720"/>
                    <a:ext cx="182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21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26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62012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77240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8487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6201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7848720" y="5067360"/>
            <a:ext cx="457200" cy="26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629400" y="2590920"/>
            <a:ext cx="2286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38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9564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циклического алгорит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сё, что бы мы ни делали, чаще всего имеет какую-либо цель. И не всегда эта цель достигается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точно и правильно сформулировать желаемый результат, а потом продумать чёткий план его содержания, то эта цель будет достигну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11336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9052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70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Данные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информация, обрабатываемая компьютером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Величина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отдельная единица данных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Команды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позволяют определить действия в компьютерной программе над величин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 отношению к программе данные могут бы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40000" y="2491920"/>
            <a:ext cx="489744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исход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межуточ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остоя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личина, значение которой не изменяется в процессе исполнения алгоритма, а остается одним и тем же, указанным в тексте алгоритм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ереме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величина, значение которой меняется в процессе исполнения алгорит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81960" y="2276640"/>
            <a:ext cx="1562040" cy="162864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924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Характеристики величины: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71640" y="1197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идентификатор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— это обозначение величины и место в памяти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0" i="1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множество допустимых значений и множество применимых операций к величине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Значени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 характеристика, может меняться многократно в ходе исполнения алгоритм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785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           </a:t>
            </a: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Алгоритм</a:t>
            </a:r>
            <a:r>
              <a:rPr b="1" lang="en-US" sz="3200" spc="-1" strike="noStrike">
                <a:solidFill>
                  <a:srgbClr val="ff6699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последовательность действий, приводящая к достижению результат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66544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44364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определении «алгоритм» содержатся основные понятия, связанные с ним и его главные свойств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62640" y="319248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3645000"/>
            <a:ext cx="180000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400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25920" y="4365720"/>
            <a:ext cx="64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13000"/>
            <a:ext cx="1513080" cy="208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357720"/>
            <a:ext cx="1513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Алгорит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1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2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………………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520" y="4344840"/>
            <a:ext cx="9572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6400" y="54738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Взаимосвязь поня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6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0:18Z</dcterms:created>
  <dc:creator>Голубятникова</dc:creator>
  <dc:description/>
  <dc:language>en-US</dc:language>
  <cp:lastModifiedBy>Admin</cp:lastModifiedBy>
  <dcterms:modified xsi:type="dcterms:W3CDTF">2012-02-16T15:41:58Z</dcterms:modified>
  <cp:revision>37</cp:revision>
  <dc:subject/>
  <dc:title>Тема:</dc:title>
</cp:coreProperties>
</file>