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4.gif" ContentType="image/gif"/>
  <Override PartName="/ppt/media/image9.gif" ContentType="image/gif"/>
  <Override PartName="/ppt/media/image4.wmf" ContentType="image/x-wmf"/>
  <Override PartName="/ppt/media/image2.gif" ContentType="image/gif"/>
  <Override PartName="/ppt/media/image6.png" ContentType="image/png"/>
  <Override PartName="/ppt/media/image8.gif" ContentType="image/gif"/>
  <Override PartName="/ppt/media/image13.gif" ContentType="image/gif"/>
  <Override PartName="/ppt/media/image16.wmf" ContentType="image/x-wmf"/>
  <Override PartName="/ppt/media/image5.gif" ContentType="image/gif"/>
  <Override PartName="/ppt/media/image10.gif" ContentType="image/gif"/>
  <Override PartName="/ppt/media/image1.jpeg" ContentType="image/jpeg"/>
  <Override PartName="/ppt/media/image7.png" ContentType="image/png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421-86BB-4A28-A061-9EB44F5B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C1A-554C-4F14-B318-6FEB8F8C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A03-F67F-4781-98F4-959C5614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8BA-0E15-48C4-AD86-7A21792D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399C-404A-48EA-BF79-8C39E826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A68E-1053-4BA8-8AD0-43F1C1F6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58BC-A890-4775-B9F1-D4599A0F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B0FF-E7C1-4962-95A3-16997972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9486-4302-407B-B347-7E369F70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07EA-6F00-487C-8D2F-37ADA605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17A2-D2A3-4142-A856-16F33EE2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CFC-24C7-47A5-BC88-26103B9B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BEA3-736D-42A8-A5F2-B8334D39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E17A-6CD2-4B81-B8C5-73F056C1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9744-359D-470D-86CE-31D142FF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18B7-A091-4564-90CF-B81E34B1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1ECE-2AA5-4402-A637-73116BBE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4D15A-B98A-4384-BE44-1C28C4B5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61311-3AC0-4C89-AD41-9C370CC0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CC2FF-B6F7-4B91-8566-37C835DA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6CCB5-433A-4584-BDB5-92996A7E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518E4-D2C8-447D-A73A-EA62B3A1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DD58-C041-44C9-BFDB-EA90DEB2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1AA60-0812-4870-A1E0-9D713E12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6DC42-2B12-4DA3-A20A-8F638DF4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E1E40-657C-4E2B-B24B-D744F2B5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EE61A-604E-4BE6-8F07-0195AFE3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0BED0-611B-424B-9682-CF9B31E3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17E17-E67F-4CAA-877A-1AD69B96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1C3CD-F195-4B82-8BFE-8C44753D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3F391-F0C3-4125-8F8F-3F81B521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27167-973D-487D-9484-FD3ADFDF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D87EE-CD4E-4578-9381-6164EED0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B05-6174-4F8E-8F7A-C7E5EB64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3A2E8-50CA-4893-B7AD-16D8B522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99B40-9BB9-4AD6-98AB-A0D3D77D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22A7A-51B8-4C25-9199-798A0691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7D13D-7C6E-44FE-BA53-74C2A186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0F4AA-3C74-4765-B7E0-8851D95F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C17FA-9E17-4469-9DEB-D5B2D232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F7CCC-47E4-45C9-8581-34CA3396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DB9BC-6CFF-485A-8BD8-47F7B581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56F32-421C-484B-99F8-77BCF53B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7B6B-BEC3-41E6-9FF9-A01FBC3F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C3C-8368-4DDC-AB85-B8506404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7D8-E974-486A-91E1-74F31AE1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0C3-AB96-4D38-B654-3A7841A7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323-D290-414E-B41C-C0ED089F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99CF-3F7F-4413-9C34-6931B364F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D774-7BB5-4947-9BCE-1834FC470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9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6A09-5F52-4BED-809E-ED2C5084205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6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6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8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8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9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9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DB4D-6540-40B4-87F0-A773FB4C0F4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1.gif"/><Relationship Id="rId6" Type="http://schemas.openxmlformats.org/officeDocument/2006/relationships/slide" Target="slide2.xml"/><Relationship Id="rId7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2.xml"/><Relationship Id="rId4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ff"/>
                </a:solidFill>
                <a:uFillTx/>
                <a:latin typeface="Arial"/>
              </a:rPr>
              <a:t>Тем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03280" y="2060280"/>
            <a:ext cx="6840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Алгорит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иды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войства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62160" y="5300640"/>
            <a:ext cx="38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«СОШ № 46 г.Белгорода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лубятникова Т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сполните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Центральным объектом в схеме являетс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Исполнитель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– это тот объект (или субъект) для управления которым составляется алгорит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2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СК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сновной характеристикой исполнителя, с точки зрения управления, является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система команд исполнителя (СКИ)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конечное множество команд, которые понимает исполнитель, т.е. умеет их выполнять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Для выполнения всякой работы, решения поставленной задачи исполнитель на входе получает алгоритм и исходные данные, а на выходе  - требуемые  результаты. Алгоритм может включать в себ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только команды,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входящие в СКИ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003640" y="4699080"/>
            <a:ext cx="3600720" cy="215892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Результативность</a:t>
            </a: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конечность) – выполнение алгоритма должно приводить к результату за конечное число шагов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Дискретность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детализация) – алгоритм поддаётся расчленению на элементарные (дискретные) шаги, которые могут быть исполнены при помощи системы команд исполнителя;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Times New Roman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Однознач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каждый шаг исполнителя может и должен быть истолкован одним и только одним способом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Понят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алгоритм должен быть составлен только из команд, входящих в систему команд исполнителя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          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20016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7715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Массов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лгоритм должен решать однотипные задачи с различными исходными данными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Переносим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или совместимость) – алгоритм не должен зависеть от типа используемой вычислительной техники или выбранного языка программирования;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7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Виды алгоритм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уществует три основных  вида алгоритмов, которые и являются базовыми при написании програм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924360" y="3933720"/>
            <a:ext cx="1590480" cy="180972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</a:rPr>
              <a:t>Линейный алгоритм</a:t>
            </a:r>
            <a:r>
              <a:rPr b="0" lang="en-US" sz="4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–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алгоритм, в котором все действия выполняются в строгом порядке, последовательно, одно за другим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0" y="404280"/>
            <a:ext cx="86486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Первы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492360" y="4581360"/>
            <a:ext cx="1944720" cy="1711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5580000" y="486900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Например: включение персонального 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10920" y="836640"/>
            <a:ext cx="7848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отором осуществляется выбор действий в зависимости от какого-то условия, называют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Monotype Corsiva"/>
                <a:ea typeface="Times New Roman"/>
              </a:rPr>
              <a:t>разветвляющимся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684000" y="88560"/>
            <a:ext cx="84596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 u="sng">
                <a:solidFill>
                  <a:srgbClr val="006666"/>
                </a:solidFill>
                <a:uFillTx/>
                <a:latin typeface="Verdana"/>
              </a:rPr>
              <a:t>Второй тип алгоритма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695088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971800" y="2057400"/>
            <a:ext cx="3352680" cy="1523880"/>
          </a:xfrm>
          <a:prstGeom prst="flowChartDecision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стро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хороше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3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33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5410080" y="3352680"/>
            <a:ext cx="3276720" cy="838440"/>
          </a:xfrm>
          <a:prstGeom prst="rect">
            <a:avLst/>
          </a:prstGeom>
          <a:solidFill>
            <a:srgbClr val="f2dffd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звонить дру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3080" y="3352680"/>
            <a:ext cx="3276360" cy="838440"/>
          </a:xfrm>
          <a:prstGeom prst="rect">
            <a:avLst/>
          </a:prstGeom>
          <a:solidFill>
            <a:srgbClr val="ffcccc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гул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38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42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6858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50292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1600200"/>
            <a:ext cx="0" cy="5335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51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54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6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63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68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71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9528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разветвляющегося алгоритма</a:t>
            </a:r>
            <a:endParaRPr b="1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одерж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ные, величина, коман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стоянная и переменная величи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Характеристика величин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нятие «алгоритм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Исполнитель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2" action="ppaction://hlinksldjump"/>
              </a:rPr>
              <a:t>СК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3" action="ppaction://hlinksldjump"/>
              </a:rPr>
              <a:t>Свойства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4" action="ppaction://hlinksldjump"/>
              </a:rPr>
              <a:t>Линейны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5" action="ppaction://hlinksldjump"/>
              </a:rPr>
              <a:t>Разветвляющийся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6" action="ppaction://hlinksldjump"/>
              </a:rPr>
              <a:t>Циклически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7" action="ppaction://hlinksldjump"/>
              </a:rPr>
              <a:t>Понятие «цикл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993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Трети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94920" y="1268280"/>
            <a:ext cx="8497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Verdana"/>
                <a:ea typeface="Times New Roman"/>
              </a:rPr>
              <a:t>Циклический алгоритм</a:t>
            </a:r>
            <a:r>
              <a:rPr b="1" lang="en-US" sz="3600" spc="-1" strike="noStrike">
                <a:solidFill>
                  <a:srgbClr val="cc0099"/>
                </a:solidFill>
                <a:latin typeface="Verdana"/>
                <a:ea typeface="Times New Roman"/>
              </a:rPr>
              <a:t> –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 содержащий повторяющие действия с какой–либо изменяющейся величиной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 (</a:t>
            </a:r>
            <a:r>
              <a:rPr b="0" lang="en-US" sz="3600" spc="-1" strike="noStrike">
                <a:solidFill>
                  <a:srgbClr val="ff66ff"/>
                </a:solidFill>
                <a:latin typeface="Verdana"/>
                <a:ea typeface="Times New Roman"/>
              </a:rPr>
              <a:t>параметром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)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352680" y="4876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003640" y="4941720"/>
            <a:ext cx="505080" cy="4003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7236000" y="3284640"/>
            <a:ext cx="730080" cy="5778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492360" y="4365720"/>
            <a:ext cx="505080" cy="436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539640" y="620640"/>
            <a:ext cx="730440" cy="577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902520" y="5877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6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торяющаяся последовательность действий называется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ом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 эти действия –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ическими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1222560" cy="10065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045440" y="5661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200400" y="68580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666880" y="1447920"/>
            <a:ext cx="3353040" cy="1066680"/>
          </a:xfrm>
          <a:prstGeom prst="flowChartDecision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Яг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бра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2895480"/>
            <a:ext cx="3276720" cy="609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рви я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886200"/>
            <a:ext cx="327636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ложи в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5257800"/>
            <a:ext cx="3276720" cy="6094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Унеси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29000" y="624852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399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4343400" y="10666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05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58672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7010280" y="3276720"/>
          <a:ext cx="182880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276720"/>
                    <a:ext cx="18288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21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26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762012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777240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8487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76201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7848720" y="5067360"/>
            <a:ext cx="457200" cy="2635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629400" y="2590920"/>
            <a:ext cx="22860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38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9564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циклического алгорит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8500"/>
                            </p:stCondLst>
                            <p:childTnLst>
                              <p:par>
                                <p:cTn id="2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9500"/>
                            </p:stCondLst>
                            <p:childTnLst>
                              <p:par>
                                <p:cTn id="29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500"/>
                            </p:stCondLst>
                            <p:childTnLst>
                              <p:par>
                                <p:cTn id="3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сё, что бы мы ни делали, чаще всего имеет какую-либо цель. И не всегда эта цель достигается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точно и правильно сформулировать желаемый результат, а потом продумать чёткий план его содержания, то эта цель будет достигнут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03280" y="5300640"/>
            <a:ext cx="1133640" cy="1279440"/>
          </a:xfrm>
          <a:prstGeom prst="rect">
            <a:avLst/>
          </a:prstGeom>
          <a:ln w="0">
            <a:noFill/>
          </a:ln>
        </p:spPr>
      </p:pic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9052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042920" y="475920"/>
            <a:ext cx="7058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Данные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информация, обрабатываемая компьютером.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Величина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отдельная единица данных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Verdana"/>
              </a:rPr>
              <a:t>Команды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позволяют определить действия в компьютерной программе над величинам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о отношению к программе данные могут быть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340000" y="2491920"/>
            <a:ext cx="489744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исход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омежуточ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остоя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личина, значение которой не изменяется в процессе исполнения алгоритма, а остается одним и тем же, указанным в тексте алгоритм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ереме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 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 величина, значение которой меняется в процессе исполнения алгоритм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581960" y="2276640"/>
            <a:ext cx="1562040" cy="1628640"/>
          </a:xfrm>
          <a:prstGeom prst="rect">
            <a:avLst/>
          </a:prstGeom>
          <a:ln w="0">
            <a:noFill/>
          </a:ln>
        </p:spPr>
      </p:pic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1924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Verdana"/>
              </a:rPr>
              <a:t>Характеристики величины: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71640" y="1197000"/>
            <a:ext cx="7632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Имя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(идентификатор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— это обозначение величины и место в памяти.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Тип</a:t>
            </a:r>
            <a:r>
              <a:rPr b="0" i="1" lang="en-US" sz="32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множество допустимых значений и множество применимых операций к величине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Значение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 характеристика, может меняться многократно в ходе исполнения алгоритм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785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           </a:t>
            </a: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Алгоритм</a:t>
            </a:r>
            <a:r>
              <a:rPr b="1" lang="en-US" sz="3200" spc="-1" strike="noStrike">
                <a:solidFill>
                  <a:srgbClr val="ff6699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–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последовательность действий, приводящая к достижению результат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635280" y="4581360"/>
            <a:ext cx="2665440" cy="1773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443640" y="623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 определении «алгоритм» содержатся основные понятия, связанные с ним и его главные свойства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3635280" y="256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58920" y="35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62640" y="3192480"/>
            <a:ext cx="0" cy="43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64000" y="3645000"/>
            <a:ext cx="1800000" cy="136836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4005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Исполн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440" y="400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25920" y="4365720"/>
            <a:ext cx="648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27640" y="414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Результ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42920" y="3213000"/>
            <a:ext cx="1513080" cy="208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6000" y="3357720"/>
            <a:ext cx="1513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Алгорит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1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2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………………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3704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76520" y="4344840"/>
            <a:ext cx="9572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66400" y="547380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6699"/>
                </a:solidFill>
                <a:uFillTx/>
                <a:latin typeface="Arial"/>
              </a:rPr>
              <a:t>Взаимосвязь понят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06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0:18Z</dcterms:created>
  <dc:creator>Голубятникова</dc:creator>
  <dc:description/>
  <dc:language>en-US</dc:language>
  <cp:lastModifiedBy>Admin</cp:lastModifiedBy>
  <dcterms:modified xsi:type="dcterms:W3CDTF">2012-02-16T15:41:58Z</dcterms:modified>
  <cp:revision>37</cp:revision>
  <dc:subject/>
  <dc:title>Тема:</dc:title>
</cp:coreProperties>
</file>