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A400-59B5-417F-9779-97C2A625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AEE9-9AF7-4A23-A06C-778CB8EF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8841-D12F-40C5-A691-AECC9895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C1B3-C0D4-4504-8EDA-7ED44DD4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C999-16E6-4785-91A6-23BFE909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7BCB-5B3C-44BE-9320-CA67F51D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2F43-7BE9-4C07-B927-C35AECF6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7837-F1CA-4B4F-8B85-4D1F9684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7CEF-7372-40EC-83E7-97F84625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E611-5F30-49C5-9CD3-F9C9A298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259D-C2AD-4A14-BB8B-EDA326CB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73C8-6A6E-4A68-A654-6975AEF2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C637-79C7-4DB9-A7FC-F3745719A17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78588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Информатика 6 клас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4280" y="20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ahoma"/>
              </a:rPr>
              <a:t>Алгоритмы и исполнители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214720" y="4500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Автор: учитель информати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Самсонова Инна Валентин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МБОУ № 16 г. Нижнего Новго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9900"/>
                </a:solidFill>
                <a:uFillTx/>
                <a:latin typeface="Tahoma"/>
              </a:rPr>
              <a:t>Задач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опишите свои действия, необходимые для 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покупки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 хлеба в магази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716360" y="1916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1. Взять деньги у дедуш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4716360" y="2421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2. Пойти в магаз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716360" y="2924280"/>
            <a:ext cx="42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3. Выбрать нужные хлебобулочные изде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716360" y="38606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4. Оплатить стоимость покуп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4788000" y="465300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5. Принести хлеб дом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11" descr="Дедушка и ребенок"/>
          <p:cNvPicPr/>
          <p:nvPr/>
        </p:nvPicPr>
        <p:blipFill>
          <a:blip r:embed="rId1"/>
          <a:srcRect l="10205" t="0" r="0" b="0"/>
          <a:stretch/>
        </p:blipFill>
        <p:spPr>
          <a:xfrm>
            <a:off x="1187280" y="4581360"/>
            <a:ext cx="142272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Tahoma"/>
              </a:rPr>
              <a:t>Задач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Выполните последовательность действий для нахождения значения следующего выражения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(5,88+5,52) – 2,8:(5</a:t>
            </a:r>
            <a:r>
              <a:rPr b="1" lang="en-US" sz="3200" spc="-1" strike="noStrike">
                <a:solidFill>
                  <a:srgbClr val="a50021"/>
                </a:solidFill>
                <a:latin typeface="Tahoma"/>
                <a:ea typeface="Tahoma"/>
              </a:rPr>
              <a:t>·</a:t>
            </a:r>
            <a:r>
              <a:rPr b="1" lang="ru-RU" sz="3200" spc="-1" strike="noStrike">
                <a:solidFill>
                  <a:srgbClr val="a50021"/>
                </a:solidFill>
                <a:latin typeface="Tahoma"/>
                <a:ea typeface="Tahoma"/>
              </a:rPr>
              <a:t>0,103-0,01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76360" y="1412640"/>
            <a:ext cx="5616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Проверь себ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68360" y="2276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1) 5,88+5,52=11,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68360" y="299736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2) 5</a:t>
            </a:r>
            <a:r>
              <a:rPr b="0" lang="en-US" sz="3200" spc="-1" strike="noStrike">
                <a:solidFill>
                  <a:srgbClr val="a50021"/>
                </a:solidFill>
                <a:latin typeface="Tahoma"/>
                <a:ea typeface="Tahoma"/>
              </a:rPr>
              <a:t>·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  <a:ea typeface="Tahoma"/>
              </a:rPr>
              <a:t>0,103 = 0,5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68360" y="370692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3) 0,515-0,015 = 0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468360" y="4365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4) 2,8 : 0,5 = 1,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8360" y="5084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5) 11,4 – 1,4 =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10" descr="За партой"/>
          <p:cNvPicPr/>
          <p:nvPr/>
        </p:nvPicPr>
        <p:blipFill>
          <a:blip r:embed="rId1"/>
          <a:stretch/>
        </p:blipFill>
        <p:spPr>
          <a:xfrm>
            <a:off x="5219640" y="2133720"/>
            <a:ext cx="324000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Tahoma"/>
              </a:rPr>
              <a:t>Алгоритм – это конечная последовательность шагов в решении задачи, приводящая от исходных данных к требуемому результат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50021"/>
                </a:solidFill>
                <a:latin typeface="Tahoma"/>
              </a:rPr>
              <a:t>Мы узнали: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539640" y="1700280"/>
            <a:ext cx="431964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разрабатывать алгоритмы может только челове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исполняют алгоритмы люди и всевозможные технические устрой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5" descr="В школе"/>
          <p:cNvPicPr/>
          <p:nvPr/>
        </p:nvPicPr>
        <p:blipFill>
          <a:blip r:embed="rId1"/>
          <a:stretch/>
        </p:blipFill>
        <p:spPr>
          <a:xfrm>
            <a:off x="5435640" y="1844640"/>
            <a:ext cx="2952720" cy="3313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1619280" y="5589720"/>
            <a:ext cx="56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Tahoma"/>
              </a:rPr>
              <a:t>МОЛОДЦЫ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6:05:51Z</dcterms:created>
  <dc:creator>Инна</dc:creator>
  <dc:description/>
  <dc:language>en-US</dc:language>
  <cp:lastModifiedBy>16</cp:lastModifiedBy>
  <dcterms:modified xsi:type="dcterms:W3CDTF">2012-02-09T08:35:19Z</dcterms:modified>
  <cp:revision>22</cp:revision>
  <dc:subject/>
  <dc:title>Информатика  6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