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DD3A-95C6-4014-8DDD-298AFA57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2CC5-AEDB-47EA-B104-516974A0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207-4BB0-4205-9914-6D00734C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C84-6B50-43ED-B092-CD93376C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BA0-F0D6-4163-ACEB-5B74ADAC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4DA-F3B7-4200-8B19-B23EBDC3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3B3-1D20-413F-BF55-F0EEAD81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FC6-B476-4803-9079-DEB4B82C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185-9FD9-4F72-981F-D6C2D6D4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EAF-398C-4E50-AC18-D10E0CDC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3EF-0C74-4603-8925-B90DD3FD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D30-FAF4-4415-AD06-08DC9A75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A232-0717-4E1C-AE73-A92F781774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Информатика 6 клас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428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ahoma"/>
              </a:rPr>
              <a:t>Алгоритмы и исполнител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21472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Автор: учитель информат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Самсонова Инна Валенти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БОУ № 16 г. Нижнего Нов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9900"/>
                </a:solidFill>
                <a:uFillTx/>
                <a:latin typeface="Tahoma"/>
              </a:rPr>
              <a:t>Задач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пишите свои действия, необходимые для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покупки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 хлеба в магаз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716360" y="1916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1. Взять деньги у дедуш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716360" y="242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2. Пойти в магаз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716360" y="2924280"/>
            <a:ext cx="42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3. Выбрать нужные хлебобулочные изде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716360" y="3860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4. Оплатить стоимость покуп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788000" y="465300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ahoma"/>
              </a:rPr>
              <a:t>5. Принести хлеб дом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11" descr="Дедушка и ребенок"/>
          <p:cNvPicPr/>
          <p:nvPr/>
        </p:nvPicPr>
        <p:blipFill>
          <a:blip r:embed="rId1"/>
          <a:srcRect l="10205" t="0" r="0" b="0"/>
          <a:stretch/>
        </p:blipFill>
        <p:spPr>
          <a:xfrm>
            <a:off x="1187280" y="4581360"/>
            <a:ext cx="142272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9900"/>
                </a:solidFill>
                <a:uFillTx/>
                <a:latin typeface="Tahoma"/>
              </a:rPr>
              <a:t>Задач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Выполните последовательность действий для нахождения значения следующего выраже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</a:rPr>
              <a:t>(5,88+5,52) – 2,8:(5</a:t>
            </a:r>
            <a:r>
              <a:rPr b="1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1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-0,01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76360" y="1412640"/>
            <a:ext cx="5616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Проверь себ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68360" y="227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1) 5,88+5,52=1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68360" y="299736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2) 5</a:t>
            </a:r>
            <a:r>
              <a:rPr b="0" lang="en-US" sz="3200" spc="-1" strike="noStrike">
                <a:solidFill>
                  <a:srgbClr val="a50021"/>
                </a:solidFill>
                <a:latin typeface="Tahoma"/>
                <a:ea typeface="Tahoma"/>
              </a:rPr>
              <a:t>·</a:t>
            </a:r>
            <a:r>
              <a:rPr b="0" lang="ru-RU" sz="3200" spc="-1" strike="noStrike">
                <a:solidFill>
                  <a:srgbClr val="a50021"/>
                </a:solidFill>
                <a:latin typeface="Tahoma"/>
                <a:ea typeface="Tahoma"/>
              </a:rPr>
              <a:t>0,103 = 0,5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370692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3) 0,515-0,015 = 0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68360" y="4365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4) 2,8 : 0,5 = 1,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8360" y="5084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5) 11,4 – 1,4 =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0" descr="За партой"/>
          <p:cNvPicPr/>
          <p:nvPr/>
        </p:nvPicPr>
        <p:blipFill>
          <a:blip r:embed="rId1"/>
          <a:stretch/>
        </p:blipFill>
        <p:spPr>
          <a:xfrm>
            <a:off x="5219640" y="2133720"/>
            <a:ext cx="324000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Tahoma"/>
              </a:rPr>
              <a:t>Алгоритм 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50021"/>
                </a:solidFill>
                <a:latin typeface="Tahoma"/>
              </a:rPr>
              <a:t>Мы узнали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9640" y="1700280"/>
            <a:ext cx="43196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что такое алгорит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разрабатывать алгоритмы может только челов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исполняют алгоритмы люди и всевозможные технические устрой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5" descr="В школе"/>
          <p:cNvPicPr/>
          <p:nvPr/>
        </p:nvPicPr>
        <p:blipFill>
          <a:blip r:embed="rId1"/>
          <a:stretch/>
        </p:blipFill>
        <p:spPr>
          <a:xfrm>
            <a:off x="5435640" y="1844640"/>
            <a:ext cx="2952720" cy="331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619280" y="558972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Tahoma"/>
              </a:rPr>
              <a:t>МОЛОДЦЫ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6:05:51Z</dcterms:created>
  <dc:creator>Инна</dc:creator>
  <dc:description/>
  <dc:language>en-US</dc:language>
  <cp:lastModifiedBy>16</cp:lastModifiedBy>
  <dcterms:modified xsi:type="dcterms:W3CDTF">2012-02-09T08:35:19Z</dcterms:modified>
  <cp:revision>22</cp:revision>
  <dc:subject/>
  <dc:title>Информатика  6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