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91B7-6003-4FB5-ACB5-8C876C27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490-A9B0-4AAE-865C-2619AA04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F8B-9BE6-4F31-9CC2-942D7100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46D-7EB0-4552-9130-AED31578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212-F5C7-48D6-B935-FA8B1F3B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246-1E01-4120-8F93-66701CDB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392-C2CD-4884-97D7-B18283DC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F0A-B1D3-4FB2-978C-5C5144B6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58A-4085-498A-B5DC-3696EFBC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603-6524-41E6-A495-B7D1D4F6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720-CBAC-4147-B021-798B1EA4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F11-6C16-43A4-85E1-62B2C0F2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9D1B-5165-491D-8F4D-677B10C364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Информатика 6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428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ahoma"/>
              </a:rPr>
              <a:t>Алгоритмы и исполнител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21472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Автор: учитель информат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амсонова Инна Валентин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БОУ № 16 г. Нижнего Нов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Tahoma"/>
              </a:rPr>
              <a:t>Задач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пишите свои действия, необходимые для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покупки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 хлеба в магаз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716360" y="19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1. Взять деньги у деду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716360" y="242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2. Пойти в магаз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716360" y="2924280"/>
            <a:ext cx="42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3. Выбрать нужные хлебобулочные изде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716360" y="3860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4. Оплатить стоимость покуп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788000" y="465300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5. Принести хлеб дом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1" descr="Дедушка и ребенок"/>
          <p:cNvPicPr/>
          <p:nvPr/>
        </p:nvPicPr>
        <p:blipFill>
          <a:blip r:embed="rId1"/>
          <a:srcRect l="10205" t="0" r="0" b="0"/>
          <a:stretch/>
        </p:blipFill>
        <p:spPr>
          <a:xfrm>
            <a:off x="1187280" y="4581360"/>
            <a:ext cx="142272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Tahoma"/>
              </a:rPr>
              <a:t>Задач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Выполните последовательность действий для нахождения значения следующего выраже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(5,88+5,52) – 2,8:(5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-0,0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76360" y="1412640"/>
            <a:ext cx="5616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Проверь себ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68360" y="227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1) 5,88+5,52=1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68360" y="299736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2) 5</a:t>
            </a:r>
            <a:r>
              <a:rPr b="0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 = 0,5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370692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3) 0,515-0,015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68360" y="43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4) 2,8 : 0,5 = 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8360" y="5084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5) 11,4 – 1,4 =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10" descr="За партой"/>
          <p:cNvPicPr/>
          <p:nvPr/>
        </p:nvPicPr>
        <p:blipFill>
          <a:blip r:embed="rId1"/>
          <a:stretch/>
        </p:blipFill>
        <p:spPr>
          <a:xfrm>
            <a:off x="5219640" y="2133720"/>
            <a:ext cx="32400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Tahoma"/>
              </a:rPr>
              <a:t>Алгоритм 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Tahoma"/>
              </a:rPr>
              <a:t>Мы узнали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1700280"/>
            <a:ext cx="43196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разрабатывать алгоритмы может только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исполняют алгоритмы люди и всевозможные технические устрой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5" descr="В школе"/>
          <p:cNvPicPr/>
          <p:nvPr/>
        </p:nvPicPr>
        <p:blipFill>
          <a:blip r:embed="rId1"/>
          <a:stretch/>
        </p:blipFill>
        <p:spPr>
          <a:xfrm>
            <a:off x="5435640" y="1844640"/>
            <a:ext cx="2952720" cy="331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619280" y="558972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ahoma"/>
              </a:rPr>
              <a:t>МОЛОДЦЫ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6:05:51Z</dcterms:created>
  <dc:creator>Инна</dc:creator>
  <dc:description/>
  <dc:language>en-US</dc:language>
  <cp:lastModifiedBy>16</cp:lastModifiedBy>
  <dcterms:modified xsi:type="dcterms:W3CDTF">2012-02-09T08:35:19Z</dcterms:modified>
  <cp:revision>22</cp:revision>
  <dc:subject/>
  <dc:title>Информатика  6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