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6AC3-ACD2-4F4A-A8EB-7280130A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0A3B-AF21-40AC-B343-C50DDA50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7170-BCA0-4ECE-B496-E6D1737BA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5DE8-F024-4A88-A1C4-DC3880C5B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A925-491B-4B0E-B002-52E13010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5711-1A63-4BA4-8AB3-7E66D966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0E30-B89B-4565-ABFB-CA383756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7882-5D01-4953-BA4D-6183D146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51DE-00F2-45EE-ABCF-0202C20D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421F-F4AD-4091-9B70-6988A733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FA56-B114-4949-8B51-2618A004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AF42-4568-477B-864D-0DB13D66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83F9-CA3C-4C68-998E-BF2B73D3684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78588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Информатика 6 клас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4280" y="20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Tahoma"/>
              </a:rPr>
              <a:t>Алгоритмы и исполнители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214720" y="4500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Автор: учитель информати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Самсонова Инна Валентино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МБОУ № 16 г. Нижнего Новгор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9900"/>
                </a:solidFill>
                <a:uFillTx/>
                <a:latin typeface="Tahoma"/>
              </a:rPr>
              <a:t>Задач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опишите свои действия, необходимые для 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покупки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 хлеба в магази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716360" y="1916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1. Взять деньги у дедуш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4716360" y="2421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2. Пойти в магаз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4716360" y="2924280"/>
            <a:ext cx="42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3. Выбрать нужные хлебобулочные издел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4716360" y="386064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4. Оплатить стоимость покуп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4788000" y="4653000"/>
            <a:ext cx="37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5. Принести хлеб дом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11" descr="Дедушка и ребенок"/>
          <p:cNvPicPr/>
          <p:nvPr/>
        </p:nvPicPr>
        <p:blipFill>
          <a:blip r:embed="rId1"/>
          <a:srcRect l="10205" t="0" r="0" b="0"/>
          <a:stretch/>
        </p:blipFill>
        <p:spPr>
          <a:xfrm>
            <a:off x="1187280" y="4581360"/>
            <a:ext cx="1422720" cy="2016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9900"/>
                </a:solidFill>
                <a:uFillTx/>
                <a:latin typeface="Tahoma"/>
              </a:rPr>
              <a:t>Задач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Выполните последовательность действий для нахождения значения следующего выражения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a50021"/>
                </a:solidFill>
                <a:latin typeface="Tahoma"/>
              </a:rPr>
              <a:t>(5,88+5,52) – 2,8:(5</a:t>
            </a:r>
            <a:r>
              <a:rPr b="1" lang="en-US" sz="3200" spc="-1" strike="noStrike">
                <a:solidFill>
                  <a:srgbClr val="a50021"/>
                </a:solidFill>
                <a:latin typeface="Tahoma"/>
                <a:ea typeface="Tahoma"/>
              </a:rPr>
              <a:t>·</a:t>
            </a:r>
            <a:r>
              <a:rPr b="1" lang="ru-RU" sz="3200" spc="-1" strike="noStrike">
                <a:solidFill>
                  <a:srgbClr val="a50021"/>
                </a:solidFill>
                <a:latin typeface="Tahoma"/>
                <a:ea typeface="Tahoma"/>
              </a:rPr>
              <a:t>0,103-0,01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476360" y="1412640"/>
            <a:ext cx="56167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Tahoma"/>
              </a:rPr>
              <a:t>Проверь себ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68360" y="2276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1) 5,88+5,52=11,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68360" y="2997360"/>
            <a:ext cx="43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2) 5</a:t>
            </a:r>
            <a:r>
              <a:rPr b="0" lang="en-US" sz="3200" spc="-1" strike="noStrike">
                <a:solidFill>
                  <a:srgbClr val="a50021"/>
                </a:solidFill>
                <a:latin typeface="Tahoma"/>
                <a:ea typeface="Tahoma"/>
              </a:rPr>
              <a:t>·</a:t>
            </a:r>
            <a:r>
              <a:rPr b="0" lang="ru-RU" sz="3200" spc="-1" strike="noStrike">
                <a:solidFill>
                  <a:srgbClr val="a50021"/>
                </a:solidFill>
                <a:latin typeface="Tahoma"/>
                <a:ea typeface="Tahoma"/>
              </a:rPr>
              <a:t>0,103 = 0,5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68360" y="3706920"/>
            <a:ext cx="43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3) 0,515-0,015 = 0,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468360" y="4365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4) 2,8 : 0,5 = 1,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8360" y="5084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5) 11,4 – 1,4 = 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10" descr="За партой"/>
          <p:cNvPicPr/>
          <p:nvPr/>
        </p:nvPicPr>
        <p:blipFill>
          <a:blip r:embed="rId1"/>
          <a:stretch/>
        </p:blipFill>
        <p:spPr>
          <a:xfrm>
            <a:off x="5219640" y="2133720"/>
            <a:ext cx="324000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Tahoma"/>
              </a:rPr>
              <a:t>Алгоритм – это конечная последовательность шагов в решении задачи, приводящая от исходных данных к требуемому результату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50021"/>
                </a:solidFill>
                <a:latin typeface="Tahoma"/>
              </a:rPr>
              <a:t>Мы узнали: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539640" y="1700280"/>
            <a:ext cx="431964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разрабатывать алгоритмы может только челове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исполняют алгоритмы люди и всевозможные технические устрой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5" descr="В школе"/>
          <p:cNvPicPr/>
          <p:nvPr/>
        </p:nvPicPr>
        <p:blipFill>
          <a:blip r:embed="rId1"/>
          <a:stretch/>
        </p:blipFill>
        <p:spPr>
          <a:xfrm>
            <a:off x="5435640" y="1844640"/>
            <a:ext cx="2952720" cy="33130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1619280" y="5589720"/>
            <a:ext cx="56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Tahoma"/>
              </a:rPr>
              <a:t>МОЛОДЦЫ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6:05:51Z</dcterms:created>
  <dc:creator>Инна</dc:creator>
  <dc:description/>
  <dc:language>en-US</dc:language>
  <cp:lastModifiedBy>16</cp:lastModifiedBy>
  <dcterms:modified xsi:type="dcterms:W3CDTF">2012-02-09T08:35:19Z</dcterms:modified>
  <cp:revision>22</cp:revision>
  <dc:subject/>
  <dc:title>Информатика  6 клас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