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745-89D8-4E49-824C-82272EC1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389-87CC-427F-883F-A6C641FB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1CA-1245-41EF-B855-9D7A9474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4B48-D08E-472F-AFD2-9B87EC31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BF25-C94B-442F-A9E6-4D12F4AF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AC33-B53A-4D47-859C-67F88457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9B89-D13B-401A-8EC6-33B818C9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D88-EA29-4E48-AF6A-E4BC2712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97B1-7D04-4609-857D-7D70E57B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A1F-A4E5-4DD2-B793-0D0FAB1B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5D17-0E5A-4B81-A51E-96FCC01B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A10-4BEB-4740-B503-59047DE5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2C7A-1065-432A-9922-D37172DF83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Информатика 6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428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ahoma"/>
              </a:rPr>
              <a:t>Алгоритмы и исполнител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214720" y="4500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Автор: учитель информат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Самсонова Инна Валентин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БОУ № 16 г. Нижнего Нов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00"/>
                </a:solidFill>
                <a:uFillTx/>
                <a:latin typeface="Tahoma"/>
              </a:rPr>
              <a:t>Задач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пишите свои действия, необходимые для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покупки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 хлеба в магази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716360" y="1916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1. Взять деньги у дедуш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716360" y="242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2. Пойти в магаз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716360" y="2924280"/>
            <a:ext cx="42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3. Выбрать нужные хлебобулочные изде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716360" y="3860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4. Оплатить стоимость покуп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788000" y="465300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5. Принести хлеб дом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11" descr="Дедушка и ребенок"/>
          <p:cNvPicPr/>
          <p:nvPr/>
        </p:nvPicPr>
        <p:blipFill>
          <a:blip r:embed="rId1"/>
          <a:srcRect l="10205" t="0" r="0" b="0"/>
          <a:stretch/>
        </p:blipFill>
        <p:spPr>
          <a:xfrm>
            <a:off x="1187280" y="4581360"/>
            <a:ext cx="142272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Tahoma"/>
              </a:rPr>
              <a:t>Задач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Выполните последовательность действий для нахождения значения следующего выражени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(5,88+5,52) – 2,8:(5</a:t>
            </a:r>
            <a:r>
              <a:rPr b="1" lang="en-US" sz="3200" spc="-1" strike="noStrike">
                <a:solidFill>
                  <a:srgbClr val="a50021"/>
                </a:solidFill>
                <a:latin typeface="Tahoma"/>
                <a:ea typeface="Tahoma"/>
              </a:rPr>
              <a:t>·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  <a:ea typeface="Tahoma"/>
              </a:rPr>
              <a:t>0,103-0,0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76360" y="1412640"/>
            <a:ext cx="5616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Проверь себ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68360" y="2276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1) 5,88+5,52=11,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68360" y="299736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2) 5</a:t>
            </a:r>
            <a:r>
              <a:rPr b="0" lang="en-US" sz="3200" spc="-1" strike="noStrike">
                <a:solidFill>
                  <a:srgbClr val="a50021"/>
                </a:solidFill>
                <a:latin typeface="Tahoma"/>
                <a:ea typeface="Tahoma"/>
              </a:rPr>
              <a:t>·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  <a:ea typeface="Tahoma"/>
              </a:rPr>
              <a:t>0,103 = 0,5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8360" y="370692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3) 0,515-0,015 = 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68360" y="4365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4) 2,8 : 0,5 = 1,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8360" y="5084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5) 11,4 – 1,4 =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10" descr="За партой"/>
          <p:cNvPicPr/>
          <p:nvPr/>
        </p:nvPicPr>
        <p:blipFill>
          <a:blip r:embed="rId1"/>
          <a:stretch/>
        </p:blipFill>
        <p:spPr>
          <a:xfrm>
            <a:off x="5219640" y="2133720"/>
            <a:ext cx="324000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Tahoma"/>
              </a:rPr>
              <a:t>Алгоритм – 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Tahoma"/>
              </a:rPr>
              <a:t>Мы узнали: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9640" y="1700280"/>
            <a:ext cx="431964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разрабатывать алгоритмы может только челов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исполняют алгоритмы люди и всевозможные технические устрой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5" descr="В школе"/>
          <p:cNvPicPr/>
          <p:nvPr/>
        </p:nvPicPr>
        <p:blipFill>
          <a:blip r:embed="rId1"/>
          <a:stretch/>
        </p:blipFill>
        <p:spPr>
          <a:xfrm>
            <a:off x="5435640" y="1844640"/>
            <a:ext cx="2952720" cy="3313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619280" y="558972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Tahoma"/>
              </a:rPr>
              <a:t>МОЛОДЦЫ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6:05:51Z</dcterms:created>
  <dc:creator>Инна</dc:creator>
  <dc:description/>
  <dc:language>en-US</dc:language>
  <cp:lastModifiedBy>16</cp:lastModifiedBy>
  <dcterms:modified xsi:type="dcterms:W3CDTF">2012-02-09T08:35:19Z</dcterms:modified>
  <cp:revision>22</cp:revision>
  <dc:subject/>
  <dc:title>Информатика  6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