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202-22D0-43BB-AFDE-42253B0C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15F7-AF17-4A90-993A-E7ED7041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FD0-1BF7-479B-84DE-3F6D3140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D14-C436-4439-B00B-F72D1FF8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4AC-1D15-4C75-9860-8EF0ACEA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13B-AA04-4842-891E-6134CCB0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6B0-296D-462D-833B-1B022D58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05F-D485-46A2-9524-3A738B6C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1F0A-FBAC-4057-A819-9FAF3851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987E-57A3-4276-8F2E-F58474D0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BBE-A5C7-4CBB-83AE-F42A7C5B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C88-ED5B-4F90-8344-B7C061B4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A5AB-7570-40C0-8FE0-77C21E9054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Информатика 6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428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ahoma"/>
              </a:rPr>
              <a:t>Алгоритмы и исполнител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21472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Автор: учитель информат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Самсонова Инна Валентин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БОУ № 16 г. Нижнего Нов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00"/>
                </a:solidFill>
                <a:uFillTx/>
                <a:latin typeface="Tahoma"/>
              </a:rPr>
              <a:t>Задач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пишите свои действия, необходимые для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покупки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 хлеба в магаз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716360" y="19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1. Взять деньги у деду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716360" y="242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2. Пойти в магаз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716360" y="2924280"/>
            <a:ext cx="42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3. Выбрать нужные хлебобулочные изде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716360" y="3860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4. Оплатить стоимость покуп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788000" y="465300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5. Принести хлеб дом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11" descr="Дедушка и ребенок"/>
          <p:cNvPicPr/>
          <p:nvPr/>
        </p:nvPicPr>
        <p:blipFill>
          <a:blip r:embed="rId1"/>
          <a:srcRect l="10205" t="0" r="0" b="0"/>
          <a:stretch/>
        </p:blipFill>
        <p:spPr>
          <a:xfrm>
            <a:off x="1187280" y="4581360"/>
            <a:ext cx="142272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Tahoma"/>
              </a:rPr>
              <a:t>Задач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Выполните последовательность действий для нахождения значения следующего выражени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(5,88+5,52) – 2,8:(5</a:t>
            </a:r>
            <a:r>
              <a:rPr b="1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-0,0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76360" y="1412640"/>
            <a:ext cx="5616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Проверь себ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68360" y="2276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1) 5,88+5,52=1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68360" y="299736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2) 5</a:t>
            </a:r>
            <a:r>
              <a:rPr b="0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 = 0,5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370692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3) 0,515-0,015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68360" y="4365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4) 2,8 : 0,5 = 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8360" y="5084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5) 11,4 – 1,4 =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10" descr="За партой"/>
          <p:cNvPicPr/>
          <p:nvPr/>
        </p:nvPicPr>
        <p:blipFill>
          <a:blip r:embed="rId1"/>
          <a:stretch/>
        </p:blipFill>
        <p:spPr>
          <a:xfrm>
            <a:off x="5219640" y="2133720"/>
            <a:ext cx="324000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Tahoma"/>
              </a:rPr>
              <a:t>Алгоритм –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Tahoma"/>
              </a:rPr>
              <a:t>Мы узнали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9640" y="1700280"/>
            <a:ext cx="43196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разрабатывать алгоритмы может только челов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исполняют алгоритмы люди и всевозможные технические устрой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5" descr="В школе"/>
          <p:cNvPicPr/>
          <p:nvPr/>
        </p:nvPicPr>
        <p:blipFill>
          <a:blip r:embed="rId1"/>
          <a:stretch/>
        </p:blipFill>
        <p:spPr>
          <a:xfrm>
            <a:off x="5435640" y="1844640"/>
            <a:ext cx="2952720" cy="3313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619280" y="558972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Tahoma"/>
              </a:rPr>
              <a:t>МОЛОДЦЫ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6:05:51Z</dcterms:created>
  <dc:creator>Инна</dc:creator>
  <dc:description/>
  <dc:language>en-US</dc:language>
  <cp:lastModifiedBy>16</cp:lastModifiedBy>
  <dcterms:modified xsi:type="dcterms:W3CDTF">2012-02-09T08:35:19Z</dcterms:modified>
  <cp:revision>22</cp:revision>
  <dc:subject/>
  <dc:title>Информатика  6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