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766D-C97E-49E8-BEC9-9B1136C1F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644C-BC2D-44E5-A599-37B8FB079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8AAE-3360-401E-A14E-A14C62A93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A84F-47B6-486E-92BF-166B1F3DF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A556-F7DA-4775-8978-1750B9BDF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4F4F-8008-495D-A932-486AADA1D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B3FC-DBFF-4946-9DBA-0C1E7E5E9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AC5A-FE5B-40A4-8054-D6D37015E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B117-3D9D-4F1A-A22C-61B63FEAD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79A5-ECD1-4247-8DFF-4F93BAC00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F149-6C38-4615-9016-A81E8B9F4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2598-9DB2-4149-BC3C-E7BE41577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489AC-A30A-4A39-85F0-C35AC3D321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16360" y="1413000"/>
            <a:ext cx="383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3300"/>
                </a:solidFill>
                <a:latin typeface="Times New Roman"/>
              </a:rPr>
              <a:t>Цикл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86120" y="2637000"/>
            <a:ext cx="522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Презентация по программирова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298920" y="5084640"/>
            <a:ext cx="2256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втор: учитель информа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У Плесской СО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Юдин А.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285080" y="5975280"/>
            <a:ext cx="92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Times New Roman"/>
              </a:rPr>
              <a:t>2011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500720" y="476280"/>
            <a:ext cx="4267080" cy="28288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251640" y="549360"/>
            <a:ext cx="128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Пример 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-2880" y="907920"/>
            <a:ext cx="437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ывести на экран 64 вертикаль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ини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37600" y="1891080"/>
            <a:ext cx="68925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Program n3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Uses Crt, GraphABC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var x:Integer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begin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     </a:t>
            </a:r>
            <a:r>
              <a:rPr b="1" lang="ru-RU" sz="3200" spc="-1" strike="noStrike">
                <a:solidFill>
                  <a:srgbClr val="cc3300"/>
                </a:solidFill>
                <a:latin typeface="Times New Roman"/>
              </a:rPr>
              <a:t>x:=1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while(x&lt;640) do begin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  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        </a:t>
            </a: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Line (x,0,x,400);</a:t>
            </a:r>
            <a:br>
              <a:rPr sz="3200"/>
            </a:b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                                      x:=x+10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   </a:t>
            </a: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end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end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иды циклов.                                                                                                                                8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796000" y="3213000"/>
            <a:ext cx="2521080" cy="1224000"/>
          </a:xfrm>
          <a:prstGeom prst="wedgeRoundRectCallout">
            <a:avLst>
              <a:gd name="adj1" fmla="val -167004"/>
              <a:gd name="adj2" fmla="val 5142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повторять пока Х меньше 6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374840" y="2062080"/>
            <a:ext cx="662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cc"/>
                </a:solidFill>
                <a:uFillTx/>
                <a:latin typeface="Times New Roman"/>
              </a:rPr>
              <a:t>Часть 2. Графические задачи на цик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4716360" y="549360"/>
            <a:ext cx="4010040" cy="25048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250920" y="33336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46960" y="620640"/>
            <a:ext cx="421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оставить программу выводящ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 экран следующее изобра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760" y="1342440"/>
            <a:ext cx="4638240" cy="4359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n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Crt, GraphABC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x,i:Integ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x:=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For i:=1 to 64 do 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line(320,400,x,1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                   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x:=x+1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en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268360" y="3573360"/>
            <a:ext cx="6624720" cy="2927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ее короткое реш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gram n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s Crt, GraphABC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ar x:Integ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For x:=1 to 64 d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line(320,400,x*10,1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Графические задачи на циклы.                                                                                                 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250920" y="33336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7880" y="762120"/>
            <a:ext cx="421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оставить программу выводящ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 экран следующее изобра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427640" y="620640"/>
            <a:ext cx="4348080" cy="27291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395280" y="1695600"/>
            <a:ext cx="3745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n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Crt, GraphABC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x,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x:=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y:=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rep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Line (x, 0 , 0 , 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x:=x + 16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y:=y + 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until (x&gt;64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00000" y="4724280"/>
            <a:ext cx="1511280" cy="720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76720" y="3789360"/>
            <a:ext cx="3600360" cy="1224000"/>
          </a:xfrm>
          <a:prstGeom prst="wedgeRoundRectCallout">
            <a:avLst>
              <a:gd name="adj1" fmla="val -73013"/>
              <a:gd name="adj2" fmla="val 49870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В теле цикла могут изменяться две перем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Графические задачи на циклы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1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95280" y="3068640"/>
            <a:ext cx="6048360" cy="331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11280" y="26028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-3960" y="549360"/>
            <a:ext cx="421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оставить программу выводящ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 экран следующее изобра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95640" y="3789360"/>
            <a:ext cx="4176720" cy="1871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9280" y="1125360"/>
            <a:ext cx="6696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Program n3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Uses Crt,GraphABC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var i,j,x,y: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y:=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for i:=1 to 12 do 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x:=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                    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for j:=1 to 20 do 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                                                 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circle (x,y,1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                                                 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x:=x+3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                                                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y:=y+30;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                        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4211640" y="692280"/>
            <a:ext cx="4695840" cy="31446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6732720" y="4797360"/>
            <a:ext cx="2160360" cy="647640"/>
          </a:xfrm>
          <a:prstGeom prst="wedgeRoundRectCallout">
            <a:avLst>
              <a:gd name="adj1" fmla="val -105986"/>
              <a:gd name="adj2" fmla="val 3799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Вывод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i-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ой  стро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659640" y="5734080"/>
            <a:ext cx="1942920" cy="1008000"/>
          </a:xfrm>
          <a:prstGeom prst="wedgeRoundRectCallout">
            <a:avLst>
              <a:gd name="adj1" fmla="val -196078"/>
              <a:gd name="adj2" fmla="val -2181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Изменение координаты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Y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стро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Графические задачи на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2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577520" y="2062080"/>
            <a:ext cx="621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cc"/>
                </a:solidFill>
                <a:uFillTx/>
                <a:latin typeface="Times New Roman"/>
              </a:rPr>
              <a:t>Часть 3. Расчетные задачи на цик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547640" y="332280"/>
            <a:ext cx="727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строить таблицу значений функции y = 3 sin x 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на интервале [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1 ; 1] с шагом Δх = 0,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132000" y="1628640"/>
            <a:ext cx="324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95280" y="33480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68360" y="1052640"/>
            <a:ext cx="6192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Program n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var x,y,dx:rea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" sz="2800" spc="-1" strike="noStrike">
                <a:solidFill>
                  <a:srgbClr val="cc3300"/>
                </a:solidFill>
                <a:latin typeface="Times New Roman"/>
              </a:rPr>
              <a:t>ClrSc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1" lang="es-ES" sz="2800" spc="-1" strike="noStrike">
                <a:solidFill>
                  <a:srgbClr val="cc3300"/>
                </a:solidFill>
                <a:latin typeface="Times New Roman"/>
              </a:rPr>
              <a:t>x:=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cc3300"/>
                </a:solidFill>
                <a:latin typeface="Times New Roman"/>
              </a:rPr>
              <a:t>-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1" lang="es-ES" sz="2800" spc="-1" strike="noStrike">
                <a:solidFill>
                  <a:srgbClr val="cc3300"/>
                </a:solidFill>
                <a:latin typeface="Times New Roman"/>
              </a:rPr>
              <a:t>dx:=0.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" sz="2800" spc="-1" strike="noStrike">
                <a:solidFill>
                  <a:srgbClr val="663300"/>
                </a:solidFill>
                <a:latin typeface="Times New Roman"/>
              </a:rPr>
              <a:t>y:= 3*sin(x) + cos(2*x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663300"/>
                </a:solidFill>
                <a:latin typeface="Times New Roman"/>
              </a:rPr>
              <a:t>      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  </a:t>
            </a:r>
            <a:r>
              <a:rPr b="1" lang="es-ES" sz="2800" spc="-1" strike="noStrike">
                <a:solidFill>
                  <a:srgbClr val="663300"/>
                </a:solidFill>
                <a:latin typeface="Times New Roman"/>
              </a:rPr>
              <a:t>writeln ('x= ',x:7:5,'   y= ',y:7:5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663300"/>
                </a:solidFill>
                <a:latin typeface="Times New Roman"/>
              </a:rPr>
              <a:t>      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  </a:t>
            </a:r>
            <a:r>
              <a:rPr b="1" lang="es-ES" sz="2800" spc="-1" strike="noStrike">
                <a:solidFill>
                  <a:srgbClr val="663300"/>
                </a:solidFill>
                <a:latin typeface="Times New Roman"/>
              </a:rPr>
              <a:t>x:=x+dx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until (x&gt;1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6300720" y="1052640"/>
            <a:ext cx="2386080" cy="42480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асчетные задачи на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3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692360" y="4653000"/>
            <a:ext cx="5113080" cy="1150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476360" y="1341360"/>
            <a:ext cx="6337440" cy="144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332000" y="403920"/>
            <a:ext cx="691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строить таблицу значений функции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 интервале [-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; 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] с шагом Δх =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40464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332000" y="3572280"/>
            <a:ext cx="705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ить таблицу значений функции на интервале [-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с шагом Δх = 0,1 если функция имеет вид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675520" y="3932640"/>
            <a:ext cx="6483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1, при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-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, при  -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0.5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=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=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-2, при  x&gt;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0.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372360" y="4076640"/>
            <a:ext cx="142920" cy="792360"/>
          </a:xfrm>
          <a:custGeom>
            <a:avLst/>
            <a:gdLst>
              <a:gd name="textAreaLeft" fmla="*/ 91440 w 142920"/>
              <a:gd name="textAreaRight" fmla="*/ 143280 w 14292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364500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258920" y="4210200"/>
            <a:ext cx="6119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rep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if (x&lt;-0.5) then y:=x+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if (x&gt;=-0.5) and (x&lt;=0.5) then y:=x*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if (x&gt;0.5) then y:=x-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writeln ('x= ',x:7:5,'   y= ',y:7: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x:=x+d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until (x&gt;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6084720" y="333360"/>
                <a:ext cx="115128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1" name=""/>
          <p:cNvSpPr/>
          <p:nvPr/>
        </p:nvSpPr>
        <p:spPr>
          <a:xfrm>
            <a:off x="1258920" y="907920"/>
            <a:ext cx="676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rep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if (x&lt;&gt;1) then 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                         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y:= (x+1)/(1-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                         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writeln ('x= ',x:7,'   y= ',y:7: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                        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x:=x+d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until (x&gt;1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6948360" y="981000"/>
            <a:ext cx="1990800" cy="25210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асчетные задачи на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4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468360" y="907920"/>
            <a:ext cx="7416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gram n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r x,y,dx:re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:= -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x:=0.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(x&lt;&gt;0) then 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:= 1/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riteln ('x= ',x:7:5,'   y= ',y:7: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:=x+d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til (x&gt;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4067280" y="1125360"/>
            <a:ext cx="4438440" cy="50403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0" y="284040"/>
            <a:ext cx="91616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Небольшое отступл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строить таблицу значений функции y = 1/х на интервале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-1; 1]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 шагом 0,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067280" y="3429000"/>
            <a:ext cx="4249800" cy="576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68360" y="1052640"/>
            <a:ext cx="799308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gram n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r x,y,dx:re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:= -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x:=0.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(x&lt;&gt;0) then 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:= 1/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riteln ('x= ',x,'   y= ',y:7: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:=x+d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til (x&gt;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24360" y="4724280"/>
            <a:ext cx="576360" cy="505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643280" y="5589720"/>
            <a:ext cx="1729080" cy="934920"/>
          </a:xfrm>
          <a:prstGeom prst="wedgeRoundRectCallout">
            <a:avLst>
              <a:gd name="adj1" fmla="val -65884"/>
              <a:gd name="adj2" fmla="val -9465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Изменим формат выв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2843280" y="836640"/>
            <a:ext cx="5546520" cy="47131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2916360" y="2924280"/>
            <a:ext cx="5616360" cy="93492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0" y="1268280"/>
            <a:ext cx="3816360" cy="1079640"/>
          </a:xfrm>
          <a:prstGeom prst="wedgeRoundRectCallout">
            <a:avLst>
              <a:gd name="adj1" fmla="val -38976"/>
              <a:gd name="adj2" fmla="val 13308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Нуля нет! А в место него число в минус шестнадцатой степе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асчетные задачи на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95280" y="692280"/>
            <a:ext cx="6246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gram n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r x,y,dx:re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:= -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x:=0.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(abs(x)&gt;1e-12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hen 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:= 1/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riteln ('x= ',x:7:5,'   y= ',y:7: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:=x+d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til (x&gt;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332000" y="3645000"/>
            <a:ext cx="1944720" cy="4316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771640" y="1268280"/>
            <a:ext cx="5616720" cy="1079640"/>
          </a:xfrm>
          <a:prstGeom prst="wedgeRoundRectCallout">
            <a:avLst>
              <a:gd name="adj1" fmla="val -52768"/>
              <a:gd name="adj2" fmla="val 16676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Пусть все числа, по модулю меньшие 0,000000000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будут для нас нул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404640"/>
            <a:ext cx="62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от одно из возможных решений данной проблем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4859280" y="1125360"/>
            <a:ext cx="3363840" cy="49690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асчетные задачи на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759760" y="2062080"/>
            <a:ext cx="383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cc"/>
                </a:solidFill>
                <a:uFillTx/>
                <a:latin typeface="Times New Roman"/>
              </a:rPr>
              <a:t>Часть 1. Виды цик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539640" y="33336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4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757160" y="309600"/>
            <a:ext cx="7393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оставить программу вычисления среднего арифметическ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числовой последовательности. Где количество элементов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ами элементы вводятся с клавиатур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84360" y="1289160"/>
            <a:ext cx="7488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Program n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var i,n: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a,s,sr:re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ClrSc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write('N=');readln(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s:=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for i:=1 to n do 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write( ‘ Введи [ ‘ , i , ‘ ] = ‘ );Readln(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                 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s:=s+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sr:=s/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writeln(‘Среднее арифметическое = ',sr:10: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5076720" y="2421000"/>
            <a:ext cx="3457800" cy="1668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5148360" y="1413000"/>
                <a:ext cx="143964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5152320" y="1197000"/>
            <a:ext cx="30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Times New Roman"/>
              </a:rPr>
              <a:t>Математическая запись задач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222880" y="2060640"/>
            <a:ext cx="342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Times New Roman"/>
              </a:rPr>
              <a:t>Результат выполнения програм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асчетные задачи на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47628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5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832320" y="479520"/>
            <a:ext cx="817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Дано целое число N (N&gt;0). Используя один цикл найти сумму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+ 1/2 + 1/3 +…+1/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4000" y="1268280"/>
            <a:ext cx="5543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Program n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var s:rea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i,n:Integ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Clrsc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Write(‘Введи  n=');Readln(n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s:=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For i:=1 to N do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s:=s+1/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writeln('s=',s:10:5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3924360" y="1341360"/>
            <a:ext cx="4392720" cy="156996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5508720" y="3068640"/>
            <a:ext cx="3384360" cy="865080"/>
          </a:xfrm>
          <a:prstGeom prst="wedgeRoundRectCallout">
            <a:avLst>
              <a:gd name="adj1" fmla="val -56990"/>
              <a:gd name="adj2" fmla="val -14027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Результат очень легко проверить в руч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асчетные задачи на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4360" y="4221000"/>
            <a:ext cx="6408720" cy="1224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47628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6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249200" y="452520"/>
            <a:ext cx="710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писать программу выводящую на экран все двузнач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числа сумма цифр которых равна 1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877080" y="981000"/>
            <a:ext cx="1319040" cy="251928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1258920" y="4581360"/>
            <a:ext cx="5761080" cy="79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68360" y="2349360"/>
            <a:ext cx="777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program n6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var e,d: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for d:=1 to 9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for e:=0 to 9 do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if d+e=10 then writeln(d*10+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асчетные задачи на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2913480" y="311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Блок-схема к задаче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492360" y="765000"/>
            <a:ext cx="1150920" cy="28764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76720" y="1341360"/>
            <a:ext cx="1655640" cy="719280"/>
          </a:xfrm>
          <a:prstGeom prst="flowChartPreparation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,1,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276720" y="2349360"/>
            <a:ext cx="1726920" cy="719280"/>
          </a:xfrm>
          <a:prstGeom prst="flowChartPreparation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,0,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348000" y="3284640"/>
            <a:ext cx="1584360" cy="1079280"/>
          </a:xfrm>
          <a:prstGeom prst="flowChartDecision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+e=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508640"/>
            <a:ext cx="1368720" cy="720720"/>
          </a:xfrm>
          <a:prstGeom prst="flowChartInputOutpu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ыво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*10+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635280" y="6165720"/>
            <a:ext cx="1150920" cy="28764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067280" y="105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140360" y="2060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140360" y="3068640"/>
            <a:ext cx="0" cy="21600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140360" y="4365720"/>
            <a:ext cx="0" cy="14292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140360" y="5229360"/>
            <a:ext cx="0" cy="21564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2700360" y="5445000"/>
            <a:ext cx="144000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2700360" y="2708280"/>
            <a:ext cx="0" cy="273672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700360" y="2708280"/>
            <a:ext cx="57636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003640" y="2708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19640" y="2708280"/>
            <a:ext cx="0" cy="288144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2484360" y="5589720"/>
            <a:ext cx="2735280" cy="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2484360" y="1700280"/>
            <a:ext cx="0" cy="388944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484360" y="1700280"/>
            <a:ext cx="792360" cy="0"/>
          </a:xfrm>
          <a:prstGeom prst="line">
            <a:avLst/>
          </a:prstGeom>
          <a:ln w="2844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932360" y="1700280"/>
            <a:ext cx="503280" cy="0"/>
          </a:xfrm>
          <a:prstGeom prst="line">
            <a:avLst/>
          </a:prstGeom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435640" y="170028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140360" y="5877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140360" y="5877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516720" y="3284640"/>
            <a:ext cx="2233440" cy="360360"/>
          </a:xfrm>
          <a:prstGeom prst="wedgeRectCallout">
            <a:avLst>
              <a:gd name="adj1" fmla="val -70254"/>
              <a:gd name="adj2" fmla="val 22136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Тело цик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580000" y="3213000"/>
            <a:ext cx="504720" cy="2014560"/>
          </a:xfrm>
          <a:custGeom>
            <a:avLst/>
            <a:gdLst>
              <a:gd name="textAreaLeft" fmla="*/ 0 w 504720"/>
              <a:gd name="textAreaRight" fmla="*/ 182160 w 504720"/>
              <a:gd name="textAreaTop" fmla="*/ 52200 h 2014560"/>
              <a:gd name="textAreaBottom" fmla="*/ 1962360 h 201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796000" y="1628640"/>
            <a:ext cx="2233440" cy="360360"/>
          </a:xfrm>
          <a:prstGeom prst="wedgeRectCallout">
            <a:avLst>
              <a:gd name="adj1" fmla="val -97407"/>
              <a:gd name="adj2" fmla="val 23942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Внутренний цик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796000" y="836640"/>
            <a:ext cx="2233440" cy="360360"/>
          </a:xfrm>
          <a:prstGeom prst="wedgeRectCallout">
            <a:avLst>
              <a:gd name="adj1" fmla="val -91861"/>
              <a:gd name="adj2" fmla="val 16277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Внешний цик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2700000" y="3860640"/>
            <a:ext cx="64764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86160" y="414972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845080" y="3429000"/>
            <a:ext cx="53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асчетные задачи на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539640" y="33336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7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686960" y="237960"/>
            <a:ext cx="6583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Вычисление суммы бесконечного ряда с определен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точностью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ычислите значение суммы ря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 точностью Е=0,0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5796000" y="692280"/>
                <a:ext cx="187308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7" name=""/>
          <p:cNvSpPr/>
          <p:nvPr/>
        </p:nvSpPr>
        <p:spPr>
          <a:xfrm>
            <a:off x="675360" y="1484280"/>
            <a:ext cx="763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Сумма вычисляется до тех пор, пока очередное слагаемое не станет мен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точности 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39640" y="2019240"/>
            <a:ext cx="5761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Program n7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var  s,e:real;   i: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s:=0;  i:=1;  e:=0.0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Rep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s:=s+1/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Writeln('i=',i,' слагаемое',1/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i:=i+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until (e&gt;1/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writeln('S=',s:10: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5724360" y="1989000"/>
            <a:ext cx="2829240" cy="431964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асчетные задачи на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47628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8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042920" y="475560"/>
            <a:ext cx="81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числить площадь фигуры ограниченной линиями: X=1, X=4, Y=0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8352000" y="369720"/>
                <a:ext cx="71892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4" name=""/>
          <p:cNvSpPr/>
          <p:nvPr/>
        </p:nvSpPr>
        <p:spPr>
          <a:xfrm>
            <a:off x="1797480" y="362304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46120" y="902880"/>
            <a:ext cx="4186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n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Cr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x,h,s:Re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rSc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h:=(4-1)/100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x:=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Rep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s:=s+h*1/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x:=x+h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Until x&gt;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writeln('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Площадь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= ',S:10:5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940360" y="836640"/>
            <a:ext cx="2735280" cy="268272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6012000" y="3213000"/>
            <a:ext cx="2463840" cy="280836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835280" y="5877000"/>
            <a:ext cx="3746520" cy="865080"/>
          </a:xfrm>
          <a:prstGeom prst="wedgeRoundRectCallout">
            <a:avLst>
              <a:gd name="adj1" fmla="val 75847"/>
              <a:gd name="adj2" fmla="val -72384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Ширина прямоугольника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h:=(4-1)/100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348000" y="3500280"/>
            <a:ext cx="3168720" cy="720720"/>
          </a:xfrm>
          <a:prstGeom prst="wedgeRoundRectCallout">
            <a:avLst>
              <a:gd name="adj1" fmla="val 47796"/>
              <a:gd name="adj2" fmla="val 140087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Высота прямоугольни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1/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372360" y="5805360"/>
            <a:ext cx="2016000" cy="863640"/>
          </a:xfrm>
          <a:prstGeom prst="wedgeRoundRectCallout">
            <a:avLst>
              <a:gd name="adj1" fmla="val -40157"/>
              <a:gd name="adj2" fmla="val -132537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3300"/>
                </a:solidFill>
                <a:latin typeface="Arial"/>
              </a:rPr>
              <a:t>Площадь одного прямоугольн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h*1/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асчетные задачи на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250920" y="33336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9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663200" y="401760"/>
            <a:ext cx="692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йти количество цифр в числе введенном с клавиа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84360" y="1052640"/>
            <a:ext cx="4572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Program n8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Var n:Re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k: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Write ('N= ');readln(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k:=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Rep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n:=int(n/1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         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k:=k+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Until n&lt;0.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writeln('Кол-во  = ',k: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292720" y="1341360"/>
            <a:ext cx="2951280" cy="126684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асчетные задачи на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859280" y="3573360"/>
            <a:ext cx="3960720" cy="1368360"/>
          </a:xfrm>
          <a:prstGeom prst="wedgeRoundRectCallout">
            <a:avLst>
              <a:gd name="adj1" fmla="val -91601"/>
              <a:gd name="adj2" fmla="val 2493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Если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n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 имеет тип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integer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то эту строку можно записать так:  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n:=n div 1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1880280" y="2062080"/>
            <a:ext cx="561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cc"/>
                </a:solidFill>
                <a:uFillTx/>
                <a:latin typeface="Times New Roman"/>
              </a:rPr>
              <a:t>Часть 4. Всегда ли нужны цик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250920" y="333360"/>
            <a:ext cx="129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1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476360" y="288000"/>
            <a:ext cx="74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 сумму целых четных чисел от 2 до 10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50920" y="1268280"/>
            <a:ext cx="8893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gram n1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ar i,s:Integ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:=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For i:=2 to 10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d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if (i mod 2 = 0) then s:=s+i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writeln('s=',s:10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сегда ли нужны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4716360" y="1341360"/>
            <a:ext cx="38880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179280" y="2133720"/>
            <a:ext cx="5886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gram n1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var s:Real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s:=(2+100)/2*50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riteln('s=',s:10:5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3348000" y="620640"/>
                <a:ext cx="1824120" cy="8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6" name=""/>
          <p:cNvSpPr/>
          <p:nvPr/>
        </p:nvSpPr>
        <p:spPr>
          <a:xfrm>
            <a:off x="7920" y="333360"/>
            <a:ext cx="779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помним формулу суммы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членов арифметической прогре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сегда ли нужны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995640" y="1557360"/>
            <a:ext cx="4824360" cy="2270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йдем количество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членов в этой последовательност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d(n-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0=2+2(n-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0=2+2n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0=2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=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11280" y="5013360"/>
            <a:ext cx="3529080" cy="50328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859280" y="4149720"/>
            <a:ext cx="3313080" cy="792000"/>
          </a:xfrm>
          <a:prstGeom prst="wedgeRoundRectCallout">
            <a:avLst>
              <a:gd name="adj1" fmla="val -70796"/>
              <a:gd name="adj2" fmla="val 8927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Подставим значения в формулу су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5148360" y="5373720"/>
            <a:ext cx="345600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48200" y="301680"/>
            <a:ext cx="69364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I. </a:t>
            </a:r>
            <a:r>
              <a:rPr b="1" lang="ru-RU" sz="2800" spc="-1" strike="noStrike" u="sng">
                <a:solidFill>
                  <a:srgbClr val="cc3300"/>
                </a:solidFill>
                <a:uFillTx/>
                <a:latin typeface="Times New Roman"/>
              </a:rPr>
              <a:t>Цикл с параметр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полняется заранее определенное количество р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125360"/>
            <a:ext cx="405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–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д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–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д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выполн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02480" y="2514600"/>
            <a:ext cx="671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ДЛЯ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:=1 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ДО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ВЫПОЛНЯТЬ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действ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2120" y="3090960"/>
            <a:ext cx="481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FOR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:=1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TO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DO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действи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7160" y="3738600"/>
            <a:ext cx="5085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FOR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:=1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TO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DO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BEG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действие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1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действие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EN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76640" y="5465880"/>
            <a:ext cx="595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FOR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:=N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DOWNTO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DO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действ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иды циклов.                                                                                                                                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551640" y="5805360"/>
            <a:ext cx="2592360" cy="836640"/>
          </a:xfrm>
          <a:prstGeom prst="wedgeRoundRectCallout">
            <a:avLst>
              <a:gd name="adj1" fmla="val -112888"/>
              <a:gd name="adj2" fmla="val -3614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если переменная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убыв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372360" y="4149720"/>
            <a:ext cx="2592360" cy="1079640"/>
          </a:xfrm>
          <a:prstGeom prst="wedgeRoundRectCallout">
            <a:avLst>
              <a:gd name="adj1" fmla="val -85884"/>
              <a:gd name="adj2" fmla="val -352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если в теле цикла несколь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действ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56360" y="2997360"/>
            <a:ext cx="2592360" cy="792000"/>
          </a:xfrm>
          <a:prstGeom prst="wedgeRoundRectCallout">
            <a:avLst>
              <a:gd name="adj1" fmla="val -93601"/>
              <a:gd name="adj2" fmla="val 431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если в теле цикла одно действ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258920" y="1197000"/>
            <a:ext cx="1873080" cy="719280"/>
          </a:xfrm>
          <a:prstGeom prst="flowChartPreparation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,1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03280" y="2205000"/>
            <a:ext cx="1584360" cy="57636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ействие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95640" y="1916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195640" y="278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826920" y="299736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826920" y="155736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26920" y="1557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9564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32000" y="155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19640" y="155736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195640" y="335772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95640" y="3357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476360" y="3645000"/>
            <a:ext cx="1511280" cy="5760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ействие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95640" y="422100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1280" y="1197000"/>
            <a:ext cx="1873080" cy="719280"/>
          </a:xfrm>
          <a:prstGeom prst="flowChartPreparation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,1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2205000"/>
            <a:ext cx="1584360" cy="57636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ействие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227640" y="1916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4858920" y="378936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4859280" y="155736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59280" y="1557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2764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64360" y="1557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451640" y="1557360"/>
            <a:ext cx="0" cy="25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6227640" y="407664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227640" y="40766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435640" y="2924280"/>
            <a:ext cx="1584360" cy="5760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ействие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227640" y="350028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738680" y="4869000"/>
            <a:ext cx="440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FOR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:=1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TO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DO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BEG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действие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действие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440" y="4869000"/>
            <a:ext cx="432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FOR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:=1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TO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DO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действие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действие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29040" y="40464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Блок-схема цикла с парамет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иды циклов.                                                                                                                               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500720" y="476280"/>
            <a:ext cx="4267080" cy="28288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77120" y="2417040"/>
            <a:ext cx="8908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Program n1;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 Uses Crt, GraphABC;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 var x,y,i:Integer;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x:=1;  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      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// устанавливаем координату  Х первой линии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For i:=1 to 64 do begin </a:t>
            </a:r>
            <a:r>
              <a:rPr b="0" i="1" lang="ru-RU" sz="2400" spc="-1" strike="noStrike">
                <a:solidFill>
                  <a:srgbClr val="0033cc"/>
                </a:solidFill>
                <a:latin typeface="Times New Roman"/>
              </a:rPr>
              <a:t>  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    // перебираем от 1 до 64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       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Line (x,0,x,400);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 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// рисуем очередную линию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       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x:=x + 10;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 // увеличиваем координату на 10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     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end;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1640" y="476280"/>
            <a:ext cx="128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Пример 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836640"/>
            <a:ext cx="43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ывести на экран 64 вертикаль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ини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иды циклов.                                                                                                                                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50000" y="301680"/>
            <a:ext cx="51703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II. </a:t>
            </a:r>
            <a:r>
              <a:rPr b="1" lang="ru-RU" sz="2800" spc="-1" strike="noStrike" u="sng">
                <a:solidFill>
                  <a:srgbClr val="cc3300"/>
                </a:solidFill>
                <a:uFillTx/>
                <a:latin typeface="Times New Roman"/>
              </a:rPr>
              <a:t>Цикл с постуслов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полняется всегда хотя бы один р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полняется пока услови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ложн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1628640"/>
            <a:ext cx="46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EAT –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повторя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TIL –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до тех п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2040" y="2852640"/>
            <a:ext cx="631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ПОВТОРЯ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действие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действие2;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ДО ТЕХ ПО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ПОКА УСЛОВИЕ ЛОЖНО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4581360"/>
            <a:ext cx="538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REPEAT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действие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действие2;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UNTIL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(ПОКА УСЛОВИЕ ЛОЖНО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6661440" y="1844640"/>
            <a:ext cx="2301120" cy="4608360"/>
            <a:chOff x="6661440" y="1844640"/>
            <a:chExt cx="2301120" cy="4608360"/>
          </a:xfrm>
        </p:grpSpPr>
        <p:sp>
          <p:nvSpPr>
            <p:cNvPr id="97" name=""/>
            <p:cNvSpPr/>
            <p:nvPr/>
          </p:nvSpPr>
          <p:spPr>
            <a:xfrm>
              <a:off x="6894360" y="5047560"/>
              <a:ext cx="2068200" cy="936720"/>
            </a:xfrm>
            <a:prstGeom prst="flowChartDecision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услов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101720" y="3249720"/>
              <a:ext cx="1550880" cy="54756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Действие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101720" y="4109040"/>
              <a:ext cx="1550880" cy="54720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Действие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929720" y="5984640"/>
              <a:ext cx="0" cy="46836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688800" y="5516280"/>
              <a:ext cx="20520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6688800" y="2781360"/>
              <a:ext cx="0" cy="273456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824600" y="1844640"/>
              <a:ext cx="0" cy="140508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688800" y="2781360"/>
              <a:ext cx="113544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824600" y="3797640"/>
              <a:ext cx="0" cy="31140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929720" y="4656600"/>
              <a:ext cx="0" cy="39060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11600" y="5927760"/>
              <a:ext cx="44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61440" y="4911840"/>
              <a:ext cx="53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н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иды циклов.                                                                                                                                4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500720" y="620640"/>
            <a:ext cx="4267080" cy="28288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1640" y="333360"/>
            <a:ext cx="128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Пример 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2880" y="692280"/>
            <a:ext cx="437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ывести на экран 64 вертикаль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ини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9280" y="1556280"/>
            <a:ext cx="4572000" cy="49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Program n2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Uses Crt, GraphABC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var x:Integer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begin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1" lang="ru-RU" sz="3200" spc="-1" strike="noStrike">
                <a:solidFill>
                  <a:srgbClr val="cc3300"/>
                </a:solidFill>
                <a:latin typeface="Times New Roman"/>
              </a:rPr>
              <a:t>x:=1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     </a:t>
            </a: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 repeat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           </a:t>
            </a: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Line (x,0,x,400);</a:t>
            </a:r>
            <a:br>
              <a:rPr sz="3200"/>
            </a:b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           x:=x+10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     </a:t>
            </a: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until (x&gt;640)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иды циклов.                                                                                                                                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076720" y="4149720"/>
            <a:ext cx="3024360" cy="1366920"/>
          </a:xfrm>
          <a:prstGeom prst="wedgeRoundRectCallout">
            <a:avLst>
              <a:gd name="adj1" fmla="val -117296"/>
              <a:gd name="adj2" fmla="val 68699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повторять до тех пор пока условие лож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22920" y="4724280"/>
            <a:ext cx="5375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WHILE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УСЛОВИЕ ИСТИННО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DO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действие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действие2;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END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0520" y="282600"/>
            <a:ext cx="49021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III. </a:t>
            </a:r>
            <a:r>
              <a:rPr b="1" lang="ru-RU" sz="2800" spc="-1" strike="noStrike" u="sng">
                <a:solidFill>
                  <a:srgbClr val="cc3300"/>
                </a:solidFill>
                <a:uFillTx/>
                <a:latin typeface="Times New Roman"/>
              </a:rPr>
              <a:t>Цикл с предуслов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жет не выполнится не раз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полняется пока услови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истинн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1557360"/>
            <a:ext cx="304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ILE –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п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 –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выполня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3840" y="2637000"/>
            <a:ext cx="6832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ПОК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УСЛОВИЕ ИСТИННО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) ВЫПОЛНЯ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действие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действие2;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КОНЕ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516720" y="2060640"/>
            <a:ext cx="2283840" cy="4537080"/>
            <a:chOff x="6516720" y="2060640"/>
            <a:chExt cx="2283840" cy="4537080"/>
          </a:xfrm>
        </p:grpSpPr>
        <p:sp>
          <p:nvSpPr>
            <p:cNvPr id="121" name=""/>
            <p:cNvSpPr/>
            <p:nvPr/>
          </p:nvSpPr>
          <p:spPr>
            <a:xfrm>
              <a:off x="8261640" y="3213360"/>
              <a:ext cx="53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н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6516720" y="2060640"/>
              <a:ext cx="2220840" cy="4537080"/>
              <a:chOff x="6516720" y="2060640"/>
              <a:chExt cx="2220840" cy="4537080"/>
            </a:xfrm>
          </p:grpSpPr>
          <p:sp>
            <p:nvSpPr>
              <p:cNvPr id="123" name=""/>
              <p:cNvSpPr/>
              <p:nvPr/>
            </p:nvSpPr>
            <p:spPr>
              <a:xfrm>
                <a:off x="6845040" y="3284640"/>
                <a:ext cx="1645920" cy="863640"/>
              </a:xfrm>
              <a:prstGeom prst="flowChartDecision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услови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092000" y="4437000"/>
                <a:ext cx="1233720" cy="505080"/>
              </a:xfrm>
              <a:prstGeom prst="rect">
                <a:avLst/>
              </a:prstGeom>
              <a:solidFill>
                <a:srgbClr val="cc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Действие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7092000" y="5157720"/>
                <a:ext cx="1233720" cy="505080"/>
              </a:xfrm>
              <a:prstGeom prst="rect">
                <a:avLst/>
              </a:prstGeom>
              <a:solidFill>
                <a:srgbClr val="cc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Действие 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68720" y="5661000"/>
                <a:ext cx="0" cy="21600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16720" y="5877000"/>
                <a:ext cx="1152000" cy="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V="1">
                <a:off x="6516720" y="3213000"/>
                <a:ext cx="0" cy="266364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668720" y="2060640"/>
                <a:ext cx="0" cy="129528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516720" y="3213360"/>
                <a:ext cx="1152000" cy="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668720" y="4149720"/>
                <a:ext cx="0" cy="28728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668720" y="4940280"/>
                <a:ext cx="0" cy="21744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093440" y="4005360"/>
                <a:ext cx="441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д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8491320" y="3716280"/>
                <a:ext cx="246240" cy="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37560" y="3716280"/>
                <a:ext cx="0" cy="244980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>
                <a:off x="7668720" y="6166080"/>
                <a:ext cx="1068480" cy="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668720" y="6166080"/>
                <a:ext cx="0" cy="43164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8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иды циклов.                                                                                                                                6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22920" y="476280"/>
            <a:ext cx="5375880" cy="2044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WHILE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УСЛОВИЕ ИСТИННО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DO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действие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действие2;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END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26920" y="2852640"/>
            <a:ext cx="1440000" cy="863640"/>
          </a:xfrm>
          <a:prstGeom prst="flowChartDecision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слов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042920" y="4005360"/>
            <a:ext cx="1079640" cy="5047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Действие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042920" y="4726080"/>
            <a:ext cx="1079640" cy="5047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Действие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547640" y="5229360"/>
            <a:ext cx="0" cy="21564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39640" y="5445000"/>
            <a:ext cx="10080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39640" y="2781000"/>
            <a:ext cx="0" cy="266364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47640" y="2347920"/>
            <a:ext cx="0" cy="50472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9640" y="2781360"/>
            <a:ext cx="10080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547640" y="3718080"/>
            <a:ext cx="0" cy="28728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547640" y="4508640"/>
            <a:ext cx="0" cy="21744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44360" y="357336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124360" y="2781360"/>
            <a:ext cx="53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66920" y="3284640"/>
            <a:ext cx="2160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82920" y="3284640"/>
            <a:ext cx="0" cy="244944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1547640" y="5734080"/>
            <a:ext cx="93528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484360" y="5157720"/>
            <a:ext cx="0" cy="43200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059280" y="1197000"/>
            <a:ext cx="5373360" cy="16786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WHILE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УСЛОВИЕ ИСТИННО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DO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действие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действие2;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547640" y="5732640"/>
            <a:ext cx="0" cy="54900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32360" y="3429000"/>
            <a:ext cx="1440000" cy="863640"/>
          </a:xfrm>
          <a:prstGeom prst="flowChartDecision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слов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148360" y="4581360"/>
            <a:ext cx="1079280" cy="5050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Действие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48360" y="5734080"/>
            <a:ext cx="1079280" cy="5047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Действие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651640" y="5516640"/>
            <a:ext cx="0" cy="21600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642920" y="5300640"/>
            <a:ext cx="100836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4643280" y="3357360"/>
            <a:ext cx="1800" cy="194292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645080" y="3357720"/>
            <a:ext cx="10080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653080" y="4294080"/>
            <a:ext cx="0" cy="28728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653080" y="5084640"/>
            <a:ext cx="0" cy="21744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9800" y="414972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229440" y="3357720"/>
            <a:ext cx="53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372360" y="3860640"/>
            <a:ext cx="21564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5651280" y="5516640"/>
            <a:ext cx="93636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588000" y="3860640"/>
            <a:ext cx="0" cy="165600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651640" y="6237360"/>
            <a:ext cx="0" cy="40464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651640" y="2924280"/>
            <a:ext cx="0" cy="50472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иды циклов.                                                                                                                                7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2T08:28:22Z</dcterms:created>
  <dc:creator>Юдины</dc:creator>
  <dc:description/>
  <dc:language>en-US</dc:language>
  <cp:lastModifiedBy>Юдины</cp:lastModifiedBy>
  <dcterms:modified xsi:type="dcterms:W3CDTF">2012-02-13T18:01:53Z</dcterms:modified>
  <cp:revision>124</cp:revision>
  <dc:subject/>
  <dc:title>Слайд 1</dc:title>
</cp:coreProperties>
</file>