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AAC7-1798-4C22-81B4-52C4292D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C516-2AC1-4422-ACEB-296F4F5C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030C-3ABC-41B2-9542-73B49A8E1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8F82-4637-4247-A720-CFA51C137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C5DE-DAB0-4E06-B495-9D016683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9517-6622-45B5-AB7D-EAFA1EDA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7138-7C01-4A68-92C0-2E1D8916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3CDB-B512-4526-9847-6A1BC5EC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FBFC-D9FE-4E13-BB99-B88809CD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A85A-19A4-4816-97E9-CBBCD3E8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733D-760E-47B3-A23A-8212FE15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C0B4-5E74-457B-9C47-6F77EAAC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8B68-0909-49B9-B42B-F43BEFB80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16360" y="1413000"/>
            <a:ext cx="383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Times New Roman"/>
              </a:rPr>
              <a:t>Цикл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86120" y="2637000"/>
            <a:ext cx="52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Презентация по программиров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98920" y="5084640"/>
            <a:ext cx="225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втор: учитель информа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У Плесской СО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Юдин А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85080" y="5975280"/>
            <a:ext cx="92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2011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00720" y="476280"/>
            <a:ext cx="4267080" cy="2828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51640" y="54936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Пример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-2880" y="907920"/>
            <a:ext cx="43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ести на экран 64 вертик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7600" y="1891080"/>
            <a:ext cx="6892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n3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, GraphABC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x:Integer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x:=1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while(x&lt;640) do begi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Line (x,0,x,400);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                                      x:=x+10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end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6000" y="3213000"/>
            <a:ext cx="2521080" cy="1224000"/>
          </a:xfrm>
          <a:prstGeom prst="wedgeRoundRectCallout">
            <a:avLst>
              <a:gd name="adj1" fmla="val -167004"/>
              <a:gd name="adj2" fmla="val 5142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повторять пока Х меньше 6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374840" y="2062080"/>
            <a:ext cx="662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2. Графические задачи на цик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716360" y="549360"/>
            <a:ext cx="4010040" cy="2504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5092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6960" y="620640"/>
            <a:ext cx="42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водящ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экран следующее изоб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60" y="1342440"/>
            <a:ext cx="4638240" cy="4359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, GraphAB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i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For i:=1 to 64 do 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line(320,400,x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x+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68360" y="3573360"/>
            <a:ext cx="6624720" cy="2927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 короткое 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s Crt, GraphAB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r x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 x:=1 to 64 d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line(320,400,x*10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рафические задачи на циклы.                                                                                                 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5092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7880" y="762120"/>
            <a:ext cx="42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водящ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экран следующее изоб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427640" y="620640"/>
            <a:ext cx="4348080" cy="27291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95280" y="1695600"/>
            <a:ext cx="374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, GraphAB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:=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Line (x, 0 , 0 , 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x:=x + 1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y:=y +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until (x&gt;64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4724280"/>
            <a:ext cx="1511280" cy="72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3789360"/>
            <a:ext cx="3600360" cy="1224000"/>
          </a:xfrm>
          <a:prstGeom prst="wedgeRoundRectCallout">
            <a:avLst>
              <a:gd name="adj1" fmla="val -73013"/>
              <a:gd name="adj2" fmla="val 4987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В теле цикла могут изменяться две перем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рафические задачи на циклы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95280" y="3068640"/>
            <a:ext cx="6048360" cy="331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260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3960" y="549360"/>
            <a:ext cx="42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водящ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экран следующее изоб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95640" y="3789360"/>
            <a:ext cx="4176720" cy="187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9280" y="1125360"/>
            <a:ext cx="6696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,GraphAB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i,j,x,y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y: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i:=1 to 12 d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x: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for j:=1 to 20 d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circle (x,y,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x:=x+3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y:=y+30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211640" y="692280"/>
            <a:ext cx="4695840" cy="31446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732720" y="4797360"/>
            <a:ext cx="2160360" cy="647640"/>
          </a:xfrm>
          <a:prstGeom prst="wedgeRoundRectCallout">
            <a:avLst>
              <a:gd name="adj1" fmla="val -105986"/>
              <a:gd name="adj2" fmla="val 3799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ывод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-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ой  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59640" y="5734080"/>
            <a:ext cx="1942920" cy="1008000"/>
          </a:xfrm>
          <a:prstGeom prst="wedgeRoundRectCallout">
            <a:avLst>
              <a:gd name="adj1" fmla="val -196078"/>
              <a:gd name="adj2" fmla="val -2181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Изменение координаты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Y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рафически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577520" y="2062080"/>
            <a:ext cx="62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3. Расчетные задачи на цик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547640" y="33228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роить таблицу значений функции y = 3 sin x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на интервале 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1 ; 1] с шагом Δх = 0,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1628640"/>
            <a:ext cx="324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33480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1052640"/>
            <a:ext cx="6192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x:=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-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dx:=0.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y:= 3*sin(x) + cos(2*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writeln ('x= ',x:7:5,'   y= ',y:7: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x:=x+dx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until (x&gt;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300720" y="1052640"/>
            <a:ext cx="2386080" cy="424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3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92360" y="4653000"/>
            <a:ext cx="5113080" cy="115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76360" y="1341360"/>
            <a:ext cx="633744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32000" y="403920"/>
            <a:ext cx="69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роить таблицу значений функции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интервале [-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; 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] с шагом Δх =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40464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32000" y="357228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таблицу значений функции на интервале [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с шагом Δх = 0,1 если функция имеет ви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675520" y="3932640"/>
            <a:ext cx="648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, при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, при  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=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-2, при  x&gt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72360" y="4076640"/>
            <a:ext cx="142920" cy="79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64500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58920" y="4210200"/>
            <a:ext cx="611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lt;-0.5) then y:=x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gt;=-0.5) and (x&lt;=0.5) then y:=x*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gt;0.5) then y:=x-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riteln ('x= ',x:7:5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6084720" y="333360"/>
                <a:ext cx="11512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1258920" y="907920"/>
            <a:ext cx="67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lt;&gt;1)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y:= (x+1)/(1-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riteln ('x= ',x:7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ntil (x&gt;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948360" y="981000"/>
            <a:ext cx="1990800" cy="2521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68360" y="907920"/>
            <a:ext cx="741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x:=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(x&lt;&gt;0)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:= 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iteln ('x= ',x:7:5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067280" y="1125360"/>
            <a:ext cx="4438440" cy="5040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0" y="284040"/>
            <a:ext cx="9161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Небольшое отступ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роить таблицу значений функции y = 1/х на интервал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-1; 1]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шагом 0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67280" y="3429000"/>
            <a:ext cx="424980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1052640"/>
            <a:ext cx="799308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x:=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(x&lt;&gt;0)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:= 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iteln ('x= ',x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24360" y="4724280"/>
            <a:ext cx="57636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5589720"/>
            <a:ext cx="1729080" cy="934920"/>
          </a:xfrm>
          <a:prstGeom prst="wedgeRoundRectCallout">
            <a:avLst>
              <a:gd name="adj1" fmla="val -65884"/>
              <a:gd name="adj2" fmla="val -9465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Изменим формат вы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843280" y="836640"/>
            <a:ext cx="5546520" cy="47131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916360" y="2924280"/>
            <a:ext cx="5616360" cy="93492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1268280"/>
            <a:ext cx="3816360" cy="1079640"/>
          </a:xfrm>
          <a:prstGeom prst="wedgeRoundRectCallout">
            <a:avLst>
              <a:gd name="adj1" fmla="val -38976"/>
              <a:gd name="adj2" fmla="val 1330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Нуля нет! А в место него число в минус шестнадцатой степ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95280" y="692280"/>
            <a:ext cx="6246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x:=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abs(x)&gt;1e-12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:= 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iteln ('x= ',x:7:5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3645000"/>
            <a:ext cx="1944720" cy="431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71640" y="1268280"/>
            <a:ext cx="5616720" cy="1079640"/>
          </a:xfrm>
          <a:prstGeom prst="wedgeRoundRectCallout">
            <a:avLst>
              <a:gd name="adj1" fmla="val -52768"/>
              <a:gd name="adj2" fmla="val 1667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усть все числа, по модулю меньшие 0,000000000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будут для нас ну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404640"/>
            <a:ext cx="62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т одно из возможных решений данной пробл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859280" y="1125360"/>
            <a:ext cx="3363840" cy="4969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759760" y="2062080"/>
            <a:ext cx="38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1. Виды цик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3964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57160" y="309600"/>
            <a:ext cx="739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числения среднего арифметиче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исловой последовательности. Где количество элементов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ами элементы вводятся с клавиатур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4360" y="1289160"/>
            <a:ext cx="748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i,n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a,s,sr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('N=');readln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s: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i:=1 to n d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write( ‘ Введи [ ‘ , i , ‘ ] = ‘ );Readln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s:=s+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sr:=s/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writeln(‘Среднее арифметическое = ',sr:10: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076720" y="2421000"/>
            <a:ext cx="3457800" cy="166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148360" y="1413000"/>
                <a:ext cx="143964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5152320" y="1197000"/>
            <a:ext cx="30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imes New Roman"/>
              </a:rPr>
              <a:t>Математическая запись зада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22880" y="2060640"/>
            <a:ext cx="34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imes New Roman"/>
              </a:rPr>
              <a:t>Результат выполнения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476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32320" y="479520"/>
            <a:ext cx="817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ано целое число N (N&gt;0). Используя один цикл найти сумму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+ 1/2 + 1/3 +…+1/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1268280"/>
            <a:ext cx="5543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var s: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i,n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Write(‘Введи  n=');Readln(n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s:=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For i:=1 to N 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s:=s+1/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writeln('s=',s:10: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924360" y="1341360"/>
            <a:ext cx="4392720" cy="15699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508720" y="3068640"/>
            <a:ext cx="3384360" cy="865080"/>
          </a:xfrm>
          <a:prstGeom prst="wedgeRoundRectCallout">
            <a:avLst>
              <a:gd name="adj1" fmla="val -56990"/>
              <a:gd name="adj2" fmla="val -14027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Результат очень легко проверить в ру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4360" y="4221000"/>
            <a:ext cx="6408720" cy="122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476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49200" y="452520"/>
            <a:ext cx="710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писать программу выводящую на экран все двузнач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исла сумма цифр которых равна 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877080" y="981000"/>
            <a:ext cx="1319040" cy="25192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258920" y="4581360"/>
            <a:ext cx="576108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8360" y="234936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e,d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for d:=1 to 9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e:=0 to 9 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if d+e=10 then writeln(d*10+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913480" y="311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Блок-схема к задаче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92360" y="765000"/>
            <a:ext cx="1150920" cy="287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1341360"/>
            <a:ext cx="1655640" cy="719280"/>
          </a:xfrm>
          <a:prstGeom prst="flowChartPreparation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,1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76720" y="2349360"/>
            <a:ext cx="1726920" cy="719280"/>
          </a:xfrm>
          <a:prstGeom prst="flowChartPreparat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,0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348000" y="3284640"/>
            <a:ext cx="1584360" cy="107928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+e=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508640"/>
            <a:ext cx="1368720" cy="720720"/>
          </a:xfrm>
          <a:prstGeom prst="flowChartInputOutpu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в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*10+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35280" y="6165720"/>
            <a:ext cx="1150920" cy="287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067280" y="105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140360" y="2060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068640"/>
            <a:ext cx="0" cy="216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140360" y="4365720"/>
            <a:ext cx="0" cy="1429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40360" y="5229360"/>
            <a:ext cx="0" cy="2156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700360" y="5445000"/>
            <a:ext cx="14400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700360" y="2708280"/>
            <a:ext cx="0" cy="273672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00360" y="2708280"/>
            <a:ext cx="57636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03640" y="270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19640" y="2708280"/>
            <a:ext cx="0" cy="2881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484360" y="5589720"/>
            <a:ext cx="27352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484360" y="1700280"/>
            <a:ext cx="0" cy="3889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84360" y="1700280"/>
            <a:ext cx="792360" cy="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2360" y="1700280"/>
            <a:ext cx="503280" cy="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35640" y="170028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40360" y="5877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40360" y="5877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516720" y="3284640"/>
            <a:ext cx="2233440" cy="360360"/>
          </a:xfrm>
          <a:prstGeom prst="wedgeRectCallout">
            <a:avLst>
              <a:gd name="adj1" fmla="val -70254"/>
              <a:gd name="adj2" fmla="val 22136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Тело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80000" y="3213000"/>
            <a:ext cx="504720" cy="2014560"/>
          </a:xfrm>
          <a:custGeom>
            <a:avLst/>
            <a:gdLst>
              <a:gd name="textAreaLeft" fmla="*/ 0 w 504720"/>
              <a:gd name="textAreaRight" fmla="*/ 182160 w 504720"/>
              <a:gd name="textAreaTop" fmla="*/ 52200 h 2014560"/>
              <a:gd name="textAreaBottom" fmla="*/ 1962360 h 20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96000" y="1628640"/>
            <a:ext cx="2233440" cy="360360"/>
          </a:xfrm>
          <a:prstGeom prst="wedgeRectCallout">
            <a:avLst>
              <a:gd name="adj1" fmla="val -97407"/>
              <a:gd name="adj2" fmla="val 2394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Внутренний ци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796000" y="836640"/>
            <a:ext cx="2233440" cy="360360"/>
          </a:xfrm>
          <a:prstGeom prst="wedgeRectCallout">
            <a:avLst>
              <a:gd name="adj1" fmla="val -91861"/>
              <a:gd name="adj2" fmla="val 1627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Внешний ци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700000" y="3860640"/>
            <a:ext cx="6476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86160" y="4149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845080" y="342900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53964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86960" y="237960"/>
            <a:ext cx="6583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Вычисление суммы бесконечного ряда с определ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точность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числите значение суммы ря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точностью Е=0,0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796000" y="692280"/>
                <a:ext cx="18730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675360" y="1484280"/>
            <a:ext cx="763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Сумма вычисляется до тех пор, пока очередное слагаемое не станет мен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точности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9640" y="2019240"/>
            <a:ext cx="5761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 s,e:real;   i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s:=0;  i:=1;  e:=0.0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s:=s+1/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Writeln('i=',i,' слагаемое',1/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i: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until (e&gt;1/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ln('S=',s:10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724360" y="1989000"/>
            <a:ext cx="2829240" cy="43196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476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42920" y="475560"/>
            <a:ext cx="81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ить площадь фигуры ограниченной линиями: X=1, X=4, Y=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8352000" y="369720"/>
                <a:ext cx="7189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1797480" y="36230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46120" y="902880"/>
            <a:ext cx="4186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h,s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h:=(4-1)/1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s:=s+h*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x:=x+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Until x&gt;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writeln('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Площадь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= ',S:10:5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940360" y="836640"/>
            <a:ext cx="2735280" cy="26827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6012000" y="3213000"/>
            <a:ext cx="2463840" cy="28083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835280" y="5877000"/>
            <a:ext cx="3746520" cy="865080"/>
          </a:xfrm>
          <a:prstGeom prst="wedgeRoundRectCallout">
            <a:avLst>
              <a:gd name="adj1" fmla="val 75847"/>
              <a:gd name="adj2" fmla="val -7238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Ширина прямоугольника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h:=(4-1)/1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348000" y="3500280"/>
            <a:ext cx="3168720" cy="720720"/>
          </a:xfrm>
          <a:prstGeom prst="wedgeRoundRectCallout">
            <a:avLst>
              <a:gd name="adj1" fmla="val 47796"/>
              <a:gd name="adj2" fmla="val 14008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Высота прямоуголь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/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372360" y="5805360"/>
            <a:ext cx="2016000" cy="863640"/>
          </a:xfrm>
          <a:prstGeom prst="wedgeRoundRectCallout">
            <a:avLst>
              <a:gd name="adj1" fmla="val -40157"/>
              <a:gd name="adj2" fmla="val -13253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3300"/>
                </a:solidFill>
                <a:latin typeface="Arial"/>
              </a:rPr>
              <a:t>Площадь одного прямоуголь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h*1/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5092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63200" y="401760"/>
            <a:ext cx="692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йти количество цифр в числе введенном с клави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4360" y="105264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n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k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 ('N= ');readln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k: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n:=int(n/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k:=k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Until n&lt;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ln('Кол-во  = ',k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292720" y="1341360"/>
            <a:ext cx="2951280" cy="12668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859280" y="3573360"/>
            <a:ext cx="3960720" cy="1368360"/>
          </a:xfrm>
          <a:prstGeom prst="wedgeRoundRectCallout">
            <a:avLst>
              <a:gd name="adj1" fmla="val -91601"/>
              <a:gd name="adj2" fmla="val 2493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Если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имеет тип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nteger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о эту строку можно записать так: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n:=n div 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880280" y="2062080"/>
            <a:ext cx="561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4. Всегда ли нужны цик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50920" y="33336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1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76360" y="288000"/>
            <a:ext cx="74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сумму целых четных чисел от 2 до 1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50920" y="1268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gram n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 i,s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:=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or i:=2 to 10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if (i mod 2 = 0) then s:=s+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eln('s=',s:10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сегда ли нужны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38880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79280" y="2133720"/>
            <a:ext cx="588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gram n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ar s:Real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:=(2+100)/2*5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riteln('s=',s:10:5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348000" y="620640"/>
                <a:ext cx="182412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7920" y="333360"/>
            <a:ext cx="779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помним формулу суммы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членов арифметической прогре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сегда ли нужны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995640" y="1557360"/>
            <a:ext cx="4824360" cy="2270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йдем количество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членов в этой последовательност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d(n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=2+2(n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=2+2n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=2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=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1280" y="5013360"/>
            <a:ext cx="3529080" cy="503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859280" y="4149720"/>
            <a:ext cx="3313080" cy="792000"/>
          </a:xfrm>
          <a:prstGeom prst="wedgeRoundRectCallout">
            <a:avLst>
              <a:gd name="adj1" fmla="val -70796"/>
              <a:gd name="adj2" fmla="val 8927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одставим значения в формулу су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5148360" y="5373720"/>
            <a:ext cx="34560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8200" y="301680"/>
            <a:ext cx="6936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.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Цикл с парамет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заранее определенное количество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125360"/>
            <a:ext cx="405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выполн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2480" y="2514600"/>
            <a:ext cx="67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ДЛ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Д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ВЫПОЛНЯ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2120" y="3090960"/>
            <a:ext cx="48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7160" y="3738600"/>
            <a:ext cx="5085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EG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6640" y="5465880"/>
            <a:ext cx="595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N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WNT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51640" y="5805360"/>
            <a:ext cx="2592360" cy="836640"/>
          </a:xfrm>
          <a:prstGeom prst="wedgeRoundRectCallout">
            <a:avLst>
              <a:gd name="adj1" fmla="val -112888"/>
              <a:gd name="adj2" fmla="val -3614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если переменная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убы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72360" y="4149720"/>
            <a:ext cx="2592360" cy="1079640"/>
          </a:xfrm>
          <a:prstGeom prst="wedgeRoundRectCallout">
            <a:avLst>
              <a:gd name="adj1" fmla="val -85884"/>
              <a:gd name="adj2" fmla="val -35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если в теле цикла неск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56360" y="2997360"/>
            <a:ext cx="2592360" cy="792000"/>
          </a:xfrm>
          <a:prstGeom prst="wedgeRoundRectCallout">
            <a:avLst>
              <a:gd name="adj1" fmla="val -93601"/>
              <a:gd name="adj2" fmla="val 431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если в теле цикла одно 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58920" y="1197000"/>
            <a:ext cx="1873080" cy="719280"/>
          </a:xfrm>
          <a:prstGeom prst="flowChartPreparat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,1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3280" y="2205000"/>
            <a:ext cx="1584360" cy="5763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9564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9564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826920" y="299736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826920" y="1557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26920" y="155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5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2000" y="155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19640" y="155736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195640" y="3357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95640" y="33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76360" y="3645000"/>
            <a:ext cx="1511280" cy="576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1280" y="1197000"/>
            <a:ext cx="1873080" cy="719280"/>
          </a:xfrm>
          <a:prstGeom prst="flowChartPreparat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,1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2205000"/>
            <a:ext cx="1584360" cy="5763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22764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858920" y="3789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859280" y="1557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59280" y="155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64360" y="155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451640" y="155736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227640" y="4076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227640" y="4076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35640" y="2924280"/>
            <a:ext cx="1584360" cy="576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27640" y="350028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38680" y="4869000"/>
            <a:ext cx="440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EG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40" y="4869000"/>
            <a:ext cx="43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29040" y="40464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Блок-схема цикла с параме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00720" y="476280"/>
            <a:ext cx="4267080" cy="2828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77120" y="2417040"/>
            <a:ext cx="8908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 Uses Crt, GraphABC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 var x,y,i:Integer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x:=1;  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// устанавливаем координату  Х первой лини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i:=1 to 64 do begin </a:t>
            </a:r>
            <a:r>
              <a:rPr b="0" i="1" lang="ru-RU" sz="2400" spc="-1" strike="noStrike">
                <a:solidFill>
                  <a:srgbClr val="0033cc"/>
                </a:solidFill>
                <a:latin typeface="Times New Roman"/>
              </a:rPr>
              <a:t>  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    // перебираем от 1 до 64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Line (x,0,x,400)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// рисуем очередную линию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x:=x + 10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 // увеличиваем координату на 10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1640" y="47628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Пример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836640"/>
            <a:ext cx="43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ести на экран 64 вертик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0000" y="301680"/>
            <a:ext cx="5170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I.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Цикл с постуслов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всегда хотя бы один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пока услов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лож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628640"/>
            <a:ext cx="46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 –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повтор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–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о тех п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040" y="2852640"/>
            <a:ext cx="631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ПОВТОРЯ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ДО ТЕХ ПО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ПОКА УСЛОВИЕ ЛОЖН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4581360"/>
            <a:ext cx="538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NTI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ПОКА УСЛОВИЕ ЛОЖН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661440" y="1844640"/>
            <a:ext cx="2301120" cy="4608360"/>
            <a:chOff x="6661440" y="1844640"/>
            <a:chExt cx="2301120" cy="4608360"/>
          </a:xfrm>
        </p:grpSpPr>
        <p:sp>
          <p:nvSpPr>
            <p:cNvPr id="97" name=""/>
            <p:cNvSpPr/>
            <p:nvPr/>
          </p:nvSpPr>
          <p:spPr>
            <a:xfrm>
              <a:off x="6894360" y="5047560"/>
              <a:ext cx="2068200" cy="936720"/>
            </a:xfrm>
            <a:prstGeom prst="flowChartDecision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услов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01720" y="3249720"/>
              <a:ext cx="1550880" cy="547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Действие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101720" y="4109040"/>
              <a:ext cx="1550880" cy="547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Действие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929720" y="5984640"/>
              <a:ext cx="0" cy="4683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688800" y="5516280"/>
              <a:ext cx="20520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688800" y="2781360"/>
              <a:ext cx="0" cy="27345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824600" y="1844640"/>
              <a:ext cx="0" cy="140508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88800" y="2781360"/>
              <a:ext cx="11354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824600" y="3797640"/>
              <a:ext cx="0" cy="3114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29720" y="4656600"/>
              <a:ext cx="0" cy="3906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11600" y="592776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61440" y="4911840"/>
              <a:ext cx="53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00720" y="620640"/>
            <a:ext cx="4267080" cy="2828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1640" y="33336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Пример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2880" y="692280"/>
            <a:ext cx="43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ести на экран 64 вертик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1556280"/>
            <a:ext cx="457200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n2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, GraphABC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x:Integer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x:=1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 repeat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     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Line (x,0,x,400);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           x:=x+10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until (x&gt;640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76720" y="4149720"/>
            <a:ext cx="3024360" cy="1366920"/>
          </a:xfrm>
          <a:prstGeom prst="wedgeRoundRectCallout">
            <a:avLst>
              <a:gd name="adj1" fmla="val -117296"/>
              <a:gd name="adj2" fmla="val 6869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повторять до тех пор пока условие л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2920" y="4724280"/>
            <a:ext cx="537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HILE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0520" y="282600"/>
            <a:ext cx="4902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II.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Цикл с предуслов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ет не выполнится не ра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пока услов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стин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1557360"/>
            <a:ext cx="304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LE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п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выпол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3840" y="2637000"/>
            <a:ext cx="6832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ПО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) ВЫПОЛНЯ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КОНЕ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516720" y="2060640"/>
            <a:ext cx="2283840" cy="4537080"/>
            <a:chOff x="6516720" y="2060640"/>
            <a:chExt cx="2283840" cy="4537080"/>
          </a:xfrm>
        </p:grpSpPr>
        <p:sp>
          <p:nvSpPr>
            <p:cNvPr id="121" name=""/>
            <p:cNvSpPr/>
            <p:nvPr/>
          </p:nvSpPr>
          <p:spPr>
            <a:xfrm>
              <a:off x="8261640" y="3213360"/>
              <a:ext cx="53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16720" y="2060640"/>
              <a:ext cx="2220840" cy="4537080"/>
              <a:chOff x="6516720" y="2060640"/>
              <a:chExt cx="2220840" cy="4537080"/>
            </a:xfrm>
          </p:grpSpPr>
          <p:sp>
            <p:nvSpPr>
              <p:cNvPr id="123" name=""/>
              <p:cNvSpPr/>
              <p:nvPr/>
            </p:nvSpPr>
            <p:spPr>
              <a:xfrm>
                <a:off x="6845040" y="3284640"/>
                <a:ext cx="1645920" cy="863640"/>
              </a:xfrm>
              <a:prstGeom prst="flowChartDecision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услов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092000" y="4437000"/>
                <a:ext cx="1233720" cy="50508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Действие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092000" y="5157720"/>
                <a:ext cx="1233720" cy="50508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Действие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68720" y="5661000"/>
                <a:ext cx="0" cy="21600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16720" y="5877000"/>
                <a:ext cx="115200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6516720" y="3213000"/>
                <a:ext cx="0" cy="266364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68720" y="2060640"/>
                <a:ext cx="0" cy="129528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6720" y="3213360"/>
                <a:ext cx="115200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668720" y="4149720"/>
                <a:ext cx="0" cy="28728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668720" y="4940280"/>
                <a:ext cx="0" cy="21744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093440" y="4005360"/>
                <a:ext cx="44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д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491320" y="3716280"/>
                <a:ext cx="24624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37560" y="3716280"/>
                <a:ext cx="0" cy="244980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7668720" y="6166080"/>
                <a:ext cx="10684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668720" y="6166080"/>
                <a:ext cx="0" cy="43164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2920" y="476280"/>
            <a:ext cx="5375880" cy="2044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HILE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2852640"/>
            <a:ext cx="1440000" cy="863640"/>
          </a:xfrm>
          <a:prstGeom prst="flowChartDecis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4005360"/>
            <a:ext cx="1079640" cy="504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2920" y="4726080"/>
            <a:ext cx="1079640" cy="504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47640" y="5229360"/>
            <a:ext cx="0" cy="215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39640" y="5445000"/>
            <a:ext cx="1008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39640" y="2781000"/>
            <a:ext cx="0" cy="2663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2347920"/>
            <a:ext cx="0" cy="504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2781360"/>
            <a:ext cx="1008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47640" y="3718080"/>
            <a:ext cx="0" cy="287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47640" y="4508640"/>
            <a:ext cx="0" cy="2174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44360" y="357336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24360" y="27813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66920" y="3284640"/>
            <a:ext cx="216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82920" y="3284640"/>
            <a:ext cx="0" cy="24494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547640" y="5734080"/>
            <a:ext cx="9352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84360" y="5157720"/>
            <a:ext cx="0" cy="432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59280" y="1197000"/>
            <a:ext cx="5373360" cy="1678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HILE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47640" y="5732640"/>
            <a:ext cx="0" cy="549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32360" y="3429000"/>
            <a:ext cx="1440000" cy="863640"/>
          </a:xfrm>
          <a:prstGeom prst="flowChartDecis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4581360"/>
            <a:ext cx="1079280" cy="5050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5734080"/>
            <a:ext cx="1079280" cy="504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5516640"/>
            <a:ext cx="0" cy="216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642920" y="5300640"/>
            <a:ext cx="100836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643280" y="3357360"/>
            <a:ext cx="1800" cy="19429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45080" y="3357720"/>
            <a:ext cx="1008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53080" y="4294080"/>
            <a:ext cx="0" cy="287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53080" y="5084640"/>
            <a:ext cx="0" cy="2174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9800" y="4149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229440" y="335772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72360" y="3860640"/>
            <a:ext cx="2156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651280" y="5516640"/>
            <a:ext cx="93636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88000" y="3860640"/>
            <a:ext cx="0" cy="1656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51640" y="6237360"/>
            <a:ext cx="0" cy="404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1640" y="2924280"/>
            <a:ext cx="0" cy="504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08:28:22Z</dcterms:created>
  <dc:creator>Юдины</dc:creator>
  <dc:description/>
  <dc:language>en-US</dc:language>
  <cp:lastModifiedBy>Юдины</cp:lastModifiedBy>
  <dcterms:modified xsi:type="dcterms:W3CDTF">2012-02-13T18:01:53Z</dcterms:modified>
  <cp:revision>124</cp:revision>
  <dc:subject/>
  <dc:title>Слайд 1</dc:title>
</cp:coreProperties>
</file>