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22E-5E07-47B2-AB5A-64839A5E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572-EDFF-4C82-B25D-9AED781E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EEB-79C9-43A4-8C27-650AEB2D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4EE-E5AF-4558-B58D-597793F0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104-F0D6-4F91-B362-CE3C4637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29E-BF8A-445B-9B44-E3E7006F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38A-7D96-4AF3-90C3-7EC1A595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A82-D19F-4D76-B8F1-70D19D26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255-9C3D-43C0-97EF-8793B2BA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88C-BF9F-4716-9829-5A865F2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0E6-6F59-44C6-8C33-5D4ED40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540-523D-4254-BEDC-386BC20B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82E7-7B44-4B99-93BA-A469D452E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413000"/>
            <a:ext cx="38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Цикл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6120" y="2637000"/>
            <a:ext cx="52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резентация по программир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8920" y="5084640"/>
            <a:ext cx="225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: учитель инфор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У Плесской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дин А.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5080" y="597528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640" y="549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2880" y="90792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7600" y="1891080"/>
            <a:ext cx="6892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while(x&lt;640) do begi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                           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3213000"/>
            <a:ext cx="2521080" cy="1224000"/>
          </a:xfrm>
          <a:prstGeom prst="wedgeRoundRectCallout">
            <a:avLst>
              <a:gd name="adj1" fmla="val -167004"/>
              <a:gd name="adj2" fmla="val 51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пока Х меньше 6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4840" y="2062080"/>
            <a:ext cx="66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2. Графически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010040" cy="250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6960" y="62064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" y="1342440"/>
            <a:ext cx="4638240" cy="435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r i:=1 to 64 do 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ne(320,400,x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x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573360"/>
            <a:ext cx="6624720" cy="292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ороткое 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 x:=1 to 64 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ine(320,400,x*1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                                                                                                 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7880" y="76212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620640"/>
            <a:ext cx="4348080" cy="272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1695600"/>
            <a:ext cx="374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, 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:=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Line (x, 0 , 0 ,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 +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:=y +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(x&gt;64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24280"/>
            <a:ext cx="1511280" cy="7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3789360"/>
            <a:ext cx="3600360" cy="1224000"/>
          </a:xfrm>
          <a:prstGeom prst="wedgeRoundRectCallout">
            <a:avLst>
              <a:gd name="adj1" fmla="val -73013"/>
              <a:gd name="adj2" fmla="val 4987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 теле цикла могут изменяться две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3068640"/>
            <a:ext cx="6048360" cy="33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6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960" y="549360"/>
            <a:ext cx="421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водящ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экран следующе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3789360"/>
            <a:ext cx="417672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1125360"/>
            <a:ext cx="66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,GraphAB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j,x,y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12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for j:=1 to 20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ircle (x,y,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x+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y:=y+30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11640" y="692280"/>
            <a:ext cx="4695840" cy="3144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732720" y="4797360"/>
            <a:ext cx="2160360" cy="647640"/>
          </a:xfrm>
          <a:prstGeom prst="wedgeRoundRectCallout">
            <a:avLst>
              <a:gd name="adj1" fmla="val -105986"/>
              <a:gd name="adj2" fmla="val 37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ывод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-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й 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5734080"/>
            <a:ext cx="1942920" cy="1008000"/>
          </a:xfrm>
          <a:prstGeom prst="wedgeRoundRectCallout">
            <a:avLst>
              <a:gd name="adj1" fmla="val -196078"/>
              <a:gd name="adj2" fmla="val -218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менение координаты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рафически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77520" y="206208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3. Расчетные задачи на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332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роить таблицу значений функции y = 3 sin x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интервале 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 ; 1] с шагом Δх = 0,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1628640"/>
            <a:ext cx="324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3348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052640"/>
            <a:ext cx="619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x:=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-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cc3300"/>
                </a:solidFill>
                <a:latin typeface="Times New Roman"/>
              </a:rPr>
              <a:t>dx:=0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y:= 3*sin(x) + cos(2*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writeln ('x= ',x:7:5,'   y= ',y:7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</a:rPr>
              <a:t>x:=x+d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00720" y="1052640"/>
            <a:ext cx="238608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92360" y="4653000"/>
            <a:ext cx="51130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1341360"/>
            <a:ext cx="6337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40392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нтервале [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;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] с шагом Δх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046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3572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таблицу значений функции на интервале [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с шагом Δх = 0,1 если функция имеет в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75520" y="3932640"/>
            <a:ext cx="648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, пр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при 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2, при  x&gt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40766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645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4210200"/>
            <a:ext cx="61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-0.5) then y: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=-0.5) and (x&lt;=0.5) then y:=x*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gt;0.5) then y:=x-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084720" y="333360"/>
                <a:ext cx="11512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1258920" y="90792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if (x&lt;&gt;1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y:= (x+1)/(1-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riteln ('x= ',x:7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 (x&gt;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948360" y="981000"/>
            <a:ext cx="1990800" cy="2521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8360" y="907920"/>
            <a:ext cx="741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4438440" cy="504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284040"/>
            <a:ext cx="916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ебольшое отступ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роить таблицу значений функции y = 1/х на интерва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-1; 1]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шагом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3429000"/>
            <a:ext cx="424980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1052640"/>
            <a:ext cx="79930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(x&lt;&gt;0)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4724280"/>
            <a:ext cx="576360" cy="50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589720"/>
            <a:ext cx="1729080" cy="934920"/>
          </a:xfrm>
          <a:prstGeom prst="wedgeRoundRectCallout">
            <a:avLst>
              <a:gd name="adj1" fmla="val -65884"/>
              <a:gd name="adj2" fmla="val -94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Изменим формат 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43280" y="836640"/>
            <a:ext cx="5546520" cy="4713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16360" y="2924280"/>
            <a:ext cx="5616360" cy="9349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68280"/>
            <a:ext cx="3816360" cy="1079640"/>
          </a:xfrm>
          <a:prstGeom prst="wedgeRoundRectCallout">
            <a:avLst>
              <a:gd name="adj1" fmla="val -38976"/>
              <a:gd name="adj2" fmla="val 133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уля нет! А в место него число в минус шестнадцатой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692280"/>
            <a:ext cx="624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 x,y,dx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:=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abs(x)&gt;1e-1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n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:= 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iteln ('x= ',x:7:5,'   y= ',y:7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:=x+d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(x&gt;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645000"/>
            <a:ext cx="1944720" cy="43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1268280"/>
            <a:ext cx="5616720" cy="1079640"/>
          </a:xfrm>
          <a:prstGeom prst="wedgeRoundRectCallout">
            <a:avLst>
              <a:gd name="adj1" fmla="val -52768"/>
              <a:gd name="adj2" fmla="val 1667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усть все числа, по модулю меньшие 0,000000000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будут для нас ну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40464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т одно из возможных решений данной пробл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1125360"/>
            <a:ext cx="3363840" cy="496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59760" y="2062080"/>
            <a:ext cx="38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1. Виды цик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7160" y="309600"/>
            <a:ext cx="739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ставить программу вычисления среднего арифмет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вой последовательности. Где количество элемен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ми элементы вводятся с клавиатур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28916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i,n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,s,sr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('N=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n do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( ‘ Введи [ ‘ , i , ‘ ] = ‘ );Readln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sr:=s/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writeln(‘Среднее арифметическое = ',sr:10: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457800" cy="166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148360" y="1413000"/>
                <a:ext cx="143964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52320" y="119700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Математическая запись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22880" y="206064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Результат выполнения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2320" y="479520"/>
            <a:ext cx="817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о целое число N (N&gt;0). Используя один цикл найти сумму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+ 1/2 + 1/3 +…+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268280"/>
            <a:ext cx="554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(‘Введи  n=');Readln(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For i:=1 to N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writeln('s=',s:10: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924360" y="1341360"/>
            <a:ext cx="4392720" cy="156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08720" y="3068640"/>
            <a:ext cx="3384360" cy="865080"/>
          </a:xfrm>
          <a:prstGeom prst="wedgeRoundRectCallout">
            <a:avLst>
              <a:gd name="adj1" fmla="val -56990"/>
              <a:gd name="adj2" fmla="val -140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зультат очень легко проверить в руч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4221000"/>
            <a:ext cx="6408720" cy="12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9200" y="45252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писать программу выводящую на экран все двузнач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а сумма цифр которых равна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77080" y="981000"/>
            <a:ext cx="1319040" cy="25192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58920" y="4581360"/>
            <a:ext cx="576108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2349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e,d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for d:=1 to 9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e:=0 to 9 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if d+e=10 then writeln(d*10+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13480" y="311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Блок-схема к задаче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76500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341360"/>
            <a:ext cx="1655640" cy="719280"/>
          </a:xfrm>
          <a:prstGeom prst="flowChartPreparation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,1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2349360"/>
            <a:ext cx="172692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,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348000" y="3284640"/>
            <a:ext cx="1584360" cy="107928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+e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508640"/>
            <a:ext cx="1368720" cy="72072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*10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6165720"/>
            <a:ext cx="1150920" cy="28764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67280" y="105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40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068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4365720"/>
            <a:ext cx="0" cy="1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4036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700360" y="5445000"/>
            <a:ext cx="1440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700360" y="2708280"/>
            <a:ext cx="0" cy="27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2708280"/>
            <a:ext cx="0" cy="2881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484360" y="5589720"/>
            <a:ext cx="27352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84360" y="1700280"/>
            <a:ext cx="0" cy="38894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1700280"/>
            <a:ext cx="792360" cy="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1700280"/>
            <a:ext cx="50328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1700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4036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6720" y="3284640"/>
            <a:ext cx="2233440" cy="360360"/>
          </a:xfrm>
          <a:prstGeom prst="wedgeRectCallout">
            <a:avLst>
              <a:gd name="adj1" fmla="val -70254"/>
              <a:gd name="adj2" fmla="val 22136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213000"/>
            <a:ext cx="504720" cy="2014560"/>
          </a:xfrm>
          <a:custGeom>
            <a:avLst/>
            <a:gdLst>
              <a:gd name="textAreaLeft" fmla="*/ 0 w 504720"/>
              <a:gd name="textAreaRight" fmla="*/ 182160 w 504720"/>
              <a:gd name="textAreaTop" fmla="*/ 52200 h 2014560"/>
              <a:gd name="textAreaBottom" fmla="*/ 196236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96000" y="1628640"/>
            <a:ext cx="2233440" cy="360360"/>
          </a:xfrm>
          <a:prstGeom prst="wedgeRectCallout">
            <a:avLst>
              <a:gd name="adj1" fmla="val -97407"/>
              <a:gd name="adj2" fmla="val 2394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утрен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836640"/>
            <a:ext cx="2233440" cy="360360"/>
          </a:xfrm>
          <a:prstGeom prst="wedgeRectCallout">
            <a:avLst>
              <a:gd name="adj1" fmla="val -91861"/>
              <a:gd name="adj2" fmla="val 1627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Внешний ци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700000" y="3860640"/>
            <a:ext cx="647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616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45080" y="342900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3964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86960" y="237960"/>
            <a:ext cx="658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Вычисление суммы бесконечного ряда с определ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точность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числите значение суммы 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точностью Е=0,0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796000" y="692280"/>
                <a:ext cx="18730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75360" y="1484280"/>
            <a:ext cx="76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Сумма вычисляется до тех пор, пока очередное слагаемое не станет ме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точност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9640" y="2019240"/>
            <a:ext cx="576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 s,e:real;   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s:=0;  i:=1;  e:=0.0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s:=s+1/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Writeln('i=',i,' слагаемое',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i: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(e&gt;1/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S=',s:10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2829240" cy="4319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476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5560"/>
            <a:ext cx="81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ь площадь фигуры ограниченной линиями: X=1, X=4, Y=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352000" y="369720"/>
                <a:ext cx="718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797480" y="36230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902880"/>
            <a:ext cx="418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h,s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:=(4-1)/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: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s:=s+h*1/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x:=x+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til x&gt;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лощадь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',S:10: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0360" y="836640"/>
            <a:ext cx="2735280" cy="2682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12000" y="3213000"/>
            <a:ext cx="2463840" cy="2808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835280" y="5877000"/>
            <a:ext cx="3746520" cy="865080"/>
          </a:xfrm>
          <a:prstGeom prst="wedgeRoundRectCallout">
            <a:avLst>
              <a:gd name="adj1" fmla="val 75847"/>
              <a:gd name="adj2" fmla="val -7238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Ширина прямоугольника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:=(4-1)/1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00280"/>
            <a:ext cx="3168720" cy="720720"/>
          </a:xfrm>
          <a:prstGeom prst="wedgeRoundRectCallout">
            <a:avLst>
              <a:gd name="adj1" fmla="val 47796"/>
              <a:gd name="adj2" fmla="val 1400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ысота прямоуголь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2360" y="5805360"/>
            <a:ext cx="2016000" cy="863640"/>
          </a:xfrm>
          <a:prstGeom prst="wedgeRoundRectCallout">
            <a:avLst>
              <a:gd name="adj1" fmla="val -40157"/>
              <a:gd name="adj2" fmla="val -132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"/>
              </a:rPr>
              <a:t>Площадь одного прямоуголь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h*1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3333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63200" y="40176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йти количество цифр в числе введенном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4360" y="10526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ar n: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k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 ('N= ');read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k: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n:=int(n/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k:=k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Until n&lt;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writeln('Кол-во  = ',k: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2951280" cy="12668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счетные задачи на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3573360"/>
            <a:ext cx="3960720" cy="1368360"/>
          </a:xfrm>
          <a:prstGeom prst="wedgeRoundRectCallout">
            <a:avLst>
              <a:gd name="adj1" fmla="val -91601"/>
              <a:gd name="adj2" fmla="val 2493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имеет тип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teger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о эту строку можно записать так: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n:=n div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880280" y="2062080"/>
            <a:ext cx="561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Часть 4. Всегда ли нужны цик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0920" y="3333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Задача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288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сумму целых четных чисел от 2 до 1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1268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i,s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 i:=2 to 1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if (i mod 2 = 0) then s:=s+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('s=',s:1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88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79280" y="2133720"/>
            <a:ext cx="58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n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 s:Re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:=(2+100)/2*5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ln('s=',s:10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348000" y="620640"/>
                <a:ext cx="18241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7920" y="333360"/>
            <a:ext cx="779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ним формулу сумм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ленов арифметической прог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сегда ли нужны цикл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1557360"/>
            <a:ext cx="4824360" cy="227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йдем количеств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членов в этой последователь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d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+2n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=2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5013360"/>
            <a:ext cx="3529080" cy="503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4149720"/>
            <a:ext cx="3313080" cy="792000"/>
          </a:xfrm>
          <a:prstGeom prst="wedgeRoundRectCallout">
            <a:avLst>
              <a:gd name="adj1" fmla="val -70796"/>
              <a:gd name="adj2" fmla="val 892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одставим значения в формулу су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148360" y="5373720"/>
            <a:ext cx="3456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200" y="301680"/>
            <a:ext cx="6936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ар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ранее определенное количество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125360"/>
            <a:ext cx="405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2480" y="2514600"/>
            <a:ext cx="67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Л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Д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ЫПОЛНЯ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" y="3090960"/>
            <a:ext cx="48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7160" y="3738600"/>
            <a:ext cx="508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640" y="5465880"/>
            <a:ext cx="59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:=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WNT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1640" y="5805360"/>
            <a:ext cx="2592360" cy="836640"/>
          </a:xfrm>
          <a:prstGeom prst="wedgeRoundRectCallout">
            <a:avLst>
              <a:gd name="adj1" fmla="val -112888"/>
              <a:gd name="adj2" fmla="val -36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если переменна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уб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4149720"/>
            <a:ext cx="2592360" cy="1079640"/>
          </a:xfrm>
          <a:prstGeom prst="wedgeRoundRectCallout">
            <a:avLst>
              <a:gd name="adj1" fmla="val -85884"/>
              <a:gd name="adj2" fmla="val -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не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2997360"/>
            <a:ext cx="2592360" cy="792000"/>
          </a:xfrm>
          <a:prstGeom prst="wedgeRoundRectCallout">
            <a:avLst>
              <a:gd name="adj1" fmla="val -93601"/>
              <a:gd name="adj2" fmla="val 431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сли в теле цикла одно 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5892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26920" y="299736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26920" y="1557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155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19640" y="1557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640" y="3357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6360" y="3645000"/>
            <a:ext cx="151128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1280" y="1197000"/>
            <a:ext cx="1873080" cy="719280"/>
          </a:xfrm>
          <a:prstGeom prst="flowChartPreparat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,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2205000"/>
            <a:ext cx="1584360" cy="5763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858920" y="3789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859280" y="1557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51640" y="1557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22764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076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924280"/>
            <a:ext cx="1584360" cy="57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486900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486900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:=1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9040" y="40464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лок-схема цикла с параме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7120" y="2417040"/>
            <a:ext cx="8908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Program n1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Uses Crt, GraphABC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var x,y,i:Integer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x:=1;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устанавливаем координату  Х первой лини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For i:=1 to 64 do begin </a:t>
            </a:r>
            <a:r>
              <a:rPr b="0" i="1" lang="ru-RU" sz="2400" spc="-1" strike="noStrike">
                <a:solidFill>
                  <a:srgbClr val="0033cc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   // перебираем от 1 до 6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// рисуем очередную линию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x:=x + 10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// увеличиваем координату на 1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end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40" y="47628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664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0000" y="301680"/>
            <a:ext cx="517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ост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всегда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ж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повтор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IL –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о тех п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040" y="2852640"/>
            <a:ext cx="631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ВТОР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ДО ТЕХ П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4581360"/>
            <a:ext cx="538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PEAT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TI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ОКА УСЛОВИЕ ЛОЖ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1440" y="1844640"/>
            <a:ext cx="2301120" cy="4608360"/>
            <a:chOff x="6661440" y="1844640"/>
            <a:chExt cx="2301120" cy="4608360"/>
          </a:xfrm>
        </p:grpSpPr>
        <p:sp>
          <p:nvSpPr>
            <p:cNvPr id="97" name=""/>
            <p:cNvSpPr/>
            <p:nvPr/>
          </p:nvSpPr>
          <p:spPr>
            <a:xfrm>
              <a:off x="6894360" y="5047560"/>
              <a:ext cx="2068200" cy="936720"/>
            </a:xfrm>
            <a:prstGeom prst="flowChartDecision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слов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01720" y="3249720"/>
              <a:ext cx="1550880" cy="547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1720" y="4109040"/>
              <a:ext cx="1550880" cy="5472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Действие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929720" y="5984640"/>
              <a:ext cx="0" cy="46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88800" y="5516280"/>
              <a:ext cx="205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688800" y="2781360"/>
              <a:ext cx="0" cy="2734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4600" y="1844640"/>
              <a:ext cx="0" cy="14050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8800" y="2781360"/>
              <a:ext cx="1135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24600" y="3797640"/>
              <a:ext cx="0" cy="31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29720" y="4656600"/>
              <a:ext cx="0" cy="390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600" y="59277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1440" y="491184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267080" cy="2828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640" y="33336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</a:rPr>
              <a:t>Пример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880" y="692280"/>
            <a:ext cx="43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ести на экран 64 верти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6280"/>
            <a:ext cx="4572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n2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, GraphABC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x:Integer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x:=1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 repeat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   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Line (x,0,x,400);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           x:=x+10;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until (x&gt;640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149720"/>
            <a:ext cx="3024360" cy="1366920"/>
          </a:xfrm>
          <a:prstGeom prst="wedgeRoundRectCallout">
            <a:avLst>
              <a:gd name="adj1" fmla="val -117296"/>
              <a:gd name="adj2" fmla="val 6869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овторять до тех пор пока условие л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2920" y="4724280"/>
            <a:ext cx="537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0520" y="282600"/>
            <a:ext cx="490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II.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Times New Roman"/>
              </a:rPr>
              <a:t>Цикл с предусло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не выполнится не 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пока услов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стин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30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–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выпо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840" y="2637000"/>
            <a:ext cx="6832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П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 ВЫПОЛ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КОНЕ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16720" y="2060640"/>
            <a:ext cx="2283840" cy="4537080"/>
            <a:chOff x="6516720" y="2060640"/>
            <a:chExt cx="2283840" cy="4537080"/>
          </a:xfrm>
        </p:grpSpPr>
        <p:sp>
          <p:nvSpPr>
            <p:cNvPr id="121" name=""/>
            <p:cNvSpPr/>
            <p:nvPr/>
          </p:nvSpPr>
          <p:spPr>
            <a:xfrm>
              <a:off x="8261640" y="3213360"/>
              <a:ext cx="53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16720" y="2060640"/>
              <a:ext cx="2220840" cy="4537080"/>
              <a:chOff x="6516720" y="2060640"/>
              <a:chExt cx="2220840" cy="4537080"/>
            </a:xfrm>
          </p:grpSpPr>
          <p:sp>
            <p:nvSpPr>
              <p:cNvPr id="123" name=""/>
              <p:cNvSpPr/>
              <p:nvPr/>
            </p:nvSpPr>
            <p:spPr>
              <a:xfrm>
                <a:off x="6845040" y="3284640"/>
                <a:ext cx="1645920" cy="863640"/>
              </a:xfrm>
              <a:prstGeom prst="flowChartDecision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92000" y="443700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92000" y="5157720"/>
                <a:ext cx="1233720" cy="50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Действие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68720" y="5661000"/>
                <a:ext cx="0" cy="2160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16720" y="587700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516720" y="3213000"/>
                <a:ext cx="0" cy="2663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68720" y="2060640"/>
                <a:ext cx="0" cy="1295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6720" y="3213360"/>
                <a:ext cx="11520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68720" y="4149720"/>
                <a:ext cx="0" cy="287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68720" y="4940280"/>
                <a:ext cx="0" cy="2174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3440" y="400536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91320" y="3716280"/>
                <a:ext cx="24624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37560" y="3716280"/>
                <a:ext cx="0" cy="24498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668720" y="6166080"/>
                <a:ext cx="10684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8720" y="6166080"/>
                <a:ext cx="0" cy="43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2920" y="476280"/>
            <a:ext cx="5375880" cy="204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285264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400536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4726080"/>
            <a:ext cx="107964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5229360"/>
            <a:ext cx="0" cy="215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39640" y="544500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39640" y="2781000"/>
            <a:ext cx="0" cy="2663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34792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78136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3718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4508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4360" y="35733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360" y="2781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6920" y="3284640"/>
            <a:ext cx="216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2920" y="3284640"/>
            <a:ext cx="0" cy="24494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5734080"/>
            <a:ext cx="93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4360" y="5157720"/>
            <a:ext cx="0" cy="432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59280" y="1197000"/>
            <a:ext cx="5373360" cy="1678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HILE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УСЛОВИЕ ИСТИННО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O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действие2;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47640" y="5732640"/>
            <a:ext cx="0" cy="549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3429000"/>
            <a:ext cx="1440000" cy="863640"/>
          </a:xfrm>
          <a:prstGeom prst="flowChartDecision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581360"/>
            <a:ext cx="1079280" cy="5050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34080"/>
            <a:ext cx="1079280" cy="504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йствие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5516640"/>
            <a:ext cx="0" cy="21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2920" y="5300640"/>
            <a:ext cx="100836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643280" y="3357360"/>
            <a:ext cx="1800" cy="1942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45080" y="3357720"/>
            <a:ext cx="1008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3080" y="4294080"/>
            <a:ext cx="0" cy="287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5084640"/>
            <a:ext cx="0" cy="2174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98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9440" y="33577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3860640"/>
            <a:ext cx="2156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5516640"/>
            <a:ext cx="936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0" cy="16560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6237360"/>
            <a:ext cx="0" cy="404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2924280"/>
            <a:ext cx="0" cy="504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иды циклов.                                                                                                                               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8:28:22Z</dcterms:created>
  <dc:creator>Юдины</dc:creator>
  <dc:description/>
  <dc:language>en-US</dc:language>
  <cp:lastModifiedBy>Юдины</cp:lastModifiedBy>
  <dcterms:modified xsi:type="dcterms:W3CDTF">2012-02-13T18:01:53Z</dcterms:modified>
  <cp:revision>124</cp:revision>
  <dc:subject/>
  <dc:title>Слайд 1</dc:title>
</cp:coreProperties>
</file>