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F97-D222-46C7-92BC-002A488D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37E-AE9B-492A-8321-E1445881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01F-3265-403B-AEA0-106A69DB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FBA3-D236-4F1C-B6E5-7E56A43A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7096-DC03-4A95-BCB8-3472337D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80EC-EFDE-4EE0-82E2-46AF3AD0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D5B3-37E5-4CA9-BF18-E5318946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4C3A-6C45-4524-9962-70D59AA6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CDFD-2572-4241-B3EB-70BEF879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C41F-61C4-46A2-9B7D-F12D02DB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39A9-9E5D-4512-AC5B-F78DF0CF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2E3-86F1-40B2-B88C-AF415D81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8020-004B-49AB-B271-0F7CBD81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260F-ED88-42A5-B290-24ACF9AC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3771-6425-4A79-82D6-BC32EE3D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5251-BDF8-4184-8D0D-5CEBE735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5A3E-660A-47D0-9816-B78C3205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522-BDDE-441F-A1F2-21351759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163-65DB-4173-AE95-D8D0F662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DFB-A52E-4B09-9714-D64E0123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ED1-E7E7-4B92-B665-D9753490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864-882C-487E-8C67-6C5805FC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E36-2858-4DD1-8160-B680188E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4EF-A2BF-4F4D-96A2-7B609DC4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D845-D94C-4B4B-8595-79EBE87CE9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1D11-9138-4172-966B-CB914BE41A9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вещественн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в форме с плавающей точкой занимает в памяти компьютера 4 байта (число обычной точности) или 8 байт (число двойной точ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рассмотрели пример представления числа 25,324 обычной то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2340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получить внутреннее представление отрицательного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5,324, достаточно в полученном выше коде заменить в разряде знака числа 0 н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250920" y="4437000"/>
            <a:ext cx="8893080" cy="503280"/>
            <a:chOff x="250920" y="4437000"/>
            <a:chExt cx="8893080" cy="503280"/>
          </a:xfrm>
        </p:grpSpPr>
        <p:grpSp>
          <p:nvGrpSpPr>
            <p:cNvPr id="283" name="Group 5"/>
            <p:cNvGrpSpPr/>
            <p:nvPr/>
          </p:nvGrpSpPr>
          <p:grpSpPr>
            <a:xfrm>
              <a:off x="250920" y="4437000"/>
              <a:ext cx="4464000" cy="503280"/>
              <a:chOff x="250920" y="4437000"/>
              <a:chExt cx="4464000" cy="50328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250920" y="443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7"/>
              <p:cNvSpPr/>
              <p:nvPr/>
            </p:nvSpPr>
            <p:spPr>
              <a:xfrm>
                <a:off x="52956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8"/>
              <p:cNvSpPr/>
              <p:nvPr/>
            </p:nvSpPr>
            <p:spPr>
              <a:xfrm>
                <a:off x="808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"/>
              <p:cNvSpPr/>
              <p:nvPr/>
            </p:nvSpPr>
            <p:spPr>
              <a:xfrm>
                <a:off x="108720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"/>
              <p:cNvSpPr/>
              <p:nvPr/>
            </p:nvSpPr>
            <p:spPr>
              <a:xfrm>
                <a:off x="1366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1"/>
              <p:cNvSpPr/>
              <p:nvPr/>
            </p:nvSpPr>
            <p:spPr>
              <a:xfrm>
                <a:off x="192492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2"/>
              <p:cNvSpPr/>
              <p:nvPr/>
            </p:nvSpPr>
            <p:spPr>
              <a:xfrm>
                <a:off x="1645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3"/>
              <p:cNvSpPr/>
              <p:nvPr/>
            </p:nvSpPr>
            <p:spPr>
              <a:xfrm>
                <a:off x="2203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4"/>
              <p:cNvSpPr/>
              <p:nvPr/>
            </p:nvSpPr>
            <p:spPr>
              <a:xfrm>
                <a:off x="2482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5"/>
              <p:cNvSpPr/>
              <p:nvPr/>
            </p:nvSpPr>
            <p:spPr>
              <a:xfrm>
                <a:off x="27615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"/>
              <p:cNvSpPr/>
              <p:nvPr/>
            </p:nvSpPr>
            <p:spPr>
              <a:xfrm>
                <a:off x="30402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7"/>
              <p:cNvSpPr/>
              <p:nvPr/>
            </p:nvSpPr>
            <p:spPr>
              <a:xfrm>
                <a:off x="3320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8"/>
              <p:cNvSpPr/>
              <p:nvPr/>
            </p:nvSpPr>
            <p:spPr>
              <a:xfrm>
                <a:off x="3599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9"/>
              <p:cNvSpPr/>
              <p:nvPr/>
            </p:nvSpPr>
            <p:spPr>
              <a:xfrm>
                <a:off x="3877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0"/>
              <p:cNvSpPr/>
              <p:nvPr/>
            </p:nvSpPr>
            <p:spPr>
              <a:xfrm>
                <a:off x="4156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4435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2"/>
            <p:cNvGrpSpPr/>
            <p:nvPr/>
          </p:nvGrpSpPr>
          <p:grpSpPr>
            <a:xfrm>
              <a:off x="4680000" y="4437000"/>
              <a:ext cx="4464000" cy="503280"/>
              <a:chOff x="4680000" y="4437000"/>
              <a:chExt cx="4464000" cy="503280"/>
            </a:xfrm>
          </p:grpSpPr>
          <p:sp>
            <p:nvSpPr>
              <p:cNvPr id="301" name="Rectangle 23"/>
              <p:cNvSpPr/>
              <p:nvPr/>
            </p:nvSpPr>
            <p:spPr>
              <a:xfrm>
                <a:off x="4680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4"/>
              <p:cNvSpPr/>
              <p:nvPr/>
            </p:nvSpPr>
            <p:spPr>
              <a:xfrm>
                <a:off x="4958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5"/>
              <p:cNvSpPr/>
              <p:nvPr/>
            </p:nvSpPr>
            <p:spPr>
              <a:xfrm>
                <a:off x="5237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6"/>
              <p:cNvSpPr/>
              <p:nvPr/>
            </p:nvSpPr>
            <p:spPr>
              <a:xfrm>
                <a:off x="5516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27"/>
              <p:cNvSpPr/>
              <p:nvPr/>
            </p:nvSpPr>
            <p:spPr>
              <a:xfrm>
                <a:off x="5795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28"/>
              <p:cNvSpPr/>
              <p:nvPr/>
            </p:nvSpPr>
            <p:spPr>
              <a:xfrm>
                <a:off x="6354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29"/>
              <p:cNvSpPr/>
              <p:nvPr/>
            </p:nvSpPr>
            <p:spPr>
              <a:xfrm>
                <a:off x="607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0"/>
              <p:cNvSpPr/>
              <p:nvPr/>
            </p:nvSpPr>
            <p:spPr>
              <a:xfrm>
                <a:off x="6633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1"/>
              <p:cNvSpPr/>
              <p:nvPr/>
            </p:nvSpPr>
            <p:spPr>
              <a:xfrm>
                <a:off x="6912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2"/>
              <p:cNvSpPr/>
              <p:nvPr/>
            </p:nvSpPr>
            <p:spPr>
              <a:xfrm>
                <a:off x="7190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3"/>
              <p:cNvSpPr/>
              <p:nvPr/>
            </p:nvSpPr>
            <p:spPr>
              <a:xfrm>
                <a:off x="7469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4"/>
              <p:cNvSpPr/>
              <p:nvPr/>
            </p:nvSpPr>
            <p:spPr>
              <a:xfrm>
                <a:off x="774936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5"/>
              <p:cNvSpPr/>
              <p:nvPr/>
            </p:nvSpPr>
            <p:spPr>
              <a:xfrm>
                <a:off x="80283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6"/>
              <p:cNvSpPr/>
              <p:nvPr/>
            </p:nvSpPr>
            <p:spPr>
              <a:xfrm>
                <a:off x="8307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37"/>
              <p:cNvSpPr/>
              <p:nvPr/>
            </p:nvSpPr>
            <p:spPr>
              <a:xfrm>
                <a:off x="8586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38"/>
              <p:cNvSpPr/>
              <p:nvPr/>
            </p:nvSpPr>
            <p:spPr>
              <a:xfrm>
                <a:off x="886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 двоичное число 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четырёхбайтовом формате. Представьте число сначала в форме с плавающей запя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0,1001*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исса   -0,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  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ный порядок 11+100 0000=100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250920" y="4365720"/>
            <a:ext cx="8893080" cy="503280"/>
            <a:chOff x="250920" y="4365720"/>
            <a:chExt cx="8893080" cy="503280"/>
          </a:xfrm>
        </p:grpSpPr>
        <p:grpSp>
          <p:nvGrpSpPr>
            <p:cNvPr id="322" name="Group 5"/>
            <p:cNvGrpSpPr/>
            <p:nvPr/>
          </p:nvGrpSpPr>
          <p:grpSpPr>
            <a:xfrm>
              <a:off x="250920" y="4365720"/>
              <a:ext cx="4464000" cy="503280"/>
              <a:chOff x="250920" y="4365720"/>
              <a:chExt cx="4464000" cy="50328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250920" y="4365720"/>
                <a:ext cx="278640" cy="5032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52956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08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08720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366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192492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645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3"/>
              <p:cNvSpPr/>
              <p:nvPr/>
            </p:nvSpPr>
            <p:spPr>
              <a:xfrm>
                <a:off x="2203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"/>
              <p:cNvSpPr/>
              <p:nvPr/>
            </p:nvSpPr>
            <p:spPr>
              <a:xfrm>
                <a:off x="2482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7615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30402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7"/>
              <p:cNvSpPr/>
              <p:nvPr/>
            </p:nvSpPr>
            <p:spPr>
              <a:xfrm>
                <a:off x="3320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3599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3877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4156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4435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4680000" y="4365720"/>
              <a:ext cx="4464000" cy="503280"/>
              <a:chOff x="4680000" y="4365720"/>
              <a:chExt cx="4464000" cy="50328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4680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4958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5237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5516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5795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>
                <a:off x="6354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607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6633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912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7190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7469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774936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80283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8307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8586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886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ставления вещественных чисел (конечных и бесконечных десятичных дробей) используют формат с плавающей точкой (запято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4560" y="23493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с плавающей точкой использует представление вещественного числа R в виде произведения мантиссы m на основание системы счисления р в некоторой целой степени n, которую называют поряд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 = m * 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манти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оря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снование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число 25,324 можно записать в таком виде: 0.25324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m=0.25324 — манти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=2 — порядок. Порядок указывает, на какое количество позиций и в каком направлении должна «переплыть», т.е. сместиться десятичная точка в мантиссе. Отсюда название «плавающая точ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справедливы и следующие равен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,324 = 2,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0,002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2532,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ается, что представление числа в форме с плавающей точкой неоднозначн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не было неоднозначности, в ЭВ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пользуют нормализованное представление числа в форме с плавающей точкой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тисса в нормализованном представлении должна удовлетворять услов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m &lt; 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аче говоря, мантисса меньше единицы и первая значащая цифра — не ноль. Значит для рассмотренного числа нормализованным представлением будет:  25,324=0.25324 *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 памяти компьютера вещественное число представляется в форме с плавающей точкой в двоичной системе счисления (р=2) и занимает ячейку размером 4 байта. В ячейке должна содержаться следующая информация о числе: знак числа, порядок и значащие цифры мантиссы. Вот как эта информация располагается в ячей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9280" y="3357720"/>
          <a:ext cx="5545080" cy="718920"/>
        </p:xfrm>
        <a:graphic>
          <a:graphicData uri="http://schemas.openxmlformats.org/drawingml/2006/table">
            <a:tbl>
              <a:tblPr/>
              <a:tblGrid>
                <a:gridCol w="2200320"/>
                <a:gridCol w="1285920"/>
                <a:gridCol w="1092240"/>
                <a:gridCol w="96660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±машинный поряд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     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 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Н Т И 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С А    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1"/>
          <p:cNvSpPr/>
          <p:nvPr/>
        </p:nvSpPr>
        <p:spPr>
          <a:xfrm>
            <a:off x="190800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й байт                    2-й байт     3-й байт   4-й б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2692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аршем бите 1-го байта хранится знак числа. В этом разряде 0 обозначает плюс, 1 — минус. Оставшиеся 7 бит первого байта содержат машинный порядок. В следующих трех байтах хранятся значащие цифры манти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ашинный поряд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и двоичных разрядах помещаются двоичные числа в диапазоне от 0000000 до 1111111. В десятичной системе это соответствует диапазону от 0 до 127. Всего 128 значений. Знак порядка в ячейке не хранится. Но порядок, очевидно, может быть как положительным так и отрицательным. Разумно эти 128 значений разделить поровну между положительными и отрицательными значениями порядка. В таком случае между машинным порядком и истинным (назовем его математическим) устанавливается следующее соответств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4365720"/>
          <a:ext cx="8137800" cy="1158840"/>
        </p:xfrm>
        <a:graphic>
          <a:graphicData uri="http://schemas.openxmlformats.org/drawingml/2006/table">
            <a:tbl>
              <a:tblPr/>
              <a:tblGrid>
                <a:gridCol w="2194200"/>
                <a:gridCol w="554040"/>
                <a:gridCol w="555480"/>
                <a:gridCol w="554040"/>
                <a:gridCol w="557280"/>
                <a:gridCol w="439560"/>
                <a:gridCol w="478080"/>
                <a:gridCol w="475920"/>
                <a:gridCol w="506520"/>
                <a:gridCol w="649440"/>
                <a:gridCol w="584280"/>
                <a:gridCol w="5889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шинны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тематически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55"/>
          <p:cNvSpPr/>
          <p:nvPr/>
        </p:nvSpPr>
        <p:spPr>
          <a:xfrm>
            <a:off x="684360" y="566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бозначить машинный порядок Мр, а математический — р, то связь между ними выразится такой формул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р = р + 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машинный порядок смещён относительно математического на 64 единицы и имеет только положительные значения. При выполнении вычислений с плавающей точкой процессор это смещение учит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воичной системе счисления смещ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р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00 000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мы можем записать внутреннее представление числа 25,324 в форме с плавающей точ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Переведем его в двоичную систему счисления с 24 значащими циф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5,32410= 11001,010100101111000110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Запишем в форме нормализованного двоичного числа с плавающей точк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110010101001011110001101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500280"/>
            <a:ext cx="777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мантисса, основание системы счисления (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порядок (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записаны в двоичн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ычислим машинный поря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2 = 101 + 100 0000 = 100 01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9280" y="5589720"/>
            <a:ext cx="86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24000" y="4941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Запишем представление числа в ячейке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50920" y="5877000"/>
            <a:ext cx="8893080" cy="503280"/>
            <a:chOff x="250920" y="5877000"/>
            <a:chExt cx="8893080" cy="503280"/>
          </a:xfrm>
        </p:grpSpPr>
        <p:grpSp>
          <p:nvGrpSpPr>
            <p:cNvPr id="235" name="Group 10"/>
            <p:cNvGrpSpPr/>
            <p:nvPr/>
          </p:nvGrpSpPr>
          <p:grpSpPr>
            <a:xfrm>
              <a:off x="250920" y="5877000"/>
              <a:ext cx="4464000" cy="503280"/>
              <a:chOff x="250920" y="5877000"/>
              <a:chExt cx="4464000" cy="50328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50920" y="587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52956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808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8720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1366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192492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1645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8"/>
              <p:cNvSpPr/>
              <p:nvPr/>
            </p:nvSpPr>
            <p:spPr>
              <a:xfrm>
                <a:off x="2203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>
                <a:off x="2482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27615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>
                <a:off x="30402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>
                <a:off x="3320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3599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3877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4156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4435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4680000" y="5877000"/>
              <a:ext cx="4464000" cy="503280"/>
              <a:chOff x="4680000" y="5877000"/>
              <a:chExt cx="4464000" cy="50328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4680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4958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5237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>
                <a:off x="5516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5795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>
                <a:off x="6354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>
                <a:off x="607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>
                <a:off x="6633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>
                <a:off x="6912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7190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7469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774936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80283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307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8586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>
                <a:off x="886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44"/>
          <p:cNvSpPr/>
          <p:nvPr/>
        </p:nvSpPr>
        <p:spPr>
          <a:xfrm>
            <a:off x="179280" y="64911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395280" y="645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971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5219640" y="530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rot="5400000">
            <a:off x="1404000" y="479664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 rot="5400000">
            <a:off x="5705640" y="2439000"/>
            <a:ext cx="216000" cy="665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179280" y="5516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8675640" y="551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49:40Z</dcterms:created>
  <dc:creator>Customer</dc:creator>
  <dc:description/>
  <dc:language>en-US</dc:language>
  <cp:lastModifiedBy>Алла</cp:lastModifiedBy>
  <dcterms:modified xsi:type="dcterms:W3CDTF">2012-01-04T06:48:38Z</dcterms:modified>
  <cp:revision>9</cp:revision>
  <dc:subject/>
  <dc:title>Кодирование вещественных чисел.</dc:title>
</cp:coreProperties>
</file>