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B42-F0D4-4CA6-8FFE-908B8F99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E7C-9B19-4536-8F33-A133B296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3CA-E18B-4349-B480-14090D29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E1D-F66B-4CF2-B50F-9FAF24E6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6F0E-8A90-495E-93EA-DA9E82DF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444C-2EDE-4870-9677-87A21BF3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173A-1ABA-46C1-85BC-A4DDE1EB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E357-6329-4822-9777-C4F1E6DC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765F-0501-4A1A-811F-4DF4DDF7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44C5-BF85-4823-9CB8-043B746D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721F-0157-4B3C-9EC0-1195357E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97B-E2BE-48DB-9951-2428F39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C33F-CFDE-4007-B5C6-858CF369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7A47-E7F6-48B4-97C2-55A893B5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AFE0-4253-478E-8B55-0256E730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82D3-DA22-4440-946A-6BFB60A7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78BE-37D3-4E85-A8A6-0A0090FF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69A-DBB2-4C81-A7EC-0D37AD6A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4B9-EDA6-41D8-B535-43FD6EF1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202-E60A-4F03-93B7-78725B97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4D4-CB1D-4BC7-A593-DED5AD01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59B-CD48-49D2-A532-5D6A36B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B61-D152-4FE8-958B-2E592A6B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DAC-F60C-4F7C-8D2F-31FCAC8E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BEB6-F19C-46E2-8831-3CF079BCB0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6E23-C9D6-4A42-B42D-288105B7BF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вещественн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в форме с плавающей точкой занимает в памяти компьютера 4 байта (число обычной точности) или 8 байт (число двойной точ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рассмотрели пример представления числа 25,324 обычной то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234000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получить внутреннее представление отрицательного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25,324, достаточно в полученном выше коде заменить в разряде знака числа 0 на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250920" y="4437000"/>
            <a:ext cx="8893080" cy="503280"/>
            <a:chOff x="250920" y="4437000"/>
            <a:chExt cx="8893080" cy="503280"/>
          </a:xfrm>
        </p:grpSpPr>
        <p:grpSp>
          <p:nvGrpSpPr>
            <p:cNvPr id="283" name="Group 5"/>
            <p:cNvGrpSpPr/>
            <p:nvPr/>
          </p:nvGrpSpPr>
          <p:grpSpPr>
            <a:xfrm>
              <a:off x="250920" y="4437000"/>
              <a:ext cx="4464000" cy="503280"/>
              <a:chOff x="250920" y="4437000"/>
              <a:chExt cx="4464000" cy="50328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250920" y="443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7"/>
              <p:cNvSpPr/>
              <p:nvPr/>
            </p:nvSpPr>
            <p:spPr>
              <a:xfrm>
                <a:off x="52956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8"/>
              <p:cNvSpPr/>
              <p:nvPr/>
            </p:nvSpPr>
            <p:spPr>
              <a:xfrm>
                <a:off x="808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"/>
              <p:cNvSpPr/>
              <p:nvPr/>
            </p:nvSpPr>
            <p:spPr>
              <a:xfrm>
                <a:off x="108720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0"/>
              <p:cNvSpPr/>
              <p:nvPr/>
            </p:nvSpPr>
            <p:spPr>
              <a:xfrm>
                <a:off x="136620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1"/>
              <p:cNvSpPr/>
              <p:nvPr/>
            </p:nvSpPr>
            <p:spPr>
              <a:xfrm>
                <a:off x="1924920" y="443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2"/>
              <p:cNvSpPr/>
              <p:nvPr/>
            </p:nvSpPr>
            <p:spPr>
              <a:xfrm>
                <a:off x="1645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3"/>
              <p:cNvSpPr/>
              <p:nvPr/>
            </p:nvSpPr>
            <p:spPr>
              <a:xfrm>
                <a:off x="2203920" y="443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4"/>
              <p:cNvSpPr/>
              <p:nvPr/>
            </p:nvSpPr>
            <p:spPr>
              <a:xfrm>
                <a:off x="2482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5"/>
              <p:cNvSpPr/>
              <p:nvPr/>
            </p:nvSpPr>
            <p:spPr>
              <a:xfrm>
                <a:off x="27615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"/>
              <p:cNvSpPr/>
              <p:nvPr/>
            </p:nvSpPr>
            <p:spPr>
              <a:xfrm>
                <a:off x="30402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7"/>
              <p:cNvSpPr/>
              <p:nvPr/>
            </p:nvSpPr>
            <p:spPr>
              <a:xfrm>
                <a:off x="3320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8"/>
              <p:cNvSpPr/>
              <p:nvPr/>
            </p:nvSpPr>
            <p:spPr>
              <a:xfrm>
                <a:off x="3599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9"/>
              <p:cNvSpPr/>
              <p:nvPr/>
            </p:nvSpPr>
            <p:spPr>
              <a:xfrm>
                <a:off x="3877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20"/>
              <p:cNvSpPr/>
              <p:nvPr/>
            </p:nvSpPr>
            <p:spPr>
              <a:xfrm>
                <a:off x="415692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443592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2"/>
            <p:cNvGrpSpPr/>
            <p:nvPr/>
          </p:nvGrpSpPr>
          <p:grpSpPr>
            <a:xfrm>
              <a:off x="4680000" y="4437000"/>
              <a:ext cx="4464000" cy="503280"/>
              <a:chOff x="4680000" y="4437000"/>
              <a:chExt cx="4464000" cy="503280"/>
            </a:xfrm>
          </p:grpSpPr>
          <p:sp>
            <p:nvSpPr>
              <p:cNvPr id="301" name="Rectangle 23"/>
              <p:cNvSpPr/>
              <p:nvPr/>
            </p:nvSpPr>
            <p:spPr>
              <a:xfrm>
                <a:off x="4680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24"/>
              <p:cNvSpPr/>
              <p:nvPr/>
            </p:nvSpPr>
            <p:spPr>
              <a:xfrm>
                <a:off x="4958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25"/>
              <p:cNvSpPr/>
              <p:nvPr/>
            </p:nvSpPr>
            <p:spPr>
              <a:xfrm>
                <a:off x="5237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26"/>
              <p:cNvSpPr/>
              <p:nvPr/>
            </p:nvSpPr>
            <p:spPr>
              <a:xfrm>
                <a:off x="551628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27"/>
              <p:cNvSpPr/>
              <p:nvPr/>
            </p:nvSpPr>
            <p:spPr>
              <a:xfrm>
                <a:off x="5795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28"/>
              <p:cNvSpPr/>
              <p:nvPr/>
            </p:nvSpPr>
            <p:spPr>
              <a:xfrm>
                <a:off x="6354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29"/>
              <p:cNvSpPr/>
              <p:nvPr/>
            </p:nvSpPr>
            <p:spPr>
              <a:xfrm>
                <a:off x="607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30"/>
              <p:cNvSpPr/>
              <p:nvPr/>
            </p:nvSpPr>
            <p:spPr>
              <a:xfrm>
                <a:off x="6633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31"/>
              <p:cNvSpPr/>
              <p:nvPr/>
            </p:nvSpPr>
            <p:spPr>
              <a:xfrm>
                <a:off x="6912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32"/>
              <p:cNvSpPr/>
              <p:nvPr/>
            </p:nvSpPr>
            <p:spPr>
              <a:xfrm>
                <a:off x="719064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33"/>
              <p:cNvSpPr/>
              <p:nvPr/>
            </p:nvSpPr>
            <p:spPr>
              <a:xfrm>
                <a:off x="746928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34"/>
              <p:cNvSpPr/>
              <p:nvPr/>
            </p:nvSpPr>
            <p:spPr>
              <a:xfrm>
                <a:off x="774936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35"/>
              <p:cNvSpPr/>
              <p:nvPr/>
            </p:nvSpPr>
            <p:spPr>
              <a:xfrm>
                <a:off x="802836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36"/>
              <p:cNvSpPr/>
              <p:nvPr/>
            </p:nvSpPr>
            <p:spPr>
              <a:xfrm>
                <a:off x="8307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37"/>
              <p:cNvSpPr/>
              <p:nvPr/>
            </p:nvSpPr>
            <p:spPr>
              <a:xfrm>
                <a:off x="8586000" y="443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38"/>
              <p:cNvSpPr/>
              <p:nvPr/>
            </p:nvSpPr>
            <p:spPr>
              <a:xfrm>
                <a:off x="8865000" y="443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ьте двоичное число 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четырёхбайтовом формате. Представьте число сначала в форме с плавающей запя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100,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0,1001*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исса   -0,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ок    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шинный порядок 11+100 0000=100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250920" y="4365720"/>
            <a:ext cx="8893080" cy="503280"/>
            <a:chOff x="250920" y="4365720"/>
            <a:chExt cx="8893080" cy="503280"/>
          </a:xfrm>
        </p:grpSpPr>
        <p:grpSp>
          <p:nvGrpSpPr>
            <p:cNvPr id="322" name="Group 5"/>
            <p:cNvGrpSpPr/>
            <p:nvPr/>
          </p:nvGrpSpPr>
          <p:grpSpPr>
            <a:xfrm>
              <a:off x="250920" y="4365720"/>
              <a:ext cx="4464000" cy="503280"/>
              <a:chOff x="250920" y="4365720"/>
              <a:chExt cx="4464000" cy="503280"/>
            </a:xfrm>
          </p:grpSpPr>
          <p:sp>
            <p:nvSpPr>
              <p:cNvPr id="323" name="Rectangle 6"/>
              <p:cNvSpPr/>
              <p:nvPr/>
            </p:nvSpPr>
            <p:spPr>
              <a:xfrm>
                <a:off x="250920" y="4365720"/>
                <a:ext cx="278640" cy="5032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52956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808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108720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"/>
              <p:cNvSpPr/>
              <p:nvPr/>
            </p:nvSpPr>
            <p:spPr>
              <a:xfrm>
                <a:off x="136620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1"/>
              <p:cNvSpPr/>
              <p:nvPr/>
            </p:nvSpPr>
            <p:spPr>
              <a:xfrm>
                <a:off x="1924920" y="4365720"/>
                <a:ext cx="27864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1645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3"/>
              <p:cNvSpPr/>
              <p:nvPr/>
            </p:nvSpPr>
            <p:spPr>
              <a:xfrm>
                <a:off x="2203920" y="4365720"/>
                <a:ext cx="279000" cy="503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4"/>
              <p:cNvSpPr/>
              <p:nvPr/>
            </p:nvSpPr>
            <p:spPr>
              <a:xfrm>
                <a:off x="2482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27615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6"/>
              <p:cNvSpPr/>
              <p:nvPr/>
            </p:nvSpPr>
            <p:spPr>
              <a:xfrm>
                <a:off x="30402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7"/>
              <p:cNvSpPr/>
              <p:nvPr/>
            </p:nvSpPr>
            <p:spPr>
              <a:xfrm>
                <a:off x="3320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3599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9"/>
              <p:cNvSpPr/>
              <p:nvPr/>
            </p:nvSpPr>
            <p:spPr>
              <a:xfrm>
                <a:off x="3877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20"/>
              <p:cNvSpPr/>
              <p:nvPr/>
            </p:nvSpPr>
            <p:spPr>
              <a:xfrm>
                <a:off x="415692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443592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4680000" y="4365720"/>
              <a:ext cx="4464000" cy="503280"/>
              <a:chOff x="4680000" y="4365720"/>
              <a:chExt cx="4464000" cy="50328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4680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4958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25"/>
              <p:cNvSpPr/>
              <p:nvPr/>
            </p:nvSpPr>
            <p:spPr>
              <a:xfrm>
                <a:off x="5237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26"/>
              <p:cNvSpPr/>
              <p:nvPr/>
            </p:nvSpPr>
            <p:spPr>
              <a:xfrm>
                <a:off x="551628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5795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28"/>
              <p:cNvSpPr/>
              <p:nvPr/>
            </p:nvSpPr>
            <p:spPr>
              <a:xfrm>
                <a:off x="6354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29"/>
              <p:cNvSpPr/>
              <p:nvPr/>
            </p:nvSpPr>
            <p:spPr>
              <a:xfrm>
                <a:off x="607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6633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912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32"/>
              <p:cNvSpPr/>
              <p:nvPr/>
            </p:nvSpPr>
            <p:spPr>
              <a:xfrm>
                <a:off x="719064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746928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34"/>
              <p:cNvSpPr/>
              <p:nvPr/>
            </p:nvSpPr>
            <p:spPr>
              <a:xfrm>
                <a:off x="774936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802836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8307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37"/>
              <p:cNvSpPr/>
              <p:nvPr/>
            </p:nvSpPr>
            <p:spPr>
              <a:xfrm>
                <a:off x="8586000" y="436572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38"/>
              <p:cNvSpPr/>
              <p:nvPr/>
            </p:nvSpPr>
            <p:spPr>
              <a:xfrm>
                <a:off x="8865000" y="436572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едставления вещественных чисел (конечных и бесконечных десятичных дробей) используют формат с плавающей точкой (запято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4560" y="23493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с плавающей точкой использует представление вещественного числа R в виде произведения мантиссы m на основание системы счисления р в некоторой целой степени n, которую называют порядк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 = m * 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мантис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оря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снование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число 25,324 можно записать в таком виде: 0.25324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m=0.25324 — мантис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=2 — порядок. Порядок указывает, на какое количество позиций и в каком направлении должна «переплыть», т.е. сместиться десятичная точка в мантиссе. Отсюда название «плавающая точ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справедливы и следующие равен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,324 = 2,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0,002532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2532,4*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ается, что представление числа в форме с плавающей точкой неоднозначн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не было неоднозначности, в ЭВМ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пользуют нормализованное представление числа в форме с плавающей точкой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нтисса в нормализованном представлении должна удовлетворять услов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,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m &lt; 1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аче говоря, мантисса меньше единицы и первая значащая цифра — не ноль. Значит для рассмотренного числа нормализованным представлением будет:  25,324=0.25324 *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ть в памяти компьютера вещественное число представляется в форме с плавающей точкой в двоичной системе счисления (р=2) и занимает ячейку размером 4 байта. В ячейке должна содержаться следующая информация о числе: знак числа, порядок и значащие цифры мантиссы. Вот как эта информация располагается в ячей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9280" y="3357720"/>
          <a:ext cx="5545080" cy="718920"/>
        </p:xfrm>
        <a:graphic>
          <a:graphicData uri="http://schemas.openxmlformats.org/drawingml/2006/table">
            <a:tbl>
              <a:tblPr/>
              <a:tblGrid>
                <a:gridCol w="2200320"/>
                <a:gridCol w="1285920"/>
                <a:gridCol w="1092240"/>
                <a:gridCol w="96660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±машинный поряд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      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 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Н Т И 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С А    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31"/>
          <p:cNvSpPr/>
          <p:nvPr/>
        </p:nvSpPr>
        <p:spPr>
          <a:xfrm>
            <a:off x="190800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й байт                    2-й байт     3-й байт   4-й б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2692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аршем бите 1-го байта хранится знак числа. В этом разряде 0 обозначает плюс, 1 — минус. Оставшиеся 7 бит первого байта содержат машинный порядок. В следующих трех байтах хранятся значащие цифры мантис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машинный поряд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ми двоичных разрядах помещаются двоичные числа в диапазоне от 0000000 до 1111111. В десятичной системе это соответствует диапазону от 0 до 127. Всего 128 значений. Знак порядка в ячейке не хранится. Но порядок, очевидно, может быть как положительным так и отрицательным. Разумно эти 128 значений разделить поровну между положительными и отрицательными значениями порядка. В таком случае между машинным порядком и истинным (назовем его математическим) устанавливается следующее соответств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4365720"/>
          <a:ext cx="8137800" cy="1158840"/>
        </p:xfrm>
        <a:graphic>
          <a:graphicData uri="http://schemas.openxmlformats.org/drawingml/2006/table">
            <a:tbl>
              <a:tblPr/>
              <a:tblGrid>
                <a:gridCol w="2194200"/>
                <a:gridCol w="554040"/>
                <a:gridCol w="555480"/>
                <a:gridCol w="554040"/>
                <a:gridCol w="557280"/>
                <a:gridCol w="439560"/>
                <a:gridCol w="478080"/>
                <a:gridCol w="475920"/>
                <a:gridCol w="506520"/>
                <a:gridCol w="649440"/>
                <a:gridCol w="584280"/>
                <a:gridCol w="5889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шинны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Математический поряд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.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55"/>
          <p:cNvSpPr/>
          <p:nvPr/>
        </p:nvSpPr>
        <p:spPr>
          <a:xfrm>
            <a:off x="684360" y="566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бозначить машинный порядок Мр, а математический — р, то связь между ними выразится такой формул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р = р + 6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ак, машинный порядок смещён относительно математического на 64 единицы и имеет только положительные значения. При выполнении вычислений с плавающей точкой процессор это смещение учит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воичной системе счисления смещ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р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= р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00 0000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перь мы можем записать внутреннее представление числа 25,324 в форме с плавающей точ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Переведем его в двоичную систему счисления с 24 значащими циф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5,32410= 11001,010100101111000110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Запишем в форме нормализованного двоичного числа с плавающей точк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110010101001011110001101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11280" y="3500280"/>
            <a:ext cx="777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мантисса, основание системы счисления (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и порядок (5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записаны в двоичной систе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4076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ычислим машинный поря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р2 = 101 + 100 0000 = 100 01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79280" y="5589720"/>
            <a:ext cx="86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24000" y="4941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Запишем представление числа в ячейке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50920" y="5877000"/>
            <a:ext cx="8893080" cy="503280"/>
            <a:chOff x="250920" y="5877000"/>
            <a:chExt cx="8893080" cy="503280"/>
          </a:xfrm>
        </p:grpSpPr>
        <p:grpSp>
          <p:nvGrpSpPr>
            <p:cNvPr id="235" name="Group 10"/>
            <p:cNvGrpSpPr/>
            <p:nvPr/>
          </p:nvGrpSpPr>
          <p:grpSpPr>
            <a:xfrm>
              <a:off x="250920" y="5877000"/>
              <a:ext cx="4464000" cy="503280"/>
              <a:chOff x="250920" y="5877000"/>
              <a:chExt cx="4464000" cy="50328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50920" y="5877000"/>
                <a:ext cx="278640" cy="503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52956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808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8720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136620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1924920" y="5877000"/>
                <a:ext cx="27864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1645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8"/>
              <p:cNvSpPr/>
              <p:nvPr/>
            </p:nvSpPr>
            <p:spPr>
              <a:xfrm>
                <a:off x="2203920" y="5877000"/>
                <a:ext cx="279000" cy="50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9"/>
              <p:cNvSpPr/>
              <p:nvPr/>
            </p:nvSpPr>
            <p:spPr>
              <a:xfrm>
                <a:off x="2482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0"/>
              <p:cNvSpPr/>
              <p:nvPr/>
            </p:nvSpPr>
            <p:spPr>
              <a:xfrm>
                <a:off x="27615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1"/>
              <p:cNvSpPr/>
              <p:nvPr/>
            </p:nvSpPr>
            <p:spPr>
              <a:xfrm>
                <a:off x="30402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2"/>
              <p:cNvSpPr/>
              <p:nvPr/>
            </p:nvSpPr>
            <p:spPr>
              <a:xfrm>
                <a:off x="3320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3"/>
              <p:cNvSpPr/>
              <p:nvPr/>
            </p:nvSpPr>
            <p:spPr>
              <a:xfrm>
                <a:off x="3599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3877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415692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443592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4680000" y="5877000"/>
              <a:ext cx="4464000" cy="503280"/>
              <a:chOff x="4680000" y="5877000"/>
              <a:chExt cx="4464000" cy="50328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4680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29"/>
              <p:cNvSpPr/>
              <p:nvPr/>
            </p:nvSpPr>
            <p:spPr>
              <a:xfrm>
                <a:off x="4958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0"/>
              <p:cNvSpPr/>
              <p:nvPr/>
            </p:nvSpPr>
            <p:spPr>
              <a:xfrm>
                <a:off x="5237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1"/>
              <p:cNvSpPr/>
              <p:nvPr/>
            </p:nvSpPr>
            <p:spPr>
              <a:xfrm>
                <a:off x="551628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2"/>
              <p:cNvSpPr/>
              <p:nvPr/>
            </p:nvSpPr>
            <p:spPr>
              <a:xfrm>
                <a:off x="5795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3"/>
              <p:cNvSpPr/>
              <p:nvPr/>
            </p:nvSpPr>
            <p:spPr>
              <a:xfrm>
                <a:off x="6354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4"/>
              <p:cNvSpPr/>
              <p:nvPr/>
            </p:nvSpPr>
            <p:spPr>
              <a:xfrm>
                <a:off x="607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5"/>
              <p:cNvSpPr/>
              <p:nvPr/>
            </p:nvSpPr>
            <p:spPr>
              <a:xfrm>
                <a:off x="6633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36"/>
              <p:cNvSpPr/>
              <p:nvPr/>
            </p:nvSpPr>
            <p:spPr>
              <a:xfrm>
                <a:off x="6912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719064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746928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774936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802836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307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8586000" y="5877000"/>
                <a:ext cx="27864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3"/>
              <p:cNvSpPr/>
              <p:nvPr/>
            </p:nvSpPr>
            <p:spPr>
              <a:xfrm>
                <a:off x="8865000" y="5877000"/>
                <a:ext cx="279000" cy="5032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 Box 44"/>
          <p:cNvSpPr/>
          <p:nvPr/>
        </p:nvSpPr>
        <p:spPr>
          <a:xfrm>
            <a:off x="179280" y="649116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395280" y="6453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971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5219640" y="530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rot="5400000">
            <a:off x="1404000" y="479664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 rot="5400000">
            <a:off x="5705640" y="2439000"/>
            <a:ext cx="216000" cy="665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179280" y="551664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8675640" y="551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49:40Z</dcterms:created>
  <dc:creator>Customer</dc:creator>
  <dc:description/>
  <dc:language>en-US</dc:language>
  <cp:lastModifiedBy>Алла</cp:lastModifiedBy>
  <dcterms:modified xsi:type="dcterms:W3CDTF">2012-01-04T06:48:38Z</dcterms:modified>
  <cp:revision>9</cp:revision>
  <dc:subject/>
  <dc:title>Кодирование вещественных чисел.</dc:title>
</cp:coreProperties>
</file>